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83B1-1D6F-4C09-BEF8-B70465E9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4451-CC57-4604-AB1E-1C74313DD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299B-7036-4618-8BB2-35FD93102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CA9B-765F-4958-8048-8CC7C073F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F043-9598-4A61-B2A5-F371405C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133A-5CEA-44A1-988A-77C632412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AAC4-6DDF-4AC3-887D-52ED4B3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1C3D-811A-4EAE-B87A-17620FF86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459A-EA63-4D1A-8402-5A4D74849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0044-1816-424F-B2DD-F8E708BD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5A3C-AB4B-4116-AF00-6972DFAF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C17A-2043-4E06-B06A-A5EC4B92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4EB2-6E62-486C-961D-63FD764BB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 following the Tamale, Ghana and Addis Ababa, Ethiopia workshop (version 2.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2" name="Chevron 3"/>
            <p:cNvSpPr/>
            <p:nvPr/>
          </p:nvSpPr>
          <p:spPr>
            <a:xfrm>
              <a:off x="321444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5915520" y="149040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Chevron 5"/>
            <p:cNvSpPr/>
            <p:nvPr/>
          </p:nvSpPr>
          <p:spPr>
            <a:xfrm>
              <a:off x="7452720" y="148896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Pentagon 9"/>
            <p:cNvSpPr/>
            <p:nvPr/>
          </p:nvSpPr>
          <p:spPr>
            <a:xfrm>
              <a:off x="1619280" y="149040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10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5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6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7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TextBox 10"/>
                <p:cNvSpPr/>
                <p:nvPr/>
              </p:nvSpPr>
              <p:spPr>
                <a:xfrm rot="16200000">
                  <a:off x="415224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20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TextBox 8"/>
                <p:cNvSpPr/>
                <p:nvPr/>
              </p:nvSpPr>
              <p:spPr>
                <a:xfrm rot="16200000">
                  <a:off x="341028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3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TextBox 6"/>
                <p:cNvSpPr/>
                <p:nvPr/>
              </p:nvSpPr>
              <p:spPr>
                <a:xfrm rot="16200000">
                  <a:off x="2718720" y="3120840"/>
                  <a:ext cx="38822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6" name="Can 35"/>
              <p:cNvSpPr/>
              <p:nvPr/>
            </p:nvSpPr>
            <p:spPr>
              <a:xfrm rot="16200000">
                <a:off x="1754280" y="284760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9" name="Left Brace 59"/>
            <p:cNvSpPr/>
            <p:nvPr/>
          </p:nvSpPr>
          <p:spPr>
            <a:xfrm rot="5400000">
              <a:off x="4572000" y="-525600"/>
              <a:ext cx="504360" cy="2807640"/>
            </a:xfrm>
            <a:custGeom>
              <a:avLst/>
              <a:gdLst>
                <a:gd name="textAreaLeft" fmla="*/ 322200 w 504360"/>
                <a:gd name="textAreaRight" fmla="*/ 504720 w 50436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2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4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5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8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1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3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4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7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8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1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4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6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7" name="Left Brace 49"/>
            <p:cNvSpPr/>
            <p:nvPr/>
          </p:nvSpPr>
          <p:spPr>
            <a:xfrm rot="5400000">
              <a:off x="4572000" y="-530280"/>
              <a:ext cx="504000" cy="2807640"/>
            </a:xfrm>
            <a:custGeom>
              <a:avLst/>
              <a:gdLst>
                <a:gd name="textAreaLeft" fmla="*/ 322200 w 504000"/>
                <a:gd name="textAreaRight" fmla="*/ 504000 w 504000"/>
                <a:gd name="textAreaTop" fmla="*/ 12960 h 2807640"/>
                <a:gd name="textAreaBottom" fmla="*/ 2794680 h 280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3"/>
                  </a:cubicBezTo>
                  <a:lnTo>
                    <a:pt x="10800" y="10477"/>
                  </a:lnTo>
                  <a:cubicBezTo>
                    <a:pt x="10800" y="10639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3"/>
                  </a:cubicBezTo>
                  <a:lnTo>
                    <a:pt x="10800" y="21277"/>
                  </a:lnTo>
                  <a:cubicBezTo>
                    <a:pt x="10800" y="21439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70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8"/>
            <p:cNvSpPr/>
            <p:nvPr/>
          </p:nvSpPr>
          <p:spPr>
            <a:xfrm rot="16200000">
              <a:off x="3358440" y="4515480"/>
              <a:ext cx="409680" cy="2159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640"/>
                <a:gd name="textAreaBottom" fmla="*/ 2142720 h 215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eft Bracket 59"/>
            <p:cNvSpPr/>
            <p:nvPr/>
          </p:nvSpPr>
          <p:spPr>
            <a:xfrm rot="16200000">
              <a:off x="3646440" y="4786560"/>
              <a:ext cx="409680" cy="158364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3640"/>
                <a:gd name="textAreaBottom" fmla="*/ 1566720 h 158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4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3"/>
            <p:cNvSpPr/>
            <p:nvPr/>
          </p:nvSpPr>
          <p:spPr>
            <a:xfrm flipH="1" rot="5400000">
              <a:off x="5802480" y="4230360"/>
              <a:ext cx="409680" cy="272988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729880"/>
                <a:gd name="textAreaBottom" fmla="*/ 2708640 h 2729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1"/>
                  </a:cubicBezTo>
                  <a:lnTo>
                    <a:pt x="0" y="21259"/>
                  </a:lnTo>
                  <a:cubicBezTo>
                    <a:pt x="0" y="21430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1042920" y="336600"/>
            <a:ext cx="7345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dapt and evaluate sustainable intensification farming o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1042920" y="336600"/>
            <a:ext cx="7345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bjectives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, combine, and adapt sustainable intensification farming option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t the farm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Evaluate the effects at the field, farm, and landscape sc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deliver and scale out research outputs to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042920" y="326880"/>
            <a:ext cx="79218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outcomes (version 2.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d on- and off-farm natural resour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18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920" y="4152240"/>
              <a:ext cx="4495680" cy="53748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7640"/>
            <a:chOff x="250920" y="981000"/>
            <a:chExt cx="8713800" cy="568764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5980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040" y="3559680"/>
              <a:ext cx="567828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160" y="3141720"/>
              <a:ext cx="630756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080"/>
              <a:ext cx="3527280" cy="53820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8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8160" y="4277160"/>
              <a:ext cx="4248000" cy="5356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1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04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7840" y="551736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480"/>
              <a:ext cx="15688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368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664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120" y="551736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720"/>
              <a:ext cx="0" cy="504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480"/>
              <a:ext cx="1568520" cy="576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0680"/>
              <a:ext cx="0" cy="21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692280"/>
            <a:ext cx="7777080" cy="49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sustainable pathways out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rural populations, particularly fo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rough sufficiently improve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ation and enhancement of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611280" y="692280"/>
            <a:ext cx="777708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 purpose (version 2.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 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(define this?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 tha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ly improv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, nutrition, and income secu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nserve or enhance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ural resour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5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9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6"/>
            <p:cNvSpPr/>
            <p:nvPr/>
          </p:nvSpPr>
          <p:spPr>
            <a:xfrm>
              <a:off x="3689640" y="1621440"/>
              <a:ext cx="246564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8"/>
            <p:cNvSpPr/>
            <p:nvPr/>
          </p:nvSpPr>
          <p:spPr>
            <a:xfrm>
              <a:off x="6275520" y="1621440"/>
              <a:ext cx="14040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Chevron 10"/>
            <p:cNvSpPr/>
            <p:nvPr/>
          </p:nvSpPr>
          <p:spPr>
            <a:xfrm>
              <a:off x="7808760" y="1605600"/>
              <a:ext cx="140364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Pentagon 4"/>
            <p:cNvSpPr/>
            <p:nvPr/>
          </p:nvSpPr>
          <p:spPr>
            <a:xfrm>
              <a:off x="1619280" y="1485720"/>
              <a:ext cx="16563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7" y="0"/>
                </a:lnTo>
                <a:lnTo>
                  <a:pt x="21600" y="10800"/>
                </a:lnTo>
                <a:lnTo>
                  <a:pt x="18827" y="21600"/>
                </a:lnTo>
                <a:lnTo>
                  <a:pt x="0" y="21600"/>
                </a:lnTo>
                <a:lnTo>
                  <a:pt x="2773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5" y="0"/>
                </a:lnTo>
                <a:lnTo>
                  <a:pt x="21600" y="10800"/>
                </a:lnTo>
                <a:lnTo>
                  <a:pt x="17055" y="21600"/>
                </a:lnTo>
                <a:lnTo>
                  <a:pt x="0" y="21600"/>
                </a:lnTo>
                <a:lnTo>
                  <a:pt x="4545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3" y="0"/>
                </a:lnTo>
                <a:lnTo>
                  <a:pt x="21600" y="10800"/>
                </a:lnTo>
                <a:lnTo>
                  <a:pt x="16853" y="21600"/>
                </a:lnTo>
                <a:lnTo>
                  <a:pt x="0" y="21600"/>
                </a:lnTo>
                <a:lnTo>
                  <a:pt x="4747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1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4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Pentagon 4"/>
            <p:cNvSpPr/>
            <p:nvPr/>
          </p:nvSpPr>
          <p:spPr>
            <a:xfrm>
              <a:off x="1619280" y="1486080"/>
              <a:ext cx="165672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7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Pentagon 4"/>
            <p:cNvSpPr/>
            <p:nvPr/>
          </p:nvSpPr>
          <p:spPr>
            <a:xfrm>
              <a:off x="1628640" y="2392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60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Pentagon 4"/>
            <p:cNvSpPr/>
            <p:nvPr/>
          </p:nvSpPr>
          <p:spPr>
            <a:xfrm>
              <a:off x="1619280" y="330516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3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Pentagon 4"/>
            <p:cNvSpPr/>
            <p:nvPr/>
          </p:nvSpPr>
          <p:spPr>
            <a:xfrm>
              <a:off x="1619280" y="4264200"/>
              <a:ext cx="165672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6" name="Chevron 3"/>
            <p:cNvSpPr/>
            <p:nvPr/>
          </p:nvSpPr>
          <p:spPr>
            <a:xfrm>
              <a:off x="321444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5915520" y="1485720"/>
              <a:ext cx="1944360" cy="819360"/>
            </a:xfrm>
            <a:custGeom>
              <a:avLst/>
              <a:gdLst>
                <a:gd name="textAreaLeft" fmla="*/ 0 w 1944360"/>
                <a:gd name="textAreaRight" fmla="*/ 1944720 w 194436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5" y="0"/>
                  </a:lnTo>
                  <a:lnTo>
                    <a:pt x="21600" y="10800"/>
                  </a:lnTo>
                  <a:lnTo>
                    <a:pt x="17055" y="21600"/>
                  </a:lnTo>
                  <a:lnTo>
                    <a:pt x="0" y="21600"/>
                  </a:lnTo>
                  <a:lnTo>
                    <a:pt x="4545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Chevron 5"/>
            <p:cNvSpPr/>
            <p:nvPr/>
          </p:nvSpPr>
          <p:spPr>
            <a:xfrm>
              <a:off x="7452720" y="1484280"/>
              <a:ext cx="1872360" cy="824040"/>
            </a:xfrm>
            <a:custGeom>
              <a:avLst/>
              <a:gdLst>
                <a:gd name="textAreaLeft" fmla="*/ 0 w 1872360"/>
                <a:gd name="textAreaRight" fmla="*/ 1872720 w 187236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3" y="0"/>
                  </a:lnTo>
                  <a:lnTo>
                    <a:pt x="21600" y="10800"/>
                  </a:lnTo>
                  <a:lnTo>
                    <a:pt x="16853" y="21600"/>
                  </a:lnTo>
                  <a:lnTo>
                    <a:pt x="0" y="21600"/>
                  </a:lnTo>
                  <a:lnTo>
                    <a:pt x="4747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Pentagon 9"/>
            <p:cNvSpPr/>
            <p:nvPr/>
          </p:nvSpPr>
          <p:spPr>
            <a:xfrm>
              <a:off x="1619280" y="1485720"/>
              <a:ext cx="2071440" cy="819360"/>
            </a:xfrm>
            <a:custGeom>
              <a:avLst/>
              <a:gdLst>
                <a:gd name="textAreaLeft" fmla="*/ 0 w 2071440"/>
                <a:gd name="textAreaRight" fmla="*/ 2071440 w 207144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8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9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2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Box 85"/>
              <p:cNvSpPr/>
              <p:nvPr/>
            </p:nvSpPr>
            <p:spPr>
              <a:xfrm rot="16200000">
                <a:off x="55144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5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Box 83"/>
              <p:cNvSpPr/>
              <p:nvPr/>
            </p:nvSpPr>
            <p:spPr>
              <a:xfrm rot="16200000">
                <a:off x="4823280" y="3119400"/>
                <a:ext cx="3882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8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1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2" name="Can 76"/>
              <p:cNvSpPr/>
              <p:nvPr/>
            </p:nvSpPr>
            <p:spPr>
              <a:xfrm rot="16200000">
                <a:off x="1020960" y="2846160"/>
                <a:ext cx="4176720" cy="87840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5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75"/>
              <p:cNvSpPr/>
              <p:nvPr/>
            </p:nvSpPr>
            <p:spPr>
              <a:xfrm rot="16200000">
                <a:off x="65700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8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2-07T05:38:14Z</dcterms:modified>
  <cp:revision>73</cp:revision>
  <dc:subject/>
  <dc:title>Sustainable intensification of crop-livestock systems to improve food security and farm income diversification in the Ethiopian highlands</dc:title>
</cp:coreProperties>
</file>