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6174-51EF-4FDC-A545-42123866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3966-0790-460D-A575-8445A1D0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0799-F482-40D3-9839-1E69AE8C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9459-DC88-4F90-9B4E-621A1B17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8434-555A-4D4E-9F85-07B328043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FD2-A2BE-4ABC-9C14-3B51491F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923-DE92-48F4-BE5E-D649C27F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4388-726B-4754-A1AE-A23ABC8C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122F-325C-4DF6-A0D4-8F7427DC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4D94-A3A3-4424-ABC4-769B9DDC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382-0BDE-40AB-89EE-04844A29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BAE9-E754-4D5D-96F1-8CC00E52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CC8A-82B9-45C5-9811-05A9CD81BE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of Farming System component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igh potential, high market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lastair’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op residue fed to animals is not available for fields. If not fed to animals, manure fertilizer is not avail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dder versus grain production: single purpose and dual purpo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to cattle gives money to men, and may detract from household inc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ree grazing versus double-cropping in off sea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ed labor may fall to women, who already have a very full work 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flow to buy inpu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ers with small ruminants and cat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with quality stover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ers with only small rumi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549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 and Tar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hungry period by 2 months; % of population that is food sec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 vari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child undernutrition by x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 protein; water harvesting for vegetable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trol of household expenditures, % household work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gs and milk consumption and sales; Trees for firewood; Herbicides reduce women’s la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 for water retention and fertility (N); manure for soil; erosion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ert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 milk, vegetables, legumes, meat, surplus cereals, by-products (leath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hypothetical)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soi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wo cropping seasons: small rains (barley has low disease incidence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ize, wheat, and teff are comm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market access, including herbicide and fertiliz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re cattle than small rumin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an export market for small ruminants for meat (e.g., Dubai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mestic meat market is reduced by fasting; Orthodox Christians fast 2 days/week and 2 months/year for L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bles as a high-value cr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n plant chickpea after maize for double-cropp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undnuts are not suit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uble cropping is done on non-light soil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rley is followed by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fter wheat, plant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ts of site have problems with waterlogging during heavy ra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at rust is pres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ed availability is a constraint for wheat, maize, and legumes (no private secto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migration rates to cit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traditional produ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ops that provide better feeds to produce more meat (fattening) and milk (need cold cha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tic methods to improve livestock quality (selection within sheep and goat breed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rtilizer and seed choice adapted to rain and soil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planting density  and new varieties increase productivity per unit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breeding of breeder seed, higher quality and vi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-- 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umes for home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PM for home consumption improves child nutrition and reduces st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harvesting on light soils for vegetable production in off-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uit trees can be grown on 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post-harvest/value 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metic metal silos and plastic b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tic bags to prevent pest lo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– soil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e management to allow adequate cover and use field for appropriate levels of gra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cover crop during dry season to keep down weeds (oats, vetch) and then use for fod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ers to enable no-till conservation agriculture and lower labor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age trees for soil moisture retention, compost, nitrogen fi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labor/non-farm in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ols to reduce women’s labor include herbicide, mechanical planting, diversifica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bicide use reduces weed pressure over subsequent years of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mall thresh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llage-based agro-industries and job cre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ctive action for markets and inputs, sto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es can provide on-farm firewood that obviate the need (for women) to walk for several hours to retrieve fu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ailable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ust-resistant bread and Durum wheat varieties are available. They require herbicides and fertilizer for high yiel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n legume varieties are available (fava bean, chick pea, lentil, field pea) for this s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ve maize varieties (one OPV) for highlands are available, plus one varieiy quality protein maize (QP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other hybrid maize produces tillers for 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rmer typology associated with household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calend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age, fruit, and fertilizer tre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d supply for legumes, wheat, maize var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bicide and fertilizer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agronomi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41:52Z</dcterms:created>
  <dc:creator>Windows User</dc:creator>
  <dc:description/>
  <dc:language>en-US</dc:language>
  <cp:lastModifiedBy>PBallantyne</cp:lastModifiedBy>
  <dcterms:modified xsi:type="dcterms:W3CDTF">2012-02-01T12:40:36Z</dcterms:modified>
  <cp:revision>15</cp:revision>
  <dc:subject/>
  <dc:title>Integration Group</dc:title>
</cp:coreProperties>
</file>