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BE9-43A2-44E7-9AD2-D1282543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249-79EE-4AFC-BC72-AC329A06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762-1447-47E1-BD81-F2E2B9BE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747-1DA6-4C5D-AE1B-AE926843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4C6-49F7-40D6-A1B9-881C9D0F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4B17-FF33-43EB-89C9-31BA2BAA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28D-1EFE-4B56-BF5B-31038C70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304-5356-4AB9-9425-BCFFA74A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5A1-E80F-46D0-BD10-0D6D73DA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D8E-9735-42CE-978D-284802DD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FC5E-F0A5-4FE1-B2AB-DA8058B9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EAE-50CB-4769-9504-A26574EF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307D-9EB0-4DB4-A981-0A44DBA05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on of Farming System components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igh potential, high market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lastair’s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op residue fed to animals is not available for fields. If not fed to animals, manure fertilizer is not avail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dder versus grain production: single purpose and dual purpo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or to cattle gives money to men, and may detract from household inco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ree grazing versus double-cropping in off sea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creased labor may fall to women, who already have a very full work da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flow to buy inpu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ers with small ruminants and cat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feed (farmers are more inclined to invest in fo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ze with quality stover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age legumes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oundaries or steep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s for fodder (goats) and water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ier grass on bunds and ero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ers with only small rumi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feed (farmers are more inclined to invest in fo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age legumes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oundaries or steep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s for fodder (goats) and water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ier grass on bunds and ero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5491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 and Tar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c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 hungry period by 2 months; % of population that is food sec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ls vari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 child undernutrition by x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k protein; water harvesting for vegetable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trol of household expenditures, % household work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gs and milk consumption and sales; Trees for firewood; Herbicides reduce women’s lab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es for water retention and fertility (N); manure for soil; erosion pre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ert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l milk, vegetables, legumes, meat, surplus cereals, by-products (leath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hypothetical)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d soi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wo cropping seasons: small rains (barley has low disease incidence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ize, wheat, and teff are comm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d market access, including herbicide and fertiliz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re cattle than small rumina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 is an export market for small ruminants for meat (e.g., Dubai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mestic meat market is reduced by fasting; Orthodox Christians fast 2 days/week and 2 months/year for L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egetables as a high-value cr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an plant chickpea after maize for double-cropp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roundnuts are not suit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uble cropping is done on non-light soil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arley is followed by fava bean or lent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fter wheat, plant fava bean or lent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ts of site have problems with waterlogging during heavy ra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eat rust is pres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ed availability is a constraint for wheat, maize, and legumes (no private secto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 migration rates to cit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traditional produ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ops that provide better feeds to produce more meat (fattening) and milk (need cold chai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tic methods to improve livestock quality (selection within sheep and goat breed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rtilizer and seed choice adapted to rain and soil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er planting density  and new varieties increase productivity per unit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breeding of breeder seed, higher quality and vi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pportunities -- nutr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umes for home consu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PM for home consumption improves child nutrition and reduces st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harvesting on light soils for vegetable production in off-s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uit trees can be grown on f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post-harvest/value add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metic metal silos and plastic b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stic bags to prevent pest lo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pportunities – soil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due management to allow adequate cover and use field for appropriate levels of gra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cover crop during dry season to keep down weeds (oats, vetch) and then use for fod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ers to enable no-till conservation agriculture and lower labor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age trees for soil moisture retention, compost, nitrogen fi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labor/non-farm inc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ols to reduce women’s labor include herbicide, mechanical planting, diversifica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bicide use reduces weed pressure over subsequent years of 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mall thresh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llage-based agro-industries and job cre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llective action for markets and inputs, stor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es can provide on-farm firewood that obviate the need (for women) to walk for several hours to retrieve fu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ailable techn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ust-resistant bread and Durum wheat varieties are available. They require herbicides and fertilizer for high yiel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n legume varieties are available (fava bean, chick pea, lentil, field pea) for this si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ve maize varieties (one OPV) for highlands are available, plus one varieiy quality protein maize (QP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other hybrid maize produces tillers for fe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armer typology associated with household pri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or calend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age, fruit, and fertilizer tre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d supply for legumes, wheat, maize var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bicide and fertilizer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agronomi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8:41:52Z</dcterms:created>
  <dc:creator>Windows User</dc:creator>
  <dc:description/>
  <dc:language>en-US</dc:language>
  <cp:lastModifiedBy>PBallantyne</cp:lastModifiedBy>
  <dcterms:modified xsi:type="dcterms:W3CDTF">2012-02-01T12:40:36Z</dcterms:modified>
  <cp:revision>15</cp:revision>
  <dc:subject/>
  <dc:title>Integration Group</dc:title>
</cp:coreProperties>
</file>