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194C-3A7B-44EE-AE40-B740DF85A2A7}"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E3A1-5178-44BD-B731-B852F83590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C746-B88E-4943-A1E1-54E8E87B3B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A869-D4D0-4E44-84CD-7C3171E3FD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AD17-DB13-479D-940C-023E4802EA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5FA0-7D24-49B6-B9ED-C3082E1BA2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1CDC-99E3-40BF-9B41-FFB3C1F2BF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4C6A4-0204-4BB6-ACD5-C6755A16F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0DDF07F6-A0CE-4F27-9172-855BD188A7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EF4C3279-909F-4185-A91D-9F3425170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63F799BE-D94F-41D1-8EDE-5222C956C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4E569B4D-8071-4021-82AE-375004489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EB8525-28BA-4515-8E24-2BB7B14CE8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385ED72-51E8-421C-BDEB-C08F27C193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E477D47-33B6-4467-B30A-17907C49D2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133C1E7-1A2F-40D1-92C3-B29F49A9E7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0C2E06F0-4D83-4208-9407-EFFE031984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CC78875-1D46-4F09-9923-8CFEFFA631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70A6472-09E6-487A-A396-8958FC5395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52E5696-F534-4DCD-A6B8-5FEC2B40F5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3B100E7-18D3-4C8F-BE82-48E2454B24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9AF4AC7-5C43-4C81-8267-F8CD5D132E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A52AAE4-1CAE-4D02-A152-6154A71C02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3E12111-2EA9-43DA-800C-CCD37A6024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D9C68E4-7906-4382-ACC8-71A8B0B214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2A76AA27-53F9-4B2A-8113-0F72E0F161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17EBE3BE-CCE3-41CA-A4CA-3C70C34C34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0568601A-DF9E-4DB0-912B-82751B0DAC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D54802-B42E-40F8-A107-806C0F6C5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B259D-DB7F-451B-9749-7F1F7BF26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93E6F-C605-473D-9CB9-8615FD12C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EF004-7FCF-4BD5-9753-356981C8D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01114-95DF-4AA6-8061-F520DE641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A2E62-1240-4C0D-B6C2-1070DCC8A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F1DF9-C61B-47CC-BF10-0A19DB4A6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09FCE-5FE5-4D22-A202-0F57A4643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835C0-375C-44F3-88DF-97CC001AE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142A2E34-1C62-46FC-A167-96BD1D2F8C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86161-918F-4747-820C-6F88878FB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085AB-EB8F-4328-B107-169E282E85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B608FC-E590-4854-9D1F-EEA072D8B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187550-7F56-4CC7-8867-E854AB95378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611BFC-8E45-4D7F-A1CE-F7E1D04BAF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4ADE2C-B83B-46BF-B7E1-20188A9049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AABEC1-4347-4880-BA71-4BC19D7CBC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FE71CF-9CA4-41F9-B100-6F7B5E0BE6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3E6162-F9D1-4247-9B4D-84A09457A1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E369D-02C8-4F55-A340-026DF380BE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19979E3-5DEF-4437-B2C2-2B1E629E16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F79CD3-7DAD-43DF-9375-411B05CD0E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65231E-0DA8-4644-AA4F-7FB73E2F4A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8E08EC-6AED-4DFD-8A2E-78E62425DB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E17887-16A3-4705-9A87-87FAAA68B5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4C9C3E-24BC-4B2C-89B7-47BA21F3C2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64CD517-71E1-431B-87CB-9B74EB8F2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EE54-92EC-4707-9221-FB0FFFB6B9AF}"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BBE5-BD36-4E6D-B8BF-2C1A4E26FF99}"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C7FD-D530-4AFC-B779-08C6F6124097}" type="datetime">
              <a:rPr b="0" lang="en-US" sz="2400" spc="-1" strike="noStrike">
                <a:solidFill>
                  <a:srgbClr val="000000"/>
                </a:solidFill>
                <a:latin typeface="Calibri"/>
                <a:ea typeface="Arial"/>
              </a:rPr>
              <a:t>07/29/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3E30-76DB-40C8-9E0D-20BD39EF1B17}" type="datetime">
              <a:rPr b="0" lang="en-US" sz="2400" spc="-1" strike="noStrike">
                <a:solidFill>
                  <a:srgbClr val="000000"/>
                </a:solidFill>
                <a:latin typeface="Calibri"/>
                <a:ea typeface="Arial"/>
              </a:rPr>
              <a:t>07/29/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5A4A-7DA1-44C9-B4EB-2CBFF2A90FFA}"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