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7051675"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3A0F82-CDB8-4E24-9D52-E800FE0475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B9D73-39F2-4867-A5FB-960B89B8B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3F274D-28C9-40B9-BB6A-F86725898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A80E0D-655E-4104-A9FD-B210E0B9CB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331D75-0F4E-4560-AB01-AF320F037D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C3F210-F317-4704-96C1-F9A0238A7A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BBA28F-B524-4430-83DC-4882BA5E89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CFCB02-5F23-4E00-8049-5C1E922A63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D5E329-E57C-455C-B983-AE7E5D0586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96429F-50DC-4288-921D-F592491E35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41AAC-2E9D-4FD8-857E-257D5C889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8ADFF-B612-4D41-ACDC-F47C95DBD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69D32-3FC3-4798-BFE3-4A68923DC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E0AC7-0079-4A79-BAB9-FA0EC5D4BE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B0486D-ABE7-4DE3-A125-E6EC7C9F97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266A9C-69F2-478A-984D-2D23AE47AF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7EC634-2216-4ABA-A7FD-B0229E6A27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F6CD50-0653-47A4-BC87-F09EFDF451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9F5CFC-22A7-4036-B4BA-A57DB2419C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12BAE9-1D51-4AD1-9E32-850E2462DC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655D34-186F-400D-A85D-7F080FC06B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F7D5F7-0826-4150-B6E2-4DB2417259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3DF04-56B0-46BC-9A4B-FF782F00D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888209-7529-4204-A412-F2AEDB420E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70C3AD-E3E3-4A30-A4BD-50A67151D7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E6D4DD-3207-4BBA-92F2-48C3F5563B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E4546F-846F-4EEF-8A91-0E03262756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F675D3-BF44-4A6C-86F3-F459D7DED0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F14982-49BA-4027-8FA3-B3F0AEBF75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A0CFA5-E1F2-4B29-A502-BF869D49FE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9072C9-A812-4330-B086-23391288DC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4B7AC3-83D8-4450-93E5-3F9B27A048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68C0E7-3AAE-492B-94A0-FEB590C030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0C484-6DF3-48E9-AEB4-8F974DD9C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9DE81F-7A74-4D03-AD9B-A301C6D46F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A864F0-C156-478C-8CB0-ED3F3E9313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EE6CDF-0586-4E06-8BBF-A2BC3A1059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D5DBD0-C368-467A-83EB-A242E00279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34613A-ABD7-4D63-8919-8AA00B392D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A1115B-7FE4-4407-878C-FC71314B58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AC72BE-4A4C-4206-981F-91359CAFEB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FF29E8-96BD-42DC-88B7-58BA67BC4D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F47291-AF7C-46A1-9E3B-F6D9BFE257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522FE-A645-4673-920D-F29D3F339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B0C48-90BF-41A0-9AFA-09F6ACE0A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DAA34-25F2-4721-9B5B-1020FFE28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23E5E-6D37-4463-B79C-6B328DC71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ECAFB-302C-4620-B9FD-F1BB21A6A8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5D200-7904-4C80-B4EA-D2376604702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A57A1-3909-48E9-9C39-5FA5AFF04403}"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900FA-79C4-46C4-A6DF-8F1045CA9948}"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71500-9A97-4BE9-A915-7C75D92C1FC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56600" cy="648000"/>
              <a:chOff x="-19080" y="203040"/>
              <a:chExt cx="9156600" cy="648000"/>
            </a:xfrm>
          </p:grpSpPr>
          <p:pic>
            <p:nvPicPr>
              <p:cNvPr id="199" name="Freeform 11" descr=""/>
              <p:cNvPicPr/>
              <p:nvPr/>
            </p:nvPicPr>
            <p:blipFill>
              <a:blip r:embed="rId3"/>
              <a:stretch/>
            </p:blipFill>
            <p:spPr>
              <a:xfrm>
                <a:off x="3960" y="203040"/>
                <a:ext cx="913356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BABATI  RESEARCH FOR DEVELOPMENT PLATFORM </a:t>
            </a:r>
            <a:endParaRPr b="0" lang="en-US" sz="4400" spc="-1" strike="noStrike">
              <a:solidFill>
                <a:srgbClr val="04617b"/>
              </a:solidFill>
              <a:latin typeface="Calibri"/>
            </a:endParaRPr>
          </a:p>
        </p:txBody>
      </p:sp>
      <p:sp>
        <p:nvSpPr>
          <p:cNvPr id="243"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Presentation to the 3</a:t>
            </a:r>
            <a:r>
              <a:rPr b="0" lang="en-US" sz="4400" spc="-1" strike="noStrike" baseline="30000">
                <a:solidFill>
                  <a:srgbClr val="000000"/>
                </a:solidFill>
                <a:latin typeface="Constantia"/>
              </a:rPr>
              <a:t>rd</a:t>
            </a:r>
            <a:r>
              <a:rPr b="0" lang="en-US" sz="4400" spc="-1" strike="noStrike">
                <a:solidFill>
                  <a:srgbClr val="000000"/>
                </a:solidFill>
                <a:latin typeface="Constantia"/>
              </a:rPr>
              <a:t> Research  Review and Planning Meeting for the Africa RISING –East and Southern Africa Project-Arusha, Tanzania: 9-12 September, 2014 </a:t>
            </a:r>
            <a:endParaRPr b="0" lang="en-US" sz="4400" spc="-1" strike="noStrike">
              <a:solidFill>
                <a:srgbClr val="000000"/>
              </a:solidFill>
              <a:latin typeface="Constantia"/>
            </a:endParaRPr>
          </a:p>
          <a:p>
            <a:pPr marL="253440" indent="-25344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11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nstantia"/>
              </a:rPr>
              <a:t>Election of the Chairperson of the Management Committee was done democratically by the nominated Committee members </a:t>
            </a:r>
            <a:endParaRPr b="0" lang="en-US" sz="4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First meeting of  the Management Committee was set on 17</a:t>
            </a:r>
            <a:r>
              <a:rPr b="0" lang="en-US" sz="4400" spc="-1" strike="noStrike" baseline="30000">
                <a:solidFill>
                  <a:srgbClr val="000000"/>
                </a:solidFill>
                <a:latin typeface="Constantia"/>
              </a:rPr>
              <a:t>th</a:t>
            </a:r>
            <a:r>
              <a:rPr b="0" lang="en-US" sz="4400" spc="-1" strike="noStrike">
                <a:solidFill>
                  <a:srgbClr val="000000"/>
                </a:solidFill>
                <a:latin typeface="Constantia"/>
              </a:rPr>
              <a:t>  June 2014 so as discuss major issues of the Platform and matters arising from the April meeting </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15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nstantia"/>
              </a:rPr>
              <a:t>Issues discussed were making Platform Constitution, membership and Contributions</a:t>
            </a:r>
            <a:endParaRPr b="0" lang="en-US" sz="6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GENERAL MEETING</a:t>
            </a:r>
            <a:endParaRPr b="0" lang="en-US" sz="5000" spc="-1" strike="noStrike">
              <a:solidFill>
                <a:srgbClr val="04617b"/>
              </a:solidFill>
              <a:latin typeface="Calibri"/>
            </a:endParaRPr>
          </a:p>
        </p:txBody>
      </p:sp>
      <p:sp>
        <p:nvSpPr>
          <p:cNvPr id="26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Management Committee has planned to convene the General Meeting by October 2014 when the draft Constitution will be discussed for adoption by stakeholders</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57200" y="2368080"/>
            <a:ext cx="7772400" cy="4038840"/>
          </a:xfrm>
          <a:prstGeom prst="rect">
            <a:avLst/>
          </a:prstGeom>
          <a:noFill/>
          <a:ln w="0">
            <a:noFill/>
          </a:ln>
        </p:spPr>
        <p:txBody>
          <a:bodyPr anchor="t">
            <a:normAutofit fontScale="98000"/>
          </a:bodyPr>
          <a:p>
            <a:pPr marL="267120" indent="-267120">
              <a:lnSpc>
                <a:spcPct val="100000"/>
              </a:lnSpc>
              <a:spcBef>
                <a:spcPts val="601"/>
              </a:spcBef>
              <a:buClr>
                <a:srgbClr val="ec821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mbria"/>
              </a:rPr>
              <a:t>Markets</a:t>
            </a:r>
            <a:r>
              <a:rPr b="0" lang="en-US" sz="2400" spc="-1" strike="noStrike">
                <a:solidFill>
                  <a:srgbClr val="000000"/>
                </a:solidFill>
                <a:latin typeface="Cambria"/>
              </a:rPr>
              <a:t>: improved and continuous access to farm inputs; access to cereal markets other than maize; marketing of livestock and its products </a:t>
            </a:r>
            <a:endParaRPr b="0" lang="en-US" sz="2400" spc="-1" strike="noStrike">
              <a:solidFill>
                <a:srgbClr val="000000"/>
              </a:solidFill>
              <a:latin typeface="Constantia"/>
            </a:endParaRPr>
          </a:p>
          <a:p>
            <a:pPr marL="267120" indent="-267120">
              <a:lnSpc>
                <a:spcPct val="100000"/>
              </a:lnSpc>
              <a:spcBef>
                <a:spcPts val="601"/>
              </a:spcBef>
              <a:buClr>
                <a:srgbClr val="ec821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mbria"/>
              </a:rPr>
              <a:t>Capacity building</a:t>
            </a:r>
            <a:r>
              <a:rPr b="0" lang="en-US" sz="2400" spc="-1" strike="noStrike">
                <a:solidFill>
                  <a:srgbClr val="000000"/>
                </a:solidFill>
                <a:latin typeface="Cambria"/>
              </a:rPr>
              <a:t>: identification and measures to mitigate crop pests; prevention, early identification and treatment of livestock diseases; training in farming as a business, including value addition of farm produce, diversification of crops/economy; pasture management; proper training in research program activities to reach sustainability and wide adoption of technologies and practices</a:t>
            </a:r>
            <a:endParaRPr b="0" lang="en-US" sz="2400" spc="-1" strike="noStrike">
              <a:solidFill>
                <a:srgbClr val="000000"/>
              </a:solidFill>
              <a:latin typeface="Constantia"/>
            </a:endParaRPr>
          </a:p>
        </p:txBody>
      </p:sp>
      <p:sp>
        <p:nvSpPr>
          <p:cNvPr id="269" name="PlaceHolder 2"/>
          <p:cNvSpPr>
            <a:spLocks noGrp="1"/>
          </p:cNvSpPr>
          <p:nvPr>
            <p:ph/>
          </p:nvPr>
        </p:nvSpPr>
        <p:spPr>
          <a:xfrm>
            <a:off x="228600" y="1058760"/>
            <a:ext cx="8610480" cy="836640"/>
          </a:xfrm>
          <a:prstGeom prst="rect">
            <a:avLst/>
          </a:prstGeom>
          <a:noFill/>
          <a:ln w="0">
            <a:noFill/>
          </a:ln>
        </p:spPr>
        <p:txBody>
          <a:bodyPr anchor="t">
            <a:normAutofit fontScale="82000"/>
          </a:bodyPr>
          <a:p>
            <a:pPr marL="936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000000"/>
                </a:solidFill>
                <a:latin typeface="Cambria"/>
              </a:rPr>
              <a:t>Identified challenges to sustainable intensification</a:t>
            </a:r>
            <a:endParaRPr b="0" lang="en-US" sz="3600" spc="-1" strike="noStrike">
              <a:solidFill>
                <a:srgbClr val="000000"/>
              </a:solidFill>
              <a:latin typeface="Constantia"/>
            </a:endParaRPr>
          </a:p>
        </p:txBody>
      </p:sp>
      <p:sp>
        <p:nvSpPr>
          <p:cNvPr id="270" name="TextBox 4"/>
          <p:cNvSpPr/>
          <p:nvPr/>
        </p:nvSpPr>
        <p:spPr>
          <a:xfrm>
            <a:off x="6948360" y="1052640"/>
            <a:ext cx="13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Calibri"/>
              </a:rPr>
              <a:t>April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57200" y="2514600"/>
            <a:ext cx="7772400" cy="4038480"/>
          </a:xfrm>
          <a:prstGeom prst="rect">
            <a:avLst/>
          </a:prstGeom>
          <a:noFill/>
          <a:ln w="0">
            <a:noFill/>
          </a:ln>
        </p:spPr>
        <p:txBody>
          <a:bodyPr anchor="t">
            <a:normAutofit fontScale="95000"/>
          </a:bodyPr>
          <a:p>
            <a:pPr marL="259200" indent="-259200">
              <a:spcBef>
                <a:spcPts val="700"/>
              </a:spcBef>
              <a:buClr>
                <a:srgbClr val="ec821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nstantia"/>
              </a:rPr>
              <a:t>Land use:</a:t>
            </a:r>
            <a:r>
              <a:rPr b="0" lang="en-US" sz="2800" spc="-1" strike="noStrike">
                <a:solidFill>
                  <a:srgbClr val="000000"/>
                </a:solidFill>
                <a:latin typeface="Constantia"/>
              </a:rPr>
              <a:t> resolving conflicts between farming and livestock keeping; introduction of proper land use practices; improved pasture management</a:t>
            </a:r>
            <a:endParaRPr b="0" lang="en-US" sz="2800" spc="-1" strike="noStrike">
              <a:solidFill>
                <a:srgbClr val="000000"/>
              </a:solidFill>
              <a:latin typeface="Constantia"/>
            </a:endParaRPr>
          </a:p>
          <a:p>
            <a:pPr marL="259200" indent="-259200">
              <a:spcBef>
                <a:spcPts val="700"/>
              </a:spcBef>
              <a:buClr>
                <a:srgbClr val="ec821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nstantia"/>
              </a:rPr>
              <a:t>Infrastructure:</a:t>
            </a:r>
            <a:r>
              <a:rPr b="0" lang="en-US" sz="2800" spc="-1" strike="noStrike">
                <a:solidFill>
                  <a:srgbClr val="000000"/>
                </a:solidFill>
                <a:latin typeface="Constantia"/>
              </a:rPr>
              <a:t> improved infrastructure for better market access; irrigation technology to reduce dependency of rainfall/rainfed crops</a:t>
            </a:r>
            <a:endParaRPr b="0" lang="en-US" sz="2800" spc="-1" strike="noStrike">
              <a:solidFill>
                <a:srgbClr val="000000"/>
              </a:solidFill>
              <a:latin typeface="Constantia"/>
            </a:endParaRPr>
          </a:p>
          <a:p>
            <a:pPr marL="259200" indent="-259200">
              <a:spcBef>
                <a:spcPts val="700"/>
              </a:spcBef>
              <a:buClr>
                <a:srgbClr val="ec821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nstantia"/>
              </a:rPr>
              <a:t>Youth:</a:t>
            </a:r>
            <a:r>
              <a:rPr b="0" lang="en-US" sz="2800" spc="-1" strike="noStrike">
                <a:solidFill>
                  <a:srgbClr val="000000"/>
                </a:solidFill>
                <a:latin typeface="Constantia"/>
              </a:rPr>
              <a:t> training and incentives for youth to become farmers</a:t>
            </a:r>
            <a:endParaRPr b="0" lang="en-US" sz="2800" spc="-1" strike="noStrike">
              <a:solidFill>
                <a:srgbClr val="000000"/>
              </a:solidFill>
              <a:latin typeface="Constantia"/>
            </a:endParaRPr>
          </a:p>
          <a:p>
            <a:pPr marL="259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72" name="PlaceHolder 2"/>
          <p:cNvSpPr>
            <a:spLocks noGrp="1"/>
          </p:cNvSpPr>
          <p:nvPr>
            <p:ph/>
          </p:nvPr>
        </p:nvSpPr>
        <p:spPr>
          <a:xfrm>
            <a:off x="456840" y="1294920"/>
            <a:ext cx="7620120" cy="1143000"/>
          </a:xfrm>
          <a:prstGeom prst="rect">
            <a:avLst/>
          </a:prstGeom>
          <a:noFill/>
          <a:ln w="0">
            <a:noFill/>
          </a:ln>
        </p:spPr>
        <p:txBody>
          <a:bodyPr anchor="t">
            <a:normAutofit fontScale="95000"/>
          </a:bodyPr>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000000"/>
                </a:solidFill>
                <a:latin typeface="Constantia"/>
              </a:rPr>
              <a:t>Identified challenges to sustainable intensification</a:t>
            </a:r>
            <a:endParaRPr b="0" lang="en-US" sz="3600" spc="-1" strike="noStrike">
              <a:solidFill>
                <a:srgbClr val="000000"/>
              </a:solidFill>
              <a:latin typeface="Constantia"/>
            </a:endParaRPr>
          </a:p>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PLATFORM KIND REQUEST</a:t>
            </a:r>
            <a:endParaRPr b="0" lang="en-US" sz="4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1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nstantia"/>
              </a:rPr>
              <a:t>Continued Financial support from Africa RISING during this stage before the platform comes into operation </a:t>
            </a:r>
            <a:endParaRPr b="0" lang="en-US" sz="5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VOTE OF  THANKS</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11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nstantia"/>
              </a:rPr>
              <a:t>Thanks to Project Chief Scientist Prof. Mateete Bekunda, Per Hillbur and Africa RISING for the continued support in establishing the Platform</a:t>
            </a:r>
            <a:endParaRPr b="0" lang="en-US" sz="4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marL="272880" indent="-272880" algn="ctr">
              <a:spcBef>
                <a:spcPts val="16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nstantia"/>
              </a:rPr>
              <a:t>LET US ALL  ASSIST JUMBA  TO GROW AND MATURE</a:t>
            </a:r>
            <a:endParaRPr b="0" lang="en-US" sz="6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lgn="ctr">
              <a:lnSpc>
                <a:spcPct val="100000"/>
              </a:lnSpc>
              <a:spcBef>
                <a:spcPts val="24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omic"/>
              </a:rPr>
              <a:t>ASANTE</a:t>
            </a:r>
            <a:endParaRPr b="0" lang="en-US" sz="9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RODUCTION</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1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nstantia"/>
              </a:rPr>
              <a:t>Babati is unique in agro-ecological and socio-cultural diversity</a:t>
            </a:r>
            <a:endParaRPr b="0" lang="en-US" sz="5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RO…….</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Babati Africa RISING project sites in Matufa, Hallu, Sabilo, Long, Shaurimoyo and Seloto villages  are representative of  the agro-ecological and Socio-cultural diversity existing in the district</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RO……</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15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nstantia"/>
              </a:rPr>
              <a:t>The farming households in these agro-ecological zones are faced with livelihood challenges</a:t>
            </a:r>
            <a:endParaRPr b="0" lang="en-US" sz="6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RO…..</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87000"/>
          </a:bodyPr>
          <a:p>
            <a:pPr marL="237240" indent="-23724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Babati Research for Development is an initiative proposed to adress and solve farmers challenges and scaling of sustainable intensification through intergrated farm </a:t>
            </a:r>
            <a:r>
              <a:rPr b="0" lang="en-US" sz="3600" spc="-1" strike="noStrike">
                <a:solidFill>
                  <a:srgbClr val="000000"/>
                </a:solidFill>
                <a:latin typeface="Constantia"/>
              </a:rPr>
              <a:t>practices</a:t>
            </a:r>
            <a:r>
              <a:rPr b="0" lang="en-US" sz="4000" spc="-1" strike="noStrike">
                <a:solidFill>
                  <a:srgbClr val="000000"/>
                </a:solidFill>
                <a:latin typeface="Constantia"/>
              </a:rPr>
              <a:t> so as to improve livelihoods in terms of productivity, income generation and nutrition</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marL="272880" indent="-272880">
              <a:spcBef>
                <a:spcPts val="11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nstantia"/>
              </a:rPr>
              <a:t>Idea of Babati Platform was initiated by Africa RISING to stakeholders meeting  which was held in Babati on April 2014</a:t>
            </a:r>
            <a:endParaRPr b="0" lang="en-US" sz="4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Proposed member composition include Farmers (Men, women and youth ), Extension agents, Input suppliers, Output handling and market support agents, Financial institutions, Research Institutions and Policy makers all of whom had representation in the April meeting</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fontScale="88000"/>
          </a:bodyPr>
          <a:p>
            <a:pPr marL="240120" indent="-24012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Meeting came up with the initial process of establishing the Management Committee whose members composed of two farmers representatives basing on gender, farmers who were  already involved in Africa RISING Project activities, </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wo crop and Livestock Extension agents, Agro-input supplier, NGO representative, two researchers one from Selian Agriculture Research and the other from Livestock Research Institute, Policy makers representative from MLFD and Babati District Council Management</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5T05:06:56Z</dcterms:created>
  <dc:creator>user</dc:creator>
  <dc:description/>
  <dc:language>en-US</dc:language>
  <cp:lastModifiedBy>Per Hillbur</cp:lastModifiedBy>
  <dcterms:modified xsi:type="dcterms:W3CDTF">2014-09-09T05:45:42Z</dcterms:modified>
  <cp:revision>31</cp:revision>
  <dc:subject/>
  <dc:title>BABATI  RESEARCH FOR DEVELOPMENT PLATFORM</dc:title>
</cp:coreProperties>
</file>