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6.png" ContentType="image/png"/>
  <Override PartName="/ppt/media/image29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9.png" ContentType="image/png"/>
  <Override PartName="/ppt/media/image3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87662-8336-48F1-861E-D3EC193A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18243-9963-40AB-A595-7B9AD1C5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79778-1A37-4AFD-9472-C7D36EB6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67561-4B20-49CD-90C6-3FB0BC89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38B37-2FB7-482B-B947-DD30D09C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B085D-1A0B-4BC5-8A2F-AE06D916B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8A755-E2D6-43F5-BD11-EF09BF67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70F65-0601-40F0-9BAA-52E8221D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AA8A8A-1E9A-497D-8B44-560F517A1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28670-D12D-4396-9E8A-ADA7A4B8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B32E9-BC2A-4CCF-802B-4C0D6E8F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9428A-E853-466A-A531-CA44562B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031819-4074-434A-BC39-DA396988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7664D4-9FA9-421C-8353-6523DD3F0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563278-0392-47A7-9B30-F3616A3A1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8A2A5-0F29-40FC-B941-EDAAD71C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55402-7AB2-4159-A029-68ABFC9D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B1933-1D84-4748-8705-45738217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70023-8D90-45F9-B875-19BB20FF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7FC8D-F569-44E8-8D48-75A9371C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B927D-13E7-45FF-B350-81E631BD4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85CAF-2980-487D-BE44-B2737E666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454DB-7B64-406C-A7FB-72A4DACC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66097-C251-45F1-A851-7DC9617A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24EBB-49DF-49C5-8761-50E035E4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9B431-F2AF-42D1-8DD8-5A833937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7C921-C4E8-493B-BC8D-5811DFDA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DA1A9D-DD80-4FE7-8F51-535EF9A77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D481C-7FB7-4C5B-92FE-BF7F881B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B330D-D8DA-4254-8661-B0B0A044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D399-70C5-4B57-8B4A-B0E6198E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1AEEDF-72B9-44F3-986B-E4F919ECA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30D2B-FAEC-4E8F-A814-6FA6E7E52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F4AC6-1EF5-4F66-85CC-82D55D9F7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CFA8B-0A97-450A-B619-01DAE86E9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8FEF98-6EB9-4137-8DED-FB9DF17B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2B4E9-44B8-4291-970F-CB57539C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F090D-47CB-49D5-9FD0-E56EF3BF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B726A-8B5B-4E4A-96E3-B5341838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AF0DA7-0BAB-4113-A098-3DD205F8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6B8C4-D50B-48C4-9D90-61866A59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05B3-2DA4-40CB-A855-63719E5E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BD3BF-51E1-48B0-A963-E5ECCD12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03304-5993-44B9-A266-77977A4D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2A60A-C24E-4A33-924E-27336BAE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8BEC8-292F-43D0-831B-C35FD4AAC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234DA-5F2D-494D-B858-D5B0A3F17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FA87-610B-422E-B5B3-73BDC7EE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AB89-7F3F-44CC-8FE2-C2140CCF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F93D-6489-4F6D-B28F-9A8AF3EA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EF17-245C-43C8-ADC8-5F7B4627C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89F1-DAB4-4FC9-8FEB-D84E7252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2873-D24E-4ED9-A1AB-364FA749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7140-C4E1-4717-8A05-92348CBB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D7A4-BBB8-4166-956B-668A1D5F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8C6A-DCA9-4612-8660-DF5C0E9F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49AA-9B8F-413E-9454-B61218456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4AFB3-6FFA-430C-9C13-444B20135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B557-703A-48FC-BC87-4393E0BE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B1F4-800F-4FD4-A253-5FBF60A7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48BC-969C-4DF3-9553-42327E23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87CD-276E-4078-BBD7-32A829BD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2055-D5D4-48A7-92B8-791B7E14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874C-F65D-4BF1-AE2C-E98A62CD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B8002-C996-43A2-A581-AF9F4D005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214A4-F0B6-48AE-B2F1-DE1D6233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9D4F-2E83-4505-A40D-7C1129D5D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D31E-5932-4719-BA0B-F5D2BC49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5302-A094-4B9C-AB4A-6E9273C7B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3CFFA-76D5-4FC2-8842-716FFB03F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20F29-CEEA-45BD-B608-9886B4E6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3B2BA-43B7-4E0C-994E-ECD52387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63444-880E-4FED-B2D1-40E537CE4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F04D7-F61A-4F9A-A00F-687BD92B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11CD1-7509-4FC8-B502-48DAE238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1AC3D-99E8-4A25-80C3-D92A0C14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1923F-CA2C-4CA6-8AAC-A26E3AF1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6E808-08EA-4FB0-B53A-5986A63A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CD9DD-A052-4A68-B430-685901F0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747EC-27BB-4421-BDAC-D814B324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E0A46-3EA0-44A0-9D65-DA6195546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BE5E9-CF8D-451D-BEBF-67A9F95D6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31B88-A3D7-4E39-9080-4E96DE1C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83914-96A4-48D7-B34F-D37A59CF6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1D696-E7D6-48AE-8662-4FA0E3DD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FAAB3-713A-492D-82D2-CF43CC08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FB989-87D8-49C1-8F8A-1762C121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AEE96-75FB-41E1-99FB-2322EA61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5FD32-EA75-4F21-806A-FAF19A67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D91E4-32A6-43F9-80BB-61A76112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BB444-B1DA-49EB-9E2F-9DAA9374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2758A-060D-4429-A4A2-D754060E7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F925E-E865-49C1-BA18-117C8C8F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25EE1-8C8D-48A6-80E1-C27B459E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6FB2B-1FC7-444C-9CA5-CFEA247B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3C070-6579-4CBB-B4CF-6AD710BB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46D37-6126-458F-9D53-D80617DD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D539F-ED84-4606-882A-67177B35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90774-F6DA-4978-9573-47B0312E4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2B35E-2B6E-407C-8A98-3234E760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C17CA-DFD1-4493-95D9-9482E973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59F40-83B2-4D08-9EAC-8D8B6F42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1838A-FA0D-4047-A713-9385444C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BFB62-7744-435D-A5F8-6D4E6F81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5BA3F-8C2E-431C-9CB4-55AC517B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AC345-8109-4963-972A-B53F5B20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B70D2-12BB-4C6E-8B02-453DDCF3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B857C-C351-40CD-83F3-369DF4137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99342-A9FB-43B0-8AFF-6C1B1CBE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AC156-8952-435E-80FD-901743D9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61CC5-D658-47D4-A795-11A1E2DA8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70490-9D70-441D-BF8D-67B3790E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E549E-9041-492E-BEAA-7D0EFE2B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45BE4-5ABD-4E72-B1E9-77F2BAD1D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77636-C691-4035-A92A-1C276AA3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E2854-9FDB-4F29-A7D7-F5AE2435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E19FB-4542-41A2-AD8C-6341A172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0B441-3799-4460-9B2D-EE05E97D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47368-0875-4FE7-9B54-FC57CB49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A12CE-E74E-4A52-AD79-AB75243E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B0099-C7D2-4492-B336-89A2A5DE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EA082-FA97-40F3-9929-9247672A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0917C-0157-432E-9E5E-1F91D28D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188DD-B0B3-412D-B77F-6B37476B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E7192-9817-4D51-9A12-65CE3AB4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A253D-188E-40D3-A85B-FB8C4098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D42D7-7AF5-499A-8908-580054C0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34CDF-3A1E-4FD0-A911-D174F6562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F8E87-06D0-4BDA-B052-B3D811A6A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9ABCB-63F8-4C2B-8D84-F2C04B532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F893B-8F11-4291-A899-B0C2D8F2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AE6E4F-AAB3-454B-98DB-5565C92A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06F9-E3FC-4EC1-B35D-597BF402672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FE67-854D-478A-B29C-66671D0C1F3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AA31-1975-4970-8E42-EA3176CBF20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5788-6CF4-48CF-BA0F-36D6A1EAB07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2CE1-E3D0-476C-9D94-E3D75D3B118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90CD-992B-4485-A55D-A888091ACB9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77E6-1948-44AA-9903-0D849132ACE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81B2-022F-41D0-AB68-E44EA9DA8EA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88E3-CC9E-4484-A1B1-996ABE65D0F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8011-9A74-4EC3-B1FE-642A6C97C37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D4A6-3422-48C6-848D-B5CE6A56FAA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4"/>
          <p:cNvSpPr/>
          <p:nvPr/>
        </p:nvSpPr>
        <p:spPr>
          <a:xfrm>
            <a:off x="2050920" y="2276640"/>
            <a:ext cx="6985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  <a:ea typeface="Arial"/>
              </a:rPr>
              <a:t>Intensification of maize-legume based systems in the semi-arid areas of Tanzania to increase farm productivity and improve farming natural resource ba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5c29"/>
                </a:solidFill>
                <a:latin typeface="Calibri"/>
                <a:ea typeface="Calibri"/>
              </a:rPr>
              <a:t>Kimaro, A, Swai, E., Ganga Rao, NVRP and </a:t>
            </a:r>
            <a:r>
              <a:rPr b="1" lang="en-US" sz="2000" spc="-1" strike="noStrike" u="sng">
                <a:solidFill>
                  <a:srgbClr val="225c29"/>
                </a:solidFill>
                <a:uFillTx/>
                <a:latin typeface="Calibri"/>
                <a:ea typeface="Calibri"/>
              </a:rPr>
              <a:t>Okori, 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traight Connector 5"/>
          <p:cNvSpPr/>
          <p:nvPr/>
        </p:nvSpPr>
        <p:spPr>
          <a:xfrm>
            <a:off x="1979640" y="2205000"/>
            <a:ext cx="4680" cy="2281320"/>
          </a:xfrm>
          <a:prstGeom prst="line">
            <a:avLst/>
          </a:prstGeom>
          <a:ln w="25560">
            <a:solidFill>
              <a:srgbClr val="f68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19"/>
          <p:cNvSpPr/>
          <p:nvPr/>
        </p:nvSpPr>
        <p:spPr>
          <a:xfrm>
            <a:off x="-12600" y="0"/>
            <a:ext cx="1635120" cy="68850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9" name="Group 2"/>
          <p:cNvGrpSpPr/>
          <p:nvPr/>
        </p:nvGrpSpPr>
        <p:grpSpPr>
          <a:xfrm>
            <a:off x="230040" y="6076800"/>
            <a:ext cx="4918320" cy="667080"/>
            <a:chOff x="230040" y="6076800"/>
            <a:chExt cx="4918320" cy="667080"/>
          </a:xfrm>
        </p:grpSpPr>
        <p:sp>
          <p:nvSpPr>
            <p:cNvPr id="530" name="Rectangle 1"/>
            <p:cNvSpPr/>
            <p:nvPr/>
          </p:nvSpPr>
          <p:spPr>
            <a:xfrm>
              <a:off x="230040" y="6076800"/>
              <a:ext cx="4918320" cy="6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1" name="Picture 3" descr="D:\Jobs 2013\ID and Visiting cards\ICRISAT-Logo-Extended Green.png"/>
            <p:cNvPicPr/>
            <p:nvPr/>
          </p:nvPicPr>
          <p:blipFill>
            <a:blip r:embed="rId1"/>
            <a:stretch/>
          </p:blipFill>
          <p:spPr>
            <a:xfrm>
              <a:off x="341280" y="6144480"/>
              <a:ext cx="4695480" cy="52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2" name="Picture 8" descr="D:\Jobs 2013\ID and Visiting cards\Covers\G2.png"/>
          <p:cNvPicPr/>
          <p:nvPr/>
        </p:nvPicPr>
        <p:blipFill>
          <a:blip r:embed="rId2"/>
          <a:stretch/>
        </p:blipFill>
        <p:spPr>
          <a:xfrm>
            <a:off x="1258920" y="4724280"/>
            <a:ext cx="811080" cy="1332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1" descr="H:\100MSDCF\DSC04291.JPG"/>
          <p:cNvPicPr/>
          <p:nvPr/>
        </p:nvPicPr>
        <p:blipFill>
          <a:blip r:embed="rId3"/>
          <a:stretch/>
        </p:blipFill>
        <p:spPr>
          <a:xfrm>
            <a:off x="324000" y="333360"/>
            <a:ext cx="25779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28"/>
          <p:cNvSpPr/>
          <p:nvPr/>
        </p:nvSpPr>
        <p:spPr>
          <a:xfrm>
            <a:off x="7020000" y="1916280"/>
            <a:ext cx="936720" cy="3168360"/>
          </a:xfrm>
          <a:prstGeom prst="rect">
            <a:avLst/>
          </a:prstGeom>
          <a:solidFill>
            <a:srgbClr val="bfbfb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29"/>
          <p:cNvSpPr/>
          <p:nvPr/>
        </p:nvSpPr>
        <p:spPr>
          <a:xfrm>
            <a:off x="7956720" y="1484280"/>
            <a:ext cx="1187280" cy="3600360"/>
          </a:xfrm>
          <a:prstGeom prst="rect">
            <a:avLst/>
          </a:prstGeom>
          <a:solidFill>
            <a:srgbClr val="c4bd9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Rectangle 30"/>
          <p:cNvSpPr/>
          <p:nvPr/>
        </p:nvSpPr>
        <p:spPr>
          <a:xfrm>
            <a:off x="5651640" y="1844640"/>
            <a:ext cx="1368360" cy="3240000"/>
          </a:xfrm>
          <a:prstGeom prst="rect">
            <a:avLst/>
          </a:prstGeom>
          <a:solidFill>
            <a:srgbClr val="b9cde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Rectangle 27"/>
          <p:cNvSpPr/>
          <p:nvPr/>
        </p:nvSpPr>
        <p:spPr>
          <a:xfrm>
            <a:off x="4284720" y="1844640"/>
            <a:ext cx="1366920" cy="3240000"/>
          </a:xfrm>
          <a:prstGeom prst="rect">
            <a:avLst/>
          </a:prstGeom>
          <a:solidFill>
            <a:srgbClr val="fdead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692000" y="115920"/>
            <a:ext cx="6994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5228"/>
                </a:solidFill>
                <a:latin typeface="Calibri"/>
              </a:rPr>
              <a:t>Experimental approa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619280" y="1052280"/>
            <a:ext cx="2160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O1 to inform investment options (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xperiment with options to underpin scaling up and out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reased productivity (new varieties- at scale), land use for livestock and poult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rease land productivity (nutrient use, decrease degradatio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ress house nutrition and food secur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6" name="Group 3"/>
          <p:cNvGrpSpPr/>
          <p:nvPr/>
        </p:nvGrpSpPr>
        <p:grpSpPr>
          <a:xfrm>
            <a:off x="3708360" y="1389240"/>
            <a:ext cx="5526000" cy="3744720"/>
            <a:chOff x="3708360" y="1389240"/>
            <a:chExt cx="5526000" cy="3744720"/>
          </a:xfrm>
        </p:grpSpPr>
        <p:sp>
          <p:nvSpPr>
            <p:cNvPr id="667" name="TextBox 4"/>
            <p:cNvSpPr/>
            <p:nvPr/>
          </p:nvSpPr>
          <p:spPr>
            <a:xfrm>
              <a:off x="7948800" y="1389240"/>
              <a:ext cx="128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caling up and ou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8" name="Group 5"/>
            <p:cNvGrpSpPr/>
            <p:nvPr/>
          </p:nvGrpSpPr>
          <p:grpSpPr>
            <a:xfrm>
              <a:off x="3708360" y="1685880"/>
              <a:ext cx="5166720" cy="3448080"/>
              <a:chOff x="3708360" y="1685880"/>
              <a:chExt cx="5166720" cy="3448080"/>
            </a:xfrm>
          </p:grpSpPr>
          <p:grpSp>
            <p:nvGrpSpPr>
              <p:cNvPr id="669" name="Group 7"/>
              <p:cNvGrpSpPr/>
              <p:nvPr/>
            </p:nvGrpSpPr>
            <p:grpSpPr>
              <a:xfrm>
                <a:off x="4293360" y="1685880"/>
                <a:ext cx="4581720" cy="2956680"/>
                <a:chOff x="4293360" y="1685880"/>
                <a:chExt cx="4581720" cy="2956680"/>
              </a:xfrm>
            </p:grpSpPr>
            <p:sp>
              <p:nvSpPr>
                <p:cNvPr id="670" name="Straight Connector 18"/>
                <p:cNvSpPr/>
                <p:nvPr/>
              </p:nvSpPr>
              <p:spPr>
                <a:xfrm>
                  <a:off x="4293360" y="4596840"/>
                  <a:ext cx="4581720" cy="4572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1" name="Straight Connector 19"/>
                <p:cNvSpPr/>
                <p:nvPr/>
              </p:nvSpPr>
              <p:spPr>
                <a:xfrm flipV="1">
                  <a:off x="4293360" y="1685880"/>
                  <a:ext cx="0" cy="290592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2" name="Straight Connector 20"/>
                <p:cNvSpPr/>
                <p:nvPr/>
              </p:nvSpPr>
              <p:spPr>
                <a:xfrm>
                  <a:off x="4293360" y="3713760"/>
                  <a:ext cx="1382760" cy="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3" name="Straight Connector 21"/>
                <p:cNvSpPr/>
                <p:nvPr/>
              </p:nvSpPr>
              <p:spPr>
                <a:xfrm>
                  <a:off x="5676120" y="3356280"/>
                  <a:ext cx="1346040" cy="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Straight Connector 22"/>
                <p:cNvSpPr/>
                <p:nvPr/>
              </p:nvSpPr>
              <p:spPr>
                <a:xfrm>
                  <a:off x="7022520" y="2910240"/>
                  <a:ext cx="925560" cy="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5" name="Straight Connector 23"/>
                <p:cNvSpPr/>
                <p:nvPr/>
              </p:nvSpPr>
              <p:spPr>
                <a:xfrm>
                  <a:off x="7948080" y="1974600"/>
                  <a:ext cx="927000" cy="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6" name="Straight Connector 24"/>
                <p:cNvSpPr/>
                <p:nvPr/>
              </p:nvSpPr>
              <p:spPr>
                <a:xfrm>
                  <a:off x="5676120" y="3356280"/>
                  <a:ext cx="0" cy="35712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7" name="Straight Connector 25"/>
                <p:cNvSpPr/>
                <p:nvPr/>
              </p:nvSpPr>
              <p:spPr>
                <a:xfrm>
                  <a:off x="7022520" y="2910240"/>
                  <a:ext cx="9360" cy="44604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8" name="Straight Connector 26"/>
                <p:cNvSpPr/>
                <p:nvPr/>
              </p:nvSpPr>
              <p:spPr>
                <a:xfrm>
                  <a:off x="7948080" y="1974600"/>
                  <a:ext cx="0" cy="99072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79" name="TextBox 8"/>
              <p:cNvSpPr/>
              <p:nvPr/>
            </p:nvSpPr>
            <p:spPr>
              <a:xfrm>
                <a:off x="4293360" y="3179160"/>
                <a:ext cx="136296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Calibri"/>
                  </a:rPr>
                  <a:t>Experimentation</a:t>
                </a:r>
                <a:endParaRPr b="0" lang="en-US" sz="1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TextBox 9"/>
              <p:cNvSpPr/>
              <p:nvPr/>
            </p:nvSpPr>
            <p:spPr>
              <a:xfrm>
                <a:off x="6993000" y="2541240"/>
                <a:ext cx="128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Scaling-up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TextBox 10"/>
              <p:cNvSpPr/>
              <p:nvPr/>
            </p:nvSpPr>
            <p:spPr>
              <a:xfrm>
                <a:off x="5736600" y="2891880"/>
                <a:ext cx="128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Valid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Straight Connector 11"/>
              <p:cNvSpPr/>
              <p:nvPr/>
            </p:nvSpPr>
            <p:spPr>
              <a:xfrm>
                <a:off x="5648400" y="1963800"/>
                <a:ext cx="0" cy="310212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Straight Connector 12"/>
              <p:cNvSpPr/>
              <p:nvPr/>
            </p:nvSpPr>
            <p:spPr>
              <a:xfrm>
                <a:off x="7031160" y="1963800"/>
                <a:ext cx="0" cy="310212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Straight Connector 13"/>
              <p:cNvSpPr/>
              <p:nvPr/>
            </p:nvSpPr>
            <p:spPr>
              <a:xfrm>
                <a:off x="7979040" y="1965240"/>
                <a:ext cx="0" cy="310212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5" name="TextBox 14"/>
              <p:cNvSpPr/>
              <p:nvPr/>
            </p:nvSpPr>
            <p:spPr>
              <a:xfrm rot="16200000">
                <a:off x="2932560" y="2872080"/>
                <a:ext cx="2194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Increasing resilience and productivity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TextBox 15"/>
              <p:cNvSpPr/>
              <p:nvPr/>
            </p:nvSpPr>
            <p:spPr>
              <a:xfrm>
                <a:off x="4473000" y="4672800"/>
                <a:ext cx="100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Year 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TextBox 16"/>
              <p:cNvSpPr/>
              <p:nvPr/>
            </p:nvSpPr>
            <p:spPr>
              <a:xfrm>
                <a:off x="5736600" y="4710240"/>
                <a:ext cx="100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Year 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TextBox 17"/>
              <p:cNvSpPr/>
              <p:nvPr/>
            </p:nvSpPr>
            <p:spPr>
              <a:xfrm>
                <a:off x="6939360" y="4765680"/>
                <a:ext cx="100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Year 3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9" name="TextBox 6"/>
            <p:cNvSpPr/>
            <p:nvPr/>
          </p:nvSpPr>
          <p:spPr>
            <a:xfrm>
              <a:off x="8142120" y="4765680"/>
              <a:ext cx="100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ear 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5228"/>
                </a:solidFill>
                <a:latin typeface="Calibri"/>
              </a:rPr>
              <a:t>Summary of Prog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763280" y="1125000"/>
            <a:ext cx="6923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Benchmarki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dentifying options for piloting and up-scaling into our intensification model are being d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w varietie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ed systems for up-and out-sca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igations into production environm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trategic partnership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l direct implementers (contracted partners), and associate partners (critical partners non contractual partners) as well as community leadership are on bo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7273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1: 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On-farm evaluation of improved legume &amp; cereals varie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1763640" y="907920"/>
          <a:ext cx="4680000" cy="5629320"/>
        </p:xfrm>
        <a:graphic>
          <a:graphicData uri="http://schemas.openxmlformats.org/drawingml/2006/table">
            <a:tbl>
              <a:tblPr/>
              <a:tblGrid>
                <a:gridCol w="1152720"/>
                <a:gridCol w="3527280"/>
              </a:tblGrid>
              <a:tr h="87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55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aptability of new mate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Yield performance &amp; P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ology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ommunity based seed production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Groundnuts Q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igeon Pea Q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Maize –especially QPM (OPV &amp; Hybrid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Knowledge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Testing and using most appropriate m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ting cereals and legumes in production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Evaluating suitability for intercrop, cover cro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94" name="Picture 7" descr="H:\photo_kongwa digital\Picture fr\P1010439.JPG"/>
          <p:cNvPicPr/>
          <p:nvPr/>
        </p:nvPicPr>
        <p:blipFill>
          <a:blip r:embed="rId1"/>
          <a:stretch/>
        </p:blipFill>
        <p:spPr>
          <a:xfrm>
            <a:off x="6443640" y="3429000"/>
            <a:ext cx="2521080" cy="2160720"/>
          </a:xfrm>
          <a:prstGeom prst="rect">
            <a:avLst/>
          </a:prstGeom>
          <a:ln w="0">
            <a:noFill/>
          </a:ln>
        </p:spPr>
      </p:pic>
      <p:sp>
        <p:nvSpPr>
          <p:cNvPr id="695" name="TextBox 2"/>
          <p:cNvSpPr/>
          <p:nvPr/>
        </p:nvSpPr>
        <p:spPr>
          <a:xfrm>
            <a:off x="6516720" y="5589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crop Kogwa &amp; PVS at Moleti Kite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6" name="Picture 8" descr="H:\photo moleti ELIA\100OLYMP\P1010462.JPG"/>
          <p:cNvPicPr/>
          <p:nvPr/>
        </p:nvPicPr>
        <p:blipFill>
          <a:blip r:embed="rId2"/>
          <a:stretch/>
        </p:blipFill>
        <p:spPr>
          <a:xfrm>
            <a:off x="6443640" y="1557360"/>
            <a:ext cx="2449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067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WP 2: </a:t>
            </a:r>
            <a:r>
              <a:rPr b="1" lang="en-GB" sz="3600" spc="-1" strike="noStrike">
                <a:solidFill>
                  <a:srgbClr val="224e25"/>
                </a:solidFill>
                <a:latin typeface="Calibri"/>
              </a:rPr>
              <a:t>Integrated soil fertility manag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692360" y="836640"/>
          <a:ext cx="4354560" cy="5548320"/>
        </p:xfrm>
        <a:graphic>
          <a:graphicData uri="http://schemas.openxmlformats.org/drawingml/2006/table">
            <a:tbl>
              <a:tblPr/>
              <a:tblGrid>
                <a:gridCol w="1393920"/>
                <a:gridCol w="29606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7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or limiting soil nutrients for crop production identifi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in-organic fertilizer usage by farm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es for use of intercropping to improve soils fertility and yield of introduced varieties develop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 benefits analysis for various soil nutrient replenish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99" name="Picture 4" descr="H:\100MSDCF\DSC04291.JPG"/>
          <p:cNvPicPr/>
          <p:nvPr/>
        </p:nvPicPr>
        <p:blipFill>
          <a:blip r:embed="rId1"/>
          <a:stretch/>
        </p:blipFill>
        <p:spPr>
          <a:xfrm>
            <a:off x="6084720" y="2205000"/>
            <a:ext cx="29368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619280" y="43920"/>
            <a:ext cx="706752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WP 3: </a:t>
            </a:r>
            <a:r>
              <a:rPr b="1" lang="en-GB" sz="3600" spc="-1" strike="noStrike">
                <a:solidFill>
                  <a:srgbClr val="224e25"/>
                </a:solidFill>
                <a:latin typeface="Calibri"/>
              </a:rPr>
              <a:t>Land and water management (soil and water conservation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1692360" y="1268280"/>
          <a:ext cx="4103640" cy="5167440"/>
        </p:xfrm>
        <a:graphic>
          <a:graphicData uri="http://schemas.openxmlformats.org/drawingml/2006/table">
            <a:tbl>
              <a:tblPr/>
              <a:tblGrid>
                <a:gridCol w="1314360"/>
                <a:gridCol w="27892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2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 bet soil water conservation and erosion control  technologies validated for up-scal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es to improve soils and water management develop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 benefits for soils and water management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02" name="Picture 4" descr="H:\photo_kongwa digital\Picture fr\P1010448.JPG"/>
          <p:cNvPicPr/>
          <p:nvPr/>
        </p:nvPicPr>
        <p:blipFill>
          <a:blip r:embed="rId1"/>
          <a:stretch/>
        </p:blipFill>
        <p:spPr>
          <a:xfrm>
            <a:off x="6084720" y="1197000"/>
            <a:ext cx="2495880" cy="22939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" descr="H:\photo_kongwa digital\Picture fr\P1010446.JPG"/>
          <p:cNvPicPr/>
          <p:nvPr/>
        </p:nvPicPr>
        <p:blipFill>
          <a:blip r:embed="rId2"/>
          <a:stretch/>
        </p:blipFill>
        <p:spPr>
          <a:xfrm>
            <a:off x="6084720" y="3500280"/>
            <a:ext cx="2519640" cy="2089440"/>
          </a:xfrm>
          <a:prstGeom prst="rect">
            <a:avLst/>
          </a:prstGeom>
          <a:ln w="0">
            <a:noFill/>
          </a:ln>
        </p:spPr>
      </p:pic>
      <p:sp>
        <p:nvSpPr>
          <p:cNvPr id="704" name="TextBox 6"/>
          <p:cNvSpPr/>
          <p:nvPr/>
        </p:nvSpPr>
        <p:spPr>
          <a:xfrm>
            <a:off x="5940360" y="580536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rmers examine a maize crop produced under improved manag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619280" y="6480"/>
            <a:ext cx="7524720" cy="97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4: 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Post harvest processing, utilization and nutrition and safe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1763640" y="907920"/>
          <a:ext cx="3960720" cy="5367600"/>
        </p:xfrm>
        <a:graphic>
          <a:graphicData uri="http://schemas.openxmlformats.org/drawingml/2006/table">
            <a:tbl>
              <a:tblPr/>
              <a:tblGrid>
                <a:gridCol w="917640"/>
                <a:gridCol w="304308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450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itiveness of Pigeon pea as alternative protein crop studi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latoxin on maize Groundnuts, Pigeon pea, Bean bambara nuts &amp; sorghum studi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wareness raising among partner on aflatox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le value chain for contamination poin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07" name="Chart 5" descr=""/>
          <p:cNvPicPr/>
          <p:nvPr/>
        </p:nvPicPr>
        <p:blipFill>
          <a:blip r:embed="rId1"/>
          <a:stretch/>
        </p:blipFill>
        <p:spPr>
          <a:xfrm>
            <a:off x="5718240" y="974880"/>
            <a:ext cx="3627360" cy="31161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" descr=""/>
          <p:cNvPicPr/>
          <p:nvPr/>
        </p:nvPicPr>
        <p:blipFill>
          <a:blip r:embed="rId2"/>
          <a:stretch/>
        </p:blipFill>
        <p:spPr>
          <a:xfrm>
            <a:off x="6516720" y="4365720"/>
            <a:ext cx="172224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99444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WP 4: </a:t>
            </a:r>
            <a:r>
              <a:rPr b="1" lang="en-GB" sz="3600" spc="-1" strike="noStrike">
                <a:solidFill>
                  <a:srgbClr val="224e25"/>
                </a:solidFill>
                <a:latin typeface="Calibri"/>
              </a:rPr>
              <a:t>Post harvest processing, utilization and nutrition and safet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1908000" y="1197000"/>
          <a:ext cx="6409080" cy="5184720"/>
        </p:xfrm>
        <a:graphic>
          <a:graphicData uri="http://schemas.openxmlformats.org/drawingml/2006/table">
            <a:tbl>
              <a:tblPr/>
              <a:tblGrid>
                <a:gridCol w="2065680"/>
                <a:gridCol w="4343400"/>
              </a:tblGrid>
              <a:tr h="574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for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10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year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 diagnostic platform at ARI Hombolo for the target area. (working with Selian R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ild capacity of ARI Hombolo and Selian to ID aflatox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tional activities for diagnostic platform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te efficiency of techniques together with TF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692000" y="259920"/>
            <a:ext cx="712764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5: 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Crop-livestock &amp; poultry integration for productivity enhance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1619280" y="1484280"/>
          <a:ext cx="7056360" cy="4697280"/>
        </p:xfrm>
        <a:graphic>
          <a:graphicData uri="http://schemas.openxmlformats.org/drawingml/2006/table">
            <a:tbl>
              <a:tblPr/>
              <a:tblGrid>
                <a:gridCol w="2274840"/>
                <a:gridCol w="47815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for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3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&amp;D to support adequate supply of quality f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haracterize existing species (Year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ropagation studies for best bet species (Year 2&amp;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Studies on management option for semi arid areas (Year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&amp;D to support improvement in management of stock and minimize land degra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"/>
          <p:cNvGraphicFramePr/>
          <p:nvPr/>
        </p:nvGraphicFramePr>
        <p:xfrm>
          <a:off x="1692360" y="1484280"/>
          <a:ext cx="6983280" cy="4608720"/>
        </p:xfrm>
        <a:graphic>
          <a:graphicData uri="http://schemas.openxmlformats.org/drawingml/2006/table">
            <a:tbl>
              <a:tblPr/>
              <a:tblGrid>
                <a:gridCol w="1998720"/>
                <a:gridCol w="4984560"/>
              </a:tblGrid>
              <a:tr h="4557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for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52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R&amp;D to support improvement in management of stock and minimize land degra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haracterize current management systems &amp; links to degradation &amp; feeds supp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Determine suitable livestock management systems for land degra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Links to WP 2 and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arrying capacity of 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Build capacity to manage best bet tech for poul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Recycling poultry to fer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692000" y="11556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5: 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Crop-livestock &amp; poultry integration for productivity enhance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1692360" y="907920"/>
          <a:ext cx="6983280" cy="4608720"/>
        </p:xfrm>
        <a:graphic>
          <a:graphicData uri="http://schemas.openxmlformats.org/drawingml/2006/table">
            <a:tbl>
              <a:tblPr/>
              <a:tblGrid>
                <a:gridCol w="1998720"/>
                <a:gridCol w="4984560"/>
              </a:tblGrid>
              <a:tr h="4557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for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52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line report highlight soil conditions and major constraints to SI in targeted ar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itial site condition of field sites targeted for on-farm trials evaluated and documented for M&amp;E and impacts assessment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92000" y="115560"/>
            <a:ext cx="69944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6: Characterization of sites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5760" y="23328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4e25"/>
                </a:solidFill>
                <a:latin typeface="Calibri"/>
              </a:rPr>
              <a:t>Project Si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4"/>
          <p:cNvSpPr/>
          <p:nvPr/>
        </p:nvSpPr>
        <p:spPr>
          <a:xfrm>
            <a:off x="4979880" y="3433680"/>
            <a:ext cx="384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iteto district is found in the Manyara reg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ith an estimated population of 152,75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4892760" y="4905360"/>
            <a:ext cx="41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ongwa District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is found in Dodoma Region. We are working in Mlali ward with a population of about 28,000 peo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Picture 9" descr=""/>
          <p:cNvPicPr/>
          <p:nvPr/>
        </p:nvPicPr>
        <p:blipFill>
          <a:blip r:embed="rId1"/>
          <a:stretch/>
        </p:blipFill>
        <p:spPr>
          <a:xfrm>
            <a:off x="158760" y="995400"/>
            <a:ext cx="3733920" cy="38098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0" descr=""/>
          <p:cNvPicPr/>
          <p:nvPr/>
        </p:nvPicPr>
        <p:blipFill>
          <a:blip r:embed="rId2"/>
          <a:stretch/>
        </p:blipFill>
        <p:spPr>
          <a:xfrm>
            <a:off x="5311800" y="1152360"/>
            <a:ext cx="2838600" cy="22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539" name="Straight Arrow Connector 12"/>
          <p:cNvCxnSpPr/>
          <p:nvPr/>
        </p:nvCxnSpPr>
        <p:spPr>
          <a:xfrm flipH="1">
            <a:off x="2804400" y="2253960"/>
            <a:ext cx="2507400" cy="23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0" name="Straight Arrow Connector 14"/>
          <p:cNvCxnSpPr>
            <a:stCxn id="536" idx="1"/>
          </p:cNvCxnSpPr>
          <p:nvPr/>
        </p:nvCxnSpPr>
        <p:spPr>
          <a:xfrm flipH="1" flipV="1">
            <a:off x="2340720" y="2726640"/>
            <a:ext cx="2552040" cy="2640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619280" y="115920"/>
            <a:ext cx="69962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1763280" y="1125000"/>
            <a:ext cx="6923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4D innovation platform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onvergence &amp; complementarity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: Complement of partners is fluid. Convergence of thrusts takes time and largely influence by extraneous facto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Benchmanks are critical: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&amp;D investment typologies are needed to implementation. (Helps to isolate Research from development issu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artnerships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. Intensification involves complex institutional and operational relationships. Limited understanding of what works and does not is critical for scaling up and design of appropriate interventio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hampions for chang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: Champions at community level are essential. This may compound design of evaluations because such people are usually targeted by oth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6270480" y="0"/>
            <a:ext cx="2886120" cy="68706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Rectangle 5"/>
          <p:cNvSpPr/>
          <p:nvPr/>
        </p:nvSpPr>
        <p:spPr>
          <a:xfrm>
            <a:off x="0" y="0"/>
            <a:ext cx="179280" cy="402912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traight Connector 8"/>
          <p:cNvSpPr/>
          <p:nvPr/>
        </p:nvSpPr>
        <p:spPr>
          <a:xfrm>
            <a:off x="2340000" y="3789360"/>
            <a:ext cx="0" cy="979560"/>
          </a:xfrm>
          <a:prstGeom prst="line">
            <a:avLst/>
          </a:prstGeom>
          <a:ln w="25560">
            <a:solidFill>
              <a:srgbClr val="f68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3"/>
          <p:cNvSpPr/>
          <p:nvPr/>
        </p:nvSpPr>
        <p:spPr>
          <a:xfrm>
            <a:off x="2340000" y="393372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3200" spc="-1" strike="noStrike">
                <a:solidFill>
                  <a:srgbClr val="225c29"/>
                </a:solidFill>
                <a:latin typeface="Calibri"/>
                <a:ea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3" name="Group 16"/>
          <p:cNvGrpSpPr/>
          <p:nvPr/>
        </p:nvGrpSpPr>
        <p:grpSpPr>
          <a:xfrm>
            <a:off x="108000" y="6105600"/>
            <a:ext cx="4757760" cy="598320"/>
            <a:chOff x="108000" y="6105600"/>
            <a:chExt cx="4757760" cy="598320"/>
          </a:xfrm>
        </p:grpSpPr>
        <p:sp>
          <p:nvSpPr>
            <p:cNvPr id="724" name="Rectangle 17"/>
            <p:cNvSpPr/>
            <p:nvPr/>
          </p:nvSpPr>
          <p:spPr>
            <a:xfrm>
              <a:off x="108000" y="6105600"/>
              <a:ext cx="4757760" cy="59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5" name="Picture 3" descr="D:\Jobs 2013\ID and Visiting cards\ICRISAT-Logo-Extended Green.png"/>
            <p:cNvPicPr/>
            <p:nvPr/>
          </p:nvPicPr>
          <p:blipFill>
            <a:blip r:embed="rId1"/>
            <a:stretch/>
          </p:blipFill>
          <p:spPr>
            <a:xfrm>
              <a:off x="215640" y="6166440"/>
              <a:ext cx="4542120" cy="46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6" name="Picture 7" descr="D:\Jobs 2013\ID and Visiting cards\Covers\G1.png"/>
          <p:cNvPicPr/>
          <p:nvPr/>
        </p:nvPicPr>
        <p:blipFill>
          <a:blip r:embed="rId2"/>
          <a:stretch/>
        </p:blipFill>
        <p:spPr>
          <a:xfrm>
            <a:off x="5886360" y="4559400"/>
            <a:ext cx="939960" cy="16063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2" descr=""/>
          <p:cNvPicPr/>
          <p:nvPr/>
        </p:nvPicPr>
        <p:blipFill>
          <a:blip r:embed="rId3"/>
          <a:srcRect l="0" t="0" r="0" b="-115"/>
          <a:stretch/>
        </p:blipFill>
        <p:spPr>
          <a:xfrm>
            <a:off x="2185920" y="5048280"/>
            <a:ext cx="2260800" cy="892080"/>
          </a:xfrm>
          <a:prstGeom prst="rect">
            <a:avLst/>
          </a:prstGeom>
          <a:ln w="0">
            <a:noFill/>
          </a:ln>
        </p:spPr>
      </p:pic>
      <p:sp>
        <p:nvSpPr>
          <p:cNvPr id="728" name="TextBox 14"/>
          <p:cNvSpPr/>
          <p:nvPr/>
        </p:nvSpPr>
        <p:spPr>
          <a:xfrm>
            <a:off x="1740240" y="5892840"/>
            <a:ext cx="317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225c29"/>
                </a:solidFill>
                <a:latin typeface="Arial"/>
              </a:rPr>
              <a:t>ICRISAT is a member of the CGIAR Consortiu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9" name="Picture 1" descr=""/>
          <p:cNvPicPr/>
          <p:nvPr/>
        </p:nvPicPr>
        <p:blipFill>
          <a:blip r:embed="rId4"/>
          <a:srcRect l="0" t="0" r="17" b="34"/>
          <a:stretch/>
        </p:blipFill>
        <p:spPr>
          <a:xfrm>
            <a:off x="235080" y="4680"/>
            <a:ext cx="1990440" cy="402444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" descr=""/>
          <p:cNvPicPr/>
          <p:nvPr/>
        </p:nvPicPr>
        <p:blipFill>
          <a:blip r:embed="rId5"/>
          <a:stretch/>
        </p:blipFill>
        <p:spPr>
          <a:xfrm>
            <a:off x="4284720" y="1052640"/>
            <a:ext cx="39528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5228"/>
                </a:solidFill>
                <a:latin typeface="Calibri"/>
              </a:rPr>
              <a:t>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Content Placeholder 3" descr=""/>
          <p:cNvPicPr/>
          <p:nvPr/>
        </p:nvPicPr>
        <p:blipFill>
          <a:blip r:embed="rId1"/>
          <a:stretch/>
        </p:blipFill>
        <p:spPr>
          <a:xfrm>
            <a:off x="1755720" y="974880"/>
            <a:ext cx="6997680" cy="51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5"/>
          <p:cNvSpPr/>
          <p:nvPr/>
        </p:nvSpPr>
        <p:spPr>
          <a:xfrm>
            <a:off x="1835280" y="836640"/>
            <a:ext cx="4465440" cy="53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  <a:ea typeface="Arial"/>
              </a:rPr>
              <a:t>Challenges to increased production/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1.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Fragile farming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Erosion prone fa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Degraded land sca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Low soils fert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2. Degradative farming (crop/livestock) prac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Overgraz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Limited integ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3.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Low production potential varieties gr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4. Local demand for legumes (consumption) is 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2" descr="E:\Vengal Backup\D\Jobs\IC Logos\For Intranet\5 Basic.png"/>
          <p:cNvPicPr/>
          <p:nvPr/>
        </p:nvPicPr>
        <p:blipFill>
          <a:blip r:embed="rId1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" descr=""/>
          <p:cNvPicPr/>
          <p:nvPr/>
        </p:nvPicPr>
        <p:blipFill>
          <a:blip r:embed="rId2"/>
          <a:stretch/>
        </p:blipFill>
        <p:spPr>
          <a:xfrm>
            <a:off x="1387440" y="5164200"/>
            <a:ext cx="579600" cy="947520"/>
          </a:xfrm>
          <a:prstGeom prst="rect">
            <a:avLst/>
          </a:prstGeom>
          <a:ln w="0">
            <a:noFill/>
          </a:ln>
        </p:spPr>
      </p:pic>
      <p:sp>
        <p:nvSpPr>
          <p:cNvPr id="547" name="TextBox 10"/>
          <p:cNvSpPr/>
          <p:nvPr/>
        </p:nvSpPr>
        <p:spPr>
          <a:xfrm>
            <a:off x="1835280" y="189000"/>
            <a:ext cx="648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5c29"/>
                </a:solidFill>
                <a:latin typeface="Calibri"/>
              </a:rPr>
              <a:t>Context of the Interven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1" descr=""/>
          <p:cNvPicPr/>
          <p:nvPr/>
        </p:nvPicPr>
        <p:blipFill>
          <a:blip r:embed="rId3"/>
          <a:srcRect l="0" t="0" r="0" b="6178"/>
          <a:stretch/>
        </p:blipFill>
        <p:spPr>
          <a:xfrm>
            <a:off x="6300720" y="907920"/>
            <a:ext cx="2730600" cy="16192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" descr="poor maize field.jpg"/>
          <p:cNvPicPr/>
          <p:nvPr/>
        </p:nvPicPr>
        <p:blipFill>
          <a:blip r:embed="rId4"/>
          <a:srcRect l="0" t="14540" r="57622" b="0"/>
          <a:stretch/>
        </p:blipFill>
        <p:spPr>
          <a:xfrm>
            <a:off x="6300720" y="2565360"/>
            <a:ext cx="1295640" cy="19605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" descr="C:\Users\user\Pictures\RESEARCH PICS GOATS\DSC00847.JPG"/>
          <p:cNvPicPr/>
          <p:nvPr/>
        </p:nvPicPr>
        <p:blipFill>
          <a:blip r:embed="rId5"/>
          <a:stretch/>
        </p:blipFill>
        <p:spPr>
          <a:xfrm>
            <a:off x="7667640" y="2637000"/>
            <a:ext cx="1368360" cy="18716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"/>
          <p:cNvPicPr/>
          <p:nvPr/>
        </p:nvPicPr>
        <p:blipFill>
          <a:blip r:embed="rId6"/>
          <a:srcRect l="0" t="21045" r="0" b="-9374"/>
          <a:stretch/>
        </p:blipFill>
        <p:spPr>
          <a:xfrm>
            <a:off x="6227640" y="4581360"/>
            <a:ext cx="1368720" cy="12240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"/>
          <p:cNvPicPr/>
          <p:nvPr/>
        </p:nvPicPr>
        <p:blipFill>
          <a:blip r:embed="rId7"/>
          <a:stretch/>
        </p:blipFill>
        <p:spPr>
          <a:xfrm>
            <a:off x="7667640" y="4508640"/>
            <a:ext cx="1284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5"/>
          <p:cNvSpPr/>
          <p:nvPr/>
        </p:nvSpPr>
        <p:spPr>
          <a:xfrm>
            <a:off x="1835280" y="836640"/>
            <a:ext cx="43923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  <a:ea typeface="Arial"/>
              </a:rPr>
              <a:t>The Opportun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Access to markets (Kibaigwa) local and outside of the reg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Under good management potential for high produc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Livestock is available (poultry, livestock) for food and man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Contribute to nutrition and crop productivity outcomes (leaverage other FTF programes TUBoreshe Chakula, NaFak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Management and yield enhancing technlogies ex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13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2" descr="E:\Vengal Backup\D\Jobs\IC Logos\For Intranet\5 Basic.png"/>
          <p:cNvPicPr/>
          <p:nvPr/>
        </p:nvPicPr>
        <p:blipFill>
          <a:blip r:embed="rId1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1387440" y="5164200"/>
            <a:ext cx="579600" cy="947520"/>
          </a:xfrm>
          <a:prstGeom prst="rect">
            <a:avLst/>
          </a:prstGeom>
          <a:ln w="0">
            <a:noFill/>
          </a:ln>
        </p:spPr>
      </p:pic>
      <p:sp>
        <p:nvSpPr>
          <p:cNvPr id="558" name="TextBox 10"/>
          <p:cNvSpPr/>
          <p:nvPr/>
        </p:nvSpPr>
        <p:spPr>
          <a:xfrm>
            <a:off x="1835280" y="189000"/>
            <a:ext cx="648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5c29"/>
                </a:solidFill>
                <a:latin typeface="Calibri"/>
              </a:rPr>
              <a:t>Context of the Interven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6443640" y="765000"/>
            <a:ext cx="2293920" cy="5740200"/>
            <a:chOff x="6443640" y="765000"/>
            <a:chExt cx="2293920" cy="5740200"/>
          </a:xfrm>
        </p:grpSpPr>
        <p:pic>
          <p:nvPicPr>
            <p:cNvPr id="560" name="Picture 3" descr="picture GN girl.jpg"/>
            <p:cNvPicPr/>
            <p:nvPr/>
          </p:nvPicPr>
          <p:blipFill>
            <a:blip r:embed="rId3"/>
            <a:stretch/>
          </p:blipFill>
          <p:spPr>
            <a:xfrm>
              <a:off x="6761160" y="765000"/>
              <a:ext cx="1500120" cy="119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11" descr="Ppea crop in the field.JPG"/>
            <p:cNvPicPr/>
            <p:nvPr/>
          </p:nvPicPr>
          <p:blipFill>
            <a:blip r:embed="rId4"/>
            <a:stretch/>
          </p:blipFill>
          <p:spPr>
            <a:xfrm>
              <a:off x="6761160" y="2000880"/>
              <a:ext cx="1485720" cy="102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4" descr=""/>
            <p:cNvPicPr/>
            <p:nvPr/>
          </p:nvPicPr>
          <p:blipFill>
            <a:blip r:embed="rId5"/>
            <a:stretch/>
          </p:blipFill>
          <p:spPr>
            <a:xfrm>
              <a:off x="6761160" y="3031200"/>
              <a:ext cx="148572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6" descr=""/>
            <p:cNvPicPr/>
            <p:nvPr/>
          </p:nvPicPr>
          <p:blipFill>
            <a:blip r:embed="rId6"/>
            <a:stretch/>
          </p:blipFill>
          <p:spPr>
            <a:xfrm>
              <a:off x="6761160" y="4129920"/>
              <a:ext cx="1485720" cy="9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1" descr=""/>
            <p:cNvPicPr/>
            <p:nvPr/>
          </p:nvPicPr>
          <p:blipFill>
            <a:blip r:embed="rId7"/>
            <a:stretch/>
          </p:blipFill>
          <p:spPr>
            <a:xfrm>
              <a:off x="6761160" y="5077440"/>
              <a:ext cx="1528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Rectangle 2"/>
            <p:cNvSpPr/>
            <p:nvPr/>
          </p:nvSpPr>
          <p:spPr>
            <a:xfrm>
              <a:off x="6443640" y="6136920"/>
              <a:ext cx="22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M Mizengo Pinda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92000" y="109440"/>
            <a:ext cx="698796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Africa RISING Princip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692360" y="1155240"/>
            <a:ext cx="68356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80000"/>
              </a:lnSpc>
              <a:spcBef>
                <a:spcPts val="98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search designed to test hypotheses that are linked to outputs and developmental outcomes identified by the Africa RISING programm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98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blem-focused and demand driven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search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tivities influenced by market demand, evolving policy environments, and changing social structures the needs of farmer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suring that research outputs are targeted effectively to development needs and are feasible for target farm households to implemen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plemented at several levels with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25892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e research outputs that are likely to be common across the programm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25892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erse research activities as guided by the individual project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25892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exible methods and tools to fit individual research activities and the con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caling will be at a pilot level  and beyond through the development of investment plans with development agenci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Content Placeholder 3" descr=""/>
          <p:cNvPicPr/>
          <p:nvPr/>
        </p:nvPicPr>
        <p:blipFill>
          <a:blip r:embed="rId1"/>
          <a:stretch/>
        </p:blipFill>
        <p:spPr>
          <a:xfrm>
            <a:off x="1792440" y="3925800"/>
            <a:ext cx="7149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92000" y="31320"/>
            <a:ext cx="69944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Project Theory of Chan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0" name="Group 54"/>
          <p:cNvGrpSpPr/>
          <p:nvPr/>
        </p:nvGrpSpPr>
        <p:grpSpPr>
          <a:xfrm>
            <a:off x="1743120" y="836640"/>
            <a:ext cx="7146720" cy="5693760"/>
            <a:chOff x="1743120" y="836640"/>
            <a:chExt cx="7146720" cy="5693760"/>
          </a:xfrm>
        </p:grpSpPr>
        <p:grpSp>
          <p:nvGrpSpPr>
            <p:cNvPr id="571" name="Group 4"/>
            <p:cNvGrpSpPr/>
            <p:nvPr/>
          </p:nvGrpSpPr>
          <p:grpSpPr>
            <a:xfrm>
              <a:off x="1743120" y="836640"/>
              <a:ext cx="7146720" cy="5693760"/>
              <a:chOff x="1743120" y="836640"/>
              <a:chExt cx="7146720" cy="5693760"/>
            </a:xfrm>
          </p:grpSpPr>
          <p:sp>
            <p:nvSpPr>
              <p:cNvPr id="572" name="Straight Connector 7"/>
              <p:cNvSpPr/>
              <p:nvPr/>
            </p:nvSpPr>
            <p:spPr>
              <a:xfrm>
                <a:off x="2216880" y="4380120"/>
                <a:ext cx="5542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Straight Connector 8"/>
              <p:cNvSpPr/>
              <p:nvPr/>
            </p:nvSpPr>
            <p:spPr>
              <a:xfrm>
                <a:off x="2196720" y="2090160"/>
                <a:ext cx="5563080" cy="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74" name="Group 9"/>
              <p:cNvGrpSpPr/>
              <p:nvPr/>
            </p:nvGrpSpPr>
            <p:grpSpPr>
              <a:xfrm>
                <a:off x="7964640" y="918720"/>
                <a:ext cx="925200" cy="3525480"/>
                <a:chOff x="7964640" y="918720"/>
                <a:chExt cx="925200" cy="3525480"/>
              </a:xfrm>
            </p:grpSpPr>
            <p:sp>
              <p:nvSpPr>
                <p:cNvPr id="575" name="Rectangle 49"/>
                <p:cNvSpPr/>
                <p:nvPr/>
              </p:nvSpPr>
              <p:spPr>
                <a:xfrm>
                  <a:off x="8128080" y="1498680"/>
                  <a:ext cx="641880" cy="985320"/>
                </a:xfrm>
                <a:prstGeom prst="rect">
                  <a:avLst/>
                </a:prstGeom>
                <a:solidFill>
                  <a:srgbClr val="c0504d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6" name="Rectangle 50"/>
                <p:cNvSpPr/>
                <p:nvPr/>
              </p:nvSpPr>
              <p:spPr>
                <a:xfrm rot="16200000">
                  <a:off x="7447680" y="3143880"/>
                  <a:ext cx="1959840" cy="640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77933c">
                        <a:alpha val="80000"/>
                      </a:srgbClr>
                    </a:gs>
                    <a:gs pos="100000">
                      <a:srgbClr val="ffffff">
                        <a:alpha val="8000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7" name="Isosceles Triangle 51"/>
                <p:cNvSpPr/>
                <p:nvPr/>
              </p:nvSpPr>
              <p:spPr>
                <a:xfrm>
                  <a:off x="7964640" y="918720"/>
                  <a:ext cx="925200" cy="58968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e5e5"/>
                    </a:gs>
                    <a:gs pos="100000">
                      <a:srgbClr val="ffa2a1"/>
                    </a:gs>
                  </a:gsLst>
                  <a:lin ang="5400000"/>
                </a:gradFill>
                <a:ln w="9360">
                  <a:solidFill>
                    <a:srgbClr val="be4b48"/>
                  </a:solidFill>
                  <a:miter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8" name="TextBox 52"/>
                <p:cNvSpPr/>
                <p:nvPr/>
              </p:nvSpPr>
              <p:spPr>
                <a:xfrm rot="16200000">
                  <a:off x="7515720" y="3279960"/>
                  <a:ext cx="1775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Sphere of influence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9" name="TextBox 53"/>
                <p:cNvSpPr/>
                <p:nvPr/>
              </p:nvSpPr>
              <p:spPr>
                <a:xfrm rot="16200000">
                  <a:off x="7649640" y="1623960"/>
                  <a:ext cx="1531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Sphere of interest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80" name="Group 10"/>
              <p:cNvGrpSpPr/>
              <p:nvPr/>
            </p:nvGrpSpPr>
            <p:grpSpPr>
              <a:xfrm>
                <a:off x="2265840" y="887400"/>
                <a:ext cx="5698440" cy="5643000"/>
                <a:chOff x="2265840" y="887400"/>
                <a:chExt cx="5698440" cy="5643000"/>
              </a:xfrm>
            </p:grpSpPr>
            <p:grpSp>
              <p:nvGrpSpPr>
                <p:cNvPr id="581" name="Group 14"/>
                <p:cNvGrpSpPr/>
                <p:nvPr/>
              </p:nvGrpSpPr>
              <p:grpSpPr>
                <a:xfrm>
                  <a:off x="2295360" y="5730480"/>
                  <a:ext cx="5668920" cy="799920"/>
                  <a:chOff x="2295360" y="5730480"/>
                  <a:chExt cx="5668920" cy="799920"/>
                </a:xfrm>
              </p:grpSpPr>
              <p:grpSp>
                <p:nvGrpSpPr>
                  <p:cNvPr id="582" name="Group 42"/>
                  <p:cNvGrpSpPr/>
                  <p:nvPr/>
                </p:nvGrpSpPr>
                <p:grpSpPr>
                  <a:xfrm>
                    <a:off x="2309400" y="5730840"/>
                    <a:ext cx="5654880" cy="799560"/>
                    <a:chOff x="2309400" y="5730840"/>
                    <a:chExt cx="5654880" cy="799560"/>
                  </a:xfrm>
                </p:grpSpPr>
                <p:sp>
                  <p:nvSpPr>
                    <p:cNvPr id="583" name="TextBox 44"/>
                    <p:cNvSpPr/>
                    <p:nvPr/>
                  </p:nvSpPr>
                  <p:spPr>
                    <a:xfrm>
                      <a:off x="2400480" y="5995080"/>
                      <a:ext cx="1635480" cy="505440"/>
                    </a:xfrm>
                    <a:prstGeom prst="rect">
                      <a:avLst/>
                    </a:prstGeom>
                    <a:solidFill>
                      <a:srgbClr val="8064a2"/>
                    </a:solidFill>
                    <a:ln w="25560">
                      <a:solidFill>
                        <a:srgbClr val="5c477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l &amp; multidisciplinary approaches used to improve agricultural innov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4" name="TextBox 45"/>
                    <p:cNvSpPr/>
                    <p:nvPr/>
                  </p:nvSpPr>
                  <p:spPr>
                    <a:xfrm>
                      <a:off x="4179600" y="6024960"/>
                      <a:ext cx="1213560" cy="505440"/>
                    </a:xfrm>
                    <a:prstGeom prst="rect">
                      <a:avLst/>
                    </a:prstGeom>
                    <a:solidFill>
                      <a:srgbClr val="8064a2"/>
                    </a:solidFill>
                    <a:ln w="25560">
                      <a:solidFill>
                        <a:srgbClr val="5c477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ed M&amp;E and learning in place for t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5" name="TextBox 46"/>
                    <p:cNvSpPr/>
                    <p:nvPr/>
                  </p:nvSpPr>
                  <p:spPr>
                    <a:xfrm>
                      <a:off x="6894000" y="6020280"/>
                      <a:ext cx="1070280" cy="505440"/>
                    </a:xfrm>
                    <a:prstGeom prst="rect">
                      <a:avLst/>
                    </a:prstGeom>
                    <a:solidFill>
                      <a:srgbClr val="8064a2"/>
                    </a:solidFill>
                    <a:ln w="25560">
                      <a:solidFill>
                        <a:srgbClr val="5c477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m operations is at optimum and well suppor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6" name="TextBox 47"/>
                    <p:cNvSpPr/>
                    <p:nvPr/>
                  </p:nvSpPr>
                  <p:spPr>
                    <a:xfrm>
                      <a:off x="5536800" y="6020280"/>
                      <a:ext cx="1213560" cy="505440"/>
                    </a:xfrm>
                    <a:prstGeom prst="rect">
                      <a:avLst/>
                    </a:prstGeom>
                    <a:solidFill>
                      <a:srgbClr val="8064a2"/>
                    </a:solidFill>
                    <a:ln w="25560">
                      <a:solidFill>
                        <a:srgbClr val="5c477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quality staff motivated to work for project  suc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7" name="TextBox 48"/>
                    <p:cNvSpPr/>
                    <p:nvPr/>
                  </p:nvSpPr>
                  <p:spPr>
                    <a:xfrm>
                      <a:off x="2309400" y="5730840"/>
                      <a:ext cx="2761920" cy="276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onditions among project partn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588" name="Rectangle 43"/>
                  <p:cNvSpPr/>
                  <p:nvPr/>
                </p:nvSpPr>
                <p:spPr>
                  <a:xfrm>
                    <a:off x="2295360" y="5730480"/>
                    <a:ext cx="5668920" cy="795960"/>
                  </a:xfrm>
                  <a:prstGeom prst="rect">
                    <a:avLst/>
                  </a:prstGeom>
                  <a:noFill/>
                  <a:ln w="9360">
                    <a:solidFill>
                      <a:srgbClr val="7d60a0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89" name="Group 15"/>
                <p:cNvGrpSpPr/>
                <p:nvPr/>
              </p:nvGrpSpPr>
              <p:grpSpPr>
                <a:xfrm>
                  <a:off x="2295720" y="4521960"/>
                  <a:ext cx="5668560" cy="1083240"/>
                  <a:chOff x="2295720" y="4521960"/>
                  <a:chExt cx="5668560" cy="1083240"/>
                </a:xfrm>
              </p:grpSpPr>
              <p:grpSp>
                <p:nvGrpSpPr>
                  <p:cNvPr id="590" name="Group 35"/>
                  <p:cNvGrpSpPr/>
                  <p:nvPr/>
                </p:nvGrpSpPr>
                <p:grpSpPr>
                  <a:xfrm>
                    <a:off x="2297160" y="4522680"/>
                    <a:ext cx="5667120" cy="1073880"/>
                    <a:chOff x="2297160" y="4522680"/>
                    <a:chExt cx="5667120" cy="1073880"/>
                  </a:xfrm>
                </p:grpSpPr>
                <p:sp>
                  <p:nvSpPr>
                    <p:cNvPr id="591" name="TextBox 37"/>
                    <p:cNvSpPr/>
                    <p:nvPr/>
                  </p:nvSpPr>
                  <p:spPr>
                    <a:xfrm>
                      <a:off x="2380320" y="4808880"/>
                      <a:ext cx="1227960" cy="779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0eaf9"/>
                        </a:gs>
                        <a:gs pos="100000">
                          <a:srgbClr val="c9b5e8"/>
                        </a:gs>
                      </a:gsLst>
                      <a:lin ang="5400000"/>
                    </a:gradFill>
                    <a:ln w="9360">
                      <a:solidFill>
                        <a:srgbClr val="7d60a0"/>
                      </a:solidFill>
                      <a:miter/>
                    </a:ln>
                    <a:effectLst>
                      <a:outerShdw dist="20160" dir="5400000" blurRad="0" rotWithShape="0">
                        <a:srgbClr val="80808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e, &amp; evaluate improved varieties of maize and grain legumes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2" name="TextBox 38"/>
                    <p:cNvSpPr/>
                    <p:nvPr/>
                  </p:nvSpPr>
                  <p:spPr>
                    <a:xfrm>
                      <a:off x="3750120" y="4808880"/>
                      <a:ext cx="1356840" cy="779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0eaf9"/>
                        </a:gs>
                        <a:gs pos="100000">
                          <a:srgbClr val="c9b5e8"/>
                        </a:gs>
                      </a:gsLst>
                      <a:lin ang="5400000"/>
                    </a:gradFill>
                    <a:ln w="9360">
                      <a:solidFill>
                        <a:srgbClr val="7d60a0"/>
                      </a:solidFill>
                      <a:miter/>
                    </a:ln>
                    <a:effectLst>
                      <a:outerShdw dist="20160" dir="5400000" blurRad="0" rotWithShape="0">
                        <a:srgbClr val="80808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loy ISFT to improve plant nutrition, yields and agro-ecosystem resilie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3" name="TextBox 39"/>
                    <p:cNvSpPr/>
                    <p:nvPr/>
                  </p:nvSpPr>
                  <p:spPr>
                    <a:xfrm>
                      <a:off x="5250240" y="4816800"/>
                      <a:ext cx="1285920" cy="779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0eaf9"/>
                        </a:gs>
                        <a:gs pos="100000">
                          <a:srgbClr val="c9b5e8"/>
                        </a:gs>
                      </a:gsLst>
                      <a:lin ang="5400000"/>
                    </a:gradFill>
                    <a:ln w="9360">
                      <a:solidFill>
                        <a:srgbClr val="7d60a0"/>
                      </a:solidFill>
                      <a:miter/>
                    </a:ln>
                    <a:effectLst>
                      <a:outerShdw dist="20160" dir="5400000" blurRad="0" rotWithShape="0">
                        <a:srgbClr val="80808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te &amp; promote land management options for sustainable intensifi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4" name="TextBox 40"/>
                    <p:cNvSpPr/>
                    <p:nvPr/>
                  </p:nvSpPr>
                  <p:spPr>
                    <a:xfrm>
                      <a:off x="6607440" y="4807440"/>
                      <a:ext cx="1356840" cy="779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0eaf9"/>
                        </a:gs>
                        <a:gs pos="100000">
                          <a:srgbClr val="c9b5e8"/>
                        </a:gs>
                      </a:gsLst>
                      <a:lin ang="5400000"/>
                    </a:gradFill>
                    <a:ln w="9360">
                      <a:solidFill>
                        <a:srgbClr val="7d60a0"/>
                      </a:solidFill>
                      <a:miter/>
                    </a:ln>
                    <a:effectLst>
                      <a:outerShdw dist="20160" dir="5400000" blurRad="0" rotWithShape="0">
                        <a:srgbClr val="80808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-harvest processing utilization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food safety improved nutrition outcom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5" name="TextBox 41"/>
                    <p:cNvSpPr/>
                    <p:nvPr/>
                  </p:nvSpPr>
                  <p:spPr>
                    <a:xfrm>
                      <a:off x="2297160" y="4522680"/>
                      <a:ext cx="2646360" cy="276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ct outpu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596" name="Rectangle 36"/>
                  <p:cNvSpPr/>
                  <p:nvPr/>
                </p:nvSpPr>
                <p:spPr>
                  <a:xfrm>
                    <a:off x="2295720" y="4521960"/>
                    <a:ext cx="5668560" cy="1083240"/>
                  </a:xfrm>
                  <a:prstGeom prst="rect">
                    <a:avLst/>
                  </a:prstGeom>
                  <a:noFill/>
                  <a:ln w="9360">
                    <a:solidFill>
                      <a:srgbClr val="b3a2c7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97" name="Group 16"/>
                <p:cNvGrpSpPr/>
                <p:nvPr/>
              </p:nvGrpSpPr>
              <p:grpSpPr>
                <a:xfrm>
                  <a:off x="2265840" y="887400"/>
                  <a:ext cx="5698440" cy="997560"/>
                  <a:chOff x="2265840" y="887400"/>
                  <a:chExt cx="5698440" cy="997560"/>
                </a:xfrm>
              </p:grpSpPr>
              <p:sp>
                <p:nvSpPr>
                  <p:cNvPr id="598" name="Rectangle 32"/>
                  <p:cNvSpPr/>
                  <p:nvPr/>
                </p:nvSpPr>
                <p:spPr>
                  <a:xfrm>
                    <a:off x="2291040" y="1243440"/>
                    <a:ext cx="5673240" cy="641520"/>
                  </a:xfrm>
                  <a:prstGeom prst="rect">
                    <a:avLst/>
                  </a:prstGeom>
                  <a:solidFill>
                    <a:srgbClr val="c0504d"/>
                  </a:solidFill>
                  <a:ln w="25560">
                    <a:solidFill>
                      <a:srgbClr val="8c38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Calibri"/>
                      </a:rPr>
                      <a:t>S</a:t>
                    </a: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Calibri"/>
                      </a:rPr>
                      <a:t>mallholder farm households especially women and children move out of poverty, food and nutritional insecurity while maintaining and/or improving ecosystem stabilit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9" name="TextBox 33"/>
                  <p:cNvSpPr/>
                  <p:nvPr/>
                </p:nvSpPr>
                <p:spPr>
                  <a:xfrm>
                    <a:off x="2265840" y="909720"/>
                    <a:ext cx="26780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ICRISAT Impac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0" name="Rectangle 34"/>
                  <p:cNvSpPr/>
                  <p:nvPr/>
                </p:nvSpPr>
                <p:spPr>
                  <a:xfrm>
                    <a:off x="2265840" y="887400"/>
                    <a:ext cx="5698440" cy="988200"/>
                  </a:xfrm>
                  <a:prstGeom prst="rect">
                    <a:avLst/>
                  </a:prstGeom>
                  <a:noFill/>
                  <a:ln w="9360">
                    <a:solidFill>
                      <a:srgbClr val="e6b9b8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01" name="Group 17"/>
                <p:cNvGrpSpPr/>
                <p:nvPr/>
              </p:nvGrpSpPr>
              <p:grpSpPr>
                <a:xfrm>
                  <a:off x="2297160" y="2161800"/>
                  <a:ext cx="5667120" cy="2085120"/>
                  <a:chOff x="2297160" y="2161800"/>
                  <a:chExt cx="5667120" cy="2085120"/>
                </a:xfrm>
              </p:grpSpPr>
              <p:grpSp>
                <p:nvGrpSpPr>
                  <p:cNvPr id="602" name="Group 18"/>
                  <p:cNvGrpSpPr/>
                  <p:nvPr/>
                </p:nvGrpSpPr>
                <p:grpSpPr>
                  <a:xfrm>
                    <a:off x="2305440" y="3234960"/>
                    <a:ext cx="5658840" cy="1011960"/>
                    <a:chOff x="2305440" y="3234960"/>
                    <a:chExt cx="5658840" cy="1011960"/>
                  </a:xfrm>
                </p:grpSpPr>
                <p:grpSp>
                  <p:nvGrpSpPr>
                    <p:cNvPr id="603" name="Group 25"/>
                    <p:cNvGrpSpPr/>
                    <p:nvPr/>
                  </p:nvGrpSpPr>
                  <p:grpSpPr>
                    <a:xfrm>
                      <a:off x="2305440" y="3234960"/>
                      <a:ext cx="5587560" cy="1002240"/>
                      <a:chOff x="2305440" y="3234960"/>
                      <a:chExt cx="5587560" cy="1002240"/>
                    </a:xfrm>
                  </p:grpSpPr>
                  <p:sp>
                    <p:nvSpPr>
                      <p:cNvPr id="604" name="TextBox 27"/>
                      <p:cNvSpPr/>
                      <p:nvPr/>
                    </p:nvSpPr>
                    <p:spPr>
                      <a:xfrm>
                        <a:off x="6723360" y="3592800"/>
                        <a:ext cx="1169640" cy="642600"/>
                      </a:xfrm>
                      <a:prstGeom prst="rect">
                        <a:avLst/>
                      </a:prstGeom>
                      <a:solidFill>
                        <a:srgbClr val="9bbb59"/>
                      </a:solidFill>
                      <a:ln w="25560">
                        <a:solidFill>
                          <a:srgbClr val="7189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Government policy is supportive of investments in agriculture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5" name="TextBox 28"/>
                      <p:cNvSpPr/>
                      <p:nvPr/>
                    </p:nvSpPr>
                    <p:spPr>
                      <a:xfrm>
                        <a:off x="2356560" y="3594600"/>
                        <a:ext cx="1392840" cy="642600"/>
                      </a:xfrm>
                      <a:prstGeom prst="rect">
                        <a:avLst/>
                      </a:prstGeom>
                      <a:solidFill>
                        <a:srgbClr val="9bbb59"/>
                      </a:solidFill>
                      <a:ln w="25560">
                        <a:solidFill>
                          <a:srgbClr val="7189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Opportunities for improved access to seed and innovations support intensification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6" name="TextBox 29"/>
                      <p:cNvSpPr/>
                      <p:nvPr/>
                    </p:nvSpPr>
                    <p:spPr>
                      <a:xfrm>
                        <a:off x="5339880" y="3592800"/>
                        <a:ext cx="1267200" cy="642600"/>
                      </a:xfrm>
                      <a:prstGeom prst="rect">
                        <a:avLst/>
                      </a:prstGeom>
                      <a:solidFill>
                        <a:srgbClr val="9bbb59"/>
                      </a:solidFill>
                      <a:ln w="25560">
                        <a:solidFill>
                          <a:srgbClr val="7189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Existing land tenure systems allows for farm to landscape level interventions 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7" name="TextBox 30"/>
                      <p:cNvSpPr/>
                      <p:nvPr/>
                    </p:nvSpPr>
                    <p:spPr>
                      <a:xfrm>
                        <a:off x="3874320" y="3592800"/>
                        <a:ext cx="1232280" cy="642600"/>
                      </a:xfrm>
                      <a:prstGeom prst="rect">
                        <a:avLst/>
                      </a:prstGeom>
                      <a:solidFill>
                        <a:srgbClr val="9bbb59"/>
                      </a:solidFill>
                      <a:ln w="25560">
                        <a:solidFill>
                          <a:srgbClr val="7189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Farmer organisations are functional &amp; supportive of the project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8" name="TextBox 31"/>
                      <p:cNvSpPr/>
                      <p:nvPr/>
                    </p:nvSpPr>
                    <p:spPr>
                      <a:xfrm>
                        <a:off x="2305440" y="3234960"/>
                        <a:ext cx="2563560" cy="2764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Preconditions amongst in action site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609" name="Rectangle 26"/>
                    <p:cNvSpPr/>
                    <p:nvPr/>
                  </p:nvSpPr>
                  <p:spPr>
                    <a:xfrm>
                      <a:off x="2318760" y="3234960"/>
                      <a:ext cx="5645520" cy="1011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9bbb59"/>
                      </a:solidFill>
                      <a:miter/>
                    </a:ln>
                    <a:effectLst>
                      <a:outerShdw dist="23040" dir="5400000" blurRad="0" rotWithShape="0">
                        <a:srgbClr val="808080">
                          <a:alpha val="35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610" name="Group 19"/>
                  <p:cNvGrpSpPr/>
                  <p:nvPr/>
                </p:nvGrpSpPr>
                <p:grpSpPr>
                  <a:xfrm>
                    <a:off x="2297160" y="2161800"/>
                    <a:ext cx="5667120" cy="999720"/>
                    <a:chOff x="2297160" y="2161800"/>
                    <a:chExt cx="5667120" cy="999720"/>
                  </a:xfrm>
                </p:grpSpPr>
                <p:grpSp>
                  <p:nvGrpSpPr>
                    <p:cNvPr id="611" name="Group 20"/>
                    <p:cNvGrpSpPr/>
                    <p:nvPr/>
                  </p:nvGrpSpPr>
                  <p:grpSpPr>
                    <a:xfrm>
                      <a:off x="2324880" y="2235240"/>
                      <a:ext cx="5639400" cy="926280"/>
                      <a:chOff x="2324880" y="2235240"/>
                      <a:chExt cx="5639400" cy="926280"/>
                    </a:xfrm>
                  </p:grpSpPr>
                  <p:sp>
                    <p:nvSpPr>
                      <p:cNvPr id="612" name="TextBox 22"/>
                      <p:cNvSpPr/>
                      <p:nvPr/>
                    </p:nvSpPr>
                    <p:spPr>
                      <a:xfrm>
                        <a:off x="2325240" y="2518920"/>
                        <a:ext cx="2783160" cy="6426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f5ffe6"/>
                          </a:gs>
                          <a:gs pos="100000">
                            <a:srgbClr val="dafda7"/>
                          </a:gs>
                        </a:gsLst>
                        <a:lin ang="5400000"/>
                      </a:gradFill>
                      <a:ln w="9360">
                        <a:solidFill>
                          <a:srgbClr val="98b954"/>
                        </a:solidFill>
                        <a:miter/>
                      </a:ln>
                      <a:effectLst>
                        <a:outerShdw dist="20160" dir="5400000" blurRad="0" rotWithShape="0">
                          <a:srgbClr val="808080">
                            <a:alpha val="38000"/>
                          </a:srgbClr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Outcome 1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Increased crop yields in maize-legume farming systems by up to 100% for cereals and 80% for legumes.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13" name="TextBox 23"/>
                      <p:cNvSpPr/>
                      <p:nvPr/>
                    </p:nvSpPr>
                    <p:spPr>
                      <a:xfrm>
                        <a:off x="5179320" y="2518920"/>
                        <a:ext cx="2784960" cy="5054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f5ffe6"/>
                          </a:gs>
                          <a:gs pos="100000">
                            <a:srgbClr val="dafda7"/>
                          </a:gs>
                        </a:gsLst>
                        <a:lin ang="5400000"/>
                      </a:gradFill>
                      <a:ln w="9360">
                        <a:solidFill>
                          <a:srgbClr val="98b954"/>
                        </a:solidFill>
                        <a:miter/>
                      </a:ln>
                      <a:effectLst>
                        <a:outerShdw dist="20160" dir="5400000" blurRad="0" rotWithShape="0">
                          <a:srgbClr val="808080">
                            <a:alpha val="38000"/>
                          </a:srgbClr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Outcome 2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Improved land productivity in robust agro-ecologies and productive farming and crop systems</a:t>
                        </a:r>
                        <a:r>
                          <a:rPr b="1" lang="en-GB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 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14" name="TextBox 24"/>
                      <p:cNvSpPr/>
                      <p:nvPr/>
                    </p:nvSpPr>
                    <p:spPr>
                      <a:xfrm>
                        <a:off x="2324880" y="2235240"/>
                        <a:ext cx="2563560" cy="2764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Africa Rising outcome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615" name="Rectangle 21"/>
                    <p:cNvSpPr/>
                    <p:nvPr/>
                  </p:nvSpPr>
                  <p:spPr>
                    <a:xfrm>
                      <a:off x="2297160" y="2161800"/>
                      <a:ext cx="5667120" cy="984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d7e4bd"/>
                      </a:solidFill>
                      <a:miter/>
                    </a:ln>
                    <a:effectLst>
                      <a:outerShdw dist="23040" dir="5400000" blurRad="0" rotWithShape="0">
                        <a:srgbClr val="808080">
                          <a:alpha val="35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grpSp>
            <p:nvGrpSpPr>
              <p:cNvPr id="616" name="TextBox 11"/>
              <p:cNvGrpSpPr/>
              <p:nvPr/>
            </p:nvGrpSpPr>
            <p:grpSpPr>
              <a:xfrm>
                <a:off x="1743120" y="4488120"/>
                <a:ext cx="513720" cy="1889280"/>
                <a:chOff x="1743120" y="4488120"/>
                <a:chExt cx="513720" cy="1889280"/>
              </a:xfrm>
            </p:grpSpPr>
            <p:pic>
              <p:nvPicPr>
                <p:cNvPr id="617" name="TextBox 1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43120" y="4488120"/>
                  <a:ext cx="513720" cy="188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8" name=""/>
                <p:cNvSpPr/>
                <p:nvPr/>
              </p:nvSpPr>
              <p:spPr>
                <a:xfrm rot="10800000">
                  <a:off x="1802880" y="4522680"/>
                  <a:ext cx="393480" cy="178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Outputs and activitie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19" name="TextBox 12"/>
              <p:cNvGrpSpPr/>
              <p:nvPr/>
            </p:nvGrpSpPr>
            <p:grpSpPr>
              <a:xfrm>
                <a:off x="1797480" y="2640960"/>
                <a:ext cx="455040" cy="1374480"/>
                <a:chOff x="1797480" y="2640960"/>
                <a:chExt cx="455040" cy="1374480"/>
              </a:xfrm>
            </p:grpSpPr>
            <p:pic>
              <p:nvPicPr>
                <p:cNvPr id="620" name="TextBox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797480" y="2640960"/>
                  <a:ext cx="441000" cy="1374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1" name=""/>
                <p:cNvSpPr/>
                <p:nvPr/>
              </p:nvSpPr>
              <p:spPr>
                <a:xfrm rot="10800000">
                  <a:off x="1859040" y="2677680"/>
                  <a:ext cx="393480" cy="126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Outcome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2" name="TextBox 13"/>
              <p:cNvGrpSpPr/>
              <p:nvPr/>
            </p:nvGrpSpPr>
            <p:grpSpPr>
              <a:xfrm>
                <a:off x="1797480" y="836640"/>
                <a:ext cx="455760" cy="1259280"/>
                <a:chOff x="1797480" y="836640"/>
                <a:chExt cx="455760" cy="1259280"/>
              </a:xfrm>
            </p:grpSpPr>
            <p:pic>
              <p:nvPicPr>
                <p:cNvPr id="623" name="TextBox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797480" y="836640"/>
                  <a:ext cx="441000" cy="12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4" name=""/>
                <p:cNvSpPr/>
                <p:nvPr/>
              </p:nvSpPr>
              <p:spPr>
                <a:xfrm rot="10800000">
                  <a:off x="1859760" y="874080"/>
                  <a:ext cx="393480" cy="114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Impact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625" name="Rectangle 5"/>
            <p:cNvSpPr/>
            <p:nvPr/>
          </p:nvSpPr>
          <p:spPr>
            <a:xfrm rot="16200000">
              <a:off x="7400520" y="5119200"/>
              <a:ext cx="2065320" cy="645840"/>
            </a:xfrm>
            <a:prstGeom prst="rect">
              <a:avLst/>
            </a:prstGeom>
            <a:gradFill rotWithShape="0">
              <a:gsLst>
                <a:gs pos="0">
                  <a:srgbClr val="660066">
                    <a:alpha val="48235"/>
                  </a:srgbClr>
                </a:gs>
                <a:gs pos="100000">
                  <a:srgbClr val="ffffff">
                    <a:alpha val="48235"/>
                  </a:srgbClr>
                </a:gs>
              </a:gsLst>
              <a:lin ang="540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TextBox 6"/>
            <p:cNvSpPr/>
            <p:nvPr/>
          </p:nvSpPr>
          <p:spPr>
            <a:xfrm rot="16200000">
              <a:off x="7516440" y="5374800"/>
              <a:ext cx="178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phere of influenc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The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8" name="Group 4"/>
          <p:cNvGrpSpPr/>
          <p:nvPr/>
        </p:nvGrpSpPr>
        <p:grpSpPr>
          <a:xfrm>
            <a:off x="1908000" y="1557360"/>
            <a:ext cx="6610680" cy="4514760"/>
            <a:chOff x="1908000" y="1557360"/>
            <a:chExt cx="6610680" cy="4514760"/>
          </a:xfrm>
        </p:grpSpPr>
        <p:grpSp>
          <p:nvGrpSpPr>
            <p:cNvPr id="629" name="Group 5"/>
            <p:cNvGrpSpPr/>
            <p:nvPr/>
          </p:nvGrpSpPr>
          <p:grpSpPr>
            <a:xfrm>
              <a:off x="3742560" y="2099520"/>
              <a:ext cx="2922480" cy="3972600"/>
              <a:chOff x="3742560" y="2099520"/>
              <a:chExt cx="2922480" cy="3972600"/>
            </a:xfrm>
          </p:grpSpPr>
          <p:grpSp>
            <p:nvGrpSpPr>
              <p:cNvPr id="630" name="Group 18"/>
              <p:cNvGrpSpPr/>
              <p:nvPr/>
            </p:nvGrpSpPr>
            <p:grpSpPr>
              <a:xfrm>
                <a:off x="3742560" y="2099520"/>
                <a:ext cx="2922480" cy="3972600"/>
                <a:chOff x="3742560" y="2099520"/>
                <a:chExt cx="2922480" cy="3972600"/>
              </a:xfrm>
            </p:grpSpPr>
            <p:sp>
              <p:nvSpPr>
                <p:cNvPr id="631" name="Oval 26"/>
                <p:cNvSpPr/>
                <p:nvPr/>
              </p:nvSpPr>
              <p:spPr>
                <a:xfrm>
                  <a:off x="3742560" y="2099520"/>
                  <a:ext cx="2922480" cy="3972600"/>
                </a:xfrm>
                <a:prstGeom prst="ellipse">
                  <a:avLst/>
                </a:prstGeom>
                <a:solidFill>
                  <a:srgbClr val="e6b9b8"/>
                </a:solidFill>
                <a:ln w="9360">
                  <a:solidFill>
                    <a:srgbClr val="4a7ebb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TextBox 27"/>
                <p:cNvSpPr/>
                <p:nvPr/>
              </p:nvSpPr>
              <p:spPr>
                <a:xfrm>
                  <a:off x="4177800" y="2204640"/>
                  <a:ext cx="196740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alibri"/>
                    </a:rPr>
                    <a:t>Agriculture development environm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33" name="Group 19"/>
              <p:cNvGrpSpPr/>
              <p:nvPr/>
            </p:nvGrpSpPr>
            <p:grpSpPr>
              <a:xfrm>
                <a:off x="4052160" y="3081600"/>
                <a:ext cx="2092680" cy="2990520"/>
                <a:chOff x="4052160" y="3081600"/>
                <a:chExt cx="2092680" cy="2990520"/>
              </a:xfrm>
            </p:grpSpPr>
            <p:grpSp>
              <p:nvGrpSpPr>
                <p:cNvPr id="634" name="Group 20"/>
                <p:cNvGrpSpPr/>
                <p:nvPr/>
              </p:nvGrpSpPr>
              <p:grpSpPr>
                <a:xfrm>
                  <a:off x="4052160" y="3081600"/>
                  <a:ext cx="2092680" cy="2990520"/>
                  <a:chOff x="4052160" y="3081600"/>
                  <a:chExt cx="2092680" cy="2990520"/>
                </a:xfrm>
              </p:grpSpPr>
              <p:sp>
                <p:nvSpPr>
                  <p:cNvPr id="635" name="Oval 24"/>
                  <p:cNvSpPr/>
                  <p:nvPr/>
                </p:nvSpPr>
                <p:spPr>
                  <a:xfrm>
                    <a:off x="4052160" y="3081600"/>
                    <a:ext cx="2092680" cy="2990520"/>
                  </a:xfrm>
                  <a:prstGeom prst="ellipse">
                    <a:avLst/>
                  </a:prstGeom>
                  <a:solidFill>
                    <a:srgbClr val="9bbb59"/>
                  </a:solidFill>
                  <a:ln w="9360">
                    <a:solidFill>
                      <a:srgbClr val="ffffff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6" name="TextBox 25"/>
                  <p:cNvSpPr/>
                  <p:nvPr/>
                </p:nvSpPr>
                <p:spPr>
                  <a:xfrm>
                    <a:off x="4492800" y="3138480"/>
                    <a:ext cx="1212480" cy="82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Calibri"/>
                      </a:rPr>
                      <a:t>NARES, IARCs and institution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37" name="Group 21"/>
                <p:cNvGrpSpPr/>
                <p:nvPr/>
              </p:nvGrpSpPr>
              <p:grpSpPr>
                <a:xfrm>
                  <a:off x="4315680" y="4005000"/>
                  <a:ext cx="1536480" cy="2067120"/>
                  <a:chOff x="4315680" y="4005000"/>
                  <a:chExt cx="1536480" cy="2067120"/>
                </a:xfrm>
              </p:grpSpPr>
              <p:sp>
                <p:nvSpPr>
                  <p:cNvPr id="638" name="Oval 22"/>
                  <p:cNvSpPr/>
                  <p:nvPr/>
                </p:nvSpPr>
                <p:spPr>
                  <a:xfrm>
                    <a:off x="4315680" y="4005000"/>
                    <a:ext cx="1536480" cy="2067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a7ccb"/>
                      </a:gs>
                      <a:gs pos="100000">
                        <a:srgbClr val="2c5d98"/>
                      </a:gs>
                    </a:gsLst>
                    <a:lin ang="5400000"/>
                  </a:gradFill>
                  <a:ln w="9360">
                    <a:solidFill>
                      <a:srgbClr val="ffffff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9" name="TextBox 23"/>
                  <p:cNvSpPr/>
                  <p:nvPr/>
                </p:nvSpPr>
                <p:spPr>
                  <a:xfrm>
                    <a:off x="4427640" y="4434840"/>
                    <a:ext cx="1381320" cy="82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Calibri"/>
                      </a:rPr>
                      <a:t>Farmers and their organization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640" name="Group 6"/>
            <p:cNvGrpSpPr/>
            <p:nvPr/>
          </p:nvGrpSpPr>
          <p:grpSpPr>
            <a:xfrm>
              <a:off x="1908000" y="1557360"/>
              <a:ext cx="1834560" cy="1275120"/>
              <a:chOff x="1908000" y="1557360"/>
              <a:chExt cx="1834560" cy="1275120"/>
            </a:xfrm>
          </p:grpSpPr>
          <p:sp>
            <p:nvSpPr>
              <p:cNvPr id="641" name="Rounded Rectangle 16"/>
              <p:cNvSpPr/>
              <p:nvPr/>
            </p:nvSpPr>
            <p:spPr>
              <a:xfrm>
                <a:off x="1908000" y="1557360"/>
                <a:ext cx="1834560" cy="1275120"/>
              </a:xfrm>
              <a:prstGeom prst="roundRect">
                <a:avLst>
                  <a:gd name="adj" fmla="val 16667"/>
                </a:avLst>
              </a:prstGeom>
              <a:solidFill>
                <a:srgbClr val="fcd5b5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TextBox 17"/>
              <p:cNvSpPr/>
              <p:nvPr/>
            </p:nvSpPr>
            <p:spPr>
              <a:xfrm>
                <a:off x="1999440" y="1557360"/>
                <a:ext cx="16506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Including policy institutions, infrastructure, human and natural resource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3" name="Group 7"/>
            <p:cNvGrpSpPr/>
            <p:nvPr/>
          </p:nvGrpSpPr>
          <p:grpSpPr>
            <a:xfrm>
              <a:off x="6665040" y="3622680"/>
              <a:ext cx="1853640" cy="1275120"/>
              <a:chOff x="6665040" y="3622680"/>
              <a:chExt cx="1853640" cy="1275120"/>
            </a:xfrm>
          </p:grpSpPr>
          <p:sp>
            <p:nvSpPr>
              <p:cNvPr id="644" name="Rounded Rectangle 14"/>
              <p:cNvSpPr/>
              <p:nvPr/>
            </p:nvSpPr>
            <p:spPr>
              <a:xfrm>
                <a:off x="6683400" y="3622680"/>
                <a:ext cx="1835280" cy="1275120"/>
              </a:xfrm>
              <a:prstGeom prst="roundRect">
                <a:avLst>
                  <a:gd name="adj" fmla="val 16667"/>
                </a:avLst>
              </a:prstGeom>
              <a:solidFill>
                <a:srgbClr val="fcd5b5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TextBox 15"/>
              <p:cNvSpPr/>
              <p:nvPr/>
            </p:nvSpPr>
            <p:spPr>
              <a:xfrm>
                <a:off x="6665040" y="3729240"/>
                <a:ext cx="17960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R&amp;D stakeholders, and their communities including NGOs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8"/>
            <p:cNvGrpSpPr/>
            <p:nvPr/>
          </p:nvGrpSpPr>
          <p:grpSpPr>
            <a:xfrm>
              <a:off x="1908000" y="4910760"/>
              <a:ext cx="1742760" cy="851760"/>
              <a:chOff x="1908000" y="4910760"/>
              <a:chExt cx="1742760" cy="851760"/>
            </a:xfrm>
          </p:grpSpPr>
          <p:sp>
            <p:nvSpPr>
              <p:cNvPr id="647" name="Rounded Rectangle 12"/>
              <p:cNvSpPr/>
              <p:nvPr/>
            </p:nvSpPr>
            <p:spPr>
              <a:xfrm>
                <a:off x="1908000" y="4910760"/>
                <a:ext cx="1742760" cy="851760"/>
              </a:xfrm>
              <a:prstGeom prst="roundRect">
                <a:avLst>
                  <a:gd name="adj" fmla="val 16667"/>
                </a:avLst>
              </a:prstGeom>
              <a:solidFill>
                <a:srgbClr val="fcd5b5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TextBox 13"/>
              <p:cNvSpPr/>
              <p:nvPr/>
            </p:nvSpPr>
            <p:spPr>
              <a:xfrm>
                <a:off x="1995120" y="4911120"/>
                <a:ext cx="15685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Ultimate beneficiaries, the farmers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649" name="Straight Arrow Connector 9"/>
            <p:cNvCxnSpPr>
              <a:endCxn id="632" idx="1"/>
            </p:cNvCxnSpPr>
            <p:nvPr/>
          </p:nvCxnSpPr>
          <p:spPr>
            <a:xfrm>
              <a:off x="3743280" y="1976040"/>
              <a:ext cx="435600" cy="503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0" name="Straight Arrow Connector 10"/>
            <p:cNvCxnSpPr>
              <a:stCxn id="644" idx="1"/>
            </p:cNvCxnSpPr>
            <p:nvPr/>
          </p:nvCxnSpPr>
          <p:spPr>
            <a:xfrm flipH="1" flipV="1">
              <a:off x="5962320" y="4179600"/>
              <a:ext cx="721440" cy="81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1" name="Straight Arrow Connector 11"/>
            <p:cNvCxnSpPr>
              <a:stCxn id="647" idx="3"/>
            </p:cNvCxnSpPr>
            <p:nvPr/>
          </p:nvCxnSpPr>
          <p:spPr>
            <a:xfrm flipV="1">
              <a:off x="3650760" y="5038200"/>
              <a:ext cx="842040" cy="299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896840" y="-27000"/>
            <a:ext cx="6995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5c29"/>
                </a:solidFill>
                <a:latin typeface="Calibri"/>
              </a:rPr>
              <a:t>Intensification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Content Placeholder 5" descr=""/>
          <p:cNvPicPr/>
          <p:nvPr/>
        </p:nvPicPr>
        <p:blipFill>
          <a:blip r:embed="rId1"/>
          <a:stretch/>
        </p:blipFill>
        <p:spPr>
          <a:xfrm>
            <a:off x="2620800" y="798480"/>
            <a:ext cx="5846760" cy="4359240"/>
          </a:xfrm>
          <a:prstGeom prst="rect">
            <a:avLst/>
          </a:prstGeom>
          <a:ln w="0">
            <a:noFill/>
          </a:ln>
        </p:spPr>
      </p:pic>
      <p:sp>
        <p:nvSpPr>
          <p:cNvPr id="654" name="Diagonal Stripe 7"/>
          <p:cNvSpPr/>
          <p:nvPr/>
        </p:nvSpPr>
        <p:spPr>
          <a:xfrm rot="13387200">
            <a:off x="3759120" y="3857760"/>
            <a:ext cx="3570480" cy="3246480"/>
          </a:xfrm>
          <a:custGeom>
            <a:avLst/>
            <a:gdLst>
              <a:gd name="textAreaLeft" fmla="*/ 0 w 3570480"/>
              <a:gd name="textAreaRight" fmla="*/ 3570840 w 3570480"/>
              <a:gd name="textAreaTop" fmla="*/ 0 h 3246480"/>
              <a:gd name="textAreaBottom" fmla="*/ 3246840 h 3246480"/>
            </a:gdLst>
            <a:ahLst/>
            <a:rect l="textAreaLeft" t="textAreaTop" r="textAreaRight" b="textAreaBottom"/>
            <a:pathLst>
              <a:path w="3570288" h="3246438">
                <a:moveTo>
                  <a:pt x="0" y="1623219"/>
                </a:moveTo>
                <a:lnTo>
                  <a:pt x="1785144" y="0"/>
                </a:lnTo>
                <a:lnTo>
                  <a:pt x="3570288" y="0"/>
                </a:lnTo>
                <a:lnTo>
                  <a:pt x="0" y="3246438"/>
                </a:lnTo>
                <a:lnTo>
                  <a:pt x="0" y="1623219"/>
                </a:lnTo>
                <a:close/>
              </a:path>
            </a:pathLst>
          </a:cu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13614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8"/>
          <p:cNvSpPr/>
          <p:nvPr/>
        </p:nvSpPr>
        <p:spPr>
          <a:xfrm>
            <a:off x="4067280" y="558972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mproved agricultural productivity and nutrition outco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Up-Down Arrow 9"/>
          <p:cNvSpPr/>
          <p:nvPr/>
        </p:nvSpPr>
        <p:spPr>
          <a:xfrm>
            <a:off x="5435640" y="5084640"/>
            <a:ext cx="216000" cy="360360"/>
          </a:xfrm>
          <a:prstGeom prst="upDownArrow">
            <a:avLst>
              <a:gd name="adj1" fmla="val 50000"/>
              <a:gd name="adj2" fmla="val 49972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7" name="Straight Arrow Connector 2"/>
          <p:cNvCxnSpPr/>
          <p:nvPr/>
        </p:nvCxnSpPr>
        <p:spPr>
          <a:xfrm flipV="1">
            <a:off x="4643280" y="3859920"/>
            <a:ext cx="434160" cy="361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658" name="Straight Arrow Connector 8"/>
          <p:cNvCxnSpPr/>
          <p:nvPr/>
        </p:nvCxnSpPr>
        <p:spPr>
          <a:xfrm flipH="1" flipV="1">
            <a:off x="5866920" y="3933360"/>
            <a:ext cx="434160" cy="2167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659" name="Straight Arrow Connector 10"/>
          <p:cNvCxnSpPr/>
          <p:nvPr/>
        </p:nvCxnSpPr>
        <p:spPr>
          <a:xfrm>
            <a:off x="5435280" y="2852280"/>
            <a:ext cx="1080" cy="361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0:22:54Z</dcterms:created>
  <dc:creator>Vengala Reddy, Ch (ICRISAT-IN)</dc:creator>
  <dc:description/>
  <dc:language>en-US</dc:language>
  <cp:lastModifiedBy>IZeledon</cp:lastModifiedBy>
  <dcterms:modified xsi:type="dcterms:W3CDTF">2013-05-29T06:41:17Z</dcterms:modified>
  <cp:revision>2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9000000000001023620</vt:lpwstr>
  </property>
</Properties>
</file>