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6284-B37A-42C9-9231-BD9766D6C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FC9-3B14-4103-A223-2765F783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4344CA-CC8E-4952-AE63-256B08C0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65D1C-2FAF-47EC-8955-72EA8A03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9DBEA-B5F2-44AB-B225-054EF8F9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B5C6DA-23C6-432C-8D8B-BD2EA7CD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B22A2-676E-47D6-AF17-94782356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D9108-AE15-49F4-AEDE-D8D46F46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CFB7D-F84A-465D-9CA6-29368E47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9AE80-5EB7-4FDD-AF79-71BA67B6E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A48E7-44DE-41C5-9147-EF9C4B2B9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C40E6-E567-4A5F-BBAA-C1BE5BA1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625-06DE-4067-82CF-36596BD9A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5BD09-5CFF-47C6-A35E-96617208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09DBF4-F524-4CEB-A701-7DE43FE35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48B57-04ED-40A5-9298-E5A98507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48F14-3B93-416C-B11C-39CEACC5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20946-A6C9-445C-81D0-849CFCD4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C23789-F21A-4302-BF12-AEB09397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1BE9EA-470E-4F46-917A-29841196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26953-98DA-4264-BB78-5A49C032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03A54-B6A4-48FC-A5F8-15044BAD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FC49F-FFE8-4503-B30E-B429EF5E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FC2F-2FC0-426D-8BE0-097F85D6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6AFF9-C84D-4B69-8A32-12E72BC4E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54EBD2-572B-47ED-A0B2-824BA3D38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0188A-4FB6-4123-9785-55EF3E8C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79386-7F1F-4FA3-B632-5CC94DDD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35AB7-1FAD-4628-B96D-E7B86FF4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E7C71-43D4-4406-9E96-5BCA331C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5438F-E2B6-4D0E-AD24-67EE195D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AE945-EAE3-4CD1-9300-C7591FC5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25823-686B-4C93-A1FF-63E10B6F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9A715-57EF-4835-8F2C-E6E963D8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D1A4-5799-4A4C-85E9-3F4651ED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35DA4-0B02-46B8-9204-41B05FD8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E292A-2131-4F5A-9322-C6BB3890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8DF3B-2B51-42A9-881F-03B114922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CC349-4BAC-4596-8BD0-6326BA6F5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BDD610-3722-473F-A479-BC900C89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3DC88-8A73-462D-8A7D-58EF98B2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8599E-C157-4F4B-82E1-E99F9EE4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E44650-9576-4BE1-A732-57C806750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1C497-AABA-4179-B088-3D3989BE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A45112-D46E-4B15-9829-3AB1F026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33EA-F671-4D36-BAEA-90E24052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38DF7F-C18E-4C00-993B-B9971390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C74C01-0961-48D3-9FA3-70D6577B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F9AF9E-A949-4DE3-88E4-17925C54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26D90-A33E-44A3-9C29-DB3EC5C8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192FCB-7E3D-4209-98A6-0444074FB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0B902-69E7-4ADA-AA66-2245C0BB6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A3CF43-B80E-44C6-A9D1-68823089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CAFF1-4552-4EDE-9016-148A72203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5106C-01F3-45D6-B0F7-9EA8F0FB6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74E98F-7D36-44EF-B81D-B1F4BE50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3E028-15F7-4904-BBA5-A4032F6C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DC974-8E1D-4BA9-8BCA-FA7FDDBD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BAC04B-ED53-4109-BBCE-B44013E3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58504-FFC6-4B22-A833-4D82E296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1D75E-85E5-4CF9-8EF2-EF30F605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47A72-ADA6-41F9-A22E-1D21D7AD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46021-A463-4F6B-AF06-8CA4194A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D0E666-7716-4C02-882C-F78B51E8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5951C-6983-4040-B40E-CD5EBD6D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1787D-6438-4CCA-851E-C8610D698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E5B3F9-09E6-4BA5-A02A-38CD1878D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C474-4DBF-4BD1-A062-53A7B38CF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DF5169-48C7-49B0-97EE-4B2F41F1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345B79-6540-4AA7-8198-7B5A945C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665863-D75C-4E98-98AD-23D5CBC5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B36E3F-A32F-4ADA-A8C2-D9BFE801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77790-767E-4F8A-A00D-0489EBD5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4B45C2-954F-4F09-ABF2-1DD8BDFD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D54D3F-6F74-46FA-8FFC-97B109E4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F94E38-1082-44E5-BE0F-AD3072C3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F0AA3A-BE25-4841-AE7F-CCF976A1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727C7-5F2A-4853-9C5B-7BCCAAB3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866B-FB2C-4248-972F-3E6BE5B7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F0E96E-ED4E-497C-9CDF-02DA3CC8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2BD677-CD79-4F3A-AD55-5F108CE4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5E7C6-4074-4085-8EF4-8E2FCB8C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7FB2A4-55BD-4AA0-8759-92379A027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144F18-8210-45E5-BF23-7904A8CC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F1966B-F1F9-494E-B502-5403D2B8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9CF6F3-D603-4571-9087-69B0571D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1F5416-D257-485F-8556-64327283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BE607C-3AD4-4259-9532-4222C7AD0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4126C1-26CD-488B-8D4B-E9E8567CF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3704-C713-478F-B88A-C67DEC7C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D7F7F1-B54E-487F-908D-1C5D83F59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7D0923-DC55-46A9-8D43-BDE0BB65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A845DC-FC65-45F6-97F3-1088A3F7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AAB830-5D5A-46A1-ABFE-0CEAFC0B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1FF202-9BE4-4C4E-9594-F21E0C20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34397E-A74A-4B12-B64E-2AB6783C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496AED-133D-49A1-B793-EF5BBC64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669815-3610-419F-B491-A7CA0F983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FBBACF-0450-497D-A49B-AA8381F6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7B043F-715B-494D-8C4B-F0223F9D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E8C8-A815-4563-A539-68EAD04A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ED823-3294-41EA-8983-0D07F733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86670-950C-48D0-B824-7DED792E8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4ABFC9-115E-480C-BECE-ABC6BC930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D65D9B-2180-4BC3-BD3D-2DF2D7285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F1F0CC-B7A6-483C-A9F6-50B94FEF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D533AF-A9A4-46CE-A80B-5A6295AA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711906-73F0-40E7-8C9E-A198A57F5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DB0BD9-AB86-4B5F-BB76-39F0E8A7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831156-B9D2-4244-9337-F4FE6E57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C6E527-7739-460B-A738-017C8A4B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6A51-F85D-4BF8-A24B-99423088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6BAE-3BAF-4E0A-8548-CEE8FA65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A50B4-9335-412F-9011-036AAB37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370FB8-37AC-427B-87A5-E92E117A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5D10BD-2BCC-461F-BA1B-159ADE58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48FC12-3AA9-4DBD-89C9-DB9C2387F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CAC4D6-BC2A-4D50-AFDF-C725B89F1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9B49-529F-48F1-B2CD-2D36BC46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40DE-B963-4A52-A846-A8E971ED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4A30-5CE2-47D6-8A14-C8BE2C20F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D2FD-7662-4255-82E3-5D6CFBE40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6AB9E-AABF-4A4A-8ED5-73C32D47F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CD08-68D8-41CB-A3C5-4D44C717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7CF8-D644-4DF0-9287-1AD4B68B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B9B8D-0BC4-4C72-82CD-E5BD8440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94053-7F8F-4AE1-AEF3-F450129A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4008-7901-4DE8-9850-CE43A6B3C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2633D-9CC3-4571-A939-096C16F6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B232C-BC02-4CFC-AF57-8053B2C0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D80CF-EA88-4029-889F-0055978B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6130-8DE7-4063-BA59-61527162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5A0409-79D1-4A4F-8E01-1D75C1D4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11E40-BCD1-4DCD-9904-011C95DF9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25A96-A625-442C-BBBE-FA1EBC8CA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1E156-9649-4343-B33A-27FDD757E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6350C-B85C-4A08-BB81-B53D6024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DAF8-7E70-4A8C-9E78-6ABA723A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A9F3-74C6-49B9-9354-A725C6A4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987F2-02B6-441B-A537-51D8AD0D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B3160-3B3E-4491-9B91-BD9189E4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4ED46-857B-4D28-8080-F4E68DAA7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222C7-133B-43A9-AC66-B7C47B1F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6B263-9284-42AC-A499-D4EEBD8E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8C0FB-FE6D-4FF8-82D7-1EDDCB3B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DABC9-5BE3-49BA-B983-0B5C6EEAD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71304-CEFF-4FB1-9907-4A812984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4D64F-B4AE-49A3-B723-28508AB3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1AD1A-6907-46AA-BFB7-958A09D8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0C8-0F88-4D0F-BA82-7B6AF65B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84620-1936-4AE1-BA51-7D1C59300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6C8C6-6914-442B-8D32-3985FF5F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79BE86-8397-4698-A5DE-5C4339F2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6316A-B8C7-4797-B294-401C8F20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D9070-F732-4BAF-9765-09572C07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22365-5361-469A-A638-AEE18AC6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19CDB-96ED-4FF8-9B05-17753188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E3E1A-1A32-45D3-9564-CFA22876C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C9314F-7CC4-4B4A-9098-A5BDD0D9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08FBDB-9E1B-4BF7-9339-8A96328D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68A5-88D9-4E8E-9567-BD044185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F8BAB-092E-420E-B278-AEA335E1D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EBABC-6F1F-4E61-A3CB-796C3520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5EE1D-6AFE-4993-8694-CFD5B2E4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68412-05B5-403D-B416-39B7974F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97007-3117-4FC1-99E7-3F3C1AB4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FA3B62-3054-4D7B-9BBB-CA79735C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F3105-4FEE-475D-9EEA-7B54667D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EDA7E-7721-45C0-AEE9-90DCFC43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26477-20D9-4B5D-BE09-C5C533F6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ADC5E-9BC4-4FF7-A38C-41C8238F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88E7-C40D-45D8-BDB0-16F38BFE0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30467-8F61-44E6-AC5E-E638C194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67A0DB-FD4F-4816-B800-E680DDF3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25E97-3664-459D-823C-B7EE635A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31DEB-14D5-445F-A131-1540C465B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49B77-E5D6-4F88-8200-7C2EBAC8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C36B6-22F6-4D08-8CEE-DF221B6C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4CDCC-0CFB-4FF8-9C73-6E5E0009C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26AA1-0AE3-4231-B6FA-2CD0B160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262F4-4334-4D40-B322-F78A6C40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55317-E91F-4459-9BAF-894664D0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9FF0-4A49-40E1-AFE6-5C08B8BA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3E7221-6CC9-4D8A-8974-A355EB16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2812D-42BC-472A-A6F8-5882CEE1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B6EF5-650E-4091-836C-A467452A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866BB-3C84-4F43-91D8-43A55CFD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DF980-362B-456E-8FF9-1623AAD7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55B84-F8CD-4269-A603-1F5377299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78296-0096-4D4D-AEA0-7667BCA7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2E4FD-5678-4F07-A3A2-82CE5F0E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AB8A0-EFCE-4619-9B7F-A57E5526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E00CE8-565A-4C9A-9F0F-2238295B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9D6B-5E3B-4B89-9509-6F0C272A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6FB2B-E2BF-48C0-823C-F64E66CC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555A9-0A1D-49B5-BF16-99EC657A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1C8C0-278D-4C47-A08E-148626FB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308B0-FB1F-48D3-855A-B856D9ED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A9FC0-D89D-474B-A5B2-4A4A7F54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A3B80-73FC-4B26-B76E-A0303FFD6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BDD78-FA7F-4E2D-A3B4-73D4412E0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0A676-0180-4E21-A510-8218A351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44ECE-336E-432B-AC0D-027F1F50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E1AAF0-FB42-46AD-AA29-BB69A488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D7E7-6718-43CB-A5C5-EA8BD794976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9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64FA-CDF0-4402-AA66-EAC86A8C5AE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E7FF-19D6-44FC-82DA-48014E16F8A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8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D3CC-4F28-46ED-8CB8-3A31C9B434E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2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121A-7EF4-47E4-9938-937E3A97EAF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2C696-8533-428E-9A80-D73CF47A71D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7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B2CFB-FE66-405D-991F-59FB0CAE082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1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83A5-5D6B-43C0-A20B-F079C9524F1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21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5300-DE4D-4ACA-9A7A-0577A57D21F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5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A250-8D89-4424-A57C-C8FA53D90BE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6A26-B310-4D15-85C3-1C03970A8BD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F3CD-26D9-4219-8FAC-8E3B8EF74C7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9A2F-11A3-4E46-BB1A-D6EF709538D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91EF-55F4-460D-8C5C-DFCF36BED2C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F079-9AE7-4065-A369-0B9CCF28800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3EAF-9613-4354-9399-F9F6727B590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62142-2C7C-400C-9A8B-34FD3F1D16E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tle 1"/>
          <p:cNvSpPr/>
          <p:nvPr/>
        </p:nvSpPr>
        <p:spPr>
          <a:xfrm>
            <a:off x="1600200" y="33480"/>
            <a:ext cx="73915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ontent Placeholder 2"/>
          <p:cNvSpPr/>
          <p:nvPr/>
        </p:nvSpPr>
        <p:spPr>
          <a:xfrm>
            <a:off x="152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VC- Bridg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dvancing Value Chains of Groundnuts and So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esented at the Annual Review workshop, Lilongwe Hotel, Lilong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8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6934320" y="5867280"/>
            <a:ext cx="1828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entury Gothic"/>
              </a:rPr>
              <a:t>Promote product aggregation and collective marketing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Formulation of aggregations pl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Pre-aggregation activities-facilitate the logistical arrangement for the aggregation to take plac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10280" y="594828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entury Gothic"/>
              </a:rPr>
              <a:t>Facilitate access to market information and marketing opportuniti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Raising awareness about markets and marketing optio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Strengthen and promote access to market information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Expand market opportunities and facilitate trad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961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Capacity building of FGs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stablishments of governance structur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Business management support serv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Establish well managed seed system (with a managing entity in place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Collaboration with Ag Diversification???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244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 txBox="1"/>
          <p:nvPr/>
        </p:nvSpPr>
        <p:spPr>
          <a:xfrm>
            <a:off x="255240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entury Gothic"/>
              </a:rPr>
              <a:t>Thanks you for your attention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8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Kabuli, Pelius (IITA)</cp:lastModifiedBy>
  <dcterms:modified xsi:type="dcterms:W3CDTF">2017-06-30T07:12:10Z</dcterms:modified>
  <cp:revision>109</cp:revision>
  <dc:subject/>
  <dc:title>Slide 1</dc:title>
</cp:coreProperties>
</file>