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CC77-B26E-4CC2-BEF7-5712C2D4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3EE-8103-481B-90B5-20A07BE0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C45D1-B188-462E-9319-C36977A3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23550-C66F-477B-8546-1C8D7CC4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FEFA1-96BC-493C-B281-E82D8F95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D3C2D-DD50-4279-B939-4757C6E9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69688-ED2A-4F6D-A5B3-41591D90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E1BDE-D07C-47C5-99F2-C2757B46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34539-7BDC-4A68-95C9-23230F6C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CD764-9C1E-498D-8DF9-25BB5BCC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CDED6-DBA1-42F7-9570-70545BD4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BDE63-8E40-490E-A8A6-71B0D743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3ABD-07D1-4730-8235-43C0269D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EE024-73D5-4520-A388-3E48222D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30C55-A061-4E14-B167-CEA9F29D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EB15B-F2CF-4608-9D92-40110447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D04EA-696F-4BBE-8256-D69416B9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4562B-10A0-4851-8199-F1F98C41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28EC4-85D6-4011-815E-86F87B8A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E987A-EC7E-4AC2-BE3E-D9212F84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ECFE7-0748-47C2-905B-C7D83F09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FF04B-A610-4BA7-A4E5-D4F614B6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68BA6-1F10-49C6-8325-DF8CC90A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0163-38F0-451E-8922-551EA9C1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7A586-B10C-40CD-9DB8-2DB5FA77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89E34-9686-487D-9B1F-462AB5DB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C07B6-DF4E-4223-BC49-467B1FB3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D3405-109B-4E7B-AADC-E492F887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62B57-8E2C-4B96-BA3E-8268637C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DF500-0EBD-4CED-9CB3-984483C4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D3152-49C3-4660-813D-34A247DE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CA63F-FFEF-4BCF-89DA-4E264677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705CE-B51D-48F8-933F-0B8A4569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AA3FE-7F12-4DF7-9FEF-5DC89216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18EC-1D3A-4BE9-B52C-5CA8FCA6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1C1F4-4366-483D-9744-5805EDEF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84C32-FB71-41A6-982C-ED687B09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D88BB-3CB1-4339-BA36-CAC4700B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C4619-D9F1-4A53-8A14-240EB1AF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41ECF-5ABD-47CF-8374-A237C70E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32027-BD96-4980-9F65-C5C94BAC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7CCCE-3765-45F3-B2B5-BF229907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24C5A-9291-40B5-AFF6-B735A12B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B9418-87E2-4895-8A95-40E7BF06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6D565-7A7E-4EB3-BF54-B1C8ECC9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B9C4-B7B5-4C06-8741-8E25252C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73158-F071-472C-810D-06B1793C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41052-D6E8-4961-BA91-710DD3DE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77BED-7AF1-42C8-BF6D-E1AFBA1B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2FBDE-6385-406D-9447-BE72768F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7ADBF-2173-428C-88B6-AEBD31AF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5CD977-D16B-46FC-A55B-4C787ED6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6CDA9-5D58-46B4-B276-215C0989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B32031-271C-472A-89F9-EBBC9ED7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BE8082-A9F7-4184-8917-20FF4D30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642AD-C2A8-4DAC-B8E4-117973D1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DFF1-230F-4DEC-803B-FCB6A47A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EC985-3384-4A14-AAE1-F78A15FF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AC259-6A7A-4683-A9D5-F71C3331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A14C1-B817-407B-8CB1-256C9830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2C8E6-F004-475D-922B-2A6B6452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E31276-97DC-4FE3-8588-91580D9F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4EFFC-AABB-4B70-ADF4-067B5C27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378621-43EE-4DFF-A044-1F698B0C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CEBC13-A069-47F2-B395-14A20F3A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3C5911-C582-4640-BCC7-917467CF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B4B136-8198-49A5-8763-94E2C1A7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5D71-8BBA-4A4C-BC91-880B07D8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F03CDE-6E9A-4A42-879F-4865E016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85D4FB-C366-4D9F-BB41-1489907B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FD7544-A170-4F29-B085-288D906B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FC5BAC-3B50-4716-89D9-3540336A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7E0B01-846A-40C3-A721-14B96D13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0D67E9-CF6D-42FA-AACD-A6D9E6FE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F0EC69-8F5E-402F-8C00-0338AC79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668C04-318E-4EA8-B493-027D002B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93288-0367-4D69-91B9-D66DC6FB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86A860-1218-4A2A-83FC-9D8D3921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3D24-4D67-4C82-8EDA-AC0E5159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AAD98B-126C-40B8-955B-23D451FA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B06A7A-68B5-42B2-9F6D-069CF87D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00A277-617E-458A-A0B8-E4903883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EF427B-D36B-4414-A0CC-701808A9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52278A-E2F4-4E29-87BD-40C23D94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7EA0FA-2B1E-401F-832E-1C4D39F9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65564D-24A2-437F-ACE7-67E477FB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58C221-86FC-4495-966C-3945EA56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C7B35B-17B2-4EF2-A5D5-70BC226F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1A57CA-F6D2-4900-9E57-E03D6B60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8AE2-7EDF-43E1-B5C4-E507480D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443577-28B4-4762-BCDE-00277A29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B4A89D-EAB8-404F-A738-1F8E5CAD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12276E-5A1C-404C-9973-5F0A8DF8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80BDC7-BAB2-4933-BB12-7E36993E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8AFDB2-0128-4EDF-AE4C-25C89886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516CC3-B688-4F29-8030-1A9E1090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D0E9C7-BD0A-4E3D-9960-A580B4D2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3B97AA-32FC-41A1-B0BA-E87615CC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9CF261-C982-40FB-AC98-7097DF68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BF0DFC-93D1-4155-92E3-436FB4CF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9E7C-6494-479B-80F2-C1FD0E01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409FDA-4592-4FB7-8779-3479E302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870776-A53C-410C-A8F8-376A3C41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9EC36A-8293-459C-AC63-2BC8DEAE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12645B-CD2A-4B57-8C76-54487B70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0EAFF3-AD3B-49F2-9B3B-24E62CFC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5E06E9-061D-42C1-B0CC-800E5308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48FBA8-EAAB-4EC1-9ADE-4D1DA14F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045786-5307-41CA-9645-CF8BEBBD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73BB36-A5F5-40AB-B566-2D42DB8C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47E373-50A5-4EE8-B9B9-E92F2538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64DB-8392-48D4-BEA3-12BF27CF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453E-F00E-4D5E-8245-61CA4AC1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2C183A-C663-40E6-AF11-733691CB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B3AE0F-01BF-489E-87AF-A9146587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D8A857-86D2-479E-8FFA-67E770BC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FDC84F-E745-45DE-9D73-AD9D8A44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7DC1C3-3CD6-4A3D-B24E-7A717870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8D06-D03D-49EB-A073-B06FD337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DB08-34FA-4D87-B525-0438A380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08E2-0E4B-4A1C-8738-1FD7819F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16E4-1A85-44CF-BE4D-456DD993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59AAF-8B8E-42E0-93D8-7EC5FF76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FD787-E6C3-49FB-8867-28C5011D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1E70A-E9C2-40D3-A7B4-25A251B7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BC23A-007A-4C1F-96D6-626745C5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100DD-B7FD-4672-AAC4-20DDA360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DEAD-FCB7-4637-BD6D-406399D7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7E92A-5101-4F39-A9DF-21A35A6B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75F2D-C6CB-4E18-8367-0BA162B7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F4B4E-600E-41EC-A2C1-4B25FBA8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5020D-A466-4FCE-9DAD-2E641D48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49EB5-B1FB-48D4-BC7A-438DB6CB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EFDB5-C847-4A9F-B0FD-FD0EBCE5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FAE68-0666-49F3-9344-4FB76342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C482E-9D6D-4E7C-9978-F7BA4370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9FF53-C706-4318-B966-B57E352F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38308-8BEC-4A89-AE25-DDA70895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1F4-7D81-48E7-AA91-A02F42D7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C8F08-34F5-44B2-BD2E-BF3C568E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BE89A-A8A3-4152-84C0-75AB1031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0B161-3F11-4E6E-A955-8F8C796E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66F18-CB1A-4999-846C-FB14F6B6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3F456-F89C-43B0-ADC9-FC7EC953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2E1D8-8D5F-421D-8CC7-4F10A6FE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443F0-F590-4825-9425-A136A798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99433-68A4-4BDF-BE55-8B51C916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C4ABB-86FA-4B01-8EB7-FBAC9260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AE481-2D5B-4AF0-8011-197FADCB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FEB4-2417-4330-939A-53CC15B0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F3009-6A87-4758-B2A1-EE0F5B80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784AC-587A-4747-BF43-09514A75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661BD-C115-4D1A-AD3C-0B5453FE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2517E-DD71-4B6A-A03D-EFB20107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BDCE1-4C2F-480C-B068-77168765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07099-F64D-4B12-AA0F-5992A101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3E113-A82B-4FD7-A2BD-956D14F1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43656-7B4E-472B-BEA5-73D3B4C4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71A83-A53D-4070-82C2-52E74A5D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5FFDC-F269-4896-AD2A-30B4C67A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DEE-82E6-4A70-9542-D5B615F0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29737-0998-49CE-99C8-189DDCA0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FF388-0BC4-4385-9097-212EED8B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A1324-06ED-46C8-9F79-094579E4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F57BB-31EA-4110-89A8-897823AF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5BDE7-2B7A-49DF-B464-E5F70046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81051-98F0-4B45-A236-638C9A57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CEDFB-3074-4DF1-9682-AA83A979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30334-F130-4057-9E7A-AB1C0790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3B24E-B098-4306-BA46-B7B66CA2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910E7-27DD-4DB5-9C93-9BAF8C7D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70A-D582-4E3D-B03F-CE510A25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549E9-0749-468F-A83C-7D4C2E97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A9FD5-9D70-4D1A-9428-CB073277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EF8EF-9D13-49CE-991A-B9F81E6E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F7FF9-ABAD-4E70-B00B-89A21925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84CA1-3E42-4F67-A8D1-8317EA7C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C3181-3236-447C-A119-0850C515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7A9DE-E168-453A-814A-D42EC8E1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49CC7-A888-4B01-AB92-6006825F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294CE-8396-42BF-A495-27F00C8B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B392F-2914-417B-9A17-825B7287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E67D-A44F-40E6-9CAE-B7188873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D4B1F-2B9F-45F1-A083-6BC4F4E3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5B7D4-1269-49B2-9BF5-750CE2C3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0E8DF-CB09-4242-A68C-119A7A86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8BCF2-34AB-4EB7-B9EF-6E640B02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06786-90D7-468D-BC6A-22C9B8D3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AF181-6B78-474D-88E7-7A0B3AD2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464B4-F764-45B4-B807-EF27EB42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8E694-0FA6-49E8-B6D2-C702D005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71BA7-BD6A-4F78-A1B2-B88D25D9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77A10-CFA1-4B51-94F5-C821AB71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81E6-DD56-4A1A-9BD7-94E9A2FA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D407D-BD08-46D2-9356-E3283A8F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2DB37-2561-4E09-BEDA-87565D84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D9606-3D91-4240-B293-E821160F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A84AA-6C78-4CD4-AD83-5A04501B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6751B-B0FB-47B3-8766-051D7909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8E498-819D-4843-93E9-A0F1D042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1F03B-C3D8-403C-8648-219A9F4F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128C7-819C-4837-BA5B-DABAE8BC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7F27B-3472-455F-BC97-A9A1789F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0221A-442F-485D-A5A1-12B33C8A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FE80-07B0-4C6E-B8C1-EE5F8898A5A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6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7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9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58DD-931A-4A8C-A9D3-D3EB64C66EB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771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5DCF-D365-431B-AD60-AF1A71A5B51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84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9E8B-3556-49E7-9874-7126D7BCD96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2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6CFB-6FB4-48AD-8236-ACEDC2FDF27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6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7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9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CB5D-14E9-4E03-A149-C34B9347C61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7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1717-1EE0-4245-B950-2CEBE767ACD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14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739F-7B83-4EB6-90C2-4AF17B8EFC7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8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0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21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CD01-A869-4FAF-8332-70A36D968A5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65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27AB-7A2B-42A7-82B6-B85F188FF2E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2AD3-5B71-468D-95FE-B43115A2CCF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2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3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25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E228-3497-4A42-9E64-D464B53DAF6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9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0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327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3F65-F252-4889-9400-88AD4208795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0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8D55-E9A0-49A2-A48A-73C5551A883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4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5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42A4-8140-4DF4-B0A3-2B98C2F3474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1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3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54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0249-7445-4F88-B6EE-BE8CCB0453D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9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0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2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F166-34BE-4C0F-BF33-1C4C7673052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itle 1"/>
          <p:cNvSpPr/>
          <p:nvPr/>
        </p:nvSpPr>
        <p:spPr>
          <a:xfrm>
            <a:off x="1600200" y="33480"/>
            <a:ext cx="739152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Content Placeholder 2"/>
          <p:cNvSpPr/>
          <p:nvPr/>
        </p:nvSpPr>
        <p:spPr>
          <a:xfrm>
            <a:off x="152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INVC- Bridg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Arial"/>
              </a:rPr>
              <a:t>Advancing Value Chains of Groundnuts and Soy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resented at the Annual Review workshop, Lilongwe Hotel, Lilong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ne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3" name="Picture 8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6934320" y="5867280"/>
            <a:ext cx="1828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Gothic"/>
              </a:rPr>
              <a:t>Proposed Plans for 2017/2018 seaso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1942920" y="1599840"/>
            <a:ext cx="659124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Century Gothic"/>
              </a:rPr>
              <a:t>Promote product aggregation and collective marketing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Formulation of aggregations pla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Pre-aggregation activities-facilitate the logistical arrangement for the aggregation to take place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7" name="Picture 2" descr="C:\Users\jkumwenda\Documents\WORK - ACE\11. RAB\FtF Logo.gif"/>
          <p:cNvPicPr/>
          <p:nvPr/>
        </p:nvPicPr>
        <p:blipFill>
          <a:blip r:embed="rId1"/>
          <a:stretch/>
        </p:blipFill>
        <p:spPr>
          <a:xfrm>
            <a:off x="7010280" y="594828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4" descr="Description: Standard_USAID_Identity_CMYK"/>
          <p:cNvPicPr/>
          <p:nvPr/>
        </p:nvPicPr>
        <p:blipFill>
          <a:blip r:embed="rId2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Gothic"/>
              </a:rPr>
              <a:t>Proposed Plans for 2017/2018 seaso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Century Gothic"/>
              </a:rPr>
              <a:t>Facilitate access to market information and marketing opportuniti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Raising awareness about markets and marketing optio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Strengthen and promote access to market information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Expand market opportunities and facilitate trad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1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961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Gothic"/>
              </a:rPr>
              <a:t>Proposed Plans for 2017/2018 seaso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Capacity building of FGs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Establishments of governance structur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Business management support serv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Establish well managed seed system (with a managing entity in place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Collaboration with Ag Diversification???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5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76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3244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 txBox="1"/>
          <p:nvPr/>
        </p:nvSpPr>
        <p:spPr>
          <a:xfrm>
            <a:off x="255240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entury Gothic"/>
              </a:rPr>
              <a:t>Thanks you for your attention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8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79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403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17:20:52Z</dcterms:created>
  <dc:creator>ajuba</dc:creator>
  <dc:description/>
  <dc:language>en-US</dc:language>
  <cp:lastModifiedBy>Kabuli, Pelius (IITA)</cp:lastModifiedBy>
  <dcterms:modified xsi:type="dcterms:W3CDTF">2017-06-30T07:12:10Z</dcterms:modified>
  <cp:revision>109</cp:revision>
  <dc:subject/>
  <dc:title>Slide 1</dc:title>
</cp:coreProperties>
</file>