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D095-F1CF-40DE-9584-25837E2B30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ABFF-646B-4FA9-8680-73E0B56CC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59CA-46A9-46FC-B472-CCD6724D8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9D9B-9895-4178-8644-7E39B2A43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4761-8164-45C2-9114-BA97E1A11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4C7D-C07B-48CD-9E54-CF59091E6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C305-CDB9-4740-A2EA-70D24166C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0916-F1A3-4CC0-90D0-4C277A7F0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F60E-B234-4C75-8C45-68B99F664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BAE7-4D68-42B5-B41D-6B149E566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D608C0-657B-43A6-A476-FE071D9135B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1787FA-0AE8-411D-A989-5081A932350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00B8D7-4F60-4B8C-B1E8-1517EF7126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6A43ED-42B8-4A59-8D17-CA387B9223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16945F-7ABE-4208-8C8A-A251F6C515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CC81A2-0B62-4954-A0BF-0DBE98A5F8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EFBFBA4-950A-44D1-81CE-5542A887E5E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E3D2909-907B-49B8-A1AA-734D8DF4E10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D27D481-16EA-4211-BCD5-9A1EA276019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0B973CFD-E8BD-4808-B54F-8330F37F2CB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97191123-70A7-4311-AE2C-975FCA071E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ED1AF700-2863-4ECE-AAB4-F35CBCC9388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9754BD70-7791-46D8-A95D-F025EB0BCC5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B543180-CA2E-46A3-8F3F-75306C7BFD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9153EC90-721A-4FC2-BEC5-D325BF80EC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D602BE3-7989-4B60-ADBC-23B485302E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2E69998-BA93-4DBD-AB9A-FFC9D71827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45311EB8-CFB9-4623-8413-ECF502E809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20C30586-7179-4933-9C69-46625FF847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F1214FA8-219F-4E57-8A65-8C7C785993D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D777E4B5-6E6F-4F08-9958-2A235972A25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34B1897-71C0-4D0C-99AE-CC0A8F58BB6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252DB2C-A3E4-4122-8C8B-96F8F37285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2FAC219-66EC-4540-8E83-76AD6FB1EC1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13494DB-14DA-4CB4-BDDF-881D29F329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4C31DE-237D-4AAE-8949-7A9367EC6B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0AC44E-43D8-42F2-BCB3-6618125A2F1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6BA876-7217-4F9B-97A3-2438CDF9C3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51CF938-1284-4CA9-BC69-2884163E58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01717B6-BC0C-49AE-8560-98036DBCDE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DE7CA3-CE25-4971-B3D4-CE95091B06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F3A215-3E58-4664-A9E9-0E0FC94A12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02CFB22-4215-40EE-8830-2E93C2DF512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D5A9A2B-AF29-4AA9-87CA-62052AB93E2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8470BD5-58DE-418D-BB4C-03C4DCF0CFC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8665D3D-F1E0-4B65-84D0-2048B9430E7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4206E9D-D45D-447C-B892-A26A58AE711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4F7B13-915B-432D-9AAC-7C92255F059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2AB771-5869-43A1-88F0-5D23EAE77BC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50098B-0659-403B-A304-C4D8636231E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CC9BCA7-08E3-4A2D-BAE4-D6C08714AEC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D44F3-452C-469D-A114-4BD85ABF1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CD8B36E-0910-439C-A623-A0B25BAA2D2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0D9D06D-3CE4-487D-AFF4-554AC6F552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C92CD20-C0E1-41ED-90BF-A8F050535F4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7DF974F-591C-45DC-B777-02F019873C9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D418DD-F959-4B5B-B065-2F69CE78367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6DA74-38E2-4496-BF82-27AC83BBE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6DD4E-E364-44CF-B143-86A2D3B18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6E74B-1AFB-4B56-A8C8-63803F247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5617F-BFF2-4C8F-B9F5-B701D2943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A8CE6-5E55-4984-A200-F690BB8AA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EF59B-FA23-457E-AE2B-57D2E9145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D3BFA-427E-473C-901A-169DA3BCC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EBDC5-9AEF-412E-9DFD-F7EDF2074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9E050A-52F3-4925-9125-6E619218F7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1A711-E156-40D6-A4BC-E531F77732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6EE3BA-AEEF-48D6-869F-0528736E6D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F1A005-FFAC-4123-9AB6-1F92761CD6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F6F4F2-DFC2-428A-A56F-245D691AF3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A222D1-C840-46F2-A2AD-B37354CE7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FD1E47-D10F-4365-9B26-04BCF72E5A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36994D-6CA7-49ED-9D39-D70D9D84B7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6A1CC0-9544-428E-9A93-0641256F98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F854DA-D6B7-4AAA-8369-C96D02B0B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8FB0FE-F59E-4E39-BF30-072B5AF4E1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BDDA47-500F-4B2A-93B2-C8DEE4632E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58BB44C-ACE4-4D17-97CA-A6094FFB7A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EAB930-5366-45DD-832B-7B3A277553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9296D1-3DF3-4D2C-988B-9CF435E617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0EC982-DE60-406C-B175-E3179C33D2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C20B14-1B8B-48EA-A613-4F23D5729D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25143C-0D10-4CEB-8EE5-7DDC0918C2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E3B045-16C8-413A-B9BE-6CB5A3439C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6BD347-812A-414C-B590-1C5A98DD92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3854B1-CE49-4789-9D63-F8CF36B8D2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B870CC-A443-4DA2-8010-5E10876BEA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7E9E0B-5210-4C75-AFD1-796F70CE3F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1015E1-11DA-4597-B665-5CB413FA3E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96B753-B46F-484C-A89E-5B9F65FB37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439348F-7163-461B-980A-824F0F9F83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85EE576-C58E-4ABB-93CB-B6E3F4892DA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6E5D1A-6809-4D90-A214-CD1C76F3B6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756F9F-E504-4586-8BC1-855E033B6F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A87542-20E7-45F4-81A7-CE0837E36C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E30784-A8DB-4308-90F9-425972CAD8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77DF0BD-DF46-46EF-AC09-6DA5211928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109795-1F6E-488A-B98F-E040108D62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5DF34C-3E73-498F-B9E8-BD037A1577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B37353-59BE-463F-A652-F9DDCC0BB3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AFDB02B-5A23-4885-9C0A-EDB262A84A8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23E6827-A54A-495A-B187-6B4C63C2F0E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B54B45C-F0A3-48CB-B70B-FBE365405DB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EA69D30-1D7A-4CBA-B078-1EB08B69A22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1742DC-4FF0-4C4C-AB95-0F20B8AD5E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056483-F335-44BA-86D4-E781CFE147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024AD5-4C97-437F-8461-045A3A9171E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4CA1B5-5BF5-47DD-8170-A4B88720C5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198452-33AF-4897-9018-E57177B572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FCC6E6-FEA4-459E-9967-1E38435CBE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C7C26B-1089-4F5F-BCB8-AF4ABC0B7B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D91445-DDED-4635-AA6A-DC9DB28BF9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EFED05F-79D2-4A07-A7BF-E2C91DC19C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CA0581A-B8F4-4F8E-8333-37CDD58D705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3DA0313-9A1E-401D-8277-1EC259B9608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4DDC6D2-6F7C-403F-B83B-005CFB5125A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7F161C-3918-4722-988A-33CB19FB4C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26F30B-274D-431A-A38E-E9E3BBA222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209711F-81FF-4599-B7F9-108DD2C569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3533CC-D5E9-42E7-A9F1-74D5F3AAE7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87F6FCC-CF30-4ACA-A8FD-74D6463E18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909D32-18DE-441B-9161-B516A79412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5D6388-9477-443A-898C-F9D7D75812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BFC56E-AC34-4669-8686-0018952519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9E03E9-6B49-498E-A6B0-4C39ED9A18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A4DCF4E-82CB-4847-A7CA-E98FE706C8A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46D1FB6-25CD-4571-8F7C-C2D249CE526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52EAF1-9110-4519-9F00-833CED9F94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18CB8F-FC0E-48C4-BFF3-F4183542A3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38155CE-1FEF-4B13-A600-E50526345CE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0A2453-4262-4A29-9387-8FA28A7B38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38A19A-D78E-4E19-B084-F139B7BAE8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E9D29D-8098-44E9-84A8-65865F685AF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01A4D4-FB37-48CE-B860-BA4DF5711D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018108-B52E-45ED-B23E-5877B1B1F6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4E4613-14BD-4B37-AE9F-659FB8DB22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1AA553-F258-4B62-B5F1-5E1D3304A3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F683E82-BEC2-436A-AD0E-9A4C90D824D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16FA74-55DE-4E7B-9A32-FC04362BF7F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B5F85FF-BFC3-4183-9F08-F73B539A5BE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C55E73-9551-4B98-8421-ADF27A6ACC1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F42B96B-4397-4C69-B6B0-B45C8D35285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40C0-9C9C-4690-BF64-F932EF5D19D1}"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5DA7-16E3-44A5-8D86-50FFC6B1B32B}"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1D80-EA68-4D65-B8F0-FCADAD45247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0360-2AA3-4EA3-90EF-FD2A8A2018FA}"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A777-CE1A-4DE9-99FD-36079BB8C49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4687-9F3A-4A11-A6ED-DA7FFA149138}"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0844-0511-4FD0-9000-15C4409EC1E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19D8-DE63-4053-86E6-CC01080C0884}"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89CD-9114-45FA-9938-B8694747A09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5731-55D5-4304-8BB1-45D1B088C584}"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E8CE-DFCA-4B5F-B387-4B0F510C35DE}"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4E36-5D83-4EB5-A85D-F1AFCAB6240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B753-CD70-4345-8EBF-71C9FE1C92FB}"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48BE-079E-4C63-A605-1DB25F916F9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A5DD-0CF4-40A0-9C71-8B30D39C6F8E}"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84ED-3D65-4F61-9BD6-231B3E38AA7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FA2A-8B72-4C76-9BAF-C0F63D975264}"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B8B2-996D-4F6B-B904-94910611635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0198-6E70-4129-8D1C-07778CFB95CE}"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D7DA-782C-4531-9EF3-D870CBE236F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6667-39C4-47A8-A14D-0DE5DCBDDDBD}" type="datetime">
              <a:rPr b="0" lang="en-US" sz="1200" spc="-1" strike="noStrike">
                <a:solidFill>
                  <a:srgbClr val="e3ded1"/>
                </a:solidFill>
                <a:latin typeface="Calibri"/>
              </a:rPr>
              <a:t>07/29/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DBBE-BA5D-42D2-AC82-4023A6F3B4C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