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43A8-FBD0-40AE-BC49-56C5A8121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7382-8D16-4D6C-AE49-63F08B557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5D52-FFE1-4A7E-890F-924CA8FC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622B-95D6-48A9-B0EE-6F36C6CC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6CB5-7306-4225-AB43-67D178E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A894-3C57-40CA-96D6-10BB52D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6F78-D783-4E11-B0FD-E5BB10BA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95CA-96CF-4AA2-9AC0-AE96E685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0BBB-DC8D-4D34-85B7-CE085BA4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3C8F-137C-4E03-897B-90C9F2E4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F255-EB66-4D45-8D92-99CFAF7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3A11E-FE2C-4B8B-BBCD-5BE46A22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7039-0380-4191-873D-69919B08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F79B-CF24-420B-9645-FF6D5028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4A6-CF0C-4301-BAEC-20F89E42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17B-E392-4BF5-81B6-8D7F05F4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D44-D616-48C3-97E0-853ED6D1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708-9684-49C3-876F-C817268C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5C6-60C6-4ABA-B213-6BEDBF1E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F68-37F2-426E-A592-F6F1C009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BDF-F5B3-4C82-BC84-973FDA3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24B-E42F-42F9-BAF5-3236A22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E46-DE59-4A3B-8358-55783F89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8B1-97A6-4B75-87E4-97609D2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AB5-B11E-4315-8A2B-20C1848B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B85-C861-44BA-975E-65F4268D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2197-A6C6-4C8E-A1B9-FABB3F29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D549-8F0B-4A11-B328-932D40D4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4E37-99FB-4E3E-9612-8F7FD8BC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81CD-B92A-40CE-BBDC-C59111B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1338-89EA-4398-A16A-0E5DEE92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0B82-9B7D-40DA-B4C4-F4E073C7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FA5F-C934-42FF-8D09-D4DEBE7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5C85-1138-4FF7-BCCC-A9CA09A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42BB-B555-4980-AA8E-73B6921D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73DC-F6CF-4A91-89C5-949B61CA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851E-A84C-4C9E-AA5E-B1FD52BD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8C44-8DAA-4424-9597-894B12E7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1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2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66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0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1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D25-80F1-4A82-B409-0528351E5B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EB5C-5BCA-4ECB-8440-D7860DDD14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2D19-CF5F-4D19-8C0A-28D08E8DAE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Proposal Development: 2014/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4575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. Bekun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f2936"/>
                </a:solidFill>
                <a:latin typeface="Calibri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38680" y="220968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Calibri"/>
              </a:rPr>
              <a:t>2012 Planning meeting outputs: Integrated Research as AR’s operation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23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65530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5"/>
          <p:cNvSpPr/>
          <p:nvPr/>
        </p:nvSpPr>
        <p:spPr>
          <a:xfrm>
            <a:off x="7315200" y="4572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ight Brace 27"/>
          <p:cNvSpPr/>
          <p:nvPr/>
        </p:nvSpPr>
        <p:spPr>
          <a:xfrm>
            <a:off x="8763120" y="31240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4240"/>
              <a:gd name="textAreaBottom" fmla="*/ 15145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Oval 29" descr=""/>
          <p:cNvPicPr/>
          <p:nvPr/>
        </p:nvPicPr>
        <p:blipFill>
          <a:blip r:embed="rId1"/>
          <a:stretch/>
        </p:blipFill>
        <p:spPr>
          <a:xfrm>
            <a:off x="-549360" y="2992320"/>
            <a:ext cx="6589800" cy="1940040"/>
          </a:xfrm>
          <a:prstGeom prst="rect">
            <a:avLst/>
          </a:prstGeom>
          <a:ln w="0">
            <a:noFill/>
          </a:ln>
        </p:spPr>
      </p:pic>
      <p:sp>
        <p:nvSpPr>
          <p:cNvPr id="581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5"/>
          <p:cNvSpPr/>
          <p:nvPr/>
        </p:nvSpPr>
        <p:spPr>
          <a:xfrm>
            <a:off x="6019920" y="55339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4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5" name="Line 25"/>
          <p:cNvSpPr/>
          <p:nvPr/>
        </p:nvSpPr>
        <p:spPr>
          <a:xfrm>
            <a:off x="6400800" y="4191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92360" y="2349360"/>
          <a:ext cx="6842160" cy="3670560"/>
        </p:xfrm>
        <a:graphic>
          <a:graphicData uri="http://schemas.openxmlformats.org/drawingml/2006/table">
            <a:tbl>
              <a:tblPr/>
              <a:tblGrid>
                <a:gridCol w="664920"/>
                <a:gridCol w="601920"/>
                <a:gridCol w="1393560"/>
                <a:gridCol w="196920"/>
                <a:gridCol w="1324080"/>
                <a:gridCol w="1330200"/>
                <a:gridCol w="1330560"/>
              </a:tblGrid>
              <a:tr h="648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-cutting studies (impact, markets, nutrition, gender, policy…) and actions (scaling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; C+S; 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, L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aseline, FSA, Discipline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w hanging fruits, Team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AutoShape 1"/>
          <p:cNvSpPr/>
          <p:nvPr/>
        </p:nvSpPr>
        <p:spPr>
          <a:xfrm flipH="1">
            <a:off x="611280" y="2637000"/>
            <a:ext cx="1008000" cy="2736720"/>
          </a:xfrm>
          <a:prstGeom prst="upArrow">
            <a:avLst>
              <a:gd name="adj1" fmla="val 50000"/>
              <a:gd name="adj2" fmla="val 75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oward full 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46836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07f09"/>
                </a:solidFill>
                <a:latin typeface="Calibri"/>
              </a:rPr>
              <a:t>Conceptual progress towards sustainable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228600" y="1371600"/>
            <a:ext cx="81532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categories – Work packages (Tanz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p and crop variety diver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crops – sorghum, millet, pigeon p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t and disease – Maize lethal necrosis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il fertility – fertilizers, manures, leguminous crops, multi-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llage – Tied-ridging;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stock – feed, fodders, grazing, manur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-harvest – handling, storage and afla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– mechaniz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s – cost benefit analysis, partial budge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mer adoption – voucher program ,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eam proposal develop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ification – Where you are along the impact traj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to mature the technologies (higher level integration) 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ncip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data generated expressed in context (cross cutting disciplin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the log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 details (activity/institutional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rcRect l="10763" t="12500" r="11347" b="0"/>
          <a:stretch/>
        </p:blipFill>
        <p:spPr>
          <a:xfrm>
            <a:off x="71280" y="1130400"/>
            <a:ext cx="9068040" cy="57276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rot="3384000">
            <a:off x="2832840" y="3350520"/>
            <a:ext cx="712800" cy="2362320"/>
          </a:xfrm>
          <a:custGeom>
            <a:avLst/>
            <a:gdLst>
              <a:gd name="textAreaLeft" fmla="*/ 455400 w 712800"/>
              <a:gd name="textAreaRight" fmla="*/ 713160 w 712800"/>
              <a:gd name="textAreaTop" fmla="*/ 18360 h 2362320"/>
              <a:gd name="textAreaBottom" fmla="*/ 23439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466"/>
                </a:lnTo>
                <a:cubicBezTo>
                  <a:pt x="10800" y="10738"/>
                  <a:pt x="5400" y="11009"/>
                  <a:pt x="0" y="11009"/>
                </a:cubicBezTo>
                <a:cubicBezTo>
                  <a:pt x="5400" y="11009"/>
                  <a:pt x="10800" y="11281"/>
                  <a:pt x="10800" y="11552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676520" y="1749600"/>
            <a:ext cx="440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 RISING Years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 with high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 refinement &amp; expansion (e.g., IPM, socio-economic stud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er of research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support to FtF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6" name="Straight Arrow Connector 8"/>
          <p:cNvCxnSpPr>
            <a:endCxn id="594" idx="1"/>
          </p:cNvCxnSpPr>
          <p:nvPr/>
        </p:nvCxnSpPr>
        <p:spPr>
          <a:xfrm flipH="1">
            <a:off x="2972880" y="3735360"/>
            <a:ext cx="75600" cy="51192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7:40:18Z</dcterms:created>
  <dc:creator>Bekunda</dc:creator>
  <dc:description/>
  <dc:language>en-US</dc:language>
  <cp:lastModifiedBy>Bekunda</cp:lastModifiedBy>
  <cp:lastPrinted>2011-10-06T11:45:23Z</cp:lastPrinted>
  <dcterms:modified xsi:type="dcterms:W3CDTF">2014-09-10T02:41:26Z</dcterms:modified>
  <cp:revision>5</cp:revision>
  <dc:subject/>
  <dc:title>Slide 1</dc:title>
</cp:coreProperties>
</file>