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082-3BA8-4C61-963D-02B0C896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E72-BB4B-48DA-803D-6979A3B2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3D1-EB6C-45D9-B9EF-31FD3586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DB2-E5B7-46A0-B787-87CFE5AB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0A2-5CFE-4735-A2C7-E8A6004A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9ED-05A9-4235-BE97-551AC0FE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819-FD71-4F52-986B-51402000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177-86B6-4E2B-84C5-180C6CC8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839-88C5-41E9-88D7-684E1078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A47-C344-4F5B-88CB-D105AB44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10F-A5BD-45E5-A38C-5D58A255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42D-F308-4652-A817-226C3191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B606-DCCC-4DBF-9C62-A1CFDAC58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76520" y="24955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22560" y="49338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50920" y="5013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03T11:32:36Z</dcterms:modified>
  <cp:revision>58</cp:revision>
  <dc:subject/>
  <dc:title>Slide 1</dc:title>
</cp:coreProperties>
</file>