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7D36-6D5B-4692-802A-5370ECC0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4F41-807A-4549-A1DA-294B5440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A72-D0D7-42B3-A9FD-545BE2D7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3307-525E-43D3-A62C-29CB93D29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0E0-45A1-47AE-BE5D-C1E315DCB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556E-0962-487C-8DB7-9D104331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8ED5-ECA8-4036-9819-3B9B9E71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9BC-371B-43D2-B433-6227D5A6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90E-DB8D-4679-BAF6-B5090E25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87F-863D-4B49-96AF-963F603F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9E6-B5D6-4B0A-8663-7955DA9F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8A9-30EA-4129-879D-9897707C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6B2F-C39A-441D-9F31-1196740D5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76520" y="24955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22560" y="49338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50920" y="50133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09:35Z</dcterms:created>
  <dc:creator>Larbi</dc:creator>
  <dc:description/>
  <dc:language>en-US</dc:language>
  <cp:lastModifiedBy>LeBorgne, Ewen (ILRI)</cp:lastModifiedBy>
  <dcterms:modified xsi:type="dcterms:W3CDTF">2012-10-03T11:32:36Z</dcterms:modified>
  <cp:revision>58</cp:revision>
  <dc:subject/>
  <dc:title>Slide 1</dc:title>
</cp:coreProperties>
</file>