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164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8E92-1FD3-4E4F-BFA9-7A4438CE4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5DF0-4182-4E7D-A8F5-EEB793714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F268-CFB2-4805-AE2B-7AEDAC713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EF2D-C3CB-4D73-A86B-85A919BD8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2746-F35E-4378-B8C7-4BFBD9648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362F-6461-4E10-B2BE-17314280B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563D-B28E-4025-8D19-888D8083A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D23A-3F29-47C0-BBE0-3D49877F5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5319-6A41-4573-B05B-54E9F548D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861D-6E16-4D1E-A9BD-AEE36BAAD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38E9-078E-4788-AF4F-162B54630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8A71-50E8-48B5-AC0F-AC317C2A7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5646-3A47-43A5-A6C8-982652A8A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13D0-9EE6-4A80-99CA-A10D18C2D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27A9-F6A7-43AD-9252-2F7B74691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0572-E626-4702-98F8-89A0A8E4A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E29CE-CBAD-4BFF-9287-4702359B1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34AB-CDFB-4B90-ACC7-0AE9495AE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F4B-9680-4DFA-8AEA-6DCE1147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693-EE46-467E-BF7C-C9C25435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F7D2-E723-437D-AAD3-4A2145930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DCB1-7A65-4FD9-A033-19F56E00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E93-4B38-429B-AD15-4003022C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865-6A5F-4A42-A6A6-C3309976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827-1BAF-4DBE-ADBF-CD11AA22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C68A-24DF-4B4B-9933-9FDC9171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ABDC-8A43-4DB2-A7BC-BD393759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9202-90F3-491D-9A32-62A4D783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B7B-5337-42CB-8708-A490E4A1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796A-6517-4BBC-85BD-A7DEDF3CCA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Theme 5: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utrition, food storage, value addition and mycotoxin management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monthly GMP sessions held in 25 programme commun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community durbars on quarterly basis to demonstrate how to prepare enriched energy- and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nuscripts have been published in peer review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let on child malnutrition in northern Ghana has also been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line information now available on aflatoxins levels and prevalence in maize and peanut in the intervention 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ority strategies have been identified  to be incorporated into work plan of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ctivities carried out were part of a package designed to test the hypothesis that nutrition  behaviour change communication (BCC) combined with nutrition sensitive agricultural interventions will better promote the production and consumption of diverse and nutrient-rich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400 moderate to severe malnourished children aged 6-36 months were randomly assigned to one of the following trea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+ Nutrition BC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groups of intervention communities received nutrition sensitive agricultural interventions including production of nutrient-dense crops (cowpea, soybean, groundnut, vegetables) and/or rearing of small rumina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as, the comparison communities received only the agricultural interventions, the intervention communities received additional nutrition BCC through community Growth Monitoring and Promotion (GMP) and reinforced through home visits peer couns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come of the trial is currently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s/Challeng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health personnel trained to support and supervise the work of community volunteers have been transferred out of the programme distr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households were not provided with the needed support (facilities for rearing livestock such as goats and sheep or guinea-fow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was inadequate funding for Postharves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should be clear work plan and stability of funding should be streamlined prior to start of programs in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cu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theme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as to identify and promote the consumption of diverse, micronutrient-rich and safe foods  to improve nutritional outcomes of children, pregnant and nursing m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TA should through inter-sectoral approaches, promote and support diversified production of drought-resistant crops, including fruits &amp; vegetables, and improved breed of small ruminants and poultry at the household and communit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nhance nutrient intake of children throug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novative programme that will stimulate behaviour change towards feeding children with animal source foods (ASF foo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to effectively implement homestead food production (HFP) coupled with nutrition education to increase availability and consumption of micronutrient-rich foods (fruits and vegetables and animal source foods) in poor households may contribute to the nutritional well-being of th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 and harmonize the institutional framework for coordination and capacity to carry out Nutrition-Agricultur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dvocate for and support integration of nutrition in agricultural programmes at the district and sub-district 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, document and disseminate findings on positive indigenous dietary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 food composition data for major foods consumed in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roper food handling, hygiene, and sanitation through increased knowledge, use of safe water and hand-washing practices at the househol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ed to upscale integrated pre-and-postharvest management strategies to reduce consumer risk i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nutrition education including demonstration on how to prepare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counseling in optimal maternal nutrition and infant/young child feeding practices through growth monitoring and promotion (GMP) ses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monthly GMP sessions to detect children at risk of malnutrition early enough for counseling and nutrition rehabil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rained CHWs  also provi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tri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unsel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home visits to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essages delivered included  the importance of diversifying diets, nutrition during pregnancy, early and exclusive breastfeeding, the appropriate quantity and quality of complementary foods, personal and environmental hygi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of a baseline survey on the nutritional status and dietary practices of childr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ssessment of the dietary intake and nutritional status and household food insecurity situation of pregnant wom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aluated how the current handling operations influence  postharvest quality, losses and aflatoxin levels</a:t>
            </a: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Determined total aflatoxin levels in peanut samples from  farmer storage units and on-farm research demon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ducted participatory on-farm evaluation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peanut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notypes for resistance to aflatoxins at 3 multi-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community health workers (CHWs), including members of women’s groups were trained in Infant and Young Child Feeding (IYCF)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weighing scales, infantometers and registers to support community GMP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21Z</dcterms:modified>
  <cp:revision>1567</cp:revision>
  <dc:subject/>
  <dc:title>Gastroenteritis at a University in Texas</dc:title>
</cp:coreProperties>
</file>