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1640"/>
            <a:ext cx="46688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E8C5-062D-40C9-8702-C79686B12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0C4B-F4B3-4881-8085-1F4906EA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24CF-996D-4CD5-B3A9-3092BF706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671D-6270-4FE9-A166-1BE4FDAB1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A9EA-6DB3-4479-9624-78B0C196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C174-7512-4EEB-B8C3-0671E6C9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B28E-CD09-493C-AC84-833A87965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E00B-4442-4D07-974D-5A6376458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EFE7-47E5-4A43-91DD-A315AEC7D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9C4B-2A54-4EBF-8F72-8CC409907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4EFC-0AD0-4DC1-BEE8-629D2E74A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3576-0148-4E37-B24E-A290DF22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6B5F-637E-4599-92B2-6AC9EF62D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1F3-C703-42C0-9FE7-1E4D4B79E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F37D-EE0C-4D6A-82ED-EB298FD42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5F4A-C543-49F4-8C0C-EF068E22C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A028-F389-423D-8134-74E86B0EF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C0F-DC55-4008-83B7-C89BDF99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9B5-5195-4CCB-A4B0-91C01902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360-7380-4F64-8394-F69F820A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0A3-7C07-47FA-8DE9-3BE30A4A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6C1-E1E4-401A-81B6-37BCDEED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A4A-C5C5-4A07-8944-7A1995B6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8AF1-EF5F-46CF-97F4-0E723EB6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E91-4407-4B2F-B54D-108DA9A7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569-AF67-4F42-B2B3-A8E9E558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A32-5A54-4727-BB9B-54FEA19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A52-78D7-40EE-9D8B-CC9983ED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7E4-7B9D-4997-8652-E0B690EF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C36B-18BE-4EF9-A65C-50099A71F8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Theme 5: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utrition, food storage, value addition and mycotoxin management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monthly GMP sessions held in 25 programme commun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community durbars on quarterly basis to demonstrate how to prepare enriched energy- and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nuscripts have been published in peer review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let on child malnutrition in northern Ghana has also been p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line information now available on aflatoxins levels and prevalence in maize and peanut in the intervention z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ority strategies have been identified  to be incorporated into work plan of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ctivities carried out were part of a package designed to test the hypothesis that nutrition  behaviour change communication (BCC) combined with nutrition sensitive agricultural interventions will better promote the production and consumption of diverse and nutrient-rich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400 moderate to severe malnourished children aged 6-36 months were randomly assigned to one of the following trea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+ Nutrition BC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groups of intervention communities received nutrition sensitive agricultural interventions including production of nutrient-dense crops (cowpea, soybean, groundnut, vegetables) and/or rearing of small rumina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as, the comparison communities received only the agricultural interventions, the intervention communities received additional nutrition BCC through community Growth Monitoring and Promotion (GMP) and reinforced through home visits peer counsel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come of the trial is currently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s/Challeng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health personnel trained to support and supervise the work of community volunteers have been transferred out of the programme distri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households were not provided with the needed support (facilities for rearing livestock such as goats and sheep or guinea-fow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was inadequate funding for Postharvest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should be clear work plan and stability of funding should be streamlined prior to start of programs in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focus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theme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was to identify and promote the consumption of diverse, micronutrient-rich and safe foods  to improve nutritional outcomes of children, pregnant and nursing m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TA should through inter-sectoral approaches, promote and support diversified production of drought-resistant crops, including fruits &amp; vegetables, and improved breed of small ruminants and poultry at the household and communit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nhance nutrient intake of children throug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novative programme that will stimulate behaviour change towards feeding children with animal source foods (ASF foo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to effectively implement homestead food production (HFP) coupled with nutrition education to increase availability and consumption of micronutrient-rich foods (fruits and vegetables and animal source foods) in poor households may contribute to the nutritional well-being of the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en and harmonize the institutional framework for coordination and capacity to carry out Nutrition-Agricultur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advocate for and support integration of nutrition in agricultural programmes at the district and sub-district 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, document and disseminate findings on positive indigenous dietary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ile food composition data for major foods consumed in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proper food handling, hygiene, and sanitation through increased knowledge, use of safe water and hand-washing practices at the househol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ed to upscale integrated pre-and-postharvest management strategies to reduce consumer risk i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nutrition education including demonstration on how to prepare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counseling in optimal maternal nutrition and infant/young child feeding practices through growth monitoring and promotion (GMP) sess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monthly GMP sessions to detect children at risk of malnutrition early enough for counseling and nutrition rehabili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rained CHWs  also provi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tri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unsel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home visits to m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essages delivered included  the importance of diversifying diets, nutrition during pregnancy, early and exclusive breastfeeding, the appropriate quantity and quality of complementary foods, personal and environmental hygi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of a baseline survey on the nutritional status and dietary practices of childr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ssessment of the dietary intake and nutritional status and household food insecurity situation of pregnant wom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aluated how the current handling operations influence  postharvest quality, losses and aflatoxin levels</a:t>
            </a: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Determined total aflatoxin levels in peanut samples from  farmer storage units and on-farm research demon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ducted participatory on-farm evaluation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peanut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enotypes for resistance to aflatoxins at 3 multi-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community health workers (CHWs), including members of women’s groups were trained in Infant and Young Child Feeding (IYCF)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weighing scales, infantometers and registers to support community GMP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21Z</dcterms:modified>
  <cp:revision>1567</cp:revision>
  <dc:subject/>
  <dc:title>Gastroenteritis at a University in Texas</dc:title>
</cp:coreProperties>
</file>