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24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614D8-8360-4D4A-B3D8-EFE84586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D9D3A8-81CA-48CD-8D40-EFFD32FDF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2EDBE-1644-4702-A6A2-8C2BC7CA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63068-033E-44C9-BC66-202DDEB7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AC1BF-EA94-4347-AF1E-180EDDE7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265E6-0C3F-4EB2-B6CF-8E0B6981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81F32-AF48-46F0-B709-5933ACD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98A61-B509-4F61-B6BA-70062FDF0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BA42D-D855-4E4F-939B-04A5D91C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C3855-358C-4903-A065-31F869C93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8521-B78E-43EB-B48E-9C1708F6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6BFF3C-23E2-496B-8733-BFC26143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A7F47-2316-46F6-B85D-EC49DC548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887FF-C4BF-46C6-904E-57476F25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4B06E7-1F56-479D-B3A7-F3791CD9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9AA4F-7489-434E-A230-104CEEF4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366B6-ED6D-4D54-849C-FC405C8E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F1AD9-84AC-4510-8DB2-08E35148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DBEE1-D76C-4DF6-A245-6A3E065D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7D66D4-845E-4154-94FB-16FA26A0B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59D01-D183-4B15-B180-4DDCF185A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17E43-AD30-498B-A9CE-656B9553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BA465-DE8A-42B8-891D-F5D0E94C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7D4E4-D5D2-4C2F-80EF-FE5223AC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88CB1E-A346-4C12-A67A-1112E867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9A308-4937-403A-8B1B-7EB5BF7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D8B1CE-5A70-41D5-ACA3-61C118BF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AB7A0-100A-4DF2-9A57-B28F9BBE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978F6C-C6A5-411D-BF36-4738565B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B4C00D-42D8-466E-AEF3-1B2C1EF0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1EAB-B90B-4A2D-954C-67A8F1C41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6E677-82B0-44BE-96B9-3964D51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AC4472-64D6-4734-8AC2-759F054D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7ABF8-40F1-477E-AD8A-4CBB393FD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80548-5CF4-4802-9FF9-76409F44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0D661-F124-492F-ABD5-C6D34C35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2AE306-70F0-44EB-AE18-9021F7B5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FA9AE-CA29-4B17-B47D-D5D99337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B8226-6AE3-46F1-ACB4-B3473D270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533E6-9CBA-41BA-9712-AC09BD1E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8190D-81B1-4840-B71E-C1057D4E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DC9A-7ED3-438F-B5E1-FCD1D60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9715D-D08E-4027-B280-74AE24A8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7716C-54E0-4868-A7BD-64768FD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512E97-40FE-467B-BB81-3D9BF4D2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32346-B5BA-4743-835E-2D5D6B26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A0E18-5D80-46DE-A28F-3BFA7D7D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2598-CC43-4884-9A13-4900A130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15BC-CF07-4680-8BC6-99A3470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D4FE-89E7-445F-B8EF-2964B430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2490-07E3-417C-A967-925D35C32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1697-4B20-4615-AB26-2F9AD6E7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42A2-B785-4E2A-A6A4-BAD5EDF1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202A-4452-4BA2-B9F1-C151861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919-0112-4059-A38D-DFD2259D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AC6B-8F4F-4B53-9331-97373FA7C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A140-350A-48F0-A5FB-1992A922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08C-0657-402F-B0FE-2A601CA0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3270-53F4-451F-95C1-05D4E488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65F8F-B630-4A55-B965-97C6F3F4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C26C6-C7CE-4F92-838A-8FC8C47C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5612-6002-4CFE-9DAF-058E3B68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3D9E-1929-4E99-AB13-7CE56937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7E56-CF38-44DF-A2C2-355AAEF6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BC97-8FC5-4692-B108-562743A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3624E-AE49-4B3C-B298-F33815FE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214E-DE71-4BA3-A143-7E104813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9E995-BED6-43B4-A38F-91BDF593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61F2-B1F3-4442-8A4C-19AAC6CA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F62E5-7CFB-4792-9433-806448BA1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39059-960F-4D30-8F09-40A1EC47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61C77-99AC-4FDC-B438-587BA5C9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511D-2D66-492F-9B68-F1B3350D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6E9AB-E8C9-4D1F-A2E2-454A4CB0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4C645-ED48-449E-BCB2-82759D7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16E01-1349-4EF9-BEF0-92CFD6C2E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018C-3A06-489F-B41E-12630811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BAFE2-D098-4A19-88F4-7BE9F21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B825-82FF-4C26-8172-5BF8724A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1973-632F-47C8-94A0-3E4AAEBA5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1205-E972-4E47-854E-D89B188C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9AC0B-B74C-4649-9B10-822A56EE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61471-12EA-413E-B624-C09095C4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7ED2C-270B-4228-80D3-9BF94EB7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BA80-F4ED-49E0-AFC1-625D547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C3D69-13EB-4B5B-91FA-92A3F081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CEAD2-079F-48AC-AB37-4E0260F8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B3371-C6BE-4CE5-AE46-A8006DC1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11F8E-4700-430C-9AC1-002D08CF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95C8A-B2AB-4F35-AE3E-71F0A7C7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4E4BD-82BC-42F5-BA5A-5CE238A5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14A0C-FDB8-461C-834D-EFB25364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9DC95-2A56-411B-8B48-4F198E71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77AA9-9CA6-4D95-BB6E-C694543C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DAF8-4AA1-426C-8C90-1151EF315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B9218-D9CB-4F1E-80A5-F97CD381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0AE27-8404-45DD-A9E9-DC6D4BB9C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2EF0C-8C94-49BF-9F59-FFC63DF7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E2D58-674A-46BE-8D4F-988552E4C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BB15D-7DE8-473F-963F-E483A2DD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0AAAC-3C11-4E03-B67E-4B32E478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F87B3-1718-489A-A542-2EF44BD9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B281-F2BA-4A90-9875-54759AA9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F4102-E540-440A-AEE1-B0BD1EDE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F5C85-AEE1-4933-83CF-66E8914F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6CCC4-EF95-46F9-BDD6-7997165BB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ADAD8-5BDE-4589-80F2-AFCD4267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092B-C4CC-4597-A69B-7B98CAA7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1C618-4341-4085-9E24-F56B89A3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65689-7CE8-40EA-8407-1B448AFD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1DA44-DDA5-4F20-9DBD-95284699A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112DA-62CE-469C-B1E4-1FF05B82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E4DA8-76B2-4FDA-A8FE-3370E95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56DA4-3E27-470C-949B-1966FD14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402A8-E898-433B-85D9-3763C02C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0F7D6-F52F-4A2D-B01B-BAA52CF92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56206-BA40-40F7-9F05-3523B9707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3BB22-A4F9-483E-B005-3AEE3B810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0A2C-51AC-4EB3-A5BD-18A9A7DEE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F5A04-3065-41F5-9598-430E61C3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2258B-9511-4909-9CA3-C1A33C579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C991C-4FF2-483C-B0EE-6C72383C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BE47DB-3595-4FED-AF71-81D7E83C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11AF0-8160-4D42-8EC7-CC1E7801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7DA28-0DAF-4F64-93DD-6BAF9C6E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A6697-3644-4699-933C-2508AA8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DC17C-DC18-4379-82FC-153F1A2F0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AF3D-FFBA-4E48-B60E-EE18D576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9AA9-6C77-4E2C-B09F-325F3F62A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41255-8B27-43DF-BDE1-B262D4C5B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681848-3B14-47B2-B5F3-EF3B5AD6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A93B8-2514-49ED-BCAF-483872AB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89EB-C4BC-4B4F-B96A-1B7EA478448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38A5-400F-4C28-AFA0-52E0828734D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301B-C577-45DD-A241-607DC830359F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6AFB-7E40-45BC-93CA-F81463CE95C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2BB7-BC32-45CD-B17C-D2277236598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D6D-366A-4BC0-8481-161DB9ED554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9AD64-8D0C-48A8-9A65-9D3CE312163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C447-49BD-43CC-BADC-16B1070027E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31B5-14C1-4F43-9808-CFEB52EEBDE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9CC3-560C-4299-8BE3-069EE56354A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42E5-ADA3-4018-979C-A591664C27D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0.png"/><Relationship Id="rId26" Type="http://schemas.openxmlformats.org/officeDocument/2006/relationships/image" Target="../media/image11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4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5.jpe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3.png"/><Relationship Id="rId18" Type="http://schemas.openxmlformats.org/officeDocument/2006/relationships/image" Target="../media/image4.png"/><Relationship Id="rId19" Type="http://schemas.openxmlformats.org/officeDocument/2006/relationships/image" Target="../media/image5.jpeg"/><Relationship Id="rId20" Type="http://schemas.openxmlformats.org/officeDocument/2006/relationships/image" Target="../media/image6.png"/><Relationship Id="rId21" Type="http://schemas.openxmlformats.org/officeDocument/2006/relationships/image" Target="../media/image7.png"/><Relationship Id="rId22" Type="http://schemas.openxmlformats.org/officeDocument/2006/relationships/image" Target="../media/image8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13.jpeg"/><Relationship Id="rId26" Type="http://schemas.openxmlformats.org/officeDocument/2006/relationships/image" Target="../media/image14.png"/><Relationship Id="rId27" Type="http://schemas.openxmlformats.org/officeDocument/2006/relationships/image" Target="../media/image15.jpeg"/><Relationship Id="rId2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163440" y="1447920"/>
            <a:ext cx="8801280" cy="25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m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flatoxin mitigation to improve nutrition, safety and market competitiven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5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66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8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575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576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7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8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586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88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32" descr=""/>
          <p:cNvPicPr/>
          <p:nvPr/>
        </p:nvPicPr>
        <p:blipFill>
          <a:blip r:embed="rId25"/>
          <a:stretch/>
        </p:blipFill>
        <p:spPr>
          <a:xfrm>
            <a:off x="3733920" y="4157640"/>
            <a:ext cx="1676160" cy="234468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35" descr=""/>
          <p:cNvPicPr/>
          <p:nvPr/>
        </p:nvPicPr>
        <p:blipFill>
          <a:blip r:embed="rId26"/>
          <a:stretch/>
        </p:blipFill>
        <p:spPr>
          <a:xfrm>
            <a:off x="5867280" y="4157640"/>
            <a:ext cx="2521080" cy="228924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36" descr=""/>
          <p:cNvPicPr/>
          <p:nvPr/>
        </p:nvPicPr>
        <p:blipFill>
          <a:blip r:embed="rId27"/>
          <a:stretch/>
        </p:blipFill>
        <p:spPr>
          <a:xfrm>
            <a:off x="316080" y="4157640"/>
            <a:ext cx="288756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7" name=""/>
          <p:cNvGraphicFramePr/>
          <p:nvPr/>
        </p:nvGraphicFramePr>
        <p:xfrm>
          <a:off x="2195640" y="5373720"/>
          <a:ext cx="4680000" cy="979560"/>
        </p:xfrm>
        <a:graphic>
          <a:graphicData uri="http://schemas.openxmlformats.org/drawingml/2006/table">
            <a:tbl>
              <a:tblPr/>
              <a:tblGrid>
                <a:gridCol w="1704960"/>
                <a:gridCol w="1373040"/>
                <a:gridCol w="1602000"/>
              </a:tblGrid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ine aflatox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8" name="Rectangle 3"/>
          <p:cNvSpPr/>
          <p:nvPr/>
        </p:nvSpPr>
        <p:spPr>
          <a:xfrm>
            <a:off x="1692360" y="4292640"/>
            <a:ext cx="62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Coefficient of correlation between Food Aflatoxin (pg/ml) and urine aflatox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9" name=""/>
          <p:cNvGraphicFramePr/>
          <p:nvPr/>
        </p:nvGraphicFramePr>
        <p:xfrm>
          <a:off x="2268360" y="2637000"/>
          <a:ext cx="3672000" cy="1466640"/>
        </p:xfrm>
        <a:graphic>
          <a:graphicData uri="http://schemas.openxmlformats.org/drawingml/2006/table">
            <a:tbl>
              <a:tblPr/>
              <a:tblGrid>
                <a:gridCol w="1644840"/>
                <a:gridCol w="2027160"/>
              </a:tblGrid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der nutrition stat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-Scores % below 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s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nt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0" name="TextBox 4"/>
          <p:cNvSpPr/>
          <p:nvPr/>
        </p:nvSpPr>
        <p:spPr>
          <a:xfrm>
            <a:off x="1692360" y="162864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Under nutrition status before trai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Rectangle 5"/>
          <p:cNvSpPr/>
          <p:nvPr/>
        </p:nvSpPr>
        <p:spPr>
          <a:xfrm>
            <a:off x="6572160" y="2284560"/>
            <a:ext cx="24814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14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"/>
          <p:cNvGraphicFramePr/>
          <p:nvPr/>
        </p:nvGraphicFramePr>
        <p:xfrm>
          <a:off x="250920" y="2565360"/>
          <a:ext cx="8605800" cy="3587760"/>
        </p:xfrm>
        <a:graphic>
          <a:graphicData uri="http://schemas.openxmlformats.org/drawingml/2006/table">
            <a:tbl>
              <a:tblPr/>
              <a:tblGrid>
                <a:gridCol w="2363760"/>
                <a:gridCol w="2361960"/>
                <a:gridCol w="1317960"/>
                <a:gridCol w="1341360"/>
                <a:gridCol w="1220760"/>
              </a:tblGrid>
              <a:tr h="978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Age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0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5.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5563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4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9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5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834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900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323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3" name="Rectangle 2"/>
          <p:cNvSpPr/>
          <p:nvPr/>
        </p:nvSpPr>
        <p:spPr>
          <a:xfrm>
            <a:off x="755640" y="1700280"/>
            <a:ext cx="7561440" cy="4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mpacts of feeding trials on underweight: DID OLS Robust Mod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4" name=""/>
          <p:cNvGraphicFramePr/>
          <p:nvPr/>
        </p:nvGraphicFramePr>
        <p:xfrm>
          <a:off x="684360" y="2301840"/>
          <a:ext cx="7991280" cy="3913200"/>
        </p:xfrm>
        <a:graphic>
          <a:graphicData uri="http://schemas.openxmlformats.org/drawingml/2006/table">
            <a:tbl>
              <a:tblPr/>
              <a:tblGrid>
                <a:gridCol w="2193840"/>
                <a:gridCol w="2195280"/>
                <a:gridCol w="1248120"/>
                <a:gridCol w="1247760"/>
                <a:gridCol w="1106280"/>
              </a:tblGrid>
              <a:tr h="1305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r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endent Variable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ight-for-Height Z-Sc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effici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-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rowSpan="8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= 3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-squared= 0.03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-statistic= 2.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-value= 0.00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atment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247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7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7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14 Dum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1268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 21 Dummy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81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44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1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235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D (Day 2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939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6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19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5" name="Rectangle 1"/>
          <p:cNvSpPr/>
          <p:nvPr/>
        </p:nvSpPr>
        <p:spPr>
          <a:xfrm>
            <a:off x="723240" y="1487520"/>
            <a:ext cx="815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s of feeding trials on wasting: DID OLS Robust Mod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0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4"/>
          <p:cNvSpPr/>
          <p:nvPr/>
        </p:nvSpPr>
        <p:spPr>
          <a:xfrm>
            <a:off x="108000" y="1197000"/>
            <a:ext cx="8496360" cy="54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S Mincho"/>
              </a:rPr>
              <a:t>Conclu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A randomized controlled trial and difference-in-difference regression revealed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significant improvement in health outcomes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MS Mincho"/>
              </a:rPr>
              <a:t>within 21 days by virtue of the comprehensive training implement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e article presented the first result on </a:t>
            </a:r>
            <a:r>
              <a:rPr b="1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aflatoxin assay of children’s urine in Tanzania with high correlation with aflatoxin in food ingredients </a:t>
            </a:r>
            <a:r>
              <a:rPr b="0" lang="en-IN" sz="1600" spc="-1" strike="noStrike">
                <a:solidFill>
                  <a:srgbClr val="000000"/>
                </a:solidFill>
                <a:latin typeface="Calibri"/>
                <a:ea typeface="MS Mincho"/>
              </a:rPr>
              <a:t>that they consu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rect observation of the immediate outcome will convince mothers to maintain the good practices that are affordable in the communit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457200" algn="just">
              <a:lnSpc>
                <a:spcPct val="200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urther elicitation and incorporation of local preferences and tastes would help guarantee sustainable adoptio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8380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he Team: Core impleme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32" descr=""/>
          <p:cNvPicPr/>
          <p:nvPr/>
        </p:nvPicPr>
        <p:blipFill>
          <a:blip r:embed="rId1"/>
          <a:stretch/>
        </p:blipFill>
        <p:spPr>
          <a:xfrm>
            <a:off x="4876920" y="3124080"/>
            <a:ext cx="4221000" cy="5922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33" descr="E:\zReturn to desktop\ICRAF logo.png"/>
          <p:cNvPicPr/>
          <p:nvPr/>
        </p:nvPicPr>
        <p:blipFill>
          <a:blip r:embed="rId2"/>
          <a:stretch/>
        </p:blipFill>
        <p:spPr>
          <a:xfrm>
            <a:off x="457200" y="2743200"/>
            <a:ext cx="1220760" cy="9907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34" descr=""/>
          <p:cNvPicPr/>
          <p:nvPr/>
        </p:nvPicPr>
        <p:blipFill>
          <a:blip r:embed="rId3"/>
          <a:stretch/>
        </p:blipFill>
        <p:spPr>
          <a:xfrm>
            <a:off x="3429000" y="23623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35" descr=""/>
          <p:cNvPicPr/>
          <p:nvPr/>
        </p:nvPicPr>
        <p:blipFill>
          <a:blip r:embed="rId4"/>
          <a:stretch/>
        </p:blipFill>
        <p:spPr>
          <a:xfrm>
            <a:off x="3429000" y="3429000"/>
            <a:ext cx="836640" cy="824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6" descr=""/>
          <p:cNvPicPr/>
          <p:nvPr/>
        </p:nvPicPr>
        <p:blipFill>
          <a:blip r:embed="rId5"/>
          <a:stretch/>
        </p:blipFill>
        <p:spPr>
          <a:xfrm>
            <a:off x="304920" y="3962520"/>
            <a:ext cx="1509480" cy="106200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7" descr="P:\logos\i\iita\IITA_regular-sienna_with slogan (2).JPG"/>
          <p:cNvPicPr/>
          <p:nvPr/>
        </p:nvPicPr>
        <p:blipFill>
          <a:blip r:embed="rId6"/>
          <a:stretch/>
        </p:blipFill>
        <p:spPr>
          <a:xfrm>
            <a:off x="5715000" y="4495680"/>
            <a:ext cx="1069920" cy="5367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44" descr=""/>
          <p:cNvPicPr/>
          <p:nvPr/>
        </p:nvPicPr>
        <p:blipFill>
          <a:blip r:embed="rId7"/>
          <a:stretch/>
        </p:blipFill>
        <p:spPr>
          <a:xfrm>
            <a:off x="1752480" y="5791320"/>
            <a:ext cx="5848560" cy="6667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46" descr=""/>
          <p:cNvPicPr/>
          <p:nvPr/>
        </p:nvPicPr>
        <p:blipFill>
          <a:blip r:embed="rId8"/>
          <a:stretch/>
        </p:blipFill>
        <p:spPr>
          <a:xfrm>
            <a:off x="3429000" y="4572000"/>
            <a:ext cx="782640" cy="7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0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671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2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73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675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8" name="Group 2"/>
          <p:cNvGrpSpPr/>
          <p:nvPr/>
        </p:nvGrpSpPr>
        <p:grpSpPr>
          <a:xfrm>
            <a:off x="16622640" y="41844960"/>
            <a:ext cx="1981440" cy="2111040"/>
            <a:chOff x="16622640" y="41844960"/>
            <a:chExt cx="1981440" cy="2111040"/>
          </a:xfrm>
        </p:grpSpPr>
        <p:pic>
          <p:nvPicPr>
            <p:cNvPr id="599" name="Picture 7" descr="\\nas\mmu\1Publishing_service\Logos\CGIAR logo\cgiar.tif"/>
            <p:cNvPicPr/>
            <p:nvPr/>
          </p:nvPicPr>
          <p:blipFill>
            <a:blip r:embed="rId1"/>
            <a:stretch/>
          </p:blipFill>
          <p:spPr>
            <a:xfrm>
              <a:off x="16622640" y="41844960"/>
              <a:ext cx="190656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Box 4"/>
            <p:cNvSpPr/>
            <p:nvPr/>
          </p:nvSpPr>
          <p:spPr>
            <a:xfrm>
              <a:off x="16788960" y="43313400"/>
              <a:ext cx="181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01" name="Picture 5" descr=""/>
          <p:cNvPicPr/>
          <p:nvPr/>
        </p:nvPicPr>
        <p:blipFill>
          <a:blip r:embed="rId2"/>
          <a:stretch/>
        </p:blipFill>
        <p:spPr>
          <a:xfrm>
            <a:off x="9764640" y="418338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6" descr=""/>
          <p:cNvPicPr/>
          <p:nvPr/>
        </p:nvPicPr>
        <p:blipFill>
          <a:blip r:embed="rId3"/>
          <a:stretch/>
        </p:blipFill>
        <p:spPr>
          <a:xfrm>
            <a:off x="11160" y="42291000"/>
            <a:ext cx="7724880" cy="108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"/>
          <p:cNvPicPr/>
          <p:nvPr/>
        </p:nvPicPr>
        <p:blipFill>
          <a:blip r:embed="rId4"/>
          <a:stretch/>
        </p:blipFill>
        <p:spPr>
          <a:xfrm>
            <a:off x="11822040" y="4183380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2" descr="E:\zReturn to desktop\ICRAF logo.png"/>
          <p:cNvPicPr/>
          <p:nvPr/>
        </p:nvPicPr>
        <p:blipFill>
          <a:blip r:embed="rId5"/>
          <a:stretch/>
        </p:blipFill>
        <p:spPr>
          <a:xfrm>
            <a:off x="7478640" y="41910120"/>
            <a:ext cx="2347920" cy="19047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"/>
          <p:cNvPicPr/>
          <p:nvPr/>
        </p:nvPicPr>
        <p:blipFill>
          <a:blip r:embed="rId6"/>
          <a:stretch/>
        </p:blipFill>
        <p:spPr>
          <a:xfrm>
            <a:off x="13955760" y="41757480"/>
            <a:ext cx="2424240" cy="170676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0" descr=""/>
          <p:cNvPicPr/>
          <p:nvPr/>
        </p:nvPicPr>
        <p:blipFill>
          <a:blip r:embed="rId7"/>
          <a:srcRect l="26735" t="0" r="33523" b="0"/>
          <a:stretch/>
        </p:blipFill>
        <p:spPr>
          <a:xfrm>
            <a:off x="18668880" y="42305400"/>
            <a:ext cx="4622760" cy="128088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"/>
          <p:cNvPicPr/>
          <p:nvPr/>
        </p:nvPicPr>
        <p:blipFill>
          <a:blip r:embed="rId8"/>
          <a:srcRect l="74543" t="0" r="0" b="0"/>
          <a:stretch/>
        </p:blipFill>
        <p:spPr>
          <a:xfrm>
            <a:off x="23317200" y="42367320"/>
            <a:ext cx="2819520" cy="1218960"/>
          </a:xfrm>
          <a:prstGeom prst="rect">
            <a:avLst/>
          </a:prstGeom>
          <a:ln w="0">
            <a:noFill/>
          </a:ln>
        </p:spPr>
      </p:pic>
      <p:grpSp>
        <p:nvGrpSpPr>
          <p:cNvPr id="608" name="Group 12"/>
          <p:cNvGrpSpPr/>
          <p:nvPr/>
        </p:nvGrpSpPr>
        <p:grpSpPr>
          <a:xfrm>
            <a:off x="16775280" y="41997240"/>
            <a:ext cx="1981080" cy="2111040"/>
            <a:chOff x="16775280" y="41997240"/>
            <a:chExt cx="1981080" cy="2111040"/>
          </a:xfrm>
        </p:grpSpPr>
        <p:pic>
          <p:nvPicPr>
            <p:cNvPr id="609" name="Picture 7" descr="\\nas\mmu\1Publishing_service\Logos\CGIAR logo\cgiar.tif"/>
            <p:cNvPicPr/>
            <p:nvPr/>
          </p:nvPicPr>
          <p:blipFill>
            <a:blip r:embed="rId9"/>
            <a:stretch/>
          </p:blipFill>
          <p:spPr>
            <a:xfrm>
              <a:off x="16775280" y="4199724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Box 14"/>
            <p:cNvSpPr/>
            <p:nvPr/>
          </p:nvSpPr>
          <p:spPr>
            <a:xfrm>
              <a:off x="16941600" y="4346568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11" name="Picture 15" descr=""/>
          <p:cNvPicPr/>
          <p:nvPr/>
        </p:nvPicPr>
        <p:blipFill>
          <a:blip r:embed="rId10"/>
          <a:stretch/>
        </p:blipFill>
        <p:spPr>
          <a:xfrm>
            <a:off x="9917280" y="419860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6" descr=""/>
          <p:cNvPicPr/>
          <p:nvPr/>
        </p:nvPicPr>
        <p:blipFill>
          <a:blip r:embed="rId11"/>
          <a:stretch/>
        </p:blipFill>
        <p:spPr>
          <a:xfrm>
            <a:off x="163440" y="42443280"/>
            <a:ext cx="7724880" cy="108288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6" descr=""/>
          <p:cNvPicPr/>
          <p:nvPr/>
        </p:nvPicPr>
        <p:blipFill>
          <a:blip r:embed="rId12"/>
          <a:stretch/>
        </p:blipFill>
        <p:spPr>
          <a:xfrm>
            <a:off x="11974680" y="4198608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14" name="Picture 2" descr="E:\zReturn to desktop\ICRAF logo.png"/>
          <p:cNvPicPr/>
          <p:nvPr/>
        </p:nvPicPr>
        <p:blipFill>
          <a:blip r:embed="rId13"/>
          <a:stretch/>
        </p:blipFill>
        <p:spPr>
          <a:xfrm>
            <a:off x="7631280" y="4206240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19" descr=""/>
          <p:cNvPicPr/>
          <p:nvPr/>
        </p:nvPicPr>
        <p:blipFill>
          <a:blip r:embed="rId14"/>
          <a:stretch/>
        </p:blipFill>
        <p:spPr>
          <a:xfrm>
            <a:off x="14108040" y="41910120"/>
            <a:ext cx="2424240" cy="170640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20" descr=""/>
          <p:cNvPicPr/>
          <p:nvPr/>
        </p:nvPicPr>
        <p:blipFill>
          <a:blip r:embed="rId15"/>
          <a:srcRect l="26735" t="0" r="33523" b="0"/>
          <a:stretch/>
        </p:blipFill>
        <p:spPr>
          <a:xfrm>
            <a:off x="18821520" y="4245768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21" descr=""/>
          <p:cNvPicPr/>
          <p:nvPr/>
        </p:nvPicPr>
        <p:blipFill>
          <a:blip r:embed="rId16"/>
          <a:srcRect l="74543" t="0" r="0" b="0"/>
          <a:stretch/>
        </p:blipFill>
        <p:spPr>
          <a:xfrm>
            <a:off x="23469480" y="42519600"/>
            <a:ext cx="28195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618" name="Group 22"/>
          <p:cNvGrpSpPr/>
          <p:nvPr/>
        </p:nvGrpSpPr>
        <p:grpSpPr>
          <a:xfrm>
            <a:off x="16927560" y="42149880"/>
            <a:ext cx="1981080" cy="2111040"/>
            <a:chOff x="16927560" y="42149880"/>
            <a:chExt cx="1981080" cy="2111040"/>
          </a:xfrm>
        </p:grpSpPr>
        <p:pic>
          <p:nvPicPr>
            <p:cNvPr id="619" name="Picture 7" descr="\\nas\mmu\1Publishing_service\Logos\CGIAR logo\cgiar.tif"/>
            <p:cNvPicPr/>
            <p:nvPr/>
          </p:nvPicPr>
          <p:blipFill>
            <a:blip r:embed="rId17"/>
            <a:stretch/>
          </p:blipFill>
          <p:spPr>
            <a:xfrm>
              <a:off x="16927560" y="42149880"/>
              <a:ext cx="1906200" cy="138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TextBox 24"/>
            <p:cNvSpPr/>
            <p:nvPr/>
          </p:nvSpPr>
          <p:spPr>
            <a:xfrm>
              <a:off x="17093880" y="43618320"/>
              <a:ext cx="1814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GIAR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21" name="Picture 25" descr=""/>
          <p:cNvPicPr/>
          <p:nvPr/>
        </p:nvPicPr>
        <p:blipFill>
          <a:blip r:embed="rId18"/>
          <a:stretch/>
        </p:blipFill>
        <p:spPr>
          <a:xfrm>
            <a:off x="10069560" y="42138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26" descr=""/>
          <p:cNvPicPr/>
          <p:nvPr/>
        </p:nvPicPr>
        <p:blipFill>
          <a:blip r:embed="rId19"/>
          <a:stretch/>
        </p:blipFill>
        <p:spPr>
          <a:xfrm>
            <a:off x="316080" y="42595920"/>
            <a:ext cx="7724520" cy="10825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6" descr=""/>
          <p:cNvPicPr/>
          <p:nvPr/>
        </p:nvPicPr>
        <p:blipFill>
          <a:blip r:embed="rId20"/>
          <a:stretch/>
        </p:blipFill>
        <p:spPr>
          <a:xfrm>
            <a:off x="12126960" y="42138720"/>
            <a:ext cx="1860480" cy="18288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2" descr="E:\zReturn to desktop\ICRAF logo.png"/>
          <p:cNvPicPr/>
          <p:nvPr/>
        </p:nvPicPr>
        <p:blipFill>
          <a:blip r:embed="rId21"/>
          <a:stretch/>
        </p:blipFill>
        <p:spPr>
          <a:xfrm>
            <a:off x="7783560" y="42214680"/>
            <a:ext cx="2347920" cy="1905120"/>
          </a:xfrm>
          <a:prstGeom prst="rect">
            <a:avLst/>
          </a:prstGeom>
          <a:ln w="0">
            <a:noFill/>
          </a:ln>
        </p:spPr>
      </p:pic>
      <p:pic>
        <p:nvPicPr>
          <p:cNvPr id="625" name="Picture 29" descr=""/>
          <p:cNvPicPr/>
          <p:nvPr/>
        </p:nvPicPr>
        <p:blipFill>
          <a:blip r:embed="rId22"/>
          <a:stretch/>
        </p:blipFill>
        <p:spPr>
          <a:xfrm>
            <a:off x="14260680" y="42062400"/>
            <a:ext cx="2423880" cy="170640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30" descr=""/>
          <p:cNvPicPr/>
          <p:nvPr/>
        </p:nvPicPr>
        <p:blipFill>
          <a:blip r:embed="rId23"/>
          <a:srcRect l="26735" t="0" r="33523" b="0"/>
          <a:stretch/>
        </p:blipFill>
        <p:spPr>
          <a:xfrm>
            <a:off x="18973800" y="42609960"/>
            <a:ext cx="4622760" cy="128124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31" descr=""/>
          <p:cNvPicPr/>
          <p:nvPr/>
        </p:nvPicPr>
        <p:blipFill>
          <a:blip r:embed="rId24"/>
          <a:srcRect l="74543" t="0" r="0" b="0"/>
          <a:stretch/>
        </p:blipFill>
        <p:spPr>
          <a:xfrm>
            <a:off x="23622120" y="42671880"/>
            <a:ext cx="2819160" cy="121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8" name=""/>
          <p:cNvGraphicFramePr/>
          <p:nvPr/>
        </p:nvGraphicFramePr>
        <p:xfrm>
          <a:off x="163440" y="4346640"/>
          <a:ext cx="4919760" cy="2636640"/>
        </p:xfrm>
        <a:graphic>
          <a:graphicData uri="http://schemas.openxmlformats.org/drawingml/2006/table">
            <a:tbl>
              <a:tblPr/>
              <a:tblGrid>
                <a:gridCol w="1397160"/>
                <a:gridCol w="3522600"/>
              </a:tblGrid>
              <a:tr h="881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aflatoxigenic A.flavus in soil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it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 (45/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jo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 (35/4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l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22/4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ika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(10/2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3510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ole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 (10/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  <p:pic>
        <p:nvPicPr>
          <p:cNvPr id="629" name="Picture 2" descr="C:\Users\anitha\Desktop\Af_logCFU_Dodoma_2014 (3).jpg"/>
          <p:cNvPicPr/>
          <p:nvPr/>
        </p:nvPicPr>
        <p:blipFill>
          <a:blip r:embed="rId25"/>
          <a:stretch/>
        </p:blipFill>
        <p:spPr>
          <a:xfrm>
            <a:off x="0" y="1341360"/>
            <a:ext cx="3267000" cy="269244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4" descr=""/>
          <p:cNvPicPr/>
          <p:nvPr/>
        </p:nvPicPr>
        <p:blipFill>
          <a:blip r:embed="rId26"/>
          <a:stretch/>
        </p:blipFill>
        <p:spPr>
          <a:xfrm>
            <a:off x="3473280" y="1820880"/>
            <a:ext cx="2232360" cy="182412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38" descr=""/>
          <p:cNvPicPr/>
          <p:nvPr/>
        </p:nvPicPr>
        <p:blipFill>
          <a:blip r:embed="rId27"/>
          <a:stretch/>
        </p:blipFill>
        <p:spPr>
          <a:xfrm>
            <a:off x="5224320" y="3645000"/>
            <a:ext cx="3733920" cy="2361960"/>
          </a:xfrm>
          <a:prstGeom prst="rect">
            <a:avLst/>
          </a:prstGeom>
          <a:ln w="0">
            <a:noFill/>
          </a:ln>
        </p:spPr>
      </p:pic>
      <p:sp>
        <p:nvSpPr>
          <p:cNvPr id="632" name="TextBox 39"/>
          <p:cNvSpPr/>
          <p:nvPr/>
        </p:nvSpPr>
        <p:spPr>
          <a:xfrm>
            <a:off x="6021360" y="2225520"/>
            <a:ext cx="198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</a:rPr>
              <a:t>Aspergillus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</a:rPr>
              <a:t> recovery from Bamabaran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40"/>
          <p:cNvSpPr/>
          <p:nvPr/>
        </p:nvSpPr>
        <p:spPr>
          <a:xfrm>
            <a:off x="5845320" y="6083280"/>
            <a:ext cx="32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xigenic isolate fluorescing on coconut ag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33"/>
          <p:cNvSpPr/>
          <p:nvPr/>
        </p:nvSpPr>
        <p:spPr>
          <a:xfrm>
            <a:off x="3076560" y="946080"/>
            <a:ext cx="58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Mapping aflatoxin contamin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324000" y="1446120"/>
          <a:ext cx="8132760" cy="4767480"/>
        </p:xfrm>
        <a:graphic>
          <a:graphicData uri="http://schemas.openxmlformats.org/drawingml/2006/table">
            <a:tbl>
              <a:tblPr/>
              <a:tblGrid>
                <a:gridCol w="1627200"/>
                <a:gridCol w="1625400"/>
                <a:gridCol w="1627200"/>
                <a:gridCol w="1625760"/>
                <a:gridCol w="1627200"/>
              </a:tblGrid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eld and freshly harvested samp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8402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age s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2-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amples tested in 2013-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quency of samples having &gt;20 ppb toxin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mbara 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80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rgh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0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0.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6" name="TextBox 1"/>
          <p:cNvSpPr/>
          <p:nvPr/>
        </p:nvSpPr>
        <p:spPr>
          <a:xfrm>
            <a:off x="2484360" y="1052640"/>
            <a:ext cx="51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</a:rPr>
              <a:t>Aflatoxin contamination in fresh and storage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31680" y="6237360"/>
            <a:ext cx="9137880" cy="10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S. Anitha, W. Munthali, H. Msere, E. Swai, E. Sichone, A. Rathore, and P. Okori . Prevalence of aflatoxin in diverse cropping system and its management in central Tanzania. Submitted to crop protection journ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272880" y="1558800"/>
          <a:ext cx="8544240" cy="4767480"/>
        </p:xfrm>
        <a:graphic>
          <a:graphicData uri="http://schemas.openxmlformats.org/drawingml/2006/table">
            <a:tbl>
              <a:tblPr/>
              <a:tblGrid>
                <a:gridCol w="6674040"/>
                <a:gridCol w="1870200"/>
              </a:tblGrid>
              <a:tr h="841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urvey after the post-harvest  management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awareness among farmers attended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grading their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401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iteria for grading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rotten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plump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d on col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reason for drying the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mois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kn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st as a traditional 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rmers awareness and practice on proper drying, grading and storage of grains to reduce aflatoxin in gr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TextBox 2"/>
          <p:cNvSpPr/>
          <p:nvPr/>
        </p:nvSpPr>
        <p:spPr>
          <a:xfrm>
            <a:off x="2701800" y="90792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Impact of 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4"/>
          <p:cNvSpPr/>
          <p:nvPr/>
        </p:nvSpPr>
        <p:spPr>
          <a:xfrm>
            <a:off x="250920" y="2781360"/>
            <a:ext cx="8353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Maize porridge is a major complementary food for children less than 1000 day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Pigeonpea produced is for trad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quality of staple grains  (aflatoxin contamination).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ildren are exposed with mean AFM1 level of 122 pg ml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f urin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knowledge on importance of nutrition content in daily foo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ss involvement of men in household activities including feeding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nsive 21 days learning by doing proces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Quantification of impact on underweight, wasting and stunting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TextBox 1"/>
          <p:cNvSpPr/>
          <p:nvPr/>
        </p:nvSpPr>
        <p:spPr>
          <a:xfrm>
            <a:off x="611280" y="177336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Baseline to understand current practice on utilization of cereals and legumes followed by training (PDH mode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1"/>
          <p:cNvSpPr/>
          <p:nvPr/>
        </p:nvSpPr>
        <p:spPr>
          <a:xfrm>
            <a:off x="11160" y="1628640"/>
            <a:ext cx="914400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The effect of legumes cereal based complementary diet, reduced aflatoxin exposure and improved hygiene practices on wasting and underweight status of children in Central Tanz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Anitha Seeth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Yasinta Muzanil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Taku W. Tsusaka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Emmanuel S Monyo</a:t>
            </a:r>
            <a:r>
              <a:rPr b="0" lang="en-IN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Lizzie Kachulu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 Mike Musok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Mincho"/>
              </a:rPr>
              <a:t>, and Patrick Okor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1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 Box 1096 Lilongwe, Malaw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2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Sokoine University of Agriculture (SUA), P.O Box 3000, Chuo Kikuu, Morogoro, Tanza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spcBef>
                <a:spcPts val="400"/>
              </a:spcBef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 baseline="30000">
                <a:solidFill>
                  <a:srgbClr val="000000"/>
                </a:solidFill>
                <a:latin typeface="Calibri"/>
                <a:ea typeface="MS Mincho"/>
              </a:rPr>
              <a:t>3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International Crops Research Institute for the Semi-Arid Tropics (ICRISAT), P.O.Box</a:t>
            </a:r>
            <a:r>
              <a:rPr b="0" lang="en-US" sz="1200" spc="-1" strike="noStrike">
                <a:solidFill>
                  <a:srgbClr val="581d92"/>
                </a:solidFill>
                <a:latin typeface="Calibri"/>
                <a:ea typeface="MS Mincho"/>
              </a:rPr>
              <a:t>,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  <a:ea typeface="MS Mincho"/>
              </a:rPr>
              <a:t>39063, Nairobi Keny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200000"/>
              </a:lnSpc>
              <a:spcAft>
                <a:spcPts val="799"/>
              </a:spcAft>
              <a:tabLst>
                <a:tab algn="l" pos="0"/>
                <a:tab algn="ctr" pos="2865600"/>
                <a:tab algn="l" pos="4019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684360" y="1484280"/>
            <a:ext cx="7416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At national level, stunting or chronic malnutrition was estimated as 35% of children between 0-59 months age which is though fell from 42 % between 2010 and 201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NewRomanPSMT"/>
              </a:rPr>
              <a:t>According to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MS Mincho"/>
              </a:rPr>
              <a:t>WHO classification, stunting rates above 20%, wasting rates above 5% and underweight rates above 10% are considered high and cause for alarm in any population (WHO, 2014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sting, stunting and underweight are the three elements of undernutrition.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</a:rPr>
              <a:t>The causes for undernutrition is multifactori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The current study focused 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Dietary diversification using locally produced affordable food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Water, sanitation and hygiene (WASH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Food safety management, specifically aflatoxin contro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539640" y="1413000"/>
            <a:ext cx="691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Baseline Survey with anthropometry measurement, crop sample analysis and urine sample analysis for aflatox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Calibri"/>
              </a:rPr>
              <a:t>Training – Positive deviance hearth model (CORE,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The difference-in-difference (DID) is a capable tool to estimate treatment effects by systematically comparing the pre- and post-treatment differences in the outcome between a treatment group and a control group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"/>
          <p:cNvGraphicFramePr/>
          <p:nvPr/>
        </p:nvGraphicFramePr>
        <p:xfrm>
          <a:off x="395280" y="2349360"/>
          <a:ext cx="8424720" cy="3011760"/>
        </p:xfrm>
        <a:graphic>
          <a:graphicData uri="http://schemas.openxmlformats.org/drawingml/2006/table">
            <a:tbl>
              <a:tblPr/>
              <a:tblGrid>
                <a:gridCol w="4834080"/>
                <a:gridCol w="3590640"/>
              </a:tblGrid>
              <a:tr h="765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lue, number of sam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ge in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lusively breast fed (EB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69.1%), 87, &lt;6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etary diversity score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0 (1.1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dietary score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 %, 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2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l frequency, mean (S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1 (0.96)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meal frequency (MMF)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3.7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minimum acceptable diet,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4320">
                      <a:solidFill>
                        <a:srgbClr val="98b954"/>
                      </a:solidFill>
                    </a:lnL>
                    <a:lnR>
                      <a:noFill/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8.4 %</a:t>
                      </a:r>
                      <a:r>
                        <a:rPr b="0" lang="en-IN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87, 6-23 month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4320">
                      <a:solidFill>
                        <a:srgbClr val="98b954"/>
                      </a:solidFill>
                    </a:lnR>
                    <a:lnT w="4320">
                      <a:solidFill>
                        <a:srgbClr val="98b954"/>
                      </a:solidFill>
                    </a:lnT>
                    <a:lnB w="4320">
                      <a:solidFill>
                        <a:srgbClr val="98b95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6" name="TextBox 1"/>
          <p:cNvSpPr/>
          <p:nvPr/>
        </p:nvSpPr>
        <p:spPr>
          <a:xfrm>
            <a:off x="395280" y="148428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Result: Dietary diversification and  IYCF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ANITHA SEETHA</cp:lastModifiedBy>
  <dcterms:modified xsi:type="dcterms:W3CDTF">2016-06-30T06:41:49Z</dcterms:modified>
  <cp:revision>28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