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9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jpeg" ContentType="image/jpeg"/>
  <Override PartName="/ppt/media/image6.png" ContentType="image/png"/>
  <Override PartName="/ppt/media/image5.jpeg" ContentType="image/jpeg"/>
  <Override PartName="/ppt/media/image13.jpeg" ContentType="image/jpeg"/>
  <Override PartName="/ppt/media/image23.png" ContentType="image/png"/>
  <Override PartName="/ppt/media/image24.jpeg" ContentType="image/jpeg"/>
  <Override PartName="/ppt/media/image22.png" ContentType="image/png"/>
  <Override PartName="/ppt/media/image21.png" ContentType="image/png"/>
  <Override PartName="/ppt/media/image4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2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E5CD38-2698-45C3-8671-989DD2716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F54693-EC0E-4C5E-B603-DB43D9C65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ubTitle"/>
          </p:nvPr>
        </p:nvSpPr>
        <p:spPr>
          <a:xfrm>
            <a:off x="1692000" y="274320"/>
            <a:ext cx="6994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81D00E-9675-482A-B113-AD4B9C497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2E5359-7949-4C75-8D22-580EDAA80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2C4B78-7841-478A-B555-05FA7B11D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B32FEB-2094-46D3-9CB9-A51AD6F83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7DAB76-9D50-483B-BBCF-261736FE2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0E1396-402F-444E-A94D-72E8B4A4D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10436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4450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17632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6"/>
          <p:cNvSpPr>
            <a:spLocks noGrp="1"/>
          </p:cNvSpPr>
          <p:nvPr>
            <p:ph/>
          </p:nvPr>
        </p:nvSpPr>
        <p:spPr>
          <a:xfrm>
            <a:off x="410436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7"/>
          <p:cNvSpPr>
            <a:spLocks noGrp="1"/>
          </p:cNvSpPr>
          <p:nvPr>
            <p:ph/>
          </p:nvPr>
        </p:nvSpPr>
        <p:spPr>
          <a:xfrm>
            <a:off x="64450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86186B-D9F6-4257-9167-E20AC52C7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B4BE20-0836-4F3C-A32E-BC3EDE68E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78C4B5-1F39-4702-9FE2-6A860110B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120DE4-0247-4FCB-9165-2BC189FCE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AF9C6B-531E-479E-BCB9-3BB7EC58A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EFC71A-4DA5-47AC-A854-7DC057318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ubTitle"/>
          </p:nvPr>
        </p:nvSpPr>
        <p:spPr>
          <a:xfrm>
            <a:off x="1692000" y="274320"/>
            <a:ext cx="6994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483368-0C4E-4D31-B4AA-61A1959E4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557DA9-2F23-4A04-A6CE-ED2E85ADE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D276E8-3F34-4D6C-8F07-CDCDF7194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822189-680B-47AE-A6D9-C413402E0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0BA589-36EC-4279-BBA1-74EC2BA45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EB581B-A881-4F64-A1A5-8F643D5E9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10436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450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632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10436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450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10436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64450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17632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6"/>
          <p:cNvSpPr>
            <a:spLocks noGrp="1"/>
          </p:cNvSpPr>
          <p:nvPr>
            <p:ph/>
          </p:nvPr>
        </p:nvSpPr>
        <p:spPr>
          <a:xfrm>
            <a:off x="410436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7"/>
          <p:cNvSpPr>
            <a:spLocks noGrp="1"/>
          </p:cNvSpPr>
          <p:nvPr>
            <p:ph/>
          </p:nvPr>
        </p:nvSpPr>
        <p:spPr>
          <a:xfrm>
            <a:off x="64450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2C0A0C-2C04-47F8-A445-7EAEFD60D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9EEAD9-30DD-45A7-9079-11872A6EB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subTitle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7F26AD-AB88-4540-BCF3-D0AF88288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9F8B90-1055-4C5C-95DB-79510ED19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230BA7-55AF-4D4E-ABB5-5F33F3C66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C7086F-D24C-45C5-9B16-491A05FF5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ubTitle"/>
          </p:nvPr>
        </p:nvSpPr>
        <p:spPr>
          <a:xfrm>
            <a:off x="1692000" y="274320"/>
            <a:ext cx="6994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D7B90A-3049-483B-879A-1FB248876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220A8C-61E7-4CC9-8022-8BECA2428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E709CB-39FE-4D1F-9D6D-29206D7CF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782FD2-E24C-4A5E-BD21-5FD4CC0A6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7F81E-8CD9-4E75-9E6F-D12036701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DF7307-B71D-4D42-81E5-5802B2A24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012005-8AD8-4E3B-8A61-F760EA10B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10436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4450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17632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6"/>
          <p:cNvSpPr>
            <a:spLocks noGrp="1"/>
          </p:cNvSpPr>
          <p:nvPr>
            <p:ph/>
          </p:nvPr>
        </p:nvSpPr>
        <p:spPr>
          <a:xfrm>
            <a:off x="410436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7"/>
          <p:cNvSpPr>
            <a:spLocks noGrp="1"/>
          </p:cNvSpPr>
          <p:nvPr>
            <p:ph/>
          </p:nvPr>
        </p:nvSpPr>
        <p:spPr>
          <a:xfrm>
            <a:off x="64450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4F0E97-48D3-4A44-99E3-3F3DB1C82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810210-6724-406D-BD0D-0A49E9F47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subTitle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A82040-0F14-4BC6-96CB-EF10F3439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22179D-7F70-4CE4-82E8-012D07F97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AC7FF3-7300-4EC2-99A0-8AC3C5A3B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6F6192-8869-46D4-A2C8-34038FADD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ubTitle"/>
          </p:nvPr>
        </p:nvSpPr>
        <p:spPr>
          <a:xfrm>
            <a:off x="1692000" y="274320"/>
            <a:ext cx="6994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85BD12-9C2A-4FB7-8ADB-9A5007D5E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9E5429-1BA6-473B-8669-5CB7D9C46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6E52C-D50E-4BBA-BDF8-5D22C7E01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BCB261-2030-4F74-99B8-BF4C543AF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18732C-AA9B-4F8B-8D2E-7284FAC80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A2791E-311E-4EB8-94A5-1D5EF6853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DE5C29-9E26-4D82-BA0E-CD7B59DCE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10436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64450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17632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6"/>
          <p:cNvSpPr>
            <a:spLocks noGrp="1"/>
          </p:cNvSpPr>
          <p:nvPr>
            <p:ph/>
          </p:nvPr>
        </p:nvSpPr>
        <p:spPr>
          <a:xfrm>
            <a:off x="410436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7"/>
          <p:cNvSpPr>
            <a:spLocks noGrp="1"/>
          </p:cNvSpPr>
          <p:nvPr>
            <p:ph/>
          </p:nvPr>
        </p:nvSpPr>
        <p:spPr>
          <a:xfrm>
            <a:off x="64450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256DAF-A12C-4977-9DFA-538A57370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38497-A897-4E84-9AA4-964BD1CCC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1692000" y="274320"/>
            <a:ext cx="6994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10436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4450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17632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410436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4450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2987D-C235-4129-B847-5986C6F7B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F1B9D-7EC9-4790-8636-AC40618C0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692000" y="274320"/>
            <a:ext cx="6994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5627A-5C3A-40EA-8E74-679230E61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62827-A000-46C9-BD08-98C14BDD6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02322-9527-4511-AFDD-45DB64DB3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B5636-F6DF-48F4-BF3D-54369F0E7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01287-EA3D-48EF-B2EC-158EC96E8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28E5C-0867-44C0-854F-CD9519A3C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10436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4450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7632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10436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4450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CBD62-82E1-4642-BC14-E85DFE34B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F11D9-B24C-49AD-A18C-8AB2928B7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BDF46-DF68-4B29-A281-2994107B7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5872F-60A0-4F21-B058-EFAB29F3C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6D79E-83F2-45EE-83D2-A30B6E41E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2094A-546A-4ACC-9E00-46ED9AAD3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1692000" y="274320"/>
            <a:ext cx="6994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E22B1-2C92-47DD-B33A-0554EC7F1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77ED2-2EC3-4098-93F4-3532EE2DD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F1952-82B6-4A1D-93CA-907D51FC9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17ADB-D3BE-4E9C-A68F-A2B84B02E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65252-E023-4C05-9ADD-9945780B6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C86BD-E563-42A9-ABDF-55B8F1191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10436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4450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17632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410436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4450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4422E-EE4A-4F5D-A01F-42E0E9657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09ACCF-6406-4346-8283-12FEB3A58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EDD277-26CF-4579-8E8A-8BEB0E2EB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C8D0E1-3D7F-407C-BBAB-90049952B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17D45F-C2D2-45F1-B010-CBE0FD54E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F897E3-E8A1-447E-B2EF-E023EDB55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1692000" y="274320"/>
            <a:ext cx="6994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EF2551-F9D7-47F1-99E9-455B94CE8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A61CF2-08D5-41A4-A1B4-E91EF71EA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88ADA6-8DFC-4787-A013-E895321A2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32F67C-3A0D-4534-9C12-2002193F2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88105B-F377-48B8-877F-0778E45AF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2276CF-3604-4207-88CF-854733858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10436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4450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17632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410436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4450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154D8C-0FDC-43AD-BB70-ABCD3122B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EA764D-2776-4E6E-B3DA-454AA8189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E86A0C-F0C8-4DE5-B027-262B9C78F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6C2523-DCDF-4524-B80C-2A44555D5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FD1A55-6D19-4E4D-91B7-538CCDCE4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E27A41-1B6E-4001-BC15-E2652ED38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1692000" y="274320"/>
            <a:ext cx="6994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C44B3D-D8AC-4C0F-81D2-5E2BCC818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3D532E-820D-4D9E-B577-050F36E53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44DF86-05C1-4DBE-8DDE-27738C089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683735-7ED7-4DCB-BFD6-313078456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E6946B-DF4F-4212-A7E3-8CC689B73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BE2890-CC1B-4231-96FF-744B7113F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92000" y="274320"/>
            <a:ext cx="6994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10436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4450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17632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410436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4450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C39C13-A219-4D36-A18D-690142B10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ED6AD3-CD82-4F74-AB5A-F29E7869B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557F39-CCDC-4996-8C51-DBA2C071E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362D03-30DE-4240-BB9F-5E0C04930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6BD9A9-295E-44A6-8B74-17D8702B1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E9918C-7BAF-47CE-96BC-C9598C714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1692000" y="274320"/>
            <a:ext cx="6994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9CD59B-3141-4414-8B87-43A9472EE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1819F9-4A2D-454B-A678-B09F36651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CABAF7-CE91-4876-80E8-B0DAC5960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541145-AE0C-4D64-89B3-5A8162AAC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383217-0942-4FEB-B88B-3F5E4CFFD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0A6A33-F7A4-44FB-8C1E-7B005739C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10436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4450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17632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410436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4450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66E205-CBEA-4DBC-B59A-0008FE207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29DB3F-FD70-421D-98F6-B57BE481D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B11604-09C7-4C65-B54F-8B161141D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3F31D8-5489-4802-B014-23078A3AA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BD2C23-CA1D-45B6-855E-C1D5289F2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D9DC47-8A72-444D-BDAE-571E2FAE0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1692000" y="274320"/>
            <a:ext cx="6994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C4B283-9DCB-4EA5-92EC-C2A942569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92C270-FA6C-4630-B7D6-E0A5A2475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DE67E3-5E8C-4F44-BEE0-F06B3EAED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E2FFC8-B915-4268-ADA8-79ADAC4E6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C3DF44-7140-4B00-B740-826C0D117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19CF83-8DCB-4777-ADD1-8C4CF2269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10436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4450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17632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410436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4450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BD3848-5458-4903-94A3-DD070BC75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42EACA-DA11-41A3-8956-9161ADD37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7DE131-DE86-4EEC-B509-9943EA860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774C96-6F24-4A01-B298-1EEA3A151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52C6F2-9D08-44EC-B248-D0AF528DB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A99121-5EBE-4371-ABB7-6D842B4B7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1692000" y="274320"/>
            <a:ext cx="6994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30199D-E2E8-4790-A682-A1C407306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42DF84-7FEF-4A3D-9554-B9F8C8B7E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687A25-1354-4ED8-8220-0561E215B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77B3C6-5893-494E-AAA8-BF22A7CFF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C28554-919C-40A1-9B0B-396130439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067D01-0662-47C3-958B-37F13ECD2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10436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4450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17632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410436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64450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2D402D-4DED-465A-96F3-E82D8FCCC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83BBC9-C5F6-4952-B64D-3F6D8E4B4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92B283-C50A-4EE1-A71A-EF6FB49BA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57E9D4-4C1C-4F48-941D-C8CF14FA1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8820000" y="6146640"/>
            <a:ext cx="324000" cy="711360"/>
          </a:xfrm>
          <a:prstGeom prst="rect">
            <a:avLst/>
          </a:prstGeom>
          <a:solidFill>
            <a:srgbClr val="f68b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-14400" y="0"/>
            <a:ext cx="1635120" cy="6251400"/>
          </a:xfrm>
          <a:prstGeom prst="rect">
            <a:avLst/>
          </a:prstGeom>
          <a:solidFill>
            <a:srgbClr val="225c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" name="Picture 2" descr="E:\Vengal Backup\D\Jobs\IC Logos\For Intranet\5 Basic.png"/>
          <p:cNvPicPr/>
          <p:nvPr/>
        </p:nvPicPr>
        <p:blipFill>
          <a:blip r:embed="rId2"/>
          <a:stretch/>
        </p:blipFill>
        <p:spPr>
          <a:xfrm>
            <a:off x="0" y="6251400"/>
            <a:ext cx="1606680" cy="606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6"/>
          <p:cNvSpPr/>
          <p:nvPr/>
        </p:nvSpPr>
        <p:spPr>
          <a:xfrm>
            <a:off x="8820000" y="6146640"/>
            <a:ext cx="324000" cy="711360"/>
          </a:xfrm>
          <a:prstGeom prst="rect">
            <a:avLst/>
          </a:prstGeom>
          <a:solidFill>
            <a:srgbClr val="f68b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Rectangle 7"/>
          <p:cNvSpPr/>
          <p:nvPr/>
        </p:nvSpPr>
        <p:spPr>
          <a:xfrm>
            <a:off x="-14400" y="0"/>
            <a:ext cx="1635120" cy="6251400"/>
          </a:xfrm>
          <a:prstGeom prst="rect">
            <a:avLst/>
          </a:prstGeom>
          <a:solidFill>
            <a:srgbClr val="225c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5" name="Picture 2" descr="E:\Vengal Backup\D\Jobs\IC Logos\For Intranet\5 Basic.png"/>
          <p:cNvPicPr/>
          <p:nvPr/>
        </p:nvPicPr>
        <p:blipFill>
          <a:blip r:embed="rId2"/>
          <a:stretch/>
        </p:blipFill>
        <p:spPr>
          <a:xfrm>
            <a:off x="0" y="6251400"/>
            <a:ext cx="1606680" cy="606600"/>
          </a:xfrm>
          <a:prstGeom prst="rect">
            <a:avLst/>
          </a:prstGeom>
          <a:ln w="0">
            <a:noFill/>
          </a:ln>
        </p:spPr>
      </p:pic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D5832-455D-4F8E-918B-BE3844E0E511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6"/>
          <p:cNvSpPr/>
          <p:nvPr/>
        </p:nvSpPr>
        <p:spPr>
          <a:xfrm>
            <a:off x="8820000" y="6146640"/>
            <a:ext cx="324000" cy="711360"/>
          </a:xfrm>
          <a:prstGeom prst="rect">
            <a:avLst/>
          </a:prstGeom>
          <a:solidFill>
            <a:srgbClr val="f68b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Rectangle 7"/>
          <p:cNvSpPr/>
          <p:nvPr/>
        </p:nvSpPr>
        <p:spPr>
          <a:xfrm>
            <a:off x="-14400" y="0"/>
            <a:ext cx="1635120" cy="6251400"/>
          </a:xfrm>
          <a:prstGeom prst="rect">
            <a:avLst/>
          </a:prstGeom>
          <a:solidFill>
            <a:srgbClr val="225c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9" name="Picture 2" descr="E:\Vengal Backup\D\Jobs\IC Logos\For Intranet\5 Basic.png"/>
          <p:cNvPicPr/>
          <p:nvPr/>
        </p:nvPicPr>
        <p:blipFill>
          <a:blip r:embed="rId2"/>
          <a:stretch/>
        </p:blipFill>
        <p:spPr>
          <a:xfrm>
            <a:off x="0" y="6251400"/>
            <a:ext cx="1606680" cy="606600"/>
          </a:xfrm>
          <a:prstGeom prst="rect">
            <a:avLst/>
          </a:prstGeom>
          <a:ln w="0">
            <a:noFill/>
          </a:ln>
        </p:spPr>
      </p:pic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A9D67-E421-4F20-90B8-C992D3589BE4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6"/>
          <p:cNvSpPr/>
          <p:nvPr/>
        </p:nvSpPr>
        <p:spPr>
          <a:xfrm>
            <a:off x="8820000" y="6146640"/>
            <a:ext cx="324000" cy="711360"/>
          </a:xfrm>
          <a:prstGeom prst="rect">
            <a:avLst/>
          </a:prstGeom>
          <a:solidFill>
            <a:srgbClr val="f68b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Rectangle 7"/>
          <p:cNvSpPr/>
          <p:nvPr/>
        </p:nvSpPr>
        <p:spPr>
          <a:xfrm>
            <a:off x="-14400" y="0"/>
            <a:ext cx="1635120" cy="6251400"/>
          </a:xfrm>
          <a:prstGeom prst="rect">
            <a:avLst/>
          </a:prstGeom>
          <a:solidFill>
            <a:srgbClr val="225c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3" name="Picture 2" descr="E:\Vengal Backup\D\Jobs\IC Logos\For Intranet\5 Basic.png"/>
          <p:cNvPicPr/>
          <p:nvPr/>
        </p:nvPicPr>
        <p:blipFill>
          <a:blip r:embed="rId2"/>
          <a:stretch/>
        </p:blipFill>
        <p:spPr>
          <a:xfrm>
            <a:off x="0" y="6251400"/>
            <a:ext cx="1606680" cy="606600"/>
          </a:xfrm>
          <a:prstGeom prst="rect">
            <a:avLst/>
          </a:prstGeom>
          <a:ln w="0">
            <a:noFill/>
          </a:ln>
        </p:spPr>
      </p:pic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0832E-B774-435D-83D8-96710EC1995D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5" name="Picture 6" descr=""/>
          <p:cNvPicPr/>
          <p:nvPr/>
        </p:nvPicPr>
        <p:blipFill>
          <a:blip r:embed="rId2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8820000" y="6146640"/>
            <a:ext cx="324000" cy="711360"/>
          </a:xfrm>
          <a:prstGeom prst="rect">
            <a:avLst/>
          </a:prstGeom>
          <a:solidFill>
            <a:srgbClr val="f68b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7"/>
          <p:cNvSpPr/>
          <p:nvPr/>
        </p:nvSpPr>
        <p:spPr>
          <a:xfrm>
            <a:off x="-14400" y="0"/>
            <a:ext cx="1635120" cy="6251400"/>
          </a:xfrm>
          <a:prstGeom prst="rect">
            <a:avLst/>
          </a:prstGeom>
          <a:solidFill>
            <a:srgbClr val="225c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E:\Vengal Backup\D\Jobs\IC Logos\For Intranet\5 Basic.png"/>
          <p:cNvPicPr/>
          <p:nvPr/>
        </p:nvPicPr>
        <p:blipFill>
          <a:blip r:embed="rId2"/>
          <a:stretch/>
        </p:blipFill>
        <p:spPr>
          <a:xfrm>
            <a:off x="0" y="6251400"/>
            <a:ext cx="1606680" cy="6066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F3B5D-5815-4799-8BF3-124A0DD97BAF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6"/>
          <p:cNvSpPr/>
          <p:nvPr/>
        </p:nvSpPr>
        <p:spPr>
          <a:xfrm>
            <a:off x="8820000" y="6146640"/>
            <a:ext cx="324000" cy="711360"/>
          </a:xfrm>
          <a:prstGeom prst="rect">
            <a:avLst/>
          </a:prstGeom>
          <a:solidFill>
            <a:srgbClr val="f68b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-14400" y="0"/>
            <a:ext cx="1635120" cy="6251400"/>
          </a:xfrm>
          <a:prstGeom prst="rect">
            <a:avLst/>
          </a:prstGeom>
          <a:solidFill>
            <a:srgbClr val="225c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2" descr="E:\Vengal Backup\D\Jobs\IC Logos\For Intranet\5 Basic.png"/>
          <p:cNvPicPr/>
          <p:nvPr/>
        </p:nvPicPr>
        <p:blipFill>
          <a:blip r:embed="rId2"/>
          <a:stretch/>
        </p:blipFill>
        <p:spPr>
          <a:xfrm>
            <a:off x="0" y="6251400"/>
            <a:ext cx="1606680" cy="6066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FD218-96F3-4D0B-907D-05975E439809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6"/>
          <p:cNvSpPr/>
          <p:nvPr/>
        </p:nvSpPr>
        <p:spPr>
          <a:xfrm>
            <a:off x="8820000" y="6146640"/>
            <a:ext cx="324000" cy="711360"/>
          </a:xfrm>
          <a:prstGeom prst="rect">
            <a:avLst/>
          </a:prstGeom>
          <a:solidFill>
            <a:srgbClr val="f68b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Rectangle 7"/>
          <p:cNvSpPr/>
          <p:nvPr/>
        </p:nvSpPr>
        <p:spPr>
          <a:xfrm>
            <a:off x="-14400" y="0"/>
            <a:ext cx="1635120" cy="6251400"/>
          </a:xfrm>
          <a:prstGeom prst="rect">
            <a:avLst/>
          </a:prstGeom>
          <a:solidFill>
            <a:srgbClr val="225c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Picture 2" descr="E:\Vengal Backup\D\Jobs\IC Logos\For Intranet\5 Basic.png"/>
          <p:cNvPicPr/>
          <p:nvPr/>
        </p:nvPicPr>
        <p:blipFill>
          <a:blip r:embed="rId2"/>
          <a:stretch/>
        </p:blipFill>
        <p:spPr>
          <a:xfrm>
            <a:off x="0" y="6251400"/>
            <a:ext cx="1606680" cy="60660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1CFD7-14A0-4D07-98B4-EA27B4778B60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6"/>
          <p:cNvSpPr/>
          <p:nvPr/>
        </p:nvSpPr>
        <p:spPr>
          <a:xfrm>
            <a:off x="8820000" y="6146640"/>
            <a:ext cx="324000" cy="711360"/>
          </a:xfrm>
          <a:prstGeom prst="rect">
            <a:avLst/>
          </a:prstGeom>
          <a:solidFill>
            <a:srgbClr val="f68b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-14400" y="0"/>
            <a:ext cx="1635120" cy="6251400"/>
          </a:xfrm>
          <a:prstGeom prst="rect">
            <a:avLst/>
          </a:prstGeom>
          <a:solidFill>
            <a:srgbClr val="225c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5" name="Picture 2" descr="E:\Vengal Backup\D\Jobs\IC Logos\For Intranet\5 Basic.png"/>
          <p:cNvPicPr/>
          <p:nvPr/>
        </p:nvPicPr>
        <p:blipFill>
          <a:blip r:embed="rId2"/>
          <a:stretch/>
        </p:blipFill>
        <p:spPr>
          <a:xfrm>
            <a:off x="0" y="6251400"/>
            <a:ext cx="1606680" cy="60660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EAA41-450C-48F5-A752-20EF07CD261F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6"/>
          <p:cNvSpPr/>
          <p:nvPr/>
        </p:nvSpPr>
        <p:spPr>
          <a:xfrm>
            <a:off x="8820000" y="6146640"/>
            <a:ext cx="324000" cy="711360"/>
          </a:xfrm>
          <a:prstGeom prst="rect">
            <a:avLst/>
          </a:prstGeom>
          <a:solidFill>
            <a:srgbClr val="f68b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Rectangle 7"/>
          <p:cNvSpPr/>
          <p:nvPr/>
        </p:nvSpPr>
        <p:spPr>
          <a:xfrm>
            <a:off x="-14400" y="0"/>
            <a:ext cx="1635120" cy="6251400"/>
          </a:xfrm>
          <a:prstGeom prst="rect">
            <a:avLst/>
          </a:prstGeom>
          <a:solidFill>
            <a:srgbClr val="225c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9" name="Picture 2" descr="E:\Vengal Backup\D\Jobs\IC Logos\For Intranet\5 Basic.png"/>
          <p:cNvPicPr/>
          <p:nvPr/>
        </p:nvPicPr>
        <p:blipFill>
          <a:blip r:embed="rId2"/>
          <a:stretch/>
        </p:blipFill>
        <p:spPr>
          <a:xfrm>
            <a:off x="0" y="6251400"/>
            <a:ext cx="1606680" cy="606600"/>
          </a:xfrm>
          <a:prstGeom prst="rect">
            <a:avLst/>
          </a:prstGeom>
          <a:ln w="0">
            <a:noFill/>
          </a:ln>
        </p:spPr>
      </p:pic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8E0F1-E915-470C-8E7D-1FD550F48B6C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6"/>
          <p:cNvSpPr/>
          <p:nvPr/>
        </p:nvSpPr>
        <p:spPr>
          <a:xfrm>
            <a:off x="8820000" y="6146640"/>
            <a:ext cx="324000" cy="711360"/>
          </a:xfrm>
          <a:prstGeom prst="rect">
            <a:avLst/>
          </a:prstGeom>
          <a:solidFill>
            <a:srgbClr val="f68b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Rectangle 7"/>
          <p:cNvSpPr/>
          <p:nvPr/>
        </p:nvSpPr>
        <p:spPr>
          <a:xfrm>
            <a:off x="-14400" y="0"/>
            <a:ext cx="1635120" cy="6251400"/>
          </a:xfrm>
          <a:prstGeom prst="rect">
            <a:avLst/>
          </a:prstGeom>
          <a:solidFill>
            <a:srgbClr val="225c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3" name="Picture 2" descr="E:\Vengal Backup\D\Jobs\IC Logos\For Intranet\5 Basic.png"/>
          <p:cNvPicPr/>
          <p:nvPr/>
        </p:nvPicPr>
        <p:blipFill>
          <a:blip r:embed="rId2"/>
          <a:stretch/>
        </p:blipFill>
        <p:spPr>
          <a:xfrm>
            <a:off x="0" y="6251400"/>
            <a:ext cx="1606680" cy="606600"/>
          </a:xfrm>
          <a:prstGeom prst="rect">
            <a:avLst/>
          </a:prstGeom>
          <a:ln w="0">
            <a:noFill/>
          </a:ln>
        </p:spPr>
      </p:pic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BD7C9-1989-49FC-96E1-02BA3FDBCFB2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6"/>
          <p:cNvSpPr/>
          <p:nvPr/>
        </p:nvSpPr>
        <p:spPr>
          <a:xfrm>
            <a:off x="8820000" y="6146640"/>
            <a:ext cx="324000" cy="711360"/>
          </a:xfrm>
          <a:prstGeom prst="rect">
            <a:avLst/>
          </a:prstGeom>
          <a:solidFill>
            <a:srgbClr val="f68b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Rectangle 7"/>
          <p:cNvSpPr/>
          <p:nvPr/>
        </p:nvSpPr>
        <p:spPr>
          <a:xfrm>
            <a:off x="-14400" y="0"/>
            <a:ext cx="1635120" cy="6251400"/>
          </a:xfrm>
          <a:prstGeom prst="rect">
            <a:avLst/>
          </a:prstGeom>
          <a:solidFill>
            <a:srgbClr val="225c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7" name="Picture 2" descr="E:\Vengal Backup\D\Jobs\IC Logos\For Intranet\5 Basic.png"/>
          <p:cNvPicPr/>
          <p:nvPr/>
        </p:nvPicPr>
        <p:blipFill>
          <a:blip r:embed="rId2"/>
          <a:stretch/>
        </p:blipFill>
        <p:spPr>
          <a:xfrm>
            <a:off x="0" y="6251400"/>
            <a:ext cx="1606680" cy="606600"/>
          </a:xfrm>
          <a:prstGeom prst="rect">
            <a:avLst/>
          </a:prstGeom>
          <a:ln w="0">
            <a:noFill/>
          </a:ln>
        </p:spPr>
      </p:pic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50046-876E-4FC5-9C16-40989B2B8DD0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6"/>
          <p:cNvSpPr/>
          <p:nvPr/>
        </p:nvSpPr>
        <p:spPr>
          <a:xfrm>
            <a:off x="8820000" y="6146640"/>
            <a:ext cx="324000" cy="711360"/>
          </a:xfrm>
          <a:prstGeom prst="rect">
            <a:avLst/>
          </a:prstGeom>
          <a:solidFill>
            <a:srgbClr val="f68b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Rectangle 7"/>
          <p:cNvSpPr/>
          <p:nvPr/>
        </p:nvSpPr>
        <p:spPr>
          <a:xfrm>
            <a:off x="-14400" y="0"/>
            <a:ext cx="1635120" cy="6251400"/>
          </a:xfrm>
          <a:prstGeom prst="rect">
            <a:avLst/>
          </a:prstGeom>
          <a:solidFill>
            <a:srgbClr val="225c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1" name="Picture 2" descr="E:\Vengal Backup\D\Jobs\IC Logos\For Intranet\5 Basic.png"/>
          <p:cNvPicPr/>
          <p:nvPr/>
        </p:nvPicPr>
        <p:blipFill>
          <a:blip r:embed="rId2"/>
          <a:stretch/>
        </p:blipFill>
        <p:spPr>
          <a:xfrm>
            <a:off x="0" y="6251400"/>
            <a:ext cx="1606680" cy="606600"/>
          </a:xfrm>
          <a:prstGeom prst="rect">
            <a:avLst/>
          </a:prstGeom>
          <a:ln w="0">
            <a:noFill/>
          </a:ln>
        </p:spPr>
      </p:pic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4992E-EAFA-455B-B528-6CEAF423FF04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3.png"/><Relationship Id="rId10" Type="http://schemas.openxmlformats.org/officeDocument/2006/relationships/image" Target="../media/image4.png"/><Relationship Id="rId11" Type="http://schemas.openxmlformats.org/officeDocument/2006/relationships/image" Target="../media/image5.jpeg"/><Relationship Id="rId12" Type="http://schemas.openxmlformats.org/officeDocument/2006/relationships/image" Target="../media/image6.png"/><Relationship Id="rId13" Type="http://schemas.openxmlformats.org/officeDocument/2006/relationships/image" Target="../media/image7.png"/><Relationship Id="rId14" Type="http://schemas.openxmlformats.org/officeDocument/2006/relationships/image" Target="../media/image8.png"/><Relationship Id="rId15" Type="http://schemas.openxmlformats.org/officeDocument/2006/relationships/image" Target="../media/image9.png"/><Relationship Id="rId16" Type="http://schemas.openxmlformats.org/officeDocument/2006/relationships/image" Target="../media/image9.png"/><Relationship Id="rId17" Type="http://schemas.openxmlformats.org/officeDocument/2006/relationships/image" Target="../media/image3.png"/><Relationship Id="rId18" Type="http://schemas.openxmlformats.org/officeDocument/2006/relationships/image" Target="../media/image4.png"/><Relationship Id="rId19" Type="http://schemas.openxmlformats.org/officeDocument/2006/relationships/image" Target="../media/image5.jpeg"/><Relationship Id="rId20" Type="http://schemas.openxmlformats.org/officeDocument/2006/relationships/image" Target="../media/image6.png"/><Relationship Id="rId21" Type="http://schemas.openxmlformats.org/officeDocument/2006/relationships/image" Target="../media/image7.png"/><Relationship Id="rId22" Type="http://schemas.openxmlformats.org/officeDocument/2006/relationships/image" Target="../media/image8.png"/><Relationship Id="rId23" Type="http://schemas.openxmlformats.org/officeDocument/2006/relationships/image" Target="../media/image9.png"/><Relationship Id="rId24" Type="http://schemas.openxmlformats.org/officeDocument/2006/relationships/image" Target="../media/image9.png"/><Relationship Id="rId25" Type="http://schemas.openxmlformats.org/officeDocument/2006/relationships/image" Target="../media/image10.png"/><Relationship Id="rId26" Type="http://schemas.openxmlformats.org/officeDocument/2006/relationships/image" Target="../media/image11.png"/><Relationship Id="rId27" Type="http://schemas.openxmlformats.org/officeDocument/2006/relationships/image" Target="../media/image12.png"/><Relationship Id="rId28" Type="http://schemas.openxmlformats.org/officeDocument/2006/relationships/slideLayout" Target="../slideLayouts/slideLayout14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6.png"/><Relationship Id="rId3" Type="http://schemas.openxmlformats.org/officeDocument/2006/relationships/image" Target="../media/image4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jpeg"/><Relationship Id="rId7" Type="http://schemas.openxmlformats.org/officeDocument/2006/relationships/image" Target="../media/image20.png"/><Relationship Id="rId8" Type="http://schemas.openxmlformats.org/officeDocument/2006/relationships/image" Target="../media/image21.png"/><Relationship Id="rId9" Type="http://schemas.openxmlformats.org/officeDocument/2006/relationships/slideLayout" Target="../slideLayouts/slideLayout14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3.png"/><Relationship Id="rId10" Type="http://schemas.openxmlformats.org/officeDocument/2006/relationships/image" Target="../media/image4.png"/><Relationship Id="rId11" Type="http://schemas.openxmlformats.org/officeDocument/2006/relationships/image" Target="../media/image5.jpeg"/><Relationship Id="rId12" Type="http://schemas.openxmlformats.org/officeDocument/2006/relationships/image" Target="../media/image6.png"/><Relationship Id="rId13" Type="http://schemas.openxmlformats.org/officeDocument/2006/relationships/image" Target="../media/image7.png"/><Relationship Id="rId14" Type="http://schemas.openxmlformats.org/officeDocument/2006/relationships/image" Target="../media/image8.png"/><Relationship Id="rId15" Type="http://schemas.openxmlformats.org/officeDocument/2006/relationships/image" Target="../media/image9.png"/><Relationship Id="rId16" Type="http://schemas.openxmlformats.org/officeDocument/2006/relationships/image" Target="../media/image9.png"/><Relationship Id="rId17" Type="http://schemas.openxmlformats.org/officeDocument/2006/relationships/image" Target="../media/image3.png"/><Relationship Id="rId18" Type="http://schemas.openxmlformats.org/officeDocument/2006/relationships/image" Target="../media/image4.png"/><Relationship Id="rId19" Type="http://schemas.openxmlformats.org/officeDocument/2006/relationships/image" Target="../media/image5.jpeg"/><Relationship Id="rId20" Type="http://schemas.openxmlformats.org/officeDocument/2006/relationships/image" Target="../media/image6.png"/><Relationship Id="rId21" Type="http://schemas.openxmlformats.org/officeDocument/2006/relationships/image" Target="../media/image7.png"/><Relationship Id="rId22" Type="http://schemas.openxmlformats.org/officeDocument/2006/relationships/image" Target="../media/image8.png"/><Relationship Id="rId23" Type="http://schemas.openxmlformats.org/officeDocument/2006/relationships/image" Target="../media/image9.png"/><Relationship Id="rId24" Type="http://schemas.openxmlformats.org/officeDocument/2006/relationships/image" Target="../media/image9.png"/><Relationship Id="rId25" Type="http://schemas.openxmlformats.org/officeDocument/2006/relationships/image" Target="../media/image13.jpeg"/><Relationship Id="rId26" Type="http://schemas.openxmlformats.org/officeDocument/2006/relationships/image" Target="../media/image14.png"/><Relationship Id="rId27" Type="http://schemas.openxmlformats.org/officeDocument/2006/relationships/image" Target="../media/image15.jpeg"/><Relationship Id="rId28" Type="http://schemas.openxmlformats.org/officeDocument/2006/relationships/slideLayout" Target="../slideLayouts/slideLayout14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/>
          </p:nvPr>
        </p:nvSpPr>
        <p:spPr>
          <a:xfrm>
            <a:off x="163440" y="1447920"/>
            <a:ext cx="8801280" cy="25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me 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144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Aflatoxin mitigation to improve nutrition, safety and market competitiven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65" name="Group 2"/>
          <p:cNvGrpSpPr/>
          <p:nvPr/>
        </p:nvGrpSpPr>
        <p:grpSpPr>
          <a:xfrm>
            <a:off x="16622640" y="41844960"/>
            <a:ext cx="1981440" cy="2111040"/>
            <a:chOff x="16622640" y="41844960"/>
            <a:chExt cx="1981440" cy="2111040"/>
          </a:xfrm>
        </p:grpSpPr>
        <p:pic>
          <p:nvPicPr>
            <p:cNvPr id="566" name="Picture 7" descr="\\nas\mmu\1Publishing_service\Logos\CGIAR logo\cgiar.tif"/>
            <p:cNvPicPr/>
            <p:nvPr/>
          </p:nvPicPr>
          <p:blipFill>
            <a:blip r:embed="rId1"/>
            <a:stretch/>
          </p:blipFill>
          <p:spPr>
            <a:xfrm>
              <a:off x="16622640" y="41844960"/>
              <a:ext cx="1906560" cy="138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7" name="TextBox 4"/>
            <p:cNvSpPr/>
            <p:nvPr/>
          </p:nvSpPr>
          <p:spPr>
            <a:xfrm>
              <a:off x="16788960" y="43313400"/>
              <a:ext cx="181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CGIAR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68" name="Picture 5" descr=""/>
          <p:cNvPicPr/>
          <p:nvPr/>
        </p:nvPicPr>
        <p:blipFill>
          <a:blip r:embed="rId2"/>
          <a:stretch/>
        </p:blipFill>
        <p:spPr>
          <a:xfrm>
            <a:off x="9764640" y="4183380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569" name="Picture 6" descr=""/>
          <p:cNvPicPr/>
          <p:nvPr/>
        </p:nvPicPr>
        <p:blipFill>
          <a:blip r:embed="rId3"/>
          <a:stretch/>
        </p:blipFill>
        <p:spPr>
          <a:xfrm>
            <a:off x="11160" y="42291000"/>
            <a:ext cx="7724880" cy="1082520"/>
          </a:xfrm>
          <a:prstGeom prst="rect">
            <a:avLst/>
          </a:prstGeom>
          <a:ln w="0">
            <a:noFill/>
          </a:ln>
        </p:spPr>
      </p:pic>
      <p:pic>
        <p:nvPicPr>
          <p:cNvPr id="570" name="Picture 6" descr=""/>
          <p:cNvPicPr/>
          <p:nvPr/>
        </p:nvPicPr>
        <p:blipFill>
          <a:blip r:embed="rId4"/>
          <a:stretch/>
        </p:blipFill>
        <p:spPr>
          <a:xfrm>
            <a:off x="11822040" y="41833800"/>
            <a:ext cx="1860480" cy="1828800"/>
          </a:xfrm>
          <a:prstGeom prst="rect">
            <a:avLst/>
          </a:prstGeom>
          <a:ln w="0">
            <a:noFill/>
          </a:ln>
        </p:spPr>
      </p:pic>
      <p:pic>
        <p:nvPicPr>
          <p:cNvPr id="571" name="Picture 2" descr="E:\zReturn to desktop\ICRAF logo.png"/>
          <p:cNvPicPr/>
          <p:nvPr/>
        </p:nvPicPr>
        <p:blipFill>
          <a:blip r:embed="rId5"/>
          <a:stretch/>
        </p:blipFill>
        <p:spPr>
          <a:xfrm>
            <a:off x="7478640" y="41910120"/>
            <a:ext cx="2347920" cy="1904760"/>
          </a:xfrm>
          <a:prstGeom prst="rect">
            <a:avLst/>
          </a:prstGeom>
          <a:ln w="0">
            <a:noFill/>
          </a:ln>
        </p:spPr>
      </p:pic>
      <p:pic>
        <p:nvPicPr>
          <p:cNvPr id="572" name="Picture 9" descr=""/>
          <p:cNvPicPr/>
          <p:nvPr/>
        </p:nvPicPr>
        <p:blipFill>
          <a:blip r:embed="rId6"/>
          <a:stretch/>
        </p:blipFill>
        <p:spPr>
          <a:xfrm>
            <a:off x="13955760" y="41757480"/>
            <a:ext cx="2424240" cy="1706760"/>
          </a:xfrm>
          <a:prstGeom prst="rect">
            <a:avLst/>
          </a:prstGeom>
          <a:ln w="0">
            <a:noFill/>
          </a:ln>
        </p:spPr>
      </p:pic>
      <p:pic>
        <p:nvPicPr>
          <p:cNvPr id="573" name="Picture 10" descr=""/>
          <p:cNvPicPr/>
          <p:nvPr/>
        </p:nvPicPr>
        <p:blipFill>
          <a:blip r:embed="rId7"/>
          <a:srcRect l="26735" t="0" r="33523" b="0"/>
          <a:stretch/>
        </p:blipFill>
        <p:spPr>
          <a:xfrm>
            <a:off x="18668880" y="42305400"/>
            <a:ext cx="4622760" cy="1280880"/>
          </a:xfrm>
          <a:prstGeom prst="rect">
            <a:avLst/>
          </a:prstGeom>
          <a:ln w="0">
            <a:noFill/>
          </a:ln>
        </p:spPr>
      </p:pic>
      <p:pic>
        <p:nvPicPr>
          <p:cNvPr id="574" name="Picture 11" descr=""/>
          <p:cNvPicPr/>
          <p:nvPr/>
        </p:nvPicPr>
        <p:blipFill>
          <a:blip r:embed="rId8"/>
          <a:srcRect l="74543" t="0" r="0" b="0"/>
          <a:stretch/>
        </p:blipFill>
        <p:spPr>
          <a:xfrm>
            <a:off x="23317200" y="42367320"/>
            <a:ext cx="2819520" cy="1218960"/>
          </a:xfrm>
          <a:prstGeom prst="rect">
            <a:avLst/>
          </a:prstGeom>
          <a:ln w="0">
            <a:noFill/>
          </a:ln>
        </p:spPr>
      </p:pic>
      <p:grpSp>
        <p:nvGrpSpPr>
          <p:cNvPr id="575" name="Group 12"/>
          <p:cNvGrpSpPr/>
          <p:nvPr/>
        </p:nvGrpSpPr>
        <p:grpSpPr>
          <a:xfrm>
            <a:off x="16775280" y="41997240"/>
            <a:ext cx="1981080" cy="2111040"/>
            <a:chOff x="16775280" y="41997240"/>
            <a:chExt cx="1981080" cy="2111040"/>
          </a:xfrm>
        </p:grpSpPr>
        <p:pic>
          <p:nvPicPr>
            <p:cNvPr id="576" name="Picture 7" descr="\\nas\mmu\1Publishing_service\Logos\CGIAR logo\cgiar.tif"/>
            <p:cNvPicPr/>
            <p:nvPr/>
          </p:nvPicPr>
          <p:blipFill>
            <a:blip r:embed="rId9"/>
            <a:stretch/>
          </p:blipFill>
          <p:spPr>
            <a:xfrm>
              <a:off x="16775280" y="41997240"/>
              <a:ext cx="1906200" cy="138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7" name="TextBox 14"/>
            <p:cNvSpPr/>
            <p:nvPr/>
          </p:nvSpPr>
          <p:spPr>
            <a:xfrm>
              <a:off x="16941600" y="43465680"/>
              <a:ext cx="1814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CGIAR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78" name="Picture 15" descr=""/>
          <p:cNvPicPr/>
          <p:nvPr/>
        </p:nvPicPr>
        <p:blipFill>
          <a:blip r:embed="rId10"/>
          <a:stretch/>
        </p:blipFill>
        <p:spPr>
          <a:xfrm>
            <a:off x="9917280" y="4198608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579" name="Picture 16" descr=""/>
          <p:cNvPicPr/>
          <p:nvPr/>
        </p:nvPicPr>
        <p:blipFill>
          <a:blip r:embed="rId11"/>
          <a:stretch/>
        </p:blipFill>
        <p:spPr>
          <a:xfrm>
            <a:off x="163440" y="42443280"/>
            <a:ext cx="7724880" cy="1082880"/>
          </a:xfrm>
          <a:prstGeom prst="rect">
            <a:avLst/>
          </a:prstGeom>
          <a:ln w="0">
            <a:noFill/>
          </a:ln>
        </p:spPr>
      </p:pic>
      <p:pic>
        <p:nvPicPr>
          <p:cNvPr id="580" name="Picture 6" descr=""/>
          <p:cNvPicPr/>
          <p:nvPr/>
        </p:nvPicPr>
        <p:blipFill>
          <a:blip r:embed="rId12"/>
          <a:stretch/>
        </p:blipFill>
        <p:spPr>
          <a:xfrm>
            <a:off x="11974680" y="41986080"/>
            <a:ext cx="1860480" cy="1828800"/>
          </a:xfrm>
          <a:prstGeom prst="rect">
            <a:avLst/>
          </a:prstGeom>
          <a:ln w="0">
            <a:noFill/>
          </a:ln>
        </p:spPr>
      </p:pic>
      <p:pic>
        <p:nvPicPr>
          <p:cNvPr id="581" name="Picture 2" descr="E:\zReturn to desktop\ICRAF logo.png"/>
          <p:cNvPicPr/>
          <p:nvPr/>
        </p:nvPicPr>
        <p:blipFill>
          <a:blip r:embed="rId13"/>
          <a:stretch/>
        </p:blipFill>
        <p:spPr>
          <a:xfrm>
            <a:off x="7631280" y="42062400"/>
            <a:ext cx="2347920" cy="1905120"/>
          </a:xfrm>
          <a:prstGeom prst="rect">
            <a:avLst/>
          </a:prstGeom>
          <a:ln w="0">
            <a:noFill/>
          </a:ln>
        </p:spPr>
      </p:pic>
      <p:pic>
        <p:nvPicPr>
          <p:cNvPr id="582" name="Picture 19" descr=""/>
          <p:cNvPicPr/>
          <p:nvPr/>
        </p:nvPicPr>
        <p:blipFill>
          <a:blip r:embed="rId14"/>
          <a:stretch/>
        </p:blipFill>
        <p:spPr>
          <a:xfrm>
            <a:off x="14108040" y="41910120"/>
            <a:ext cx="2424240" cy="1706400"/>
          </a:xfrm>
          <a:prstGeom prst="rect">
            <a:avLst/>
          </a:prstGeom>
          <a:ln w="0">
            <a:noFill/>
          </a:ln>
        </p:spPr>
      </p:pic>
      <p:pic>
        <p:nvPicPr>
          <p:cNvPr id="583" name="Picture 20" descr=""/>
          <p:cNvPicPr/>
          <p:nvPr/>
        </p:nvPicPr>
        <p:blipFill>
          <a:blip r:embed="rId15"/>
          <a:srcRect l="26735" t="0" r="33523" b="0"/>
          <a:stretch/>
        </p:blipFill>
        <p:spPr>
          <a:xfrm>
            <a:off x="18821520" y="42457680"/>
            <a:ext cx="4622760" cy="1281240"/>
          </a:xfrm>
          <a:prstGeom prst="rect">
            <a:avLst/>
          </a:prstGeom>
          <a:ln w="0">
            <a:noFill/>
          </a:ln>
        </p:spPr>
      </p:pic>
      <p:pic>
        <p:nvPicPr>
          <p:cNvPr id="584" name="Picture 21" descr=""/>
          <p:cNvPicPr/>
          <p:nvPr/>
        </p:nvPicPr>
        <p:blipFill>
          <a:blip r:embed="rId16"/>
          <a:srcRect l="74543" t="0" r="0" b="0"/>
          <a:stretch/>
        </p:blipFill>
        <p:spPr>
          <a:xfrm>
            <a:off x="23469480" y="42519600"/>
            <a:ext cx="2819520" cy="1219320"/>
          </a:xfrm>
          <a:prstGeom prst="rect">
            <a:avLst/>
          </a:prstGeom>
          <a:ln w="0">
            <a:noFill/>
          </a:ln>
        </p:spPr>
      </p:pic>
      <p:grpSp>
        <p:nvGrpSpPr>
          <p:cNvPr id="585" name="Group 22"/>
          <p:cNvGrpSpPr/>
          <p:nvPr/>
        </p:nvGrpSpPr>
        <p:grpSpPr>
          <a:xfrm>
            <a:off x="16927560" y="42149880"/>
            <a:ext cx="1981080" cy="2111040"/>
            <a:chOff x="16927560" y="42149880"/>
            <a:chExt cx="1981080" cy="2111040"/>
          </a:xfrm>
        </p:grpSpPr>
        <p:pic>
          <p:nvPicPr>
            <p:cNvPr id="586" name="Picture 7" descr="\\nas\mmu\1Publishing_service\Logos\CGIAR logo\cgiar.tif"/>
            <p:cNvPicPr/>
            <p:nvPr/>
          </p:nvPicPr>
          <p:blipFill>
            <a:blip r:embed="rId17"/>
            <a:stretch/>
          </p:blipFill>
          <p:spPr>
            <a:xfrm>
              <a:off x="16927560" y="42149880"/>
              <a:ext cx="1906200" cy="138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TextBox 24"/>
            <p:cNvSpPr/>
            <p:nvPr/>
          </p:nvSpPr>
          <p:spPr>
            <a:xfrm>
              <a:off x="17093880" y="43618320"/>
              <a:ext cx="1814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CGIAR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88" name="Picture 25" descr=""/>
          <p:cNvPicPr/>
          <p:nvPr/>
        </p:nvPicPr>
        <p:blipFill>
          <a:blip r:embed="rId18"/>
          <a:stretch/>
        </p:blipFill>
        <p:spPr>
          <a:xfrm>
            <a:off x="10069560" y="42138720"/>
            <a:ext cx="1905120" cy="1904760"/>
          </a:xfrm>
          <a:prstGeom prst="rect">
            <a:avLst/>
          </a:prstGeom>
          <a:ln w="0">
            <a:noFill/>
          </a:ln>
        </p:spPr>
      </p:pic>
      <p:pic>
        <p:nvPicPr>
          <p:cNvPr id="589" name="Picture 26" descr=""/>
          <p:cNvPicPr/>
          <p:nvPr/>
        </p:nvPicPr>
        <p:blipFill>
          <a:blip r:embed="rId19"/>
          <a:stretch/>
        </p:blipFill>
        <p:spPr>
          <a:xfrm>
            <a:off x="316080" y="42595920"/>
            <a:ext cx="7724520" cy="1082520"/>
          </a:xfrm>
          <a:prstGeom prst="rect">
            <a:avLst/>
          </a:prstGeom>
          <a:ln w="0">
            <a:noFill/>
          </a:ln>
        </p:spPr>
      </p:pic>
      <p:pic>
        <p:nvPicPr>
          <p:cNvPr id="590" name="Picture 6" descr=""/>
          <p:cNvPicPr/>
          <p:nvPr/>
        </p:nvPicPr>
        <p:blipFill>
          <a:blip r:embed="rId20"/>
          <a:stretch/>
        </p:blipFill>
        <p:spPr>
          <a:xfrm>
            <a:off x="12126960" y="42138720"/>
            <a:ext cx="1860480" cy="182880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2" descr="E:\zReturn to desktop\ICRAF logo.png"/>
          <p:cNvPicPr/>
          <p:nvPr/>
        </p:nvPicPr>
        <p:blipFill>
          <a:blip r:embed="rId21"/>
          <a:stretch/>
        </p:blipFill>
        <p:spPr>
          <a:xfrm>
            <a:off x="7783560" y="42214680"/>
            <a:ext cx="2347920" cy="1905120"/>
          </a:xfrm>
          <a:prstGeom prst="rect">
            <a:avLst/>
          </a:prstGeom>
          <a:ln w="0">
            <a:noFill/>
          </a:ln>
        </p:spPr>
      </p:pic>
      <p:pic>
        <p:nvPicPr>
          <p:cNvPr id="592" name="Picture 29" descr=""/>
          <p:cNvPicPr/>
          <p:nvPr/>
        </p:nvPicPr>
        <p:blipFill>
          <a:blip r:embed="rId22"/>
          <a:stretch/>
        </p:blipFill>
        <p:spPr>
          <a:xfrm>
            <a:off x="14260680" y="42062400"/>
            <a:ext cx="2423880" cy="1706400"/>
          </a:xfrm>
          <a:prstGeom prst="rect">
            <a:avLst/>
          </a:prstGeom>
          <a:ln w="0">
            <a:noFill/>
          </a:ln>
        </p:spPr>
      </p:pic>
      <p:pic>
        <p:nvPicPr>
          <p:cNvPr id="593" name="Picture 30" descr=""/>
          <p:cNvPicPr/>
          <p:nvPr/>
        </p:nvPicPr>
        <p:blipFill>
          <a:blip r:embed="rId23"/>
          <a:srcRect l="26735" t="0" r="33523" b="0"/>
          <a:stretch/>
        </p:blipFill>
        <p:spPr>
          <a:xfrm>
            <a:off x="18973800" y="42609960"/>
            <a:ext cx="4622760" cy="1281240"/>
          </a:xfrm>
          <a:prstGeom prst="rect">
            <a:avLst/>
          </a:prstGeom>
          <a:ln w="0">
            <a:noFill/>
          </a:ln>
        </p:spPr>
      </p:pic>
      <p:pic>
        <p:nvPicPr>
          <p:cNvPr id="594" name="Picture 31" descr=""/>
          <p:cNvPicPr/>
          <p:nvPr/>
        </p:nvPicPr>
        <p:blipFill>
          <a:blip r:embed="rId24"/>
          <a:srcRect l="74543" t="0" r="0" b="0"/>
          <a:stretch/>
        </p:blipFill>
        <p:spPr>
          <a:xfrm>
            <a:off x="23622120" y="42671880"/>
            <a:ext cx="2819160" cy="1219320"/>
          </a:xfrm>
          <a:prstGeom prst="rect">
            <a:avLst/>
          </a:prstGeom>
          <a:ln w="0">
            <a:noFill/>
          </a:ln>
        </p:spPr>
      </p:pic>
      <p:pic>
        <p:nvPicPr>
          <p:cNvPr id="595" name="Picture 32" descr=""/>
          <p:cNvPicPr/>
          <p:nvPr/>
        </p:nvPicPr>
        <p:blipFill>
          <a:blip r:embed="rId25"/>
          <a:stretch/>
        </p:blipFill>
        <p:spPr>
          <a:xfrm>
            <a:off x="3733920" y="4157640"/>
            <a:ext cx="1676160" cy="2344680"/>
          </a:xfrm>
          <a:prstGeom prst="rect">
            <a:avLst/>
          </a:prstGeom>
          <a:ln w="0">
            <a:noFill/>
          </a:ln>
        </p:spPr>
      </p:pic>
      <p:pic>
        <p:nvPicPr>
          <p:cNvPr id="596" name="Picture 35" descr=""/>
          <p:cNvPicPr/>
          <p:nvPr/>
        </p:nvPicPr>
        <p:blipFill>
          <a:blip r:embed="rId26"/>
          <a:stretch/>
        </p:blipFill>
        <p:spPr>
          <a:xfrm>
            <a:off x="5867280" y="4157640"/>
            <a:ext cx="2521080" cy="2289240"/>
          </a:xfrm>
          <a:prstGeom prst="rect">
            <a:avLst/>
          </a:prstGeom>
          <a:ln w="0">
            <a:noFill/>
          </a:ln>
        </p:spPr>
      </p:pic>
      <p:pic>
        <p:nvPicPr>
          <p:cNvPr id="597" name="Picture 36" descr=""/>
          <p:cNvPicPr/>
          <p:nvPr/>
        </p:nvPicPr>
        <p:blipFill>
          <a:blip r:embed="rId27"/>
          <a:stretch/>
        </p:blipFill>
        <p:spPr>
          <a:xfrm>
            <a:off x="316080" y="4157640"/>
            <a:ext cx="2887560" cy="22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7" name=""/>
          <p:cNvGraphicFramePr/>
          <p:nvPr/>
        </p:nvGraphicFramePr>
        <p:xfrm>
          <a:off x="2195640" y="5373720"/>
          <a:ext cx="4680000" cy="979560"/>
        </p:xfrm>
        <a:graphic>
          <a:graphicData uri="http://schemas.openxmlformats.org/drawingml/2006/table">
            <a:tbl>
              <a:tblPr/>
              <a:tblGrid>
                <a:gridCol w="1704960"/>
                <a:gridCol w="1373040"/>
                <a:gridCol w="1602000"/>
              </a:tblGrid>
              <a:tr h="32652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4320">
                      <a:solidFill>
                        <a:srgbClr val="98b954"/>
                      </a:solidFill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oeffici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-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 w="4320">
                      <a:solidFill>
                        <a:srgbClr val="98b954"/>
                      </a:solidFill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solidFill>
                      <a:srgbClr val="9bbb59"/>
                    </a:solidFill>
                  </a:tcPr>
                </a:tc>
              </a:tr>
              <a:tr h="32652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od aflatox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4320">
                      <a:solidFill>
                        <a:srgbClr val="98b954"/>
                      </a:solidFill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38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25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 w="4320">
                      <a:solidFill>
                        <a:srgbClr val="98b954"/>
                      </a:solidFill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rine aflatox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4320">
                      <a:solidFill>
                        <a:srgbClr val="98b954"/>
                      </a:solidFill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48" name="Rectangle 3"/>
          <p:cNvSpPr/>
          <p:nvPr/>
        </p:nvSpPr>
        <p:spPr>
          <a:xfrm>
            <a:off x="1692360" y="4292640"/>
            <a:ext cx="626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2000" spc="-1" strike="noStrike">
                <a:solidFill>
                  <a:srgbClr val="000000"/>
                </a:solidFill>
                <a:latin typeface="Calibri"/>
                <a:ea typeface="Calibri"/>
              </a:rPr>
              <a:t>Coefficient of correlation between Food Aflatoxin (pg/ml) and urine aflatox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49" name=""/>
          <p:cNvGraphicFramePr/>
          <p:nvPr/>
        </p:nvGraphicFramePr>
        <p:xfrm>
          <a:off x="2268360" y="2637000"/>
          <a:ext cx="3672000" cy="1466640"/>
        </p:xfrm>
        <a:graphic>
          <a:graphicData uri="http://schemas.openxmlformats.org/drawingml/2006/table">
            <a:tbl>
              <a:tblPr/>
              <a:tblGrid>
                <a:gridCol w="1644840"/>
                <a:gridCol w="2027160"/>
              </a:tblGrid>
              <a:tr h="5871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Under nutrition stat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4320">
                      <a:solidFill>
                        <a:srgbClr val="98b954"/>
                      </a:solidFill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Z-Scores % below -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 w="4320">
                      <a:solidFill>
                        <a:srgbClr val="98b954"/>
                      </a:solidFill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solidFill>
                      <a:srgbClr val="9bbb59"/>
                    </a:solidFill>
                  </a:tcPr>
                </a:tc>
              </a:tr>
              <a:tr h="2937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asting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4320">
                      <a:solidFill>
                        <a:srgbClr val="98b954"/>
                      </a:solidFill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 w="4320">
                      <a:solidFill>
                        <a:srgbClr val="98b954"/>
                      </a:solidFill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</a:tr>
              <a:tr h="2937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unting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4320">
                      <a:solidFill>
                        <a:srgbClr val="98b954"/>
                      </a:solidFill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 w="4320">
                      <a:solidFill>
                        <a:srgbClr val="98b954"/>
                      </a:solidFill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</a:tr>
              <a:tr h="2937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nderweigh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4320">
                      <a:solidFill>
                        <a:srgbClr val="98b954"/>
                      </a:solidFill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.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 w="4320">
                      <a:solidFill>
                        <a:srgbClr val="98b954"/>
                      </a:solidFill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50" name="TextBox 4"/>
          <p:cNvSpPr/>
          <p:nvPr/>
        </p:nvSpPr>
        <p:spPr>
          <a:xfrm>
            <a:off x="1692360" y="1628640"/>
            <a:ext cx="611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2400" spc="-1" strike="noStrike">
                <a:solidFill>
                  <a:srgbClr val="000000"/>
                </a:solidFill>
                <a:latin typeface="Calibri"/>
              </a:rPr>
              <a:t>Under nutrition status before train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Rectangle 5"/>
          <p:cNvSpPr/>
          <p:nvPr/>
        </p:nvSpPr>
        <p:spPr>
          <a:xfrm>
            <a:off x="6572160" y="2284560"/>
            <a:ext cx="24814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NewRomanPSMT"/>
              </a:rPr>
              <a:t>According to </a:t>
            </a:r>
            <a:r>
              <a:rPr b="0" lang="en-IN" sz="1400" spc="-1" strike="noStrike">
                <a:solidFill>
                  <a:srgbClr val="000000"/>
                </a:solidFill>
                <a:latin typeface="Calibri"/>
                <a:ea typeface="MS Mincho"/>
              </a:rPr>
              <a:t>WHO classification, stunting rates above 20%, wasting rates above 5% and underweight rates above 10% are considered high and cause for alarm in any population (WHO, 2014)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2" name=""/>
          <p:cNvGraphicFramePr/>
          <p:nvPr/>
        </p:nvGraphicFramePr>
        <p:xfrm>
          <a:off x="250920" y="2565360"/>
          <a:ext cx="8605800" cy="3587760"/>
        </p:xfrm>
        <a:graphic>
          <a:graphicData uri="http://schemas.openxmlformats.org/drawingml/2006/table">
            <a:tbl>
              <a:tblPr/>
              <a:tblGrid>
                <a:gridCol w="2363760"/>
                <a:gridCol w="2361960"/>
                <a:gridCol w="1317960"/>
                <a:gridCol w="1341360"/>
                <a:gridCol w="1220760"/>
              </a:tblGrid>
              <a:tr h="978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gress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pendent Variable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eight-For-Age Z-Sco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effici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-statistic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-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26520">
                <a:tc rowSpan="8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= 3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-squared= 0.005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-statistic= 5.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-value= 0.00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eatment Dumm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155633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3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70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26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y 7 Dumm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147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7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26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y 14 Dumm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0956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3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7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26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12682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y 21 Dummy</a:t>
                      </a: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	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2156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7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42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26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D (Day 7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268345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9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32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26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D (Day 14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299005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26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26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D (Day 2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49323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7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26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sta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.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9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653" name="Rectangle 2"/>
          <p:cNvSpPr/>
          <p:nvPr/>
        </p:nvSpPr>
        <p:spPr>
          <a:xfrm>
            <a:off x="755640" y="1700280"/>
            <a:ext cx="7561440" cy="42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Impacts of feeding trials on underweight: DID OLS Robust Mod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4" name=""/>
          <p:cNvGraphicFramePr/>
          <p:nvPr/>
        </p:nvGraphicFramePr>
        <p:xfrm>
          <a:off x="684360" y="2301840"/>
          <a:ext cx="7991280" cy="3913200"/>
        </p:xfrm>
        <a:graphic>
          <a:graphicData uri="http://schemas.openxmlformats.org/drawingml/2006/table">
            <a:tbl>
              <a:tblPr/>
              <a:tblGrid>
                <a:gridCol w="2193840"/>
                <a:gridCol w="2195280"/>
                <a:gridCol w="1248120"/>
                <a:gridCol w="1247760"/>
                <a:gridCol w="1106280"/>
              </a:tblGrid>
              <a:tr h="13050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gress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pendent Variable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eight-for-Height Z-Sco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effici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-statistic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-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26520">
                <a:tc rowSpan="8"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= 3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-squared= 0.038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-statistic= 2.9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-value= 0.007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eatment Dumm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32247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7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44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26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y 7 Dumm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17937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5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60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26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y 14 Dumm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11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3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7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26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12682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y 21 Dummy</a:t>
                      </a: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	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2181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6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26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D (Day 7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334445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9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34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26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D (Day 14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392359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24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26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D (Day 2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459392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2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9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26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sta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21937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5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7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655" name="Rectangle 1"/>
          <p:cNvSpPr/>
          <p:nvPr/>
        </p:nvSpPr>
        <p:spPr>
          <a:xfrm>
            <a:off x="723240" y="1487520"/>
            <a:ext cx="815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0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acts of feeding trials on wasting: DID OLS Robust Mod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70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Rectangle 4"/>
          <p:cNvSpPr/>
          <p:nvPr/>
        </p:nvSpPr>
        <p:spPr>
          <a:xfrm>
            <a:off x="108000" y="1197000"/>
            <a:ext cx="8496360" cy="54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200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MS Mincho"/>
              </a:rPr>
              <a:t>Conclusion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457200" algn="just">
              <a:lnSpc>
                <a:spcPct val="200000"/>
              </a:lnSpc>
              <a:spcAft>
                <a:spcPts val="799"/>
              </a:spcAft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MS Mincho"/>
              </a:rPr>
              <a:t>A randomized controlled trial and difference-in-difference regression revealed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MS Mincho"/>
              </a:rPr>
              <a:t>significant improvement in health outcomes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MS Mincho"/>
              </a:rPr>
              <a:t>within 21 days by virtue of the comprehensive training implemented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457200" algn="just">
              <a:lnSpc>
                <a:spcPct val="200000"/>
              </a:lnSpc>
              <a:spcAft>
                <a:spcPts val="799"/>
              </a:spcAft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600" spc="-1" strike="noStrike">
                <a:solidFill>
                  <a:srgbClr val="000000"/>
                </a:solidFill>
                <a:latin typeface="Calibri"/>
                <a:ea typeface="MS Mincho"/>
              </a:rPr>
              <a:t>The article presented the first result on </a:t>
            </a:r>
            <a:r>
              <a:rPr b="1" lang="en-IN" sz="1600" spc="-1" strike="noStrike">
                <a:solidFill>
                  <a:srgbClr val="000000"/>
                </a:solidFill>
                <a:latin typeface="Calibri"/>
                <a:ea typeface="MS Mincho"/>
              </a:rPr>
              <a:t>aflatoxin assay of children’s urine in Tanzania with high correlation with aflatoxin in food ingredients </a:t>
            </a:r>
            <a:r>
              <a:rPr b="0" lang="en-IN" sz="1600" spc="-1" strike="noStrike">
                <a:solidFill>
                  <a:srgbClr val="000000"/>
                </a:solidFill>
                <a:latin typeface="Calibri"/>
                <a:ea typeface="MS Mincho"/>
              </a:rPr>
              <a:t>that they consume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457200" algn="just">
              <a:lnSpc>
                <a:spcPct val="200000"/>
              </a:lnSpc>
              <a:spcAft>
                <a:spcPts val="799"/>
              </a:spcAft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Direct observation of the immediate outcome will convince mothers to maintain the good practices that are affordable in the communitie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457200" algn="just">
              <a:lnSpc>
                <a:spcPct val="200000"/>
              </a:lnSpc>
              <a:spcAft>
                <a:spcPts val="799"/>
              </a:spcAft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urther elicitation and incorporation of local preferences and tastes would help guarantee sustainable adoption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/>
          </p:nvPr>
        </p:nvSpPr>
        <p:spPr>
          <a:xfrm>
            <a:off x="838080" y="1294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The Team: Core implementer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8" name="Picture 32" descr=""/>
          <p:cNvPicPr/>
          <p:nvPr/>
        </p:nvPicPr>
        <p:blipFill>
          <a:blip r:embed="rId1"/>
          <a:stretch/>
        </p:blipFill>
        <p:spPr>
          <a:xfrm>
            <a:off x="4876920" y="3124080"/>
            <a:ext cx="4221000" cy="592200"/>
          </a:xfrm>
          <a:prstGeom prst="rect">
            <a:avLst/>
          </a:prstGeom>
          <a:ln w="0">
            <a:noFill/>
          </a:ln>
        </p:spPr>
      </p:pic>
      <p:pic>
        <p:nvPicPr>
          <p:cNvPr id="659" name="Picture 33" descr="E:\zReturn to desktop\ICRAF logo.png"/>
          <p:cNvPicPr/>
          <p:nvPr/>
        </p:nvPicPr>
        <p:blipFill>
          <a:blip r:embed="rId2"/>
          <a:stretch/>
        </p:blipFill>
        <p:spPr>
          <a:xfrm>
            <a:off x="457200" y="2743200"/>
            <a:ext cx="1220760" cy="990720"/>
          </a:xfrm>
          <a:prstGeom prst="rect">
            <a:avLst/>
          </a:prstGeom>
          <a:ln w="0">
            <a:noFill/>
          </a:ln>
        </p:spPr>
      </p:pic>
      <p:pic>
        <p:nvPicPr>
          <p:cNvPr id="660" name="Picture 34" descr=""/>
          <p:cNvPicPr/>
          <p:nvPr/>
        </p:nvPicPr>
        <p:blipFill>
          <a:blip r:embed="rId3"/>
          <a:stretch/>
        </p:blipFill>
        <p:spPr>
          <a:xfrm>
            <a:off x="3429000" y="23623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661" name="Picture 35" descr=""/>
          <p:cNvPicPr/>
          <p:nvPr/>
        </p:nvPicPr>
        <p:blipFill>
          <a:blip r:embed="rId4"/>
          <a:stretch/>
        </p:blipFill>
        <p:spPr>
          <a:xfrm>
            <a:off x="3429000" y="3429000"/>
            <a:ext cx="836640" cy="824040"/>
          </a:xfrm>
          <a:prstGeom prst="rect">
            <a:avLst/>
          </a:prstGeom>
          <a:ln w="0">
            <a:noFill/>
          </a:ln>
        </p:spPr>
      </p:pic>
      <p:pic>
        <p:nvPicPr>
          <p:cNvPr id="662" name="Picture 36" descr=""/>
          <p:cNvPicPr/>
          <p:nvPr/>
        </p:nvPicPr>
        <p:blipFill>
          <a:blip r:embed="rId5"/>
          <a:stretch/>
        </p:blipFill>
        <p:spPr>
          <a:xfrm>
            <a:off x="304920" y="3962520"/>
            <a:ext cx="1509480" cy="1062000"/>
          </a:xfrm>
          <a:prstGeom prst="rect">
            <a:avLst/>
          </a:prstGeom>
          <a:ln w="0">
            <a:noFill/>
          </a:ln>
        </p:spPr>
      </p:pic>
      <p:pic>
        <p:nvPicPr>
          <p:cNvPr id="663" name="Picture 7" descr="P:\logos\i\iita\IITA_regular-sienna_with slogan (2).JPG"/>
          <p:cNvPicPr/>
          <p:nvPr/>
        </p:nvPicPr>
        <p:blipFill>
          <a:blip r:embed="rId6"/>
          <a:stretch/>
        </p:blipFill>
        <p:spPr>
          <a:xfrm>
            <a:off x="5715000" y="4495680"/>
            <a:ext cx="1069920" cy="536760"/>
          </a:xfrm>
          <a:prstGeom prst="rect">
            <a:avLst/>
          </a:prstGeom>
          <a:ln w="0">
            <a:noFill/>
          </a:ln>
        </p:spPr>
      </p:pic>
      <p:pic>
        <p:nvPicPr>
          <p:cNvPr id="664" name="Picture 44" descr=""/>
          <p:cNvPicPr/>
          <p:nvPr/>
        </p:nvPicPr>
        <p:blipFill>
          <a:blip r:embed="rId7"/>
          <a:stretch/>
        </p:blipFill>
        <p:spPr>
          <a:xfrm>
            <a:off x="1752480" y="5791320"/>
            <a:ext cx="5848560" cy="666720"/>
          </a:xfrm>
          <a:prstGeom prst="rect">
            <a:avLst/>
          </a:prstGeom>
          <a:ln w="0">
            <a:noFill/>
          </a:ln>
        </p:spPr>
      </p:pic>
      <p:pic>
        <p:nvPicPr>
          <p:cNvPr id="665" name="Picture 46" descr=""/>
          <p:cNvPicPr/>
          <p:nvPr/>
        </p:nvPicPr>
        <p:blipFill>
          <a:blip r:embed="rId8"/>
          <a:stretch/>
        </p:blipFill>
        <p:spPr>
          <a:xfrm>
            <a:off x="3429000" y="4572000"/>
            <a:ext cx="782640" cy="78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Rectangle 3"/>
          <p:cNvSpPr/>
          <p:nvPr/>
        </p:nvSpPr>
        <p:spPr>
          <a:xfrm>
            <a:off x="6270480" y="0"/>
            <a:ext cx="2886120" cy="6870600"/>
          </a:xfrm>
          <a:prstGeom prst="rect">
            <a:avLst/>
          </a:prstGeom>
          <a:solidFill>
            <a:srgbClr val="225c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Rectangle 5"/>
          <p:cNvSpPr/>
          <p:nvPr/>
        </p:nvSpPr>
        <p:spPr>
          <a:xfrm>
            <a:off x="0" y="0"/>
            <a:ext cx="179280" cy="4029120"/>
          </a:xfrm>
          <a:prstGeom prst="rect">
            <a:avLst/>
          </a:prstGeom>
          <a:solidFill>
            <a:srgbClr val="f68b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Straight Connector 8"/>
          <p:cNvSpPr/>
          <p:nvPr/>
        </p:nvSpPr>
        <p:spPr>
          <a:xfrm>
            <a:off x="2340000" y="3789360"/>
            <a:ext cx="0" cy="979560"/>
          </a:xfrm>
          <a:prstGeom prst="line">
            <a:avLst/>
          </a:prstGeom>
          <a:ln w="25560">
            <a:solidFill>
              <a:srgbClr val="f68b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TextBox 13"/>
          <p:cNvSpPr/>
          <p:nvPr/>
        </p:nvSpPr>
        <p:spPr>
          <a:xfrm>
            <a:off x="2340000" y="3933720"/>
            <a:ext cx="395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N" sz="3200" spc="-1" strike="noStrike">
                <a:solidFill>
                  <a:srgbClr val="225c29"/>
                </a:solidFill>
                <a:latin typeface="Calibri"/>
                <a:ea typeface="Arial"/>
              </a:rPr>
              <a:t>Thank you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70" name="Group 16"/>
          <p:cNvGrpSpPr/>
          <p:nvPr/>
        </p:nvGrpSpPr>
        <p:grpSpPr>
          <a:xfrm>
            <a:off x="108000" y="6105600"/>
            <a:ext cx="4757760" cy="598320"/>
            <a:chOff x="108000" y="6105600"/>
            <a:chExt cx="4757760" cy="598320"/>
          </a:xfrm>
        </p:grpSpPr>
        <p:sp>
          <p:nvSpPr>
            <p:cNvPr id="671" name="Rectangle 17"/>
            <p:cNvSpPr/>
            <p:nvPr/>
          </p:nvSpPr>
          <p:spPr>
            <a:xfrm>
              <a:off x="108000" y="6105600"/>
              <a:ext cx="4757760" cy="598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672" name="Picture 3" descr="D:\Jobs 2013\ID and Visiting cards\ICRISAT-Logo-Extended Green.png"/>
            <p:cNvPicPr/>
            <p:nvPr/>
          </p:nvPicPr>
          <p:blipFill>
            <a:blip r:embed="rId1"/>
            <a:stretch/>
          </p:blipFill>
          <p:spPr>
            <a:xfrm>
              <a:off x="215640" y="6166440"/>
              <a:ext cx="4542120" cy="469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73" name="Picture 7" descr="D:\Jobs 2013\ID and Visiting cards\Covers\G1.png"/>
          <p:cNvPicPr/>
          <p:nvPr/>
        </p:nvPicPr>
        <p:blipFill>
          <a:blip r:embed="rId2"/>
          <a:stretch/>
        </p:blipFill>
        <p:spPr>
          <a:xfrm>
            <a:off x="5886360" y="4559400"/>
            <a:ext cx="939960" cy="1606320"/>
          </a:xfrm>
          <a:prstGeom prst="rect">
            <a:avLst/>
          </a:prstGeom>
          <a:ln w="0">
            <a:noFill/>
          </a:ln>
        </p:spPr>
      </p:pic>
      <p:pic>
        <p:nvPicPr>
          <p:cNvPr id="674" name="Picture 12" descr=""/>
          <p:cNvPicPr/>
          <p:nvPr/>
        </p:nvPicPr>
        <p:blipFill>
          <a:blip r:embed="rId3"/>
          <a:srcRect l="0" t="0" r="0" b="-115"/>
          <a:stretch/>
        </p:blipFill>
        <p:spPr>
          <a:xfrm>
            <a:off x="2185920" y="5048280"/>
            <a:ext cx="2260800" cy="892080"/>
          </a:xfrm>
          <a:prstGeom prst="rect">
            <a:avLst/>
          </a:prstGeom>
          <a:ln w="0">
            <a:noFill/>
          </a:ln>
        </p:spPr>
      </p:pic>
      <p:sp>
        <p:nvSpPr>
          <p:cNvPr id="675" name="TextBox 14"/>
          <p:cNvSpPr/>
          <p:nvPr/>
        </p:nvSpPr>
        <p:spPr>
          <a:xfrm>
            <a:off x="1740240" y="5892840"/>
            <a:ext cx="31755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225c29"/>
                </a:solidFill>
                <a:latin typeface="Arial"/>
              </a:rPr>
              <a:t>ICRISAT is a member of the CGIAR Consortium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8" name="Group 2"/>
          <p:cNvGrpSpPr/>
          <p:nvPr/>
        </p:nvGrpSpPr>
        <p:grpSpPr>
          <a:xfrm>
            <a:off x="16622640" y="41844960"/>
            <a:ext cx="1981440" cy="2111040"/>
            <a:chOff x="16622640" y="41844960"/>
            <a:chExt cx="1981440" cy="2111040"/>
          </a:xfrm>
        </p:grpSpPr>
        <p:pic>
          <p:nvPicPr>
            <p:cNvPr id="599" name="Picture 7" descr="\\nas\mmu\1Publishing_service\Logos\CGIAR logo\cgiar.tif"/>
            <p:cNvPicPr/>
            <p:nvPr/>
          </p:nvPicPr>
          <p:blipFill>
            <a:blip r:embed="rId1"/>
            <a:stretch/>
          </p:blipFill>
          <p:spPr>
            <a:xfrm>
              <a:off x="16622640" y="41844960"/>
              <a:ext cx="1906560" cy="138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4"/>
            <p:cNvSpPr/>
            <p:nvPr/>
          </p:nvSpPr>
          <p:spPr>
            <a:xfrm>
              <a:off x="16788960" y="43313400"/>
              <a:ext cx="181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CGIAR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601" name="Picture 5" descr=""/>
          <p:cNvPicPr/>
          <p:nvPr/>
        </p:nvPicPr>
        <p:blipFill>
          <a:blip r:embed="rId2"/>
          <a:stretch/>
        </p:blipFill>
        <p:spPr>
          <a:xfrm>
            <a:off x="9764640" y="4183380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602" name="Picture 6" descr=""/>
          <p:cNvPicPr/>
          <p:nvPr/>
        </p:nvPicPr>
        <p:blipFill>
          <a:blip r:embed="rId3"/>
          <a:stretch/>
        </p:blipFill>
        <p:spPr>
          <a:xfrm>
            <a:off x="11160" y="42291000"/>
            <a:ext cx="7724880" cy="1082520"/>
          </a:xfrm>
          <a:prstGeom prst="rect">
            <a:avLst/>
          </a:prstGeom>
          <a:ln w="0">
            <a:noFill/>
          </a:ln>
        </p:spPr>
      </p:pic>
      <p:pic>
        <p:nvPicPr>
          <p:cNvPr id="603" name="Picture 6" descr=""/>
          <p:cNvPicPr/>
          <p:nvPr/>
        </p:nvPicPr>
        <p:blipFill>
          <a:blip r:embed="rId4"/>
          <a:stretch/>
        </p:blipFill>
        <p:spPr>
          <a:xfrm>
            <a:off x="11822040" y="41833800"/>
            <a:ext cx="1860480" cy="1828800"/>
          </a:xfrm>
          <a:prstGeom prst="rect">
            <a:avLst/>
          </a:prstGeom>
          <a:ln w="0">
            <a:noFill/>
          </a:ln>
        </p:spPr>
      </p:pic>
      <p:pic>
        <p:nvPicPr>
          <p:cNvPr id="604" name="Picture 2" descr="E:\zReturn to desktop\ICRAF logo.png"/>
          <p:cNvPicPr/>
          <p:nvPr/>
        </p:nvPicPr>
        <p:blipFill>
          <a:blip r:embed="rId5"/>
          <a:stretch/>
        </p:blipFill>
        <p:spPr>
          <a:xfrm>
            <a:off x="7478640" y="41910120"/>
            <a:ext cx="2347920" cy="1904760"/>
          </a:xfrm>
          <a:prstGeom prst="rect">
            <a:avLst/>
          </a:prstGeom>
          <a:ln w="0">
            <a:noFill/>
          </a:ln>
        </p:spPr>
      </p:pic>
      <p:pic>
        <p:nvPicPr>
          <p:cNvPr id="605" name="Picture 9" descr=""/>
          <p:cNvPicPr/>
          <p:nvPr/>
        </p:nvPicPr>
        <p:blipFill>
          <a:blip r:embed="rId6"/>
          <a:stretch/>
        </p:blipFill>
        <p:spPr>
          <a:xfrm>
            <a:off x="13955760" y="41757480"/>
            <a:ext cx="2424240" cy="1706760"/>
          </a:xfrm>
          <a:prstGeom prst="rect">
            <a:avLst/>
          </a:prstGeom>
          <a:ln w="0">
            <a:noFill/>
          </a:ln>
        </p:spPr>
      </p:pic>
      <p:pic>
        <p:nvPicPr>
          <p:cNvPr id="606" name="Picture 10" descr=""/>
          <p:cNvPicPr/>
          <p:nvPr/>
        </p:nvPicPr>
        <p:blipFill>
          <a:blip r:embed="rId7"/>
          <a:srcRect l="26735" t="0" r="33523" b="0"/>
          <a:stretch/>
        </p:blipFill>
        <p:spPr>
          <a:xfrm>
            <a:off x="18668880" y="42305400"/>
            <a:ext cx="4622760" cy="1280880"/>
          </a:xfrm>
          <a:prstGeom prst="rect">
            <a:avLst/>
          </a:prstGeom>
          <a:ln w="0">
            <a:noFill/>
          </a:ln>
        </p:spPr>
      </p:pic>
      <p:pic>
        <p:nvPicPr>
          <p:cNvPr id="607" name="Picture 11" descr=""/>
          <p:cNvPicPr/>
          <p:nvPr/>
        </p:nvPicPr>
        <p:blipFill>
          <a:blip r:embed="rId8"/>
          <a:srcRect l="74543" t="0" r="0" b="0"/>
          <a:stretch/>
        </p:blipFill>
        <p:spPr>
          <a:xfrm>
            <a:off x="23317200" y="42367320"/>
            <a:ext cx="2819520" cy="1218960"/>
          </a:xfrm>
          <a:prstGeom prst="rect">
            <a:avLst/>
          </a:prstGeom>
          <a:ln w="0">
            <a:noFill/>
          </a:ln>
        </p:spPr>
      </p:pic>
      <p:grpSp>
        <p:nvGrpSpPr>
          <p:cNvPr id="608" name="Group 12"/>
          <p:cNvGrpSpPr/>
          <p:nvPr/>
        </p:nvGrpSpPr>
        <p:grpSpPr>
          <a:xfrm>
            <a:off x="16775280" y="41997240"/>
            <a:ext cx="1981080" cy="2111040"/>
            <a:chOff x="16775280" y="41997240"/>
            <a:chExt cx="1981080" cy="2111040"/>
          </a:xfrm>
        </p:grpSpPr>
        <p:pic>
          <p:nvPicPr>
            <p:cNvPr id="609" name="Picture 7" descr="\\nas\mmu\1Publishing_service\Logos\CGIAR logo\cgiar.tif"/>
            <p:cNvPicPr/>
            <p:nvPr/>
          </p:nvPicPr>
          <p:blipFill>
            <a:blip r:embed="rId9"/>
            <a:stretch/>
          </p:blipFill>
          <p:spPr>
            <a:xfrm>
              <a:off x="16775280" y="41997240"/>
              <a:ext cx="1906200" cy="138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0" name="TextBox 14"/>
            <p:cNvSpPr/>
            <p:nvPr/>
          </p:nvSpPr>
          <p:spPr>
            <a:xfrm>
              <a:off x="16941600" y="43465680"/>
              <a:ext cx="1814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CGIAR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611" name="Picture 15" descr=""/>
          <p:cNvPicPr/>
          <p:nvPr/>
        </p:nvPicPr>
        <p:blipFill>
          <a:blip r:embed="rId10"/>
          <a:stretch/>
        </p:blipFill>
        <p:spPr>
          <a:xfrm>
            <a:off x="9917280" y="4198608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612" name="Picture 16" descr=""/>
          <p:cNvPicPr/>
          <p:nvPr/>
        </p:nvPicPr>
        <p:blipFill>
          <a:blip r:embed="rId11"/>
          <a:stretch/>
        </p:blipFill>
        <p:spPr>
          <a:xfrm>
            <a:off x="163440" y="42443280"/>
            <a:ext cx="7724880" cy="1082880"/>
          </a:xfrm>
          <a:prstGeom prst="rect">
            <a:avLst/>
          </a:prstGeom>
          <a:ln w="0">
            <a:noFill/>
          </a:ln>
        </p:spPr>
      </p:pic>
      <p:pic>
        <p:nvPicPr>
          <p:cNvPr id="613" name="Picture 6" descr=""/>
          <p:cNvPicPr/>
          <p:nvPr/>
        </p:nvPicPr>
        <p:blipFill>
          <a:blip r:embed="rId12"/>
          <a:stretch/>
        </p:blipFill>
        <p:spPr>
          <a:xfrm>
            <a:off x="11974680" y="41986080"/>
            <a:ext cx="1860480" cy="1828800"/>
          </a:xfrm>
          <a:prstGeom prst="rect">
            <a:avLst/>
          </a:prstGeom>
          <a:ln w="0">
            <a:noFill/>
          </a:ln>
        </p:spPr>
      </p:pic>
      <p:pic>
        <p:nvPicPr>
          <p:cNvPr id="614" name="Picture 2" descr="E:\zReturn to desktop\ICRAF logo.png"/>
          <p:cNvPicPr/>
          <p:nvPr/>
        </p:nvPicPr>
        <p:blipFill>
          <a:blip r:embed="rId13"/>
          <a:stretch/>
        </p:blipFill>
        <p:spPr>
          <a:xfrm>
            <a:off x="7631280" y="42062400"/>
            <a:ext cx="2347920" cy="1905120"/>
          </a:xfrm>
          <a:prstGeom prst="rect">
            <a:avLst/>
          </a:prstGeom>
          <a:ln w="0">
            <a:noFill/>
          </a:ln>
        </p:spPr>
      </p:pic>
      <p:pic>
        <p:nvPicPr>
          <p:cNvPr id="615" name="Picture 19" descr=""/>
          <p:cNvPicPr/>
          <p:nvPr/>
        </p:nvPicPr>
        <p:blipFill>
          <a:blip r:embed="rId14"/>
          <a:stretch/>
        </p:blipFill>
        <p:spPr>
          <a:xfrm>
            <a:off x="14108040" y="41910120"/>
            <a:ext cx="2424240" cy="1706400"/>
          </a:xfrm>
          <a:prstGeom prst="rect">
            <a:avLst/>
          </a:prstGeom>
          <a:ln w="0">
            <a:noFill/>
          </a:ln>
        </p:spPr>
      </p:pic>
      <p:pic>
        <p:nvPicPr>
          <p:cNvPr id="616" name="Picture 20" descr=""/>
          <p:cNvPicPr/>
          <p:nvPr/>
        </p:nvPicPr>
        <p:blipFill>
          <a:blip r:embed="rId15"/>
          <a:srcRect l="26735" t="0" r="33523" b="0"/>
          <a:stretch/>
        </p:blipFill>
        <p:spPr>
          <a:xfrm>
            <a:off x="18821520" y="42457680"/>
            <a:ext cx="4622760" cy="1281240"/>
          </a:xfrm>
          <a:prstGeom prst="rect">
            <a:avLst/>
          </a:prstGeom>
          <a:ln w="0">
            <a:noFill/>
          </a:ln>
        </p:spPr>
      </p:pic>
      <p:pic>
        <p:nvPicPr>
          <p:cNvPr id="617" name="Picture 21" descr=""/>
          <p:cNvPicPr/>
          <p:nvPr/>
        </p:nvPicPr>
        <p:blipFill>
          <a:blip r:embed="rId16"/>
          <a:srcRect l="74543" t="0" r="0" b="0"/>
          <a:stretch/>
        </p:blipFill>
        <p:spPr>
          <a:xfrm>
            <a:off x="23469480" y="42519600"/>
            <a:ext cx="2819520" cy="1219320"/>
          </a:xfrm>
          <a:prstGeom prst="rect">
            <a:avLst/>
          </a:prstGeom>
          <a:ln w="0">
            <a:noFill/>
          </a:ln>
        </p:spPr>
      </p:pic>
      <p:grpSp>
        <p:nvGrpSpPr>
          <p:cNvPr id="618" name="Group 22"/>
          <p:cNvGrpSpPr/>
          <p:nvPr/>
        </p:nvGrpSpPr>
        <p:grpSpPr>
          <a:xfrm>
            <a:off x="16927560" y="42149880"/>
            <a:ext cx="1981080" cy="2111040"/>
            <a:chOff x="16927560" y="42149880"/>
            <a:chExt cx="1981080" cy="2111040"/>
          </a:xfrm>
        </p:grpSpPr>
        <p:pic>
          <p:nvPicPr>
            <p:cNvPr id="619" name="Picture 7" descr="\\nas\mmu\1Publishing_service\Logos\CGIAR logo\cgiar.tif"/>
            <p:cNvPicPr/>
            <p:nvPr/>
          </p:nvPicPr>
          <p:blipFill>
            <a:blip r:embed="rId17"/>
            <a:stretch/>
          </p:blipFill>
          <p:spPr>
            <a:xfrm>
              <a:off x="16927560" y="42149880"/>
              <a:ext cx="1906200" cy="138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TextBox 24"/>
            <p:cNvSpPr/>
            <p:nvPr/>
          </p:nvSpPr>
          <p:spPr>
            <a:xfrm>
              <a:off x="17093880" y="43618320"/>
              <a:ext cx="1814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CGIAR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621" name="Picture 25" descr=""/>
          <p:cNvPicPr/>
          <p:nvPr/>
        </p:nvPicPr>
        <p:blipFill>
          <a:blip r:embed="rId18"/>
          <a:stretch/>
        </p:blipFill>
        <p:spPr>
          <a:xfrm>
            <a:off x="10069560" y="42138720"/>
            <a:ext cx="1905120" cy="1904760"/>
          </a:xfrm>
          <a:prstGeom prst="rect">
            <a:avLst/>
          </a:prstGeom>
          <a:ln w="0">
            <a:noFill/>
          </a:ln>
        </p:spPr>
      </p:pic>
      <p:pic>
        <p:nvPicPr>
          <p:cNvPr id="622" name="Picture 26" descr=""/>
          <p:cNvPicPr/>
          <p:nvPr/>
        </p:nvPicPr>
        <p:blipFill>
          <a:blip r:embed="rId19"/>
          <a:stretch/>
        </p:blipFill>
        <p:spPr>
          <a:xfrm>
            <a:off x="316080" y="42595920"/>
            <a:ext cx="7724520" cy="1082520"/>
          </a:xfrm>
          <a:prstGeom prst="rect">
            <a:avLst/>
          </a:prstGeom>
          <a:ln w="0">
            <a:noFill/>
          </a:ln>
        </p:spPr>
      </p:pic>
      <p:pic>
        <p:nvPicPr>
          <p:cNvPr id="623" name="Picture 6" descr=""/>
          <p:cNvPicPr/>
          <p:nvPr/>
        </p:nvPicPr>
        <p:blipFill>
          <a:blip r:embed="rId20"/>
          <a:stretch/>
        </p:blipFill>
        <p:spPr>
          <a:xfrm>
            <a:off x="12126960" y="42138720"/>
            <a:ext cx="1860480" cy="1828800"/>
          </a:xfrm>
          <a:prstGeom prst="rect">
            <a:avLst/>
          </a:prstGeom>
          <a:ln w="0">
            <a:noFill/>
          </a:ln>
        </p:spPr>
      </p:pic>
      <p:pic>
        <p:nvPicPr>
          <p:cNvPr id="624" name="Picture 2" descr="E:\zReturn to desktop\ICRAF logo.png"/>
          <p:cNvPicPr/>
          <p:nvPr/>
        </p:nvPicPr>
        <p:blipFill>
          <a:blip r:embed="rId21"/>
          <a:stretch/>
        </p:blipFill>
        <p:spPr>
          <a:xfrm>
            <a:off x="7783560" y="42214680"/>
            <a:ext cx="2347920" cy="1905120"/>
          </a:xfrm>
          <a:prstGeom prst="rect">
            <a:avLst/>
          </a:prstGeom>
          <a:ln w="0">
            <a:noFill/>
          </a:ln>
        </p:spPr>
      </p:pic>
      <p:pic>
        <p:nvPicPr>
          <p:cNvPr id="625" name="Picture 29" descr=""/>
          <p:cNvPicPr/>
          <p:nvPr/>
        </p:nvPicPr>
        <p:blipFill>
          <a:blip r:embed="rId22"/>
          <a:stretch/>
        </p:blipFill>
        <p:spPr>
          <a:xfrm>
            <a:off x="14260680" y="42062400"/>
            <a:ext cx="2423880" cy="1706400"/>
          </a:xfrm>
          <a:prstGeom prst="rect">
            <a:avLst/>
          </a:prstGeom>
          <a:ln w="0">
            <a:noFill/>
          </a:ln>
        </p:spPr>
      </p:pic>
      <p:pic>
        <p:nvPicPr>
          <p:cNvPr id="626" name="Picture 30" descr=""/>
          <p:cNvPicPr/>
          <p:nvPr/>
        </p:nvPicPr>
        <p:blipFill>
          <a:blip r:embed="rId23"/>
          <a:srcRect l="26735" t="0" r="33523" b="0"/>
          <a:stretch/>
        </p:blipFill>
        <p:spPr>
          <a:xfrm>
            <a:off x="18973800" y="42609960"/>
            <a:ext cx="4622760" cy="1281240"/>
          </a:xfrm>
          <a:prstGeom prst="rect">
            <a:avLst/>
          </a:prstGeom>
          <a:ln w="0">
            <a:noFill/>
          </a:ln>
        </p:spPr>
      </p:pic>
      <p:pic>
        <p:nvPicPr>
          <p:cNvPr id="627" name="Picture 31" descr=""/>
          <p:cNvPicPr/>
          <p:nvPr/>
        </p:nvPicPr>
        <p:blipFill>
          <a:blip r:embed="rId24"/>
          <a:srcRect l="74543" t="0" r="0" b="0"/>
          <a:stretch/>
        </p:blipFill>
        <p:spPr>
          <a:xfrm>
            <a:off x="23622120" y="42671880"/>
            <a:ext cx="2819160" cy="1219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28" name=""/>
          <p:cNvGraphicFramePr/>
          <p:nvPr/>
        </p:nvGraphicFramePr>
        <p:xfrm>
          <a:off x="163440" y="4346640"/>
          <a:ext cx="4919760" cy="2636640"/>
        </p:xfrm>
        <a:graphic>
          <a:graphicData uri="http://schemas.openxmlformats.org/drawingml/2006/table">
            <a:tbl>
              <a:tblPr/>
              <a:tblGrid>
                <a:gridCol w="1397160"/>
                <a:gridCol w="3522600"/>
              </a:tblGrid>
              <a:tr h="8816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Villa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requency of aflatoxigenic A.flavus in soil (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</a:tr>
              <a:tr h="351000"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hiteg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4 (45/53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</a:tr>
              <a:tr h="351000"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jor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1 (35/49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351000"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lal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 (22/44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</a:tr>
              <a:tr h="351000"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Laikal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 (10/28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351000"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olet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 (10/20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</a:tr>
            </a:tbl>
          </a:graphicData>
        </a:graphic>
      </p:graphicFrame>
      <p:pic>
        <p:nvPicPr>
          <p:cNvPr id="629" name="Picture 2" descr="C:\Users\anitha\Desktop\Af_logCFU_Dodoma_2014 (3).jpg"/>
          <p:cNvPicPr/>
          <p:nvPr/>
        </p:nvPicPr>
        <p:blipFill>
          <a:blip r:embed="rId25"/>
          <a:stretch/>
        </p:blipFill>
        <p:spPr>
          <a:xfrm>
            <a:off x="0" y="1341360"/>
            <a:ext cx="3267000" cy="2692440"/>
          </a:xfrm>
          <a:prstGeom prst="rect">
            <a:avLst/>
          </a:prstGeom>
          <a:ln w="0">
            <a:noFill/>
          </a:ln>
        </p:spPr>
      </p:pic>
      <p:pic>
        <p:nvPicPr>
          <p:cNvPr id="630" name="Picture 4" descr=""/>
          <p:cNvPicPr/>
          <p:nvPr/>
        </p:nvPicPr>
        <p:blipFill>
          <a:blip r:embed="rId26"/>
          <a:stretch/>
        </p:blipFill>
        <p:spPr>
          <a:xfrm>
            <a:off x="3473280" y="1820880"/>
            <a:ext cx="2232360" cy="1824120"/>
          </a:xfrm>
          <a:prstGeom prst="rect">
            <a:avLst/>
          </a:prstGeom>
          <a:ln w="0">
            <a:noFill/>
          </a:ln>
        </p:spPr>
      </p:pic>
      <p:pic>
        <p:nvPicPr>
          <p:cNvPr id="631" name="Picture 38" descr=""/>
          <p:cNvPicPr/>
          <p:nvPr/>
        </p:nvPicPr>
        <p:blipFill>
          <a:blip r:embed="rId27"/>
          <a:stretch/>
        </p:blipFill>
        <p:spPr>
          <a:xfrm>
            <a:off x="5224320" y="3645000"/>
            <a:ext cx="3733920" cy="2361960"/>
          </a:xfrm>
          <a:prstGeom prst="rect">
            <a:avLst/>
          </a:prstGeom>
          <a:ln w="0">
            <a:noFill/>
          </a:ln>
        </p:spPr>
      </p:pic>
      <p:sp>
        <p:nvSpPr>
          <p:cNvPr id="632" name="TextBox 39"/>
          <p:cNvSpPr/>
          <p:nvPr/>
        </p:nvSpPr>
        <p:spPr>
          <a:xfrm>
            <a:off x="6021360" y="2225520"/>
            <a:ext cx="1989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N" sz="1800" spc="-1" strike="noStrike">
                <a:solidFill>
                  <a:srgbClr val="000000"/>
                </a:solidFill>
                <a:latin typeface="Calibri"/>
              </a:rPr>
              <a:t>Aspergillus</a:t>
            </a:r>
            <a:r>
              <a:rPr b="0" lang="en-IN" sz="1800" spc="-1" strike="noStrike">
                <a:solidFill>
                  <a:srgbClr val="000000"/>
                </a:solidFill>
                <a:latin typeface="Calibri"/>
              </a:rPr>
              <a:t> recovery from Bamabaranu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TextBox 40"/>
          <p:cNvSpPr/>
          <p:nvPr/>
        </p:nvSpPr>
        <p:spPr>
          <a:xfrm>
            <a:off x="5845320" y="6083280"/>
            <a:ext cx="329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oxigenic isolate fluorescing on coconut agar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TextBox 33"/>
          <p:cNvSpPr/>
          <p:nvPr/>
        </p:nvSpPr>
        <p:spPr>
          <a:xfrm>
            <a:off x="3076560" y="946080"/>
            <a:ext cx="588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Mapping aflatoxin contamin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5" name=""/>
          <p:cNvGraphicFramePr/>
          <p:nvPr/>
        </p:nvGraphicFramePr>
        <p:xfrm>
          <a:off x="324000" y="1446120"/>
          <a:ext cx="8132760" cy="4767480"/>
        </p:xfrm>
        <a:graphic>
          <a:graphicData uri="http://schemas.openxmlformats.org/drawingml/2006/table">
            <a:tbl>
              <a:tblPr/>
              <a:tblGrid>
                <a:gridCol w="1627200"/>
                <a:gridCol w="1625400"/>
                <a:gridCol w="1627200"/>
                <a:gridCol w="1625760"/>
                <a:gridCol w="1627200"/>
              </a:tblGrid>
              <a:tr h="8402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ield and freshly harvested sample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4320">
                      <a:solidFill>
                        <a:srgbClr val="98b954"/>
                      </a:solidFill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umber of samples tested in 2012-20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requency of samples having &gt;20 ppb toxin (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umber of samples tested in 2013-20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requency of samples having &gt;20 ppb toxin (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 w="4320">
                      <a:solidFill>
                        <a:srgbClr val="98b954"/>
                      </a:solidFill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solidFill>
                      <a:srgbClr val="9bbb59"/>
                    </a:solidFill>
                  </a:tcPr>
                </a:tc>
              </a:tr>
              <a:tr h="28116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mbara nu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 w="4320">
                      <a:solidFill>
                        <a:srgbClr val="98b954"/>
                      </a:solidFill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 w="4320">
                      <a:solidFill>
                        <a:srgbClr val="98b954"/>
                      </a:solidFill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</a:tr>
              <a:tr h="28008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oundnu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 w="4320">
                      <a:solidFill>
                        <a:srgbClr val="98b954"/>
                      </a:solidFill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 w="4320">
                      <a:solidFill>
                        <a:srgbClr val="98b954"/>
                      </a:solidFill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</a:tr>
              <a:tr h="28116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nflow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 w="4320">
                      <a:solidFill>
                        <a:srgbClr val="98b954"/>
                      </a:solidFill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 w="4320">
                      <a:solidFill>
                        <a:srgbClr val="98b954"/>
                      </a:solidFill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</a:tr>
              <a:tr h="28080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rghu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 w="4320">
                      <a:solidFill>
                        <a:srgbClr val="98b954"/>
                      </a:solidFill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 w="4320">
                      <a:solidFill>
                        <a:srgbClr val="98b954"/>
                      </a:solidFill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</a:tr>
              <a:tr h="28008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iz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 w="4320">
                      <a:solidFill>
                        <a:srgbClr val="98b954"/>
                      </a:solidFill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9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 w="4320">
                      <a:solidFill>
                        <a:srgbClr val="98b954"/>
                      </a:solidFill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</a:tr>
              <a:tr h="28116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 w="4320">
                      <a:solidFill>
                        <a:srgbClr val="98b954"/>
                      </a:solidFill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 w="4320">
                      <a:solidFill>
                        <a:srgbClr val="98b954"/>
                      </a:solidFill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</a:tr>
              <a:tr h="8402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orage samp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4320">
                      <a:solidFill>
                        <a:srgbClr val="98b954"/>
                      </a:solidFill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mber of samples tested in 2012-20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requency of samples having &gt;20 ppb toxin (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mber of samples tested in 2013-20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requency of samples having &gt;20 ppb toxin (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 w="4320">
                      <a:solidFill>
                        <a:srgbClr val="98b954"/>
                      </a:solidFill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</a:tr>
              <a:tr h="28008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mbara nu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 w="4320">
                      <a:solidFill>
                        <a:srgbClr val="98b954"/>
                      </a:solidFill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1.5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 w="4320">
                      <a:solidFill>
                        <a:srgbClr val="98b954"/>
                      </a:solidFill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</a:tr>
              <a:tr h="28116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oundnu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 w="4320">
                      <a:solidFill>
                        <a:srgbClr val="98b954"/>
                      </a:solidFill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1.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 w="4320">
                      <a:solidFill>
                        <a:srgbClr val="98b954"/>
                      </a:solidFill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</a:tr>
              <a:tr h="28080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nflow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 w="4320">
                      <a:solidFill>
                        <a:srgbClr val="98b954"/>
                      </a:solidFill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3.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 w="4320">
                      <a:solidFill>
                        <a:srgbClr val="98b954"/>
                      </a:solidFill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</a:tr>
              <a:tr h="28008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rghu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 w="4320">
                      <a:solidFill>
                        <a:srgbClr val="98b954"/>
                      </a:solidFill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1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 w="4320">
                      <a:solidFill>
                        <a:srgbClr val="98b954"/>
                      </a:solidFill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</a:tr>
              <a:tr h="28008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iz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 w="4320">
                      <a:solidFill>
                        <a:srgbClr val="98b954"/>
                      </a:solidFill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0.8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 w="4320">
                      <a:solidFill>
                        <a:srgbClr val="98b954"/>
                      </a:solidFill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36" name="TextBox 1"/>
          <p:cNvSpPr/>
          <p:nvPr/>
        </p:nvSpPr>
        <p:spPr>
          <a:xfrm>
            <a:off x="2484360" y="1052640"/>
            <a:ext cx="51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800" spc="-1" strike="noStrike">
                <a:solidFill>
                  <a:srgbClr val="000000"/>
                </a:solidFill>
                <a:latin typeface="Calibri"/>
              </a:rPr>
              <a:t>Aflatoxin contamination in fresh and storage crop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Rectangle 3"/>
          <p:cNvSpPr/>
          <p:nvPr/>
        </p:nvSpPr>
        <p:spPr>
          <a:xfrm>
            <a:off x="31680" y="6237360"/>
            <a:ext cx="9137880" cy="104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S. Anitha, W. Munthali, H. Msere, E. Swai, E. Sichone, A. Rathore, and P. Okori . Prevalence of aflatoxin in diverse cropping system and its management in central Tanzania. Submitted to crop protection journ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8" name=""/>
          <p:cNvGraphicFramePr/>
          <p:nvPr/>
        </p:nvGraphicFramePr>
        <p:xfrm>
          <a:off x="272880" y="1558800"/>
          <a:ext cx="8544240" cy="4767480"/>
        </p:xfrm>
        <a:graphic>
          <a:graphicData uri="http://schemas.openxmlformats.org/drawingml/2006/table">
            <a:tbl>
              <a:tblPr/>
              <a:tblGrid>
                <a:gridCol w="6674040"/>
                <a:gridCol w="1870200"/>
              </a:tblGrid>
              <a:tr h="8416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urvey after the post-harvest  management train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4320">
                      <a:solidFill>
                        <a:srgbClr val="98b954"/>
                      </a:solidFill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requenc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4320">
                      <a:solidFill>
                        <a:srgbClr val="98b954"/>
                      </a:solidFill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solidFill>
                      <a:srgbClr val="9bbb59"/>
                    </a:solidFill>
                  </a:tcPr>
                </a:tc>
              </a:tr>
              <a:tr h="5601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flatoxin awareness among farmers attended training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4320">
                      <a:solidFill>
                        <a:srgbClr val="98b954"/>
                      </a:solidFill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2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4320">
                      <a:solidFill>
                        <a:srgbClr val="98b954"/>
                      </a:solidFill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</a:tr>
              <a:tr h="2811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armers grading their grai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4320">
                      <a:solidFill>
                        <a:srgbClr val="98b954"/>
                      </a:solidFill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4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4320">
                      <a:solidFill>
                        <a:srgbClr val="98b954"/>
                      </a:solidFill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</a:tr>
              <a:tr h="14014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riteria for grading grai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sed on rottennes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sed on siz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sed on plumpnes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sed on colou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4320">
                      <a:solidFill>
                        <a:srgbClr val="98b954"/>
                      </a:solidFill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5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4320">
                      <a:solidFill>
                        <a:srgbClr val="98b954"/>
                      </a:solidFill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</a:tr>
              <a:tr h="1122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 reason for drying the grai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reduce moistu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t know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ust as a traditional practi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4320">
                      <a:solidFill>
                        <a:srgbClr val="98b954"/>
                      </a:solidFill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2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4320">
                      <a:solidFill>
                        <a:srgbClr val="98b954"/>
                      </a:solidFill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</a:tr>
              <a:tr h="5605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armers awareness and practice on proper drying, grading and storage of grains to reduce aflatoxin in grai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4320">
                      <a:solidFill>
                        <a:srgbClr val="98b954"/>
                      </a:solidFill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2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4320">
                      <a:solidFill>
                        <a:srgbClr val="98b954"/>
                      </a:solidFill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39" name="TextBox 2"/>
          <p:cNvSpPr/>
          <p:nvPr/>
        </p:nvSpPr>
        <p:spPr>
          <a:xfrm>
            <a:off x="2701800" y="907920"/>
            <a:ext cx="64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Impact of train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Rectangle 4"/>
          <p:cNvSpPr/>
          <p:nvPr/>
        </p:nvSpPr>
        <p:spPr>
          <a:xfrm>
            <a:off x="250920" y="2781360"/>
            <a:ext cx="835344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200" spc="-1" strike="noStrike">
                <a:solidFill>
                  <a:srgbClr val="000000"/>
                </a:solidFill>
                <a:latin typeface="Calibri"/>
              </a:rPr>
              <a:t>Maize porridge is a major complementary food for children less than 1000 days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200" spc="-1" strike="noStrike">
                <a:solidFill>
                  <a:srgbClr val="000000"/>
                </a:solidFill>
                <a:latin typeface="Calibri"/>
              </a:rPr>
              <a:t>Pigeonpea produced is for trading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200" spc="-1" strike="noStrike">
                <a:solidFill>
                  <a:srgbClr val="000000"/>
                </a:solidFill>
                <a:latin typeface="Calibri"/>
              </a:rPr>
              <a:t>Low quality of staple grains  (aflatoxin contamination). The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hildren are exposed with mean AFM1 level of 122 pg ml</a:t>
            </a:r>
            <a:r>
              <a:rPr b="0" lang="en-US" sz="2200" spc="-1" strike="noStrike" baseline="30000">
                <a:solidFill>
                  <a:srgbClr val="000000"/>
                </a:solidFill>
                <a:latin typeface="Calibri"/>
              </a:rPr>
              <a:t>-1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of urine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Less knowledge on importance of nutrition content in daily food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Less involvement of men in household activities including feeding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tensive 21 days learning by doing process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Quantification of impact on underweight, wasting and stunting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TextBox 1"/>
          <p:cNvSpPr/>
          <p:nvPr/>
        </p:nvSpPr>
        <p:spPr>
          <a:xfrm>
            <a:off x="611280" y="1773360"/>
            <a:ext cx="813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2400" spc="-1" strike="noStrike">
                <a:solidFill>
                  <a:srgbClr val="000000"/>
                </a:solidFill>
                <a:latin typeface="Calibri"/>
              </a:rPr>
              <a:t>Baseline to understand current practice on utilization of cereals and legumes followed by training (PDH model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1"/>
          <p:cNvSpPr/>
          <p:nvPr/>
        </p:nvSpPr>
        <p:spPr>
          <a:xfrm>
            <a:off x="11160" y="1628640"/>
            <a:ext cx="9144000" cy="50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spcAft>
                <a:spcPts val="799"/>
              </a:spcAft>
              <a:tabLst>
                <a:tab algn="l" pos="0"/>
                <a:tab algn="ctr" pos="2865600"/>
                <a:tab algn="l" pos="4019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2000" spc="-1" strike="noStrike">
                <a:solidFill>
                  <a:srgbClr val="000000"/>
                </a:solidFill>
                <a:latin typeface="Calibri"/>
                <a:ea typeface="MS Mincho"/>
              </a:rPr>
              <a:t>The effect of legumes cereal based complementary diet, reduced aflatoxin exposure and improved hygiene practices on wasting and underweight status of children in Central Tanzan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200000"/>
              </a:lnSpc>
              <a:spcAft>
                <a:spcPts val="799"/>
              </a:spcAft>
              <a:tabLst>
                <a:tab algn="l" pos="0"/>
                <a:tab algn="ctr" pos="2865600"/>
                <a:tab algn="l" pos="4019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800" spc="-1" strike="noStrike">
                <a:solidFill>
                  <a:srgbClr val="000000"/>
                </a:solidFill>
                <a:latin typeface="Calibri"/>
                <a:ea typeface="MS Mincho"/>
              </a:rPr>
              <a:t> 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MS Mincho"/>
              </a:rPr>
              <a:t>Anitha Seetha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alibri"/>
                <a:ea typeface="MS Mincho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MS Mincho"/>
              </a:rPr>
              <a:t>, Yasinta Muzanila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alibri"/>
                <a:ea typeface="MS Mincho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MS Mincho"/>
              </a:rPr>
              <a:t>, </a:t>
            </a: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MS Mincho"/>
              </a:rPr>
              <a:t>Taku W. Tsusaka</a:t>
            </a:r>
            <a:r>
              <a:rPr b="0" lang="en-IN" sz="1800" spc="-1" strike="noStrike" baseline="30000">
                <a:solidFill>
                  <a:srgbClr val="000000"/>
                </a:solidFill>
                <a:latin typeface="Calibri"/>
                <a:ea typeface="MS Mincho"/>
              </a:rPr>
              <a:t>1</a:t>
            </a: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MS Mincho"/>
              </a:rPr>
              <a:t>, Emmanuel S Monyo</a:t>
            </a:r>
            <a:r>
              <a:rPr b="0" lang="en-IN" sz="1800" spc="-1" strike="noStrike" baseline="30000">
                <a:solidFill>
                  <a:srgbClr val="000000"/>
                </a:solidFill>
                <a:latin typeface="Calibri"/>
                <a:ea typeface="MS Mincho"/>
              </a:rPr>
              <a:t>3</a:t>
            </a: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MS Mincho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MS Mincho"/>
              </a:rPr>
              <a:t>Lizzie Kachulu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alibri"/>
                <a:ea typeface="MS Mincho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MS Mincho"/>
              </a:rPr>
              <a:t> Mike Musoke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alibri"/>
                <a:ea typeface="MS Mincho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MS Mincho"/>
              </a:rPr>
              <a:t>, and Patrick Okori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alibri"/>
                <a:ea typeface="MS Mincho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200000"/>
              </a:lnSpc>
              <a:spcBef>
                <a:spcPts val="400"/>
              </a:spcBef>
              <a:tabLst>
                <a:tab algn="l" pos="0"/>
                <a:tab algn="ctr" pos="2865600"/>
                <a:tab algn="l" pos="4019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 baseline="30000">
                <a:solidFill>
                  <a:srgbClr val="000000"/>
                </a:solidFill>
                <a:latin typeface="Calibri"/>
                <a:ea typeface="MS Mincho"/>
              </a:rPr>
              <a:t>1</a:t>
            </a:r>
            <a:r>
              <a:rPr b="0" lang="en-IN" sz="1200" spc="-1" strike="noStrike">
                <a:solidFill>
                  <a:srgbClr val="000000"/>
                </a:solidFill>
                <a:latin typeface="Calibri"/>
                <a:ea typeface="MS Mincho"/>
              </a:rPr>
              <a:t>International Crops Research Institute for the Semi-Arid Tropics (ICRISAT), P.O Box 1096 Lilongwe, Malaw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200000"/>
              </a:lnSpc>
              <a:spcBef>
                <a:spcPts val="400"/>
              </a:spcBef>
              <a:tabLst>
                <a:tab algn="l" pos="0"/>
                <a:tab algn="ctr" pos="2865600"/>
                <a:tab algn="l" pos="4019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 baseline="30000">
                <a:solidFill>
                  <a:srgbClr val="000000"/>
                </a:solidFill>
                <a:latin typeface="Calibri"/>
                <a:ea typeface="MS Mincho"/>
              </a:rPr>
              <a:t>2</a:t>
            </a:r>
            <a:r>
              <a:rPr b="0" lang="en-IN" sz="1200" spc="-1" strike="noStrike">
                <a:solidFill>
                  <a:srgbClr val="000000"/>
                </a:solidFill>
                <a:latin typeface="Calibri"/>
                <a:ea typeface="MS Mincho"/>
              </a:rPr>
              <a:t>Sokoine University of Agriculture (SUA), P.O Box 3000, Chuo Kikuu, Morogoro, Tanzan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200000"/>
              </a:lnSpc>
              <a:spcBef>
                <a:spcPts val="400"/>
              </a:spcBef>
              <a:tabLst>
                <a:tab algn="l" pos="0"/>
                <a:tab algn="ctr" pos="2865600"/>
                <a:tab algn="l" pos="4019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 baseline="30000">
                <a:solidFill>
                  <a:srgbClr val="000000"/>
                </a:solidFill>
                <a:latin typeface="Calibri"/>
                <a:ea typeface="MS Mincho"/>
              </a:rPr>
              <a:t>3</a:t>
            </a:r>
            <a:r>
              <a:rPr b="0" lang="en-IN" sz="1200" spc="-1" strike="noStrike">
                <a:solidFill>
                  <a:srgbClr val="000000"/>
                </a:solidFill>
                <a:latin typeface="Calibri"/>
                <a:ea typeface="MS Mincho"/>
              </a:rPr>
              <a:t>International Crops Research Institute for the Semi-Arid Tropics (ICRISAT), P.O.Box</a:t>
            </a:r>
            <a:r>
              <a:rPr b="0" lang="en-US" sz="1200" spc="-1" strike="noStrike">
                <a:solidFill>
                  <a:srgbClr val="581d92"/>
                </a:solidFill>
                <a:latin typeface="Calibri"/>
                <a:ea typeface="MS Mincho"/>
              </a:rPr>
              <a:t>, </a:t>
            </a:r>
            <a:r>
              <a:rPr b="0" lang="en-IN" sz="1200" spc="-1" strike="noStrike">
                <a:solidFill>
                  <a:srgbClr val="000000"/>
                </a:solidFill>
                <a:latin typeface="Calibri"/>
                <a:ea typeface="MS Mincho"/>
              </a:rPr>
              <a:t>39063, Nairobi Keny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200000"/>
              </a:lnSpc>
              <a:spcAft>
                <a:spcPts val="799"/>
              </a:spcAft>
              <a:tabLst>
                <a:tab algn="l" pos="0"/>
                <a:tab algn="ctr" pos="2865600"/>
                <a:tab algn="l" pos="4019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N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Rectangle 2"/>
          <p:cNvSpPr/>
          <p:nvPr/>
        </p:nvSpPr>
        <p:spPr>
          <a:xfrm>
            <a:off x="684360" y="1484280"/>
            <a:ext cx="741672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2000" spc="-1" strike="noStrike">
                <a:solidFill>
                  <a:srgbClr val="000000"/>
                </a:solidFill>
                <a:latin typeface="Calibri"/>
                <a:ea typeface="MS Mincho"/>
              </a:rPr>
              <a:t>Introduc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  <a:ea typeface="MS Mincho"/>
              </a:rPr>
              <a:t>At national level, stunting or chronic malnutrition was estimated as 35% of children between 0-59 months age which is though fell from 42 % between 2010 and 2014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NewRomanPSMT"/>
              </a:rPr>
              <a:t>According to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  <a:ea typeface="MS Mincho"/>
              </a:rPr>
              <a:t>WHO classification, stunting rates above 20%, wasting rates above 5% and underweight rates above 10% are considered high and cause for alarm in any population (WHO, 2014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Wasting, stunting and underweight are the three elements of undernutrition. </a:t>
            </a:r>
            <a:r>
              <a:rPr b="1" lang="en-IN" sz="2000" spc="-1" strike="noStrike">
                <a:solidFill>
                  <a:srgbClr val="000000"/>
                </a:solidFill>
                <a:latin typeface="Calibri"/>
              </a:rPr>
              <a:t>The causes for undernutrition is multifactorial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The current study focused on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Dietary diversification using locally produced affordable food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Water, sanitation and hygiene (WASH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Food safety management, specifically aflatoxin control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TextBox 2"/>
          <p:cNvSpPr/>
          <p:nvPr/>
        </p:nvSpPr>
        <p:spPr>
          <a:xfrm>
            <a:off x="539640" y="1413000"/>
            <a:ext cx="6912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2400" spc="-1" strike="noStrike">
                <a:solidFill>
                  <a:srgbClr val="000000"/>
                </a:solidFill>
                <a:latin typeface="Calibri"/>
              </a:rPr>
              <a:t>Methodolog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000000"/>
                </a:solidFill>
                <a:latin typeface="Calibri"/>
              </a:rPr>
              <a:t>Baseline Survey with anthropometry measurement, crop sample analysis and urine sample analysis for aflatoxi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000000"/>
                </a:solidFill>
                <a:latin typeface="Calibri"/>
              </a:rPr>
              <a:t>Training – Positive deviance hearth model (CORE,2000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he difference-in-difference (DID) is a capable tool to estimate treatment effects by systematically comparing the pre- and post-treatment differences in the outcome between a treatment group and a control group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5" name=""/>
          <p:cNvGraphicFramePr/>
          <p:nvPr/>
        </p:nvGraphicFramePr>
        <p:xfrm>
          <a:off x="395280" y="2349360"/>
          <a:ext cx="8424720" cy="3011760"/>
        </p:xfrm>
        <a:graphic>
          <a:graphicData uri="http://schemas.openxmlformats.org/drawingml/2006/table">
            <a:tbl>
              <a:tblPr/>
              <a:tblGrid>
                <a:gridCol w="4834080"/>
                <a:gridCol w="3590640"/>
              </a:tblGrid>
              <a:tr h="76536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N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ndicato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4320">
                      <a:solidFill>
                        <a:srgbClr val="98b954"/>
                      </a:solidFill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N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Value, number of samp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N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ge in month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 w="4320">
                      <a:solidFill>
                        <a:srgbClr val="98b954"/>
                      </a:solidFill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solidFill>
                      <a:srgbClr val="9bbb59"/>
                    </a:solidFill>
                  </a:tcPr>
                </a:tc>
              </a:tr>
              <a:tr h="3747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clusively breast fed (EBF),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4320">
                      <a:solidFill>
                        <a:srgbClr val="98b954"/>
                      </a:solidFill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69.1%), 87, &lt;6 month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 w="4320">
                      <a:solidFill>
                        <a:srgbClr val="98b954"/>
                      </a:solidFill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</a:tr>
              <a:tr h="3744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etary diversity score, mean (SD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4320">
                      <a:solidFill>
                        <a:srgbClr val="98b954"/>
                      </a:solidFill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00 (1.1), 87, 6-23 month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 w="4320">
                      <a:solidFill>
                        <a:srgbClr val="98b954"/>
                      </a:solidFill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t minimum dietary score,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4320">
                      <a:solidFill>
                        <a:srgbClr val="98b954"/>
                      </a:solidFill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 %,  87, 6-23 month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 w="4320">
                      <a:solidFill>
                        <a:srgbClr val="98b954"/>
                      </a:solidFill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</a:tr>
              <a:tr h="3729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al frequency, mean (SD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4320">
                      <a:solidFill>
                        <a:srgbClr val="98b954"/>
                      </a:solidFill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31 (0.96), 87, 6-23 month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 w="4320">
                      <a:solidFill>
                        <a:srgbClr val="98b954"/>
                      </a:solidFill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t minimum meal frequency (MMF),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4320">
                      <a:solidFill>
                        <a:srgbClr val="98b954"/>
                      </a:solidFill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43.7</a:t>
                      </a: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%, 87, 6-23 month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 w="4320">
                      <a:solidFill>
                        <a:srgbClr val="98b954"/>
                      </a:solidFill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t minimum acceptable diet,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4320">
                      <a:solidFill>
                        <a:srgbClr val="98b954"/>
                      </a:solidFill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18.4 %</a:t>
                      </a: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 87, 6-23 month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 w="4320">
                      <a:solidFill>
                        <a:srgbClr val="98b954"/>
                      </a:solidFill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6" name="TextBox 1"/>
          <p:cNvSpPr/>
          <p:nvPr/>
        </p:nvSpPr>
        <p:spPr>
          <a:xfrm>
            <a:off x="395280" y="1484280"/>
            <a:ext cx="83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2800" spc="-1" strike="noStrike">
                <a:solidFill>
                  <a:srgbClr val="000000"/>
                </a:solidFill>
                <a:latin typeface="Calibri"/>
              </a:rPr>
              <a:t>Result: Dietary diversification and  IYCF practi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4T10:22:54Z</dcterms:created>
  <dc:creator>Vengala Reddy, Ch (ICRISAT-IN)</dc:creator>
  <dc:description/>
  <dc:language>en-US</dc:language>
  <cp:lastModifiedBy>ANITHA SEETHA</cp:lastModifiedBy>
  <dcterms:modified xsi:type="dcterms:W3CDTF">2016-06-30T06:41:49Z</dcterms:modified>
  <cp:revision>28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0c09000000000001023620</vt:lpwstr>
  </property>
</Properties>
</file>