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33C65-0E8C-4CAD-B5AA-22CF70F56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12AE8-0A71-4B83-A0C0-99F194AFA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06AC8-CA04-4FF2-A47A-95429436F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3D3BA-1115-4E7B-B51C-DA9FA8392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C19C7-8686-4DE5-A396-8D0775AB3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B5D63-F40D-415F-86EB-66D63F552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1D83B-DB47-4B5F-AA7D-0B7E5EFFC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0F82F-8109-4321-9EB2-3FC25F02B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EAB31-C0A2-486C-9DAB-A2CC67F7B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B33A0-2E69-4D4C-A023-12136907B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C9FAC-4E8F-45A7-8A0B-3E914E139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E8660-9969-4537-BCBB-3A5FB3913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7E4B1-D605-4385-8663-9FB69DCE0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CC974-76D2-470A-B092-46C10F290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579FF-9BD3-4704-A0B7-0221F3E3C5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579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23720" y="3878640"/>
            <a:ext cx="579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1560" y="13712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123720" y="38786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091560" y="38786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18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1760" y="1371240"/>
            <a:ext cx="18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039800" y="1371240"/>
            <a:ext cx="18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123720" y="3878640"/>
            <a:ext cx="18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5081760" y="3878640"/>
            <a:ext cx="18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7039800" y="3878640"/>
            <a:ext cx="18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123720" y="1371240"/>
            <a:ext cx="5791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5791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2826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091560" y="1371240"/>
            <a:ext cx="2826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5640120"/>
            <a:ext cx="259056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091560" y="1371240"/>
            <a:ext cx="2826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123720" y="38786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2826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091560" y="13712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1560" y="38786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1560" y="13712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123720" y="3878640"/>
            <a:ext cx="579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23720" y="1371240"/>
            <a:ext cx="5791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7805520" y="652212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6" descr="IITA_large-sienna [Converted]"/>
          <p:cNvPicPr/>
          <p:nvPr/>
        </p:nvPicPr>
        <p:blipFill>
          <a:blip r:embed="rId2"/>
          <a:stretch/>
        </p:blipFill>
        <p:spPr>
          <a:xfrm>
            <a:off x="304920" y="228600"/>
            <a:ext cx="1371600" cy="68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image" Target="../media/image23.png"/><Relationship Id="rId22" Type="http://schemas.openxmlformats.org/officeDocument/2006/relationships/image" Target="../media/image24.png"/><Relationship Id="rId23" Type="http://schemas.openxmlformats.org/officeDocument/2006/relationships/image" Target="../media/image25.png"/><Relationship Id="rId24" Type="http://schemas.openxmlformats.org/officeDocument/2006/relationships/image" Target="../media/image26.png"/><Relationship Id="rId25" Type="http://schemas.openxmlformats.org/officeDocument/2006/relationships/image" Target="../media/image27.png"/><Relationship Id="rId26" Type="http://schemas.openxmlformats.org/officeDocument/2006/relationships/image" Target="../media/image28.png"/><Relationship Id="rId27" Type="http://schemas.openxmlformats.org/officeDocument/2006/relationships/image" Target="../media/image29.png"/><Relationship Id="rId28" Type="http://schemas.openxmlformats.org/officeDocument/2006/relationships/image" Target="../media/image30.png"/><Relationship Id="rId29" Type="http://schemas.openxmlformats.org/officeDocument/2006/relationships/image" Target="../media/image31.png"/><Relationship Id="rId30" Type="http://schemas.openxmlformats.org/officeDocument/2006/relationships/image" Target="../media/image32.png"/><Relationship Id="rId31" Type="http://schemas.openxmlformats.org/officeDocument/2006/relationships/image" Target="../media/image33.png"/><Relationship Id="rId32" Type="http://schemas.openxmlformats.org/officeDocument/2006/relationships/slideLayout" Target="../slideLayouts/slideLayout1.xml"/><Relationship Id="rId3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685800" y="990720"/>
            <a:ext cx="799956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Research design and opportunities for evaluation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609480" y="4115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990720" y="4344120"/>
            <a:ext cx="72388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ID Feed the Future Africa RISING (Research in Sustainable Intensification for the Next Gener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ing &amp; Evaluation Expert Meeting, September 5-7, 2012, Addis Ababa, Ethio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4"/>
          <p:cNvSpPr/>
          <p:nvPr/>
        </p:nvSpPr>
        <p:spPr>
          <a:xfrm>
            <a:off x="1523880" y="152280"/>
            <a:ext cx="7239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ls design: Demand-side: Encouragement : M-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36264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4"/>
          <p:cNvSpPr/>
          <p:nvPr/>
        </p:nvSpPr>
        <p:spPr>
          <a:xfrm>
            <a:off x="1523880" y="152280"/>
            <a:ext cx="7239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ls design: Demand-side: Encouragement : M-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539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3"/>
          <p:cNvSpPr/>
          <p:nvPr/>
        </p:nvSpPr>
        <p:spPr>
          <a:xfrm>
            <a:off x="380880" y="1295280"/>
            <a:ext cx="84582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ell innovations at the market pri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Choose villages without innovations and randomly choose subset of villages to sell innov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Randomized offer of production and marketing contracts to entire treatment vill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1523880" y="152280"/>
            <a:ext cx="7153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ls design: Supply-side: Introduce to entire villages mimicking market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610760" cy="442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0" name=""/>
          <p:cNvGraphicFramePr/>
          <p:nvPr/>
        </p:nvGraphicFramePr>
        <p:xfrm>
          <a:off x="762120" y="5715000"/>
          <a:ext cx="7543800" cy="981000"/>
        </p:xfrm>
        <a:graphic>
          <a:graphicData uri="http://schemas.openxmlformats.org/drawingml/2006/table">
            <a:tbl>
              <a:tblPr/>
              <a:tblGrid>
                <a:gridCol w="1753920"/>
                <a:gridCol w="1608120"/>
                <a:gridCol w="673200"/>
                <a:gridCol w="1728720"/>
                <a:gridCol w="1779840"/>
              </a:tblGrid>
              <a:tr h="2462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Forward Contra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No Forward Contra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Seed + Fertiliz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Fertilizer On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Seed + Fertiliz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Fertilizer On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Seed On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Neit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Seed On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Neit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1" name="Rectangle 4"/>
          <p:cNvSpPr/>
          <p:nvPr/>
        </p:nvSpPr>
        <p:spPr>
          <a:xfrm>
            <a:off x="1523880" y="152280"/>
            <a:ext cx="7153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ls design: Supply-side: Introduce to entire villages mimicking market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3"/>
          <p:cNvSpPr/>
          <p:nvPr/>
        </p:nvSpPr>
        <p:spPr>
          <a:xfrm>
            <a:off x="457200" y="1066680"/>
            <a:ext cx="84582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er some randomly selected groups of households in different settings at multiple sites the same technologies and delivery mech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S-based meta-analysis of the effects of the inter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S-based prediction of effects of subsequent implementation of th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133720" y="304560"/>
            <a:ext cx="35049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-3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search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228600" y="457200"/>
            <a:ext cx="876312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What are options for SI          poverty, nutrition, ecosystem stabil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What are processes/mechanisms for integrating &amp; delivering SI innova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How improve livelihoods out of poverty/improve nutri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How upscale/disseminate integrated innovations for SI beyond AR are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Straight Arrow Connector 5"/>
          <p:cNvCxnSpPr/>
          <p:nvPr/>
        </p:nvCxnSpPr>
        <p:spPr>
          <a:xfrm>
            <a:off x="4419720" y="1142640"/>
            <a:ext cx="762480" cy="108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-3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228600" y="457200"/>
            <a:ext cx="876312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Need rigorous research design (hypotheses, parameters, puzzle, analytical methods, data collection) + appropriate counterfactuals/controls for confounding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Need to move away from on-farm plot-level randomized trials to design that allows farmers to select into ad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use quasi-experimental and experimental (RC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228600" y="457200"/>
            <a:ext cx="86104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Need global best practice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CTs “gold standar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Need IPGs: internationally generalizable lessons: scal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Need to leverage public-private-civil society partnerships funded by USAID already on the 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Need to link supply and demand side experi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68200" y="1396800"/>
            <a:ext cx="8585280" cy="50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1523880" y="152280"/>
            <a:ext cx="71535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ls design: Random plac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171360" y="188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3"/>
          <p:cNvSpPr/>
          <p:nvPr/>
        </p:nvSpPr>
        <p:spPr>
          <a:xfrm>
            <a:off x="171360" y="188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72"/>
          <p:cNvGrpSpPr/>
          <p:nvPr/>
        </p:nvGrpSpPr>
        <p:grpSpPr>
          <a:xfrm>
            <a:off x="2949480" y="1449360"/>
            <a:ext cx="6194160" cy="4819320"/>
            <a:chOff x="2949480" y="1449360"/>
            <a:chExt cx="6194160" cy="4819320"/>
          </a:xfrm>
        </p:grpSpPr>
        <p:sp>
          <p:nvSpPr>
            <p:cNvPr id="62" name="AutoShape 71"/>
            <p:cNvSpPr/>
            <p:nvPr/>
          </p:nvSpPr>
          <p:spPr>
            <a:xfrm>
              <a:off x="2949480" y="1449360"/>
              <a:ext cx="6194160" cy="48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73"/>
            <p:cNvSpPr/>
            <p:nvPr/>
          </p:nvSpPr>
          <p:spPr>
            <a:xfrm>
              <a:off x="2984400" y="14511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74"/>
            <p:cNvSpPr/>
            <p:nvPr/>
          </p:nvSpPr>
          <p:spPr>
            <a:xfrm>
              <a:off x="5841000" y="1791720"/>
              <a:ext cx="72720" cy="57744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577440"/>
                <a:gd name="textAreaBottom" fmla="*/ 577800 h 577440"/>
              </a:gdLst>
              <a:ahLst/>
              <a:rect l="textAreaLeft" t="textAreaTop" r="textAreaRight" b="textAreaBottom"/>
              <a:pathLst>
                <a:path w="400" h="3033">
                  <a:moveTo>
                    <a:pt x="233" y="33"/>
                  </a:moveTo>
                  <a:lnTo>
                    <a:pt x="233" y="2700"/>
                  </a:lnTo>
                  <a:cubicBezTo>
                    <a:pt x="233" y="2719"/>
                    <a:pt x="219" y="2733"/>
                    <a:pt x="200" y="2733"/>
                  </a:cubicBezTo>
                  <a:cubicBezTo>
                    <a:pt x="182" y="2733"/>
                    <a:pt x="167" y="2719"/>
                    <a:pt x="167" y="2700"/>
                  </a:cubicBezTo>
                  <a:lnTo>
                    <a:pt x="167" y="33"/>
                  </a:lnTo>
                  <a:cubicBezTo>
                    <a:pt x="167" y="15"/>
                    <a:pt x="182" y="0"/>
                    <a:pt x="200" y="0"/>
                  </a:cubicBezTo>
                  <a:cubicBezTo>
                    <a:pt x="219" y="0"/>
                    <a:pt x="233" y="15"/>
                    <a:pt x="233" y="33"/>
                  </a:cubicBezTo>
                  <a:close/>
                  <a:moveTo>
                    <a:pt x="400" y="2633"/>
                  </a:moveTo>
                  <a:lnTo>
                    <a:pt x="200" y="3033"/>
                  </a:lnTo>
                  <a:lnTo>
                    <a:pt x="0" y="2633"/>
                  </a:lnTo>
                  <a:lnTo>
                    <a:pt x="400" y="2633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75"/>
            <p:cNvSpPr/>
            <p:nvPr/>
          </p:nvSpPr>
          <p:spPr>
            <a:xfrm>
              <a:off x="5227920" y="2821320"/>
              <a:ext cx="334080" cy="350640"/>
            </a:xfrm>
            <a:custGeom>
              <a:avLst/>
              <a:gdLst>
                <a:gd name="textAreaLeft" fmla="*/ 0 w 334080"/>
                <a:gd name="textAreaRight" fmla="*/ 334080 w 334080"/>
                <a:gd name="textAreaTop" fmla="*/ 0 h 350640"/>
                <a:gd name="textAreaBottom" fmla="*/ 351000 h 350640"/>
              </a:gdLst>
              <a:ahLst/>
              <a:rect l="textAreaLeft" t="textAreaTop" r="textAreaRight" b="textAreaBottom"/>
              <a:pathLst>
                <a:path w="3673" h="3673">
                  <a:moveTo>
                    <a:pt x="3647" y="120"/>
                  </a:moveTo>
                  <a:lnTo>
                    <a:pt x="518" y="3249"/>
                  </a:lnTo>
                  <a:cubicBezTo>
                    <a:pt x="492" y="3275"/>
                    <a:pt x="450" y="3275"/>
                    <a:pt x="424" y="3249"/>
                  </a:cubicBezTo>
                  <a:cubicBezTo>
                    <a:pt x="398" y="3223"/>
                    <a:pt x="398" y="3181"/>
                    <a:pt x="424" y="3155"/>
                  </a:cubicBezTo>
                  <a:lnTo>
                    <a:pt x="3553" y="26"/>
                  </a:lnTo>
                  <a:cubicBezTo>
                    <a:pt x="3579" y="0"/>
                    <a:pt x="3621" y="0"/>
                    <a:pt x="3647" y="26"/>
                  </a:cubicBezTo>
                  <a:cubicBezTo>
                    <a:pt x="3673" y="52"/>
                    <a:pt x="3673" y="94"/>
                    <a:pt x="3647" y="120"/>
                  </a:cubicBezTo>
                  <a:close/>
                  <a:moveTo>
                    <a:pt x="848" y="3390"/>
                  </a:moveTo>
                  <a:lnTo>
                    <a:pt x="0" y="3673"/>
                  </a:lnTo>
                  <a:lnTo>
                    <a:pt x="283" y="2825"/>
                  </a:lnTo>
                  <a:lnTo>
                    <a:pt x="848" y="339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76"/>
            <p:cNvSpPr/>
            <p:nvPr/>
          </p:nvSpPr>
          <p:spPr>
            <a:xfrm>
              <a:off x="6518880" y="2821320"/>
              <a:ext cx="657360" cy="579240"/>
            </a:xfrm>
            <a:custGeom>
              <a:avLst/>
              <a:gdLst>
                <a:gd name="textAreaLeft" fmla="*/ 0 w 657360"/>
                <a:gd name="textAreaRight" fmla="*/ 657720 w 657360"/>
                <a:gd name="textAreaTop" fmla="*/ 0 h 579240"/>
                <a:gd name="textAreaBottom" fmla="*/ 579600 h 579240"/>
              </a:gdLst>
              <a:ahLst/>
              <a:rect l="textAreaLeft" t="textAreaTop" r="textAreaRight" b="textAreaBottom"/>
              <a:pathLst>
                <a:path w="3637" h="3038">
                  <a:moveTo>
                    <a:pt x="58" y="12"/>
                  </a:moveTo>
                  <a:lnTo>
                    <a:pt x="3402" y="2799"/>
                  </a:lnTo>
                  <a:cubicBezTo>
                    <a:pt x="3417" y="2811"/>
                    <a:pt x="3418" y="2832"/>
                    <a:pt x="3407" y="2846"/>
                  </a:cubicBezTo>
                  <a:cubicBezTo>
                    <a:pt x="3395" y="2860"/>
                    <a:pt x="3374" y="2862"/>
                    <a:pt x="3360" y="2850"/>
                  </a:cubicBezTo>
                  <a:lnTo>
                    <a:pt x="16" y="63"/>
                  </a:lnTo>
                  <a:cubicBezTo>
                    <a:pt x="2" y="52"/>
                    <a:pt x="0" y="31"/>
                    <a:pt x="12" y="16"/>
                  </a:cubicBezTo>
                  <a:cubicBezTo>
                    <a:pt x="23" y="2"/>
                    <a:pt x="44" y="0"/>
                    <a:pt x="58" y="12"/>
                  </a:cubicBezTo>
                  <a:close/>
                  <a:moveTo>
                    <a:pt x="3458" y="2628"/>
                  </a:moveTo>
                  <a:lnTo>
                    <a:pt x="3637" y="3038"/>
                  </a:lnTo>
                  <a:lnTo>
                    <a:pt x="3202" y="2935"/>
                  </a:lnTo>
                  <a:lnTo>
                    <a:pt x="3458" y="2628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77"/>
            <p:cNvSpPr/>
            <p:nvPr/>
          </p:nvSpPr>
          <p:spPr>
            <a:xfrm>
              <a:off x="3602880" y="3966120"/>
              <a:ext cx="981360" cy="1035720"/>
            </a:xfrm>
            <a:custGeom>
              <a:avLst/>
              <a:gdLst>
                <a:gd name="textAreaLeft" fmla="*/ 0 w 981360"/>
                <a:gd name="textAreaRight" fmla="*/ 981720 w 981360"/>
                <a:gd name="textAreaTop" fmla="*/ 0 h 1035720"/>
                <a:gd name="textAreaBottom" fmla="*/ 1036080 h 1035720"/>
              </a:gdLst>
              <a:ahLst/>
              <a:rect l="textAreaLeft" t="textAreaTop" r="textAreaRight" b="textAreaBottom"/>
              <a:pathLst>
                <a:path w="5437" h="5437">
                  <a:moveTo>
                    <a:pt x="5424" y="60"/>
                  </a:moveTo>
                  <a:lnTo>
                    <a:pt x="259" y="5225"/>
                  </a:lnTo>
                  <a:cubicBezTo>
                    <a:pt x="246" y="5238"/>
                    <a:pt x="225" y="5238"/>
                    <a:pt x="212" y="5225"/>
                  </a:cubicBezTo>
                  <a:cubicBezTo>
                    <a:pt x="199" y="5212"/>
                    <a:pt x="199" y="5191"/>
                    <a:pt x="212" y="5178"/>
                  </a:cubicBezTo>
                  <a:lnTo>
                    <a:pt x="5377" y="13"/>
                  </a:lnTo>
                  <a:cubicBezTo>
                    <a:pt x="5390" y="0"/>
                    <a:pt x="5411" y="0"/>
                    <a:pt x="5424" y="13"/>
                  </a:cubicBezTo>
                  <a:cubicBezTo>
                    <a:pt x="5437" y="26"/>
                    <a:pt x="5437" y="47"/>
                    <a:pt x="5424" y="60"/>
                  </a:cubicBezTo>
                  <a:close/>
                  <a:moveTo>
                    <a:pt x="424" y="5295"/>
                  </a:moveTo>
                  <a:lnTo>
                    <a:pt x="0" y="5437"/>
                  </a:lnTo>
                  <a:lnTo>
                    <a:pt x="142" y="5013"/>
                  </a:lnTo>
                  <a:lnTo>
                    <a:pt x="424" y="529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8"/>
            <p:cNvSpPr/>
            <p:nvPr/>
          </p:nvSpPr>
          <p:spPr>
            <a:xfrm>
              <a:off x="4457880" y="3966120"/>
              <a:ext cx="343440" cy="1035720"/>
            </a:xfrm>
            <a:custGeom>
              <a:avLst/>
              <a:gdLst>
                <a:gd name="textAreaLeft" fmla="*/ 0 w 343440"/>
                <a:gd name="textAreaRight" fmla="*/ 343800 w 343440"/>
                <a:gd name="textAreaTop" fmla="*/ 0 h 1035720"/>
                <a:gd name="textAreaBottom" fmla="*/ 1036080 h 1035720"/>
              </a:gdLst>
              <a:ahLst/>
              <a:rect l="textAreaLeft" t="textAreaTop" r="textAreaRight" b="textAreaBottom"/>
              <a:pathLst>
                <a:path w="1901" h="5438">
                  <a:moveTo>
                    <a:pt x="1895" y="48"/>
                  </a:moveTo>
                  <a:lnTo>
                    <a:pt x="200" y="5132"/>
                  </a:lnTo>
                  <a:cubicBezTo>
                    <a:pt x="194" y="5150"/>
                    <a:pt x="175" y="5159"/>
                    <a:pt x="158" y="5153"/>
                  </a:cubicBezTo>
                  <a:cubicBezTo>
                    <a:pt x="141" y="5147"/>
                    <a:pt x="131" y="5129"/>
                    <a:pt x="137" y="5111"/>
                  </a:cubicBezTo>
                  <a:lnTo>
                    <a:pt x="1832" y="27"/>
                  </a:lnTo>
                  <a:cubicBezTo>
                    <a:pt x="1837" y="10"/>
                    <a:pt x="1856" y="0"/>
                    <a:pt x="1874" y="6"/>
                  </a:cubicBezTo>
                  <a:cubicBezTo>
                    <a:pt x="1891" y="12"/>
                    <a:pt x="1901" y="31"/>
                    <a:pt x="1895" y="48"/>
                  </a:cubicBezTo>
                  <a:close/>
                  <a:moveTo>
                    <a:pt x="379" y="5122"/>
                  </a:moveTo>
                  <a:lnTo>
                    <a:pt x="63" y="5438"/>
                  </a:lnTo>
                  <a:lnTo>
                    <a:pt x="0" y="4995"/>
                  </a:lnTo>
                  <a:lnTo>
                    <a:pt x="379" y="512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9"/>
            <p:cNvSpPr/>
            <p:nvPr/>
          </p:nvSpPr>
          <p:spPr>
            <a:xfrm>
              <a:off x="5113080" y="3968280"/>
              <a:ext cx="141840" cy="1035360"/>
            </a:xfrm>
            <a:custGeom>
              <a:avLst/>
              <a:gdLst>
                <a:gd name="textAreaLeft" fmla="*/ 0 w 141840"/>
                <a:gd name="textAreaRight" fmla="*/ 142200 w 141840"/>
                <a:gd name="textAreaTop" fmla="*/ 0 h 1035360"/>
                <a:gd name="textAreaBottom" fmla="*/ 1035720 h 1035360"/>
              </a:gdLst>
              <a:ahLst/>
              <a:rect l="textAreaLeft" t="textAreaTop" r="textAreaRight" b="textAreaBottom"/>
              <a:pathLst>
                <a:path w="790" h="5435">
                  <a:moveTo>
                    <a:pt x="68" y="31"/>
                  </a:moveTo>
                  <a:lnTo>
                    <a:pt x="631" y="5100"/>
                  </a:lnTo>
                  <a:cubicBezTo>
                    <a:pt x="633" y="5118"/>
                    <a:pt x="620" y="5135"/>
                    <a:pt x="602" y="5137"/>
                  </a:cubicBezTo>
                  <a:cubicBezTo>
                    <a:pt x="584" y="5139"/>
                    <a:pt x="567" y="5125"/>
                    <a:pt x="565" y="5107"/>
                  </a:cubicBezTo>
                  <a:lnTo>
                    <a:pt x="2" y="38"/>
                  </a:lnTo>
                  <a:cubicBezTo>
                    <a:pt x="0" y="20"/>
                    <a:pt x="13" y="4"/>
                    <a:pt x="31" y="2"/>
                  </a:cubicBezTo>
                  <a:cubicBezTo>
                    <a:pt x="50" y="0"/>
                    <a:pt x="66" y="13"/>
                    <a:pt x="68" y="31"/>
                  </a:cubicBezTo>
                  <a:close/>
                  <a:moveTo>
                    <a:pt x="790" y="5015"/>
                  </a:moveTo>
                  <a:lnTo>
                    <a:pt x="635" y="5435"/>
                  </a:lnTo>
                  <a:lnTo>
                    <a:pt x="392" y="5059"/>
                  </a:lnTo>
                  <a:lnTo>
                    <a:pt x="790" y="501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80"/>
            <p:cNvSpPr/>
            <p:nvPr/>
          </p:nvSpPr>
          <p:spPr>
            <a:xfrm>
              <a:off x="6851520" y="3966120"/>
              <a:ext cx="657000" cy="103572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035720"/>
                <a:gd name="textAreaBottom" fmla="*/ 1036080 h 1035720"/>
              </a:gdLst>
              <a:ahLst/>
              <a:rect l="textAreaLeft" t="textAreaTop" r="textAreaRight" b="textAreaBottom"/>
              <a:pathLst>
                <a:path w="3638" h="5438">
                  <a:moveTo>
                    <a:pt x="3628" y="56"/>
                  </a:moveTo>
                  <a:lnTo>
                    <a:pt x="213" y="5179"/>
                  </a:lnTo>
                  <a:cubicBezTo>
                    <a:pt x="203" y="5194"/>
                    <a:pt x="182" y="5198"/>
                    <a:pt x="167" y="5188"/>
                  </a:cubicBezTo>
                  <a:cubicBezTo>
                    <a:pt x="151" y="5178"/>
                    <a:pt x="147" y="5157"/>
                    <a:pt x="157" y="5142"/>
                  </a:cubicBezTo>
                  <a:lnTo>
                    <a:pt x="3572" y="19"/>
                  </a:lnTo>
                  <a:cubicBezTo>
                    <a:pt x="3583" y="4"/>
                    <a:pt x="3603" y="0"/>
                    <a:pt x="3619" y="10"/>
                  </a:cubicBezTo>
                  <a:cubicBezTo>
                    <a:pt x="3634" y="20"/>
                    <a:pt x="3638" y="41"/>
                    <a:pt x="3628" y="56"/>
                  </a:cubicBezTo>
                  <a:close/>
                  <a:moveTo>
                    <a:pt x="388" y="5216"/>
                  </a:moveTo>
                  <a:lnTo>
                    <a:pt x="0" y="5438"/>
                  </a:lnTo>
                  <a:lnTo>
                    <a:pt x="56" y="4994"/>
                  </a:lnTo>
                  <a:lnTo>
                    <a:pt x="388" y="521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81"/>
            <p:cNvSpPr/>
            <p:nvPr/>
          </p:nvSpPr>
          <p:spPr>
            <a:xfrm>
              <a:off x="7788960" y="3968280"/>
              <a:ext cx="73080" cy="103536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035360"/>
                <a:gd name="textAreaBottom" fmla="*/ 1035720 h 1035360"/>
              </a:gdLst>
              <a:ahLst/>
              <a:rect l="textAreaLeft" t="textAreaTop" r="textAreaRight" b="textAreaBottom"/>
              <a:pathLst>
                <a:path w="400" h="5434">
                  <a:moveTo>
                    <a:pt x="233" y="34"/>
                  </a:moveTo>
                  <a:lnTo>
                    <a:pt x="233" y="5100"/>
                  </a:lnTo>
                  <a:cubicBezTo>
                    <a:pt x="233" y="5119"/>
                    <a:pt x="219" y="5134"/>
                    <a:pt x="200" y="5134"/>
                  </a:cubicBezTo>
                  <a:cubicBezTo>
                    <a:pt x="182" y="5134"/>
                    <a:pt x="167" y="5119"/>
                    <a:pt x="167" y="5100"/>
                  </a:cubicBezTo>
                  <a:lnTo>
                    <a:pt x="167" y="34"/>
                  </a:lnTo>
                  <a:cubicBezTo>
                    <a:pt x="167" y="15"/>
                    <a:pt x="182" y="0"/>
                    <a:pt x="200" y="0"/>
                  </a:cubicBezTo>
                  <a:cubicBezTo>
                    <a:pt x="219" y="0"/>
                    <a:pt x="233" y="15"/>
                    <a:pt x="233" y="34"/>
                  </a:cubicBezTo>
                  <a:close/>
                  <a:moveTo>
                    <a:pt x="400" y="5034"/>
                  </a:moveTo>
                  <a:lnTo>
                    <a:pt x="200" y="5434"/>
                  </a:lnTo>
                  <a:lnTo>
                    <a:pt x="0" y="5034"/>
                  </a:lnTo>
                  <a:lnTo>
                    <a:pt x="400" y="503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82"/>
            <p:cNvSpPr/>
            <p:nvPr/>
          </p:nvSpPr>
          <p:spPr>
            <a:xfrm>
              <a:off x="8144640" y="3966120"/>
              <a:ext cx="443880" cy="1035720"/>
            </a:xfrm>
            <a:custGeom>
              <a:avLst/>
              <a:gdLst>
                <a:gd name="textAreaLeft" fmla="*/ 0 w 443880"/>
                <a:gd name="textAreaRight" fmla="*/ 444240 w 443880"/>
                <a:gd name="textAreaTop" fmla="*/ 0 h 1035720"/>
                <a:gd name="textAreaBottom" fmla="*/ 1036080 h 1035720"/>
              </a:gdLst>
              <a:ahLst/>
              <a:rect l="textAreaLeft" t="textAreaTop" r="textAreaRight" b="textAreaBottom"/>
              <a:pathLst>
                <a:path w="2458" h="5438">
                  <a:moveTo>
                    <a:pt x="69" y="24"/>
                  </a:moveTo>
                  <a:lnTo>
                    <a:pt x="2333" y="5120"/>
                  </a:lnTo>
                  <a:cubicBezTo>
                    <a:pt x="2341" y="5136"/>
                    <a:pt x="2333" y="5156"/>
                    <a:pt x="2316" y="5164"/>
                  </a:cubicBezTo>
                  <a:cubicBezTo>
                    <a:pt x="2299" y="5171"/>
                    <a:pt x="2280" y="5164"/>
                    <a:pt x="2272" y="5147"/>
                  </a:cubicBezTo>
                  <a:lnTo>
                    <a:pt x="8" y="51"/>
                  </a:lnTo>
                  <a:cubicBezTo>
                    <a:pt x="0" y="35"/>
                    <a:pt x="8" y="15"/>
                    <a:pt x="25" y="7"/>
                  </a:cubicBezTo>
                  <a:cubicBezTo>
                    <a:pt x="41" y="0"/>
                    <a:pt x="61" y="7"/>
                    <a:pt x="69" y="24"/>
                  </a:cubicBezTo>
                  <a:close/>
                  <a:moveTo>
                    <a:pt x="2458" y="4991"/>
                  </a:moveTo>
                  <a:lnTo>
                    <a:pt x="2438" y="5438"/>
                  </a:lnTo>
                  <a:lnTo>
                    <a:pt x="2093" y="5154"/>
                  </a:lnTo>
                  <a:lnTo>
                    <a:pt x="2458" y="4991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Group 85"/>
            <p:cNvGrpSpPr/>
            <p:nvPr/>
          </p:nvGrpSpPr>
          <p:grpSpPr>
            <a:xfrm>
              <a:off x="5227920" y="1452960"/>
              <a:ext cx="1515240" cy="457560"/>
              <a:chOff x="5227920" y="1452960"/>
              <a:chExt cx="1515240" cy="457560"/>
            </a:xfrm>
          </p:grpSpPr>
          <p:sp>
            <p:nvSpPr>
              <p:cNvPr id="74" name="Oval 83"/>
              <p:cNvSpPr/>
              <p:nvPr/>
            </p:nvSpPr>
            <p:spPr>
              <a:xfrm>
                <a:off x="5227920" y="1452960"/>
                <a:ext cx="1515240" cy="45756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Oval 84"/>
              <p:cNvSpPr/>
              <p:nvPr/>
            </p:nvSpPr>
            <p:spPr>
              <a:xfrm>
                <a:off x="5227920" y="1452960"/>
                <a:ext cx="1515240" cy="457560"/>
              </a:xfrm>
              <a:prstGeom prst="ellipse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" name="Group 88"/>
            <p:cNvGrpSpPr/>
            <p:nvPr/>
          </p:nvGrpSpPr>
          <p:grpSpPr>
            <a:xfrm>
              <a:off x="5118840" y="2371320"/>
              <a:ext cx="1624680" cy="570600"/>
              <a:chOff x="5118840" y="2371320"/>
              <a:chExt cx="1624680" cy="570600"/>
            </a:xfrm>
          </p:grpSpPr>
          <p:sp>
            <p:nvSpPr>
              <p:cNvPr id="77" name="Oval 86"/>
              <p:cNvSpPr/>
              <p:nvPr/>
            </p:nvSpPr>
            <p:spPr>
              <a:xfrm>
                <a:off x="5118840" y="2371320"/>
                <a:ext cx="1624680" cy="57060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Oval 87"/>
              <p:cNvSpPr/>
              <p:nvPr/>
            </p:nvSpPr>
            <p:spPr>
              <a:xfrm>
                <a:off x="5118840" y="2371320"/>
                <a:ext cx="1624680" cy="570600"/>
              </a:xfrm>
              <a:prstGeom prst="ellipse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Group 91"/>
            <p:cNvGrpSpPr/>
            <p:nvPr/>
          </p:nvGrpSpPr>
          <p:grpSpPr>
            <a:xfrm>
              <a:off x="4144320" y="3171960"/>
              <a:ext cx="1622880" cy="915480"/>
              <a:chOff x="4144320" y="3171960"/>
              <a:chExt cx="1622880" cy="915480"/>
            </a:xfrm>
          </p:grpSpPr>
          <p:sp>
            <p:nvSpPr>
              <p:cNvPr id="80" name="Oval 89"/>
              <p:cNvSpPr/>
              <p:nvPr/>
            </p:nvSpPr>
            <p:spPr>
              <a:xfrm>
                <a:off x="4144320" y="3171960"/>
                <a:ext cx="1622880" cy="915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Oval 90"/>
              <p:cNvSpPr/>
              <p:nvPr/>
            </p:nvSpPr>
            <p:spPr>
              <a:xfrm>
                <a:off x="4144320" y="3171960"/>
                <a:ext cx="1622880" cy="915480"/>
              </a:xfrm>
              <a:prstGeom prst="ellipse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2" name="Group 94"/>
            <p:cNvGrpSpPr/>
            <p:nvPr/>
          </p:nvGrpSpPr>
          <p:grpSpPr>
            <a:xfrm>
              <a:off x="7068960" y="3171960"/>
              <a:ext cx="1622880" cy="915480"/>
              <a:chOff x="7068960" y="3171960"/>
              <a:chExt cx="1622880" cy="915480"/>
            </a:xfrm>
          </p:grpSpPr>
          <p:sp>
            <p:nvSpPr>
              <p:cNvPr id="83" name="Oval 92"/>
              <p:cNvSpPr/>
              <p:nvPr/>
            </p:nvSpPr>
            <p:spPr>
              <a:xfrm>
                <a:off x="7068960" y="3171960"/>
                <a:ext cx="1622880" cy="915480"/>
              </a:xfrm>
              <a:prstGeom prst="ellipse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Oval 93"/>
              <p:cNvSpPr/>
              <p:nvPr/>
            </p:nvSpPr>
            <p:spPr>
              <a:xfrm>
                <a:off x="7068960" y="3171960"/>
                <a:ext cx="1622880" cy="915480"/>
              </a:xfrm>
              <a:prstGeom prst="ellipse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" name="Rectangle 95"/>
            <p:cNvSpPr/>
            <p:nvPr/>
          </p:nvSpPr>
          <p:spPr>
            <a:xfrm>
              <a:off x="5504040" y="1621080"/>
              <a:ext cx="969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onal Lev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96"/>
            <p:cNvSpPr/>
            <p:nvPr/>
          </p:nvSpPr>
          <p:spPr>
            <a:xfrm>
              <a:off x="6395760" y="1621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97"/>
            <p:cNvSpPr/>
            <p:nvPr/>
          </p:nvSpPr>
          <p:spPr>
            <a:xfrm>
              <a:off x="5307480" y="2537640"/>
              <a:ext cx="1012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onal Lev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98"/>
            <p:cNvSpPr/>
            <p:nvPr/>
          </p:nvSpPr>
          <p:spPr>
            <a:xfrm>
              <a:off x="6234120" y="2537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99"/>
            <p:cNvSpPr/>
            <p:nvPr/>
          </p:nvSpPr>
          <p:spPr>
            <a:xfrm>
              <a:off x="4455000" y="3333960"/>
              <a:ext cx="986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gglome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100"/>
            <p:cNvSpPr/>
            <p:nvPr/>
          </p:nvSpPr>
          <p:spPr>
            <a:xfrm>
              <a:off x="5156640" y="3333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01"/>
            <p:cNvSpPr/>
            <p:nvPr/>
          </p:nvSpPr>
          <p:spPr>
            <a:xfrm>
              <a:off x="4955400" y="3510000"/>
              <a:ext cx="360" cy="18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02"/>
            <p:cNvSpPr/>
            <p:nvPr/>
          </p:nvSpPr>
          <p:spPr>
            <a:xfrm>
              <a:off x="5352840" y="35100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03"/>
            <p:cNvSpPr/>
            <p:nvPr/>
          </p:nvSpPr>
          <p:spPr>
            <a:xfrm>
              <a:off x="4123440" y="3690720"/>
              <a:ext cx="169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latforms: SI innov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04"/>
            <p:cNvSpPr/>
            <p:nvPr/>
          </p:nvSpPr>
          <p:spPr>
            <a:xfrm>
              <a:off x="5548680" y="36907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05"/>
            <p:cNvSpPr/>
            <p:nvPr/>
          </p:nvSpPr>
          <p:spPr>
            <a:xfrm>
              <a:off x="7637040" y="3333960"/>
              <a:ext cx="46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stric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06"/>
            <p:cNvSpPr/>
            <p:nvPr/>
          </p:nvSpPr>
          <p:spPr>
            <a:xfrm>
              <a:off x="8077320" y="3333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07"/>
            <p:cNvSpPr/>
            <p:nvPr/>
          </p:nvSpPr>
          <p:spPr>
            <a:xfrm>
              <a:off x="7371360" y="3510000"/>
              <a:ext cx="1029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 interven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08"/>
            <p:cNvSpPr/>
            <p:nvPr/>
          </p:nvSpPr>
          <p:spPr>
            <a:xfrm>
              <a:off x="8317440" y="35100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09"/>
            <p:cNvSpPr/>
            <p:nvPr/>
          </p:nvSpPr>
          <p:spPr>
            <a:xfrm>
              <a:off x="7338600" y="3690720"/>
              <a:ext cx="1096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unterfactual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10"/>
            <p:cNvSpPr/>
            <p:nvPr/>
          </p:nvSpPr>
          <p:spPr>
            <a:xfrm>
              <a:off x="8353800" y="36907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" name="Group 113"/>
            <p:cNvGrpSpPr/>
            <p:nvPr/>
          </p:nvGrpSpPr>
          <p:grpSpPr>
            <a:xfrm>
              <a:off x="3170160" y="5004000"/>
              <a:ext cx="649080" cy="344160"/>
              <a:chOff x="3170160" y="5004000"/>
              <a:chExt cx="649080" cy="344160"/>
            </a:xfrm>
          </p:grpSpPr>
          <p:sp>
            <p:nvSpPr>
              <p:cNvPr id="102" name="Rectangle 111"/>
              <p:cNvSpPr/>
              <p:nvPr/>
            </p:nvSpPr>
            <p:spPr>
              <a:xfrm>
                <a:off x="3170160" y="5004000"/>
                <a:ext cx="649080" cy="34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112"/>
              <p:cNvSpPr/>
              <p:nvPr/>
            </p:nvSpPr>
            <p:spPr>
              <a:xfrm>
                <a:off x="3170160" y="5004000"/>
                <a:ext cx="649080" cy="34416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" name="Rectangle 114"/>
            <p:cNvSpPr/>
            <p:nvPr/>
          </p:nvSpPr>
          <p:spPr>
            <a:xfrm>
              <a:off x="3213360" y="5062680"/>
              <a:ext cx="613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bs. un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15"/>
            <p:cNvSpPr/>
            <p:nvPr/>
          </p:nvSpPr>
          <p:spPr>
            <a:xfrm>
              <a:off x="3720960" y="50626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Group 118"/>
            <p:cNvGrpSpPr/>
            <p:nvPr/>
          </p:nvGrpSpPr>
          <p:grpSpPr>
            <a:xfrm>
              <a:off x="4090680" y="5004000"/>
              <a:ext cx="648720" cy="344160"/>
              <a:chOff x="4090680" y="5004000"/>
              <a:chExt cx="648720" cy="344160"/>
            </a:xfrm>
          </p:grpSpPr>
          <p:sp>
            <p:nvSpPr>
              <p:cNvPr id="107" name="Rectangle 116"/>
              <p:cNvSpPr/>
              <p:nvPr/>
            </p:nvSpPr>
            <p:spPr>
              <a:xfrm>
                <a:off x="4090680" y="5004000"/>
                <a:ext cx="648720" cy="34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17"/>
              <p:cNvSpPr/>
              <p:nvPr/>
            </p:nvSpPr>
            <p:spPr>
              <a:xfrm>
                <a:off x="4090680" y="5004000"/>
                <a:ext cx="648720" cy="34416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" name="Rectangle 119"/>
            <p:cNvSpPr/>
            <p:nvPr/>
          </p:nvSpPr>
          <p:spPr>
            <a:xfrm>
              <a:off x="4207680" y="5062680"/>
              <a:ext cx="45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ill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120"/>
            <p:cNvSpPr/>
            <p:nvPr/>
          </p:nvSpPr>
          <p:spPr>
            <a:xfrm>
              <a:off x="4640040" y="50626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Group 123"/>
            <p:cNvGrpSpPr/>
            <p:nvPr/>
          </p:nvGrpSpPr>
          <p:grpSpPr>
            <a:xfrm>
              <a:off x="4903560" y="5004000"/>
              <a:ext cx="648720" cy="344160"/>
              <a:chOff x="4903560" y="5004000"/>
              <a:chExt cx="648720" cy="344160"/>
            </a:xfrm>
          </p:grpSpPr>
          <p:sp>
            <p:nvSpPr>
              <p:cNvPr id="112" name="Rectangle 121"/>
              <p:cNvSpPr/>
              <p:nvPr/>
            </p:nvSpPr>
            <p:spPr>
              <a:xfrm>
                <a:off x="4903560" y="5004000"/>
                <a:ext cx="648720" cy="34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122"/>
              <p:cNvSpPr/>
              <p:nvPr/>
            </p:nvSpPr>
            <p:spPr>
              <a:xfrm>
                <a:off x="4903560" y="5004000"/>
                <a:ext cx="648720" cy="34416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Rectangle 124"/>
            <p:cNvSpPr/>
            <p:nvPr/>
          </p:nvSpPr>
          <p:spPr>
            <a:xfrm>
              <a:off x="5024160" y="5062680"/>
              <a:ext cx="45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ill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25"/>
            <p:cNvSpPr/>
            <p:nvPr/>
          </p:nvSpPr>
          <p:spPr>
            <a:xfrm>
              <a:off x="5453280" y="50626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128"/>
            <p:cNvGrpSpPr/>
            <p:nvPr/>
          </p:nvGrpSpPr>
          <p:grpSpPr>
            <a:xfrm>
              <a:off x="6580800" y="5004000"/>
              <a:ext cx="648720" cy="344160"/>
              <a:chOff x="6580800" y="5004000"/>
              <a:chExt cx="648720" cy="344160"/>
            </a:xfrm>
          </p:grpSpPr>
          <p:sp>
            <p:nvSpPr>
              <p:cNvPr id="117" name="Rectangle 126"/>
              <p:cNvSpPr/>
              <p:nvPr/>
            </p:nvSpPr>
            <p:spPr>
              <a:xfrm>
                <a:off x="6580800" y="5004000"/>
                <a:ext cx="648720" cy="34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127"/>
              <p:cNvSpPr/>
              <p:nvPr/>
            </p:nvSpPr>
            <p:spPr>
              <a:xfrm>
                <a:off x="6580800" y="5004000"/>
                <a:ext cx="648720" cy="34416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Rectangle 129"/>
            <p:cNvSpPr/>
            <p:nvPr/>
          </p:nvSpPr>
          <p:spPr>
            <a:xfrm>
              <a:off x="6698880" y="5062680"/>
              <a:ext cx="45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ill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30"/>
            <p:cNvSpPr/>
            <p:nvPr/>
          </p:nvSpPr>
          <p:spPr>
            <a:xfrm>
              <a:off x="7130160" y="50626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Group 133"/>
            <p:cNvGrpSpPr/>
            <p:nvPr/>
          </p:nvGrpSpPr>
          <p:grpSpPr>
            <a:xfrm>
              <a:off x="7393680" y="5004000"/>
              <a:ext cx="648720" cy="344160"/>
              <a:chOff x="7393680" y="5004000"/>
              <a:chExt cx="648720" cy="344160"/>
            </a:xfrm>
          </p:grpSpPr>
          <p:sp>
            <p:nvSpPr>
              <p:cNvPr id="122" name="Rectangle 131"/>
              <p:cNvSpPr/>
              <p:nvPr/>
            </p:nvSpPr>
            <p:spPr>
              <a:xfrm>
                <a:off x="7393680" y="5004000"/>
                <a:ext cx="648720" cy="34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32"/>
              <p:cNvSpPr/>
              <p:nvPr/>
            </p:nvSpPr>
            <p:spPr>
              <a:xfrm>
                <a:off x="7393680" y="5004000"/>
                <a:ext cx="648720" cy="34416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Rectangle 134"/>
            <p:cNvSpPr/>
            <p:nvPr/>
          </p:nvSpPr>
          <p:spPr>
            <a:xfrm>
              <a:off x="7514280" y="5062680"/>
              <a:ext cx="45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ill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35"/>
            <p:cNvSpPr/>
            <p:nvPr/>
          </p:nvSpPr>
          <p:spPr>
            <a:xfrm>
              <a:off x="7943400" y="50626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Group 138"/>
            <p:cNvGrpSpPr/>
            <p:nvPr/>
          </p:nvGrpSpPr>
          <p:grpSpPr>
            <a:xfrm>
              <a:off x="8206200" y="5004000"/>
              <a:ext cx="649080" cy="344160"/>
              <a:chOff x="8206200" y="5004000"/>
              <a:chExt cx="649080" cy="344160"/>
            </a:xfrm>
          </p:grpSpPr>
          <p:sp>
            <p:nvSpPr>
              <p:cNvPr id="127" name="Rectangle 136"/>
              <p:cNvSpPr/>
              <p:nvPr/>
            </p:nvSpPr>
            <p:spPr>
              <a:xfrm>
                <a:off x="8206200" y="5004000"/>
                <a:ext cx="649080" cy="34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37"/>
              <p:cNvSpPr/>
              <p:nvPr/>
            </p:nvSpPr>
            <p:spPr>
              <a:xfrm>
                <a:off x="8206200" y="5004000"/>
                <a:ext cx="649080" cy="34416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Rectangle 139"/>
            <p:cNvSpPr/>
            <p:nvPr/>
          </p:nvSpPr>
          <p:spPr>
            <a:xfrm>
              <a:off x="8324280" y="5062680"/>
              <a:ext cx="459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Vill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40"/>
            <p:cNvSpPr/>
            <p:nvPr/>
          </p:nvSpPr>
          <p:spPr>
            <a:xfrm>
              <a:off x="8753400" y="50626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41"/>
            <p:cNvSpPr/>
            <p:nvPr/>
          </p:nvSpPr>
          <p:spPr>
            <a:xfrm>
              <a:off x="3373200" y="5401080"/>
              <a:ext cx="27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TF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42"/>
            <p:cNvSpPr/>
            <p:nvPr/>
          </p:nvSpPr>
          <p:spPr>
            <a:xfrm>
              <a:off x="3613680" y="5401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43"/>
            <p:cNvSpPr/>
            <p:nvPr/>
          </p:nvSpPr>
          <p:spPr>
            <a:xfrm>
              <a:off x="4239360" y="5401080"/>
              <a:ext cx="27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TF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144"/>
            <p:cNvSpPr/>
            <p:nvPr/>
          </p:nvSpPr>
          <p:spPr>
            <a:xfrm>
              <a:off x="4480560" y="5401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145"/>
            <p:cNvSpPr/>
            <p:nvPr/>
          </p:nvSpPr>
          <p:spPr>
            <a:xfrm>
              <a:off x="4997520" y="5397480"/>
              <a:ext cx="238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No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46"/>
            <p:cNvSpPr/>
            <p:nvPr/>
          </p:nvSpPr>
          <p:spPr>
            <a:xfrm>
              <a:off x="4955760" y="5563080"/>
              <a:ext cx="791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interven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47"/>
            <p:cNvSpPr/>
            <p:nvPr/>
          </p:nvSpPr>
          <p:spPr>
            <a:xfrm>
              <a:off x="5658120" y="5563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48"/>
            <p:cNvSpPr/>
            <p:nvPr/>
          </p:nvSpPr>
          <p:spPr>
            <a:xfrm>
              <a:off x="2953080" y="4546080"/>
              <a:ext cx="3031920" cy="1716480"/>
            </a:xfrm>
            <a:prstGeom prst="ellipse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49"/>
            <p:cNvSpPr/>
            <p:nvPr/>
          </p:nvSpPr>
          <p:spPr>
            <a:xfrm>
              <a:off x="6319440" y="4546080"/>
              <a:ext cx="2806560" cy="1260000"/>
            </a:xfrm>
            <a:prstGeom prst="ellipse">
              <a:avLst/>
            </a:prstGeom>
            <a:noFill/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Text Box 150"/>
          <p:cNvSpPr/>
          <p:nvPr/>
        </p:nvSpPr>
        <p:spPr>
          <a:xfrm>
            <a:off x="392040" y="1852560"/>
            <a:ext cx="2057400" cy="3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mited/ob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51"/>
          <p:cNvSpPr/>
          <p:nvPr/>
        </p:nvSpPr>
        <p:spPr>
          <a:xfrm>
            <a:off x="0" y="1306440"/>
            <a:ext cx="305928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egree of intervention/ 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52"/>
          <p:cNvSpPr/>
          <p:nvPr/>
        </p:nvSpPr>
        <p:spPr>
          <a:xfrm>
            <a:off x="425520" y="2538360"/>
            <a:ext cx="2057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Limited/observation (RQ3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53"/>
          <p:cNvSpPr/>
          <p:nvPr/>
        </p:nvSpPr>
        <p:spPr>
          <a:xfrm>
            <a:off x="396720" y="3384720"/>
            <a:ext cx="182880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Some/exploration (RQ2 and 3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54"/>
          <p:cNvSpPr/>
          <p:nvPr/>
        </p:nvSpPr>
        <p:spPr>
          <a:xfrm>
            <a:off x="353880" y="4929120"/>
            <a:ext cx="2090880" cy="70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High/e.g., Fisher or classical experimentation: Mother-Baby; RCTS (RQ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89"/>
          <p:cNvSpPr/>
          <p:nvPr/>
        </p:nvSpPr>
        <p:spPr>
          <a:xfrm>
            <a:off x="1320840" y="770040"/>
            <a:ext cx="3832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sponse variable dependent on the trials hypothes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45"/>
          <p:cNvSpPr/>
          <p:nvPr/>
        </p:nvSpPr>
        <p:spPr>
          <a:xfrm>
            <a:off x="7414200" y="5389560"/>
            <a:ext cx="23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46"/>
          <p:cNvSpPr/>
          <p:nvPr/>
        </p:nvSpPr>
        <p:spPr>
          <a:xfrm>
            <a:off x="7373520" y="5556240"/>
            <a:ext cx="79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nter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89"/>
          <p:cNvSpPr/>
          <p:nvPr/>
        </p:nvSpPr>
        <p:spPr>
          <a:xfrm>
            <a:off x="1752480" y="838080"/>
            <a:ext cx="3832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ponse variable dependent on the trials hypothes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4"/>
          <p:cNvSpPr/>
          <p:nvPr/>
        </p:nvSpPr>
        <p:spPr>
          <a:xfrm>
            <a:off x="1523880" y="152280"/>
            <a:ext cx="71535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ls design: Random phase-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719136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Group 85"/>
          <p:cNvGrpSpPr/>
          <p:nvPr/>
        </p:nvGrpSpPr>
        <p:grpSpPr>
          <a:xfrm>
            <a:off x="3200400" y="457200"/>
            <a:ext cx="5791320" cy="6573240"/>
            <a:chOff x="3200400" y="457200"/>
            <a:chExt cx="5791320" cy="6573240"/>
          </a:xfrm>
        </p:grpSpPr>
        <p:grpSp>
          <p:nvGrpSpPr>
            <p:cNvPr id="152" name="Up Arrow 88"/>
            <p:cNvGrpSpPr/>
            <p:nvPr/>
          </p:nvGrpSpPr>
          <p:grpSpPr>
            <a:xfrm>
              <a:off x="6188760" y="4620600"/>
              <a:ext cx="262800" cy="339120"/>
              <a:chOff x="6188760" y="4620600"/>
              <a:chExt cx="262800" cy="339120"/>
            </a:xfrm>
          </p:grpSpPr>
          <p:pic>
            <p:nvPicPr>
              <p:cNvPr id="153" name="Up Arrow 88" descr=""/>
              <p:cNvPicPr/>
              <p:nvPr/>
            </p:nvPicPr>
            <p:blipFill>
              <a:blip r:embed="rId1"/>
              <a:stretch/>
            </p:blipFill>
            <p:spPr>
              <a:xfrm>
                <a:off x="6188760" y="4620600"/>
                <a:ext cx="262800" cy="339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" name=""/>
              <p:cNvSpPr/>
              <p:nvPr/>
            </p:nvSpPr>
            <p:spPr>
              <a:xfrm>
                <a:off x="6285600" y="4697640"/>
                <a:ext cx="74520" cy="18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Oval 5"/>
            <p:cNvGrpSpPr/>
            <p:nvPr/>
          </p:nvGrpSpPr>
          <p:grpSpPr>
            <a:xfrm>
              <a:off x="3200400" y="457200"/>
              <a:ext cx="2581920" cy="866520"/>
              <a:chOff x="3200400" y="457200"/>
              <a:chExt cx="2581920" cy="866520"/>
            </a:xfrm>
          </p:grpSpPr>
          <p:pic>
            <p:nvPicPr>
              <p:cNvPr id="156" name="Oval 5" descr=""/>
              <p:cNvPicPr/>
              <p:nvPr/>
            </p:nvPicPr>
            <p:blipFill>
              <a:blip r:embed="rId2"/>
              <a:stretch/>
            </p:blipFill>
            <p:spPr>
              <a:xfrm>
                <a:off x="3200400" y="457200"/>
                <a:ext cx="2581920" cy="866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" name=""/>
              <p:cNvSpPr/>
              <p:nvPr/>
            </p:nvSpPr>
            <p:spPr>
              <a:xfrm>
                <a:off x="3621240" y="604440"/>
                <a:ext cx="1743480" cy="53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Arial"/>
                  </a:rPr>
                  <a:t>Consumer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8" name="TextBox 22" descr=""/>
            <p:cNvPicPr/>
            <p:nvPr/>
          </p:nvPicPr>
          <p:blipFill>
            <a:blip r:embed="rId3"/>
            <a:stretch/>
          </p:blipFill>
          <p:spPr>
            <a:xfrm>
              <a:off x="3648600" y="4354200"/>
              <a:ext cx="5343120" cy="52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TextBox 23" descr=""/>
            <p:cNvPicPr/>
            <p:nvPr/>
          </p:nvPicPr>
          <p:blipFill>
            <a:blip r:embed="rId4"/>
            <a:stretch/>
          </p:blipFill>
          <p:spPr>
            <a:xfrm>
              <a:off x="3200400" y="4851000"/>
              <a:ext cx="5641920" cy="1302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0" name="Up Arrow 86"/>
            <p:cNvGrpSpPr/>
            <p:nvPr/>
          </p:nvGrpSpPr>
          <p:grpSpPr>
            <a:xfrm>
              <a:off x="3200400" y="2044800"/>
              <a:ext cx="412200" cy="1775520"/>
              <a:chOff x="3200400" y="2044800"/>
              <a:chExt cx="412200" cy="1775520"/>
            </a:xfrm>
          </p:grpSpPr>
          <p:pic>
            <p:nvPicPr>
              <p:cNvPr id="161" name="Up Arrow 86" descr=""/>
              <p:cNvPicPr/>
              <p:nvPr/>
            </p:nvPicPr>
            <p:blipFill>
              <a:blip r:embed="rId5"/>
              <a:stretch/>
            </p:blipFill>
            <p:spPr>
              <a:xfrm>
                <a:off x="3200400" y="2044800"/>
                <a:ext cx="412200" cy="1775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" name=""/>
              <p:cNvSpPr/>
              <p:nvPr/>
            </p:nvSpPr>
            <p:spPr>
              <a:xfrm>
                <a:off x="3334680" y="2159640"/>
                <a:ext cx="149400" cy="159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Up Arrow 87"/>
            <p:cNvGrpSpPr/>
            <p:nvPr/>
          </p:nvGrpSpPr>
          <p:grpSpPr>
            <a:xfrm>
              <a:off x="4323960" y="4093560"/>
              <a:ext cx="412200" cy="333000"/>
              <a:chOff x="4323960" y="4093560"/>
              <a:chExt cx="412200" cy="333000"/>
            </a:xfrm>
          </p:grpSpPr>
          <p:pic>
            <p:nvPicPr>
              <p:cNvPr id="164" name="Up Arrow 87" descr=""/>
              <p:cNvPicPr/>
              <p:nvPr/>
            </p:nvPicPr>
            <p:blipFill>
              <a:blip r:embed="rId6"/>
              <a:stretch/>
            </p:blipFill>
            <p:spPr>
              <a:xfrm>
                <a:off x="4323960" y="4093560"/>
                <a:ext cx="412200" cy="33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5" name=""/>
              <p:cNvSpPr/>
              <p:nvPr/>
            </p:nvSpPr>
            <p:spPr>
              <a:xfrm>
                <a:off x="4455360" y="4186440"/>
                <a:ext cx="149400" cy="17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TextBox 99"/>
            <p:cNvSpPr/>
            <p:nvPr/>
          </p:nvSpPr>
          <p:spPr>
            <a:xfrm>
              <a:off x="3260160" y="6099480"/>
              <a:ext cx="89640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70c0"/>
                  </a:solidFill>
                  <a:latin typeface="Calibri"/>
                </a:rPr>
                <a:t>Channel 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70c0"/>
                  </a:solidFill>
                  <a:latin typeface="Calibri"/>
                </a:rPr>
                <a:t>Fresh grains  unprocesse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7" name="TextBox 38" descr=""/>
            <p:cNvPicPr/>
            <p:nvPr/>
          </p:nvPicPr>
          <p:blipFill>
            <a:blip r:embed="rId7"/>
            <a:stretch/>
          </p:blipFill>
          <p:spPr>
            <a:xfrm>
              <a:off x="3200400" y="1626840"/>
              <a:ext cx="2731320" cy="52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TextBox 29" descr=""/>
            <p:cNvPicPr/>
            <p:nvPr/>
          </p:nvPicPr>
          <p:blipFill>
            <a:blip r:embed="rId8"/>
            <a:stretch/>
          </p:blipFill>
          <p:spPr>
            <a:xfrm>
              <a:off x="3277800" y="3669120"/>
              <a:ext cx="2504160" cy="52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9" name="Up Arrow 32"/>
            <p:cNvGrpSpPr/>
            <p:nvPr/>
          </p:nvGrpSpPr>
          <p:grpSpPr>
            <a:xfrm>
              <a:off x="3277800" y="1135800"/>
              <a:ext cx="412200" cy="563400"/>
              <a:chOff x="3277800" y="1135800"/>
              <a:chExt cx="412200" cy="563400"/>
            </a:xfrm>
          </p:grpSpPr>
          <p:pic>
            <p:nvPicPr>
              <p:cNvPr id="170" name="Up Arrow 32" descr=""/>
              <p:cNvPicPr/>
              <p:nvPr/>
            </p:nvPicPr>
            <p:blipFill>
              <a:blip r:embed="rId9"/>
              <a:stretch/>
            </p:blipFill>
            <p:spPr>
              <a:xfrm>
                <a:off x="3277800" y="1135800"/>
                <a:ext cx="412200" cy="56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1" name=""/>
              <p:cNvSpPr/>
              <p:nvPr/>
            </p:nvSpPr>
            <p:spPr>
              <a:xfrm>
                <a:off x="3409200" y="1250640"/>
                <a:ext cx="149400" cy="37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2" name="Group 61"/>
          <p:cNvGrpSpPr/>
          <p:nvPr/>
        </p:nvGrpSpPr>
        <p:grpSpPr>
          <a:xfrm>
            <a:off x="3505320" y="1295280"/>
            <a:ext cx="2133360" cy="5410080"/>
            <a:chOff x="3505320" y="1295280"/>
            <a:chExt cx="2133360" cy="5410080"/>
          </a:xfrm>
        </p:grpSpPr>
        <p:sp>
          <p:nvSpPr>
            <p:cNvPr id="173" name="TextBox 100"/>
            <p:cNvSpPr/>
            <p:nvPr/>
          </p:nvSpPr>
          <p:spPr>
            <a:xfrm>
              <a:off x="4546800" y="6109200"/>
              <a:ext cx="91476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70c0"/>
                  </a:solidFill>
                  <a:latin typeface="Calibri"/>
                </a:rPr>
                <a:t>Channel 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70c0"/>
                  </a:solidFill>
                  <a:latin typeface="Calibri"/>
                </a:rPr>
                <a:t>Dried grains  unprocesse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Up Arrow 36"/>
            <p:cNvGrpSpPr/>
            <p:nvPr/>
          </p:nvGrpSpPr>
          <p:grpSpPr>
            <a:xfrm>
              <a:off x="4141440" y="2730960"/>
              <a:ext cx="388440" cy="411840"/>
              <a:chOff x="4141440" y="2730960"/>
              <a:chExt cx="388440" cy="411840"/>
            </a:xfrm>
          </p:grpSpPr>
          <p:pic>
            <p:nvPicPr>
              <p:cNvPr id="175" name="Up Arrow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4141440" y="2730960"/>
                <a:ext cx="388440" cy="411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" name=""/>
              <p:cNvSpPr/>
              <p:nvPr/>
            </p:nvSpPr>
            <p:spPr>
              <a:xfrm>
                <a:off x="4265280" y="2842920"/>
                <a:ext cx="140760" cy="2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7" name="TextBox 19" descr=""/>
            <p:cNvPicPr/>
            <p:nvPr/>
          </p:nvPicPr>
          <p:blipFill>
            <a:blip r:embed="rId11"/>
            <a:stretch/>
          </p:blipFill>
          <p:spPr>
            <a:xfrm>
              <a:off x="3595320" y="3064320"/>
              <a:ext cx="2043360" cy="52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TextBox 30" descr=""/>
            <p:cNvPicPr/>
            <p:nvPr/>
          </p:nvPicPr>
          <p:blipFill>
            <a:blip r:embed="rId12"/>
            <a:stretch/>
          </p:blipFill>
          <p:spPr>
            <a:xfrm>
              <a:off x="3505320" y="2306880"/>
              <a:ext cx="1587600" cy="52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9" name="Up Arrow 35"/>
            <p:cNvGrpSpPr/>
            <p:nvPr/>
          </p:nvGrpSpPr>
          <p:grpSpPr>
            <a:xfrm>
              <a:off x="4282200" y="3488400"/>
              <a:ext cx="315000" cy="260280"/>
              <a:chOff x="4282200" y="3488400"/>
              <a:chExt cx="315000" cy="260280"/>
            </a:xfrm>
          </p:grpSpPr>
          <p:pic>
            <p:nvPicPr>
              <p:cNvPr id="180" name="Up Arrow 35" descr=""/>
              <p:cNvPicPr/>
              <p:nvPr/>
            </p:nvPicPr>
            <p:blipFill>
              <a:blip r:embed="rId13"/>
              <a:stretch/>
            </p:blipFill>
            <p:spPr>
              <a:xfrm>
                <a:off x="4282200" y="3488400"/>
                <a:ext cx="315000" cy="26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1" name=""/>
              <p:cNvSpPr/>
              <p:nvPr/>
            </p:nvSpPr>
            <p:spPr>
              <a:xfrm>
                <a:off x="4388400" y="3562560"/>
                <a:ext cx="105480" cy="11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Up Arrow 37"/>
            <p:cNvGrpSpPr/>
            <p:nvPr/>
          </p:nvGrpSpPr>
          <p:grpSpPr>
            <a:xfrm>
              <a:off x="4282200" y="2046600"/>
              <a:ext cx="315000" cy="339120"/>
              <a:chOff x="4282200" y="2046600"/>
              <a:chExt cx="315000" cy="339120"/>
            </a:xfrm>
          </p:grpSpPr>
          <p:pic>
            <p:nvPicPr>
              <p:cNvPr id="183" name="Up Arrow 37" descr=""/>
              <p:cNvPicPr/>
              <p:nvPr/>
            </p:nvPicPr>
            <p:blipFill>
              <a:blip r:embed="rId14"/>
              <a:stretch/>
            </p:blipFill>
            <p:spPr>
              <a:xfrm>
                <a:off x="4282200" y="2046600"/>
                <a:ext cx="315000" cy="339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4" name=""/>
              <p:cNvSpPr/>
              <p:nvPr/>
            </p:nvSpPr>
            <p:spPr>
              <a:xfrm>
                <a:off x="4388400" y="2142720"/>
                <a:ext cx="105480" cy="17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Up Arrow 39"/>
            <p:cNvGrpSpPr/>
            <p:nvPr/>
          </p:nvGrpSpPr>
          <p:grpSpPr>
            <a:xfrm>
              <a:off x="4282200" y="1295280"/>
              <a:ext cx="315000" cy="405720"/>
              <a:chOff x="4282200" y="1295280"/>
              <a:chExt cx="315000" cy="405720"/>
            </a:xfrm>
          </p:grpSpPr>
          <p:pic>
            <p:nvPicPr>
              <p:cNvPr id="186" name="Up Arrow 39" descr=""/>
              <p:cNvPicPr/>
              <p:nvPr/>
            </p:nvPicPr>
            <p:blipFill>
              <a:blip r:embed="rId15"/>
              <a:stretch/>
            </p:blipFill>
            <p:spPr>
              <a:xfrm>
                <a:off x="4282200" y="1295280"/>
                <a:ext cx="315000" cy="405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>
                <a:off x="4388400" y="1385280"/>
                <a:ext cx="105480" cy="24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8" name="Group 90"/>
          <p:cNvGrpSpPr/>
          <p:nvPr/>
        </p:nvGrpSpPr>
        <p:grpSpPr>
          <a:xfrm>
            <a:off x="5181480" y="457200"/>
            <a:ext cx="1905120" cy="6238440"/>
            <a:chOff x="5181480" y="457200"/>
            <a:chExt cx="1905120" cy="6238440"/>
          </a:xfrm>
        </p:grpSpPr>
        <p:sp>
          <p:nvSpPr>
            <p:cNvPr id="189" name="TextBox 101"/>
            <p:cNvSpPr/>
            <p:nvPr/>
          </p:nvSpPr>
          <p:spPr>
            <a:xfrm>
              <a:off x="6027840" y="6099480"/>
              <a:ext cx="100404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70c0"/>
                  </a:solidFill>
                  <a:latin typeface="Calibri"/>
                </a:rPr>
                <a:t>Channel 4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70c0"/>
                  </a:solidFill>
                  <a:latin typeface="Calibri"/>
                </a:rPr>
                <a:t>Dried grains expor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0" name="TextBox 18" descr=""/>
            <p:cNvPicPr/>
            <p:nvPr/>
          </p:nvPicPr>
          <p:blipFill>
            <a:blip r:embed="rId16"/>
            <a:stretch/>
          </p:blipFill>
          <p:spPr>
            <a:xfrm>
              <a:off x="5181480" y="2305440"/>
              <a:ext cx="1905120" cy="52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1" name="Oval 28"/>
            <p:cNvGrpSpPr/>
            <p:nvPr/>
          </p:nvGrpSpPr>
          <p:grpSpPr>
            <a:xfrm>
              <a:off x="5829840" y="457200"/>
              <a:ext cx="1038600" cy="866520"/>
              <a:chOff x="5829840" y="457200"/>
              <a:chExt cx="1038600" cy="866520"/>
            </a:xfrm>
          </p:grpSpPr>
          <p:pic>
            <p:nvPicPr>
              <p:cNvPr id="192" name="Oval 28" descr=""/>
              <p:cNvPicPr/>
              <p:nvPr/>
            </p:nvPicPr>
            <p:blipFill>
              <a:blip r:embed="rId17"/>
              <a:stretch/>
            </p:blipFill>
            <p:spPr>
              <a:xfrm>
                <a:off x="5829840" y="457200"/>
                <a:ext cx="1038600" cy="866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" name=""/>
              <p:cNvSpPr/>
              <p:nvPr/>
            </p:nvSpPr>
            <p:spPr>
              <a:xfrm>
                <a:off x="6020640" y="604440"/>
                <a:ext cx="659520" cy="53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Arial"/>
                  </a:rPr>
                  <a:t>Export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Up Arrow 80"/>
            <p:cNvGrpSpPr/>
            <p:nvPr/>
          </p:nvGrpSpPr>
          <p:grpSpPr>
            <a:xfrm>
              <a:off x="6185520" y="1287360"/>
              <a:ext cx="326880" cy="1096920"/>
              <a:chOff x="6185520" y="1287360"/>
              <a:chExt cx="326880" cy="1096920"/>
            </a:xfrm>
          </p:grpSpPr>
          <p:pic>
            <p:nvPicPr>
              <p:cNvPr id="195" name="Up Arrow 80" descr=""/>
              <p:cNvPicPr/>
              <p:nvPr/>
            </p:nvPicPr>
            <p:blipFill>
              <a:blip r:embed="rId18"/>
              <a:stretch/>
            </p:blipFill>
            <p:spPr>
              <a:xfrm>
                <a:off x="6185520" y="1287360"/>
                <a:ext cx="326880" cy="109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" name=""/>
              <p:cNvSpPr/>
              <p:nvPr/>
            </p:nvSpPr>
            <p:spPr>
              <a:xfrm>
                <a:off x="6296400" y="1383480"/>
                <a:ext cx="107640" cy="92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Up Arrow 82"/>
            <p:cNvGrpSpPr/>
            <p:nvPr/>
          </p:nvGrpSpPr>
          <p:grpSpPr>
            <a:xfrm>
              <a:off x="6116760" y="2729880"/>
              <a:ext cx="321120" cy="787680"/>
              <a:chOff x="6116760" y="2729880"/>
              <a:chExt cx="321120" cy="787680"/>
            </a:xfrm>
          </p:grpSpPr>
          <p:pic>
            <p:nvPicPr>
              <p:cNvPr id="198" name="Up Arrow 82" descr=""/>
              <p:cNvPicPr/>
              <p:nvPr/>
            </p:nvPicPr>
            <p:blipFill>
              <a:blip r:embed="rId19"/>
              <a:stretch/>
            </p:blipFill>
            <p:spPr>
              <a:xfrm>
                <a:off x="6116760" y="2729880"/>
                <a:ext cx="321120" cy="787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"/>
              <p:cNvSpPr/>
              <p:nvPr/>
            </p:nvSpPr>
            <p:spPr>
              <a:xfrm>
                <a:off x="6224760" y="2822760"/>
                <a:ext cx="10728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0" name="TextBox 40" descr=""/>
            <p:cNvPicPr/>
            <p:nvPr/>
          </p:nvPicPr>
          <p:blipFill>
            <a:blip r:embed="rId20"/>
            <a:stretch/>
          </p:blipFill>
          <p:spPr>
            <a:xfrm>
              <a:off x="5755320" y="3444840"/>
              <a:ext cx="1113120" cy="793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1" name="Up Arrow 41"/>
            <p:cNvGrpSpPr/>
            <p:nvPr/>
          </p:nvGrpSpPr>
          <p:grpSpPr>
            <a:xfrm>
              <a:off x="6042240" y="4166280"/>
              <a:ext cx="326880" cy="260280"/>
              <a:chOff x="6042240" y="4166280"/>
              <a:chExt cx="326880" cy="260280"/>
            </a:xfrm>
          </p:grpSpPr>
          <p:pic>
            <p:nvPicPr>
              <p:cNvPr id="202" name="Up Arrow 41" descr=""/>
              <p:cNvPicPr/>
              <p:nvPr/>
            </p:nvPicPr>
            <p:blipFill>
              <a:blip r:embed="rId21"/>
              <a:stretch/>
            </p:blipFill>
            <p:spPr>
              <a:xfrm>
                <a:off x="6042240" y="4166280"/>
                <a:ext cx="326880" cy="26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>
                <a:off x="6153120" y="4243320"/>
                <a:ext cx="107640" cy="11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4" name="Group 78"/>
          <p:cNvGrpSpPr/>
          <p:nvPr/>
        </p:nvGrpSpPr>
        <p:grpSpPr>
          <a:xfrm>
            <a:off x="6934320" y="457200"/>
            <a:ext cx="2209680" cy="6238440"/>
            <a:chOff x="6934320" y="457200"/>
            <a:chExt cx="2209680" cy="6238440"/>
          </a:xfrm>
        </p:grpSpPr>
        <p:pic>
          <p:nvPicPr>
            <p:cNvPr id="205" name="TextBox 21" descr=""/>
            <p:cNvPicPr/>
            <p:nvPr/>
          </p:nvPicPr>
          <p:blipFill>
            <a:blip r:embed="rId22"/>
            <a:stretch/>
          </p:blipFill>
          <p:spPr>
            <a:xfrm>
              <a:off x="6934320" y="3596400"/>
              <a:ext cx="1842480" cy="520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6" name="Up Arrow 81"/>
            <p:cNvGrpSpPr/>
            <p:nvPr/>
          </p:nvGrpSpPr>
          <p:grpSpPr>
            <a:xfrm>
              <a:off x="7979760" y="2123640"/>
              <a:ext cx="316440" cy="181800"/>
              <a:chOff x="7979760" y="2123640"/>
              <a:chExt cx="316440" cy="181800"/>
            </a:xfrm>
          </p:grpSpPr>
          <p:pic>
            <p:nvPicPr>
              <p:cNvPr id="207" name="Up Arrow 81" descr=""/>
              <p:cNvPicPr/>
              <p:nvPr/>
            </p:nvPicPr>
            <p:blipFill>
              <a:blip r:embed="rId23"/>
              <a:stretch/>
            </p:blipFill>
            <p:spPr>
              <a:xfrm>
                <a:off x="7979760" y="2123640"/>
                <a:ext cx="316440" cy="181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>
                <a:off x="8117280" y="2167920"/>
                <a:ext cx="44280" cy="6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Up Arrow 83"/>
            <p:cNvGrpSpPr/>
            <p:nvPr/>
          </p:nvGrpSpPr>
          <p:grpSpPr>
            <a:xfrm>
              <a:off x="7765200" y="2954160"/>
              <a:ext cx="321840" cy="714960"/>
              <a:chOff x="7765200" y="2954160"/>
              <a:chExt cx="321840" cy="714960"/>
            </a:xfrm>
          </p:grpSpPr>
          <p:pic>
            <p:nvPicPr>
              <p:cNvPr id="210" name="Up Arrow 83" descr=""/>
              <p:cNvPicPr/>
              <p:nvPr/>
            </p:nvPicPr>
            <p:blipFill>
              <a:blip r:embed="rId24"/>
              <a:stretch/>
            </p:blipFill>
            <p:spPr>
              <a:xfrm>
                <a:off x="7765200" y="2954160"/>
                <a:ext cx="321840" cy="714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"/>
              <p:cNvSpPr/>
              <p:nvPr/>
            </p:nvSpPr>
            <p:spPr>
              <a:xfrm>
                <a:off x="7874640" y="3050280"/>
                <a:ext cx="105840" cy="54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2" name="TextBox 102"/>
            <p:cNvSpPr/>
            <p:nvPr/>
          </p:nvSpPr>
          <p:spPr>
            <a:xfrm>
              <a:off x="7609680" y="6099480"/>
              <a:ext cx="1271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70c0"/>
                  </a:solidFill>
                  <a:latin typeface="Calibri"/>
                </a:rPr>
                <a:t>Channel 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70c0"/>
                  </a:solidFill>
                  <a:latin typeface="Calibri"/>
                </a:rPr>
                <a:t>Dried grains   processe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3" name="Oval 33"/>
            <p:cNvGrpSpPr/>
            <p:nvPr/>
          </p:nvGrpSpPr>
          <p:grpSpPr>
            <a:xfrm>
              <a:off x="7058520" y="457200"/>
              <a:ext cx="1944360" cy="866520"/>
              <a:chOff x="7058520" y="457200"/>
              <a:chExt cx="1944360" cy="866520"/>
            </a:xfrm>
          </p:grpSpPr>
          <p:pic>
            <p:nvPicPr>
              <p:cNvPr id="214" name="Oval 33" descr=""/>
              <p:cNvPicPr/>
              <p:nvPr/>
            </p:nvPicPr>
            <p:blipFill>
              <a:blip r:embed="rId25"/>
              <a:stretch/>
            </p:blipFill>
            <p:spPr>
              <a:xfrm>
                <a:off x="7058520" y="457200"/>
                <a:ext cx="1944360" cy="866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7383960" y="604440"/>
                <a:ext cx="1298880" cy="53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Arial"/>
                  </a:rPr>
                  <a:t>Consumer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16" name="TextBox 34" descr=""/>
            <p:cNvPicPr/>
            <p:nvPr/>
          </p:nvPicPr>
          <p:blipFill>
            <a:blip r:embed="rId26"/>
            <a:stretch/>
          </p:blipFill>
          <p:spPr>
            <a:xfrm>
              <a:off x="7199640" y="2232720"/>
              <a:ext cx="1944360" cy="793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7" name="Up Arrow 42"/>
            <p:cNvGrpSpPr/>
            <p:nvPr/>
          </p:nvGrpSpPr>
          <p:grpSpPr>
            <a:xfrm>
              <a:off x="8613000" y="2954160"/>
              <a:ext cx="389880" cy="1472760"/>
              <a:chOff x="8613000" y="2954160"/>
              <a:chExt cx="389880" cy="1472760"/>
            </a:xfrm>
          </p:grpSpPr>
          <p:pic>
            <p:nvPicPr>
              <p:cNvPr id="218" name="Up Arrow 42" descr=""/>
              <p:cNvPicPr/>
              <p:nvPr/>
            </p:nvPicPr>
            <p:blipFill>
              <a:blip r:embed="rId27"/>
              <a:stretch/>
            </p:blipFill>
            <p:spPr>
              <a:xfrm>
                <a:off x="8613000" y="2954160"/>
                <a:ext cx="389880" cy="147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9" name=""/>
              <p:cNvSpPr/>
              <p:nvPr/>
            </p:nvSpPr>
            <p:spPr>
              <a:xfrm>
                <a:off x="8740080" y="3069000"/>
                <a:ext cx="141120" cy="128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20" name="TextBox 43" descr=""/>
            <p:cNvPicPr/>
            <p:nvPr/>
          </p:nvPicPr>
          <p:blipFill>
            <a:blip r:embed="rId28"/>
            <a:stretch/>
          </p:blipFill>
          <p:spPr>
            <a:xfrm>
              <a:off x="7131960" y="1396440"/>
              <a:ext cx="1870560" cy="799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1" name="Up Arrow 44"/>
            <p:cNvGrpSpPr/>
            <p:nvPr/>
          </p:nvGrpSpPr>
          <p:grpSpPr>
            <a:xfrm>
              <a:off x="7697160" y="4093560"/>
              <a:ext cx="248400" cy="333000"/>
              <a:chOff x="7697160" y="4093560"/>
              <a:chExt cx="248400" cy="333000"/>
            </a:xfrm>
          </p:grpSpPr>
          <p:pic>
            <p:nvPicPr>
              <p:cNvPr id="222" name="Up Arrow 44" descr=""/>
              <p:cNvPicPr/>
              <p:nvPr/>
            </p:nvPicPr>
            <p:blipFill>
              <a:blip r:embed="rId29"/>
              <a:stretch/>
            </p:blipFill>
            <p:spPr>
              <a:xfrm>
                <a:off x="7697160" y="4093560"/>
                <a:ext cx="248400" cy="333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3" name=""/>
              <p:cNvSpPr/>
              <p:nvPr/>
            </p:nvSpPr>
            <p:spPr>
              <a:xfrm>
                <a:off x="7786080" y="4167720"/>
                <a:ext cx="70560" cy="18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4" name="Up Arrow 45"/>
            <p:cNvGrpSpPr/>
            <p:nvPr/>
          </p:nvGrpSpPr>
          <p:grpSpPr>
            <a:xfrm>
              <a:off x="7906320" y="1214640"/>
              <a:ext cx="321840" cy="260280"/>
              <a:chOff x="7906320" y="1214640"/>
              <a:chExt cx="321840" cy="260280"/>
            </a:xfrm>
          </p:grpSpPr>
          <p:pic>
            <p:nvPicPr>
              <p:cNvPr id="225" name="Up Arrow 45" descr=""/>
              <p:cNvPicPr/>
              <p:nvPr/>
            </p:nvPicPr>
            <p:blipFill>
              <a:blip r:embed="rId30"/>
              <a:stretch/>
            </p:blipFill>
            <p:spPr>
              <a:xfrm>
                <a:off x="7906320" y="1214640"/>
                <a:ext cx="321840" cy="26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6" name=""/>
              <p:cNvSpPr/>
              <p:nvPr/>
            </p:nvSpPr>
            <p:spPr>
              <a:xfrm>
                <a:off x="8015760" y="1288800"/>
                <a:ext cx="105840" cy="11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7" name="Group 48"/>
          <p:cNvGrpSpPr/>
          <p:nvPr/>
        </p:nvGrpSpPr>
        <p:grpSpPr>
          <a:xfrm>
            <a:off x="0" y="762120"/>
            <a:ext cx="3048120" cy="5933880"/>
            <a:chOff x="0" y="762120"/>
            <a:chExt cx="3048120" cy="5933880"/>
          </a:xfrm>
        </p:grpSpPr>
        <p:grpSp>
          <p:nvGrpSpPr>
            <p:cNvPr id="228" name="Group 47"/>
            <p:cNvGrpSpPr/>
            <p:nvPr/>
          </p:nvGrpSpPr>
          <p:grpSpPr>
            <a:xfrm>
              <a:off x="0" y="762120"/>
              <a:ext cx="3048120" cy="5933880"/>
              <a:chOff x="0" y="762120"/>
              <a:chExt cx="3048120" cy="5933880"/>
            </a:xfrm>
          </p:grpSpPr>
          <p:grpSp>
            <p:nvGrpSpPr>
              <p:cNvPr id="229" name="Rectangle 3"/>
              <p:cNvGrpSpPr/>
              <p:nvPr/>
            </p:nvGrpSpPr>
            <p:grpSpPr>
              <a:xfrm>
                <a:off x="1282320" y="762120"/>
                <a:ext cx="1765800" cy="5410440"/>
                <a:chOff x="1282320" y="762120"/>
                <a:chExt cx="1765800" cy="5410440"/>
              </a:xfrm>
            </p:grpSpPr>
            <p:pic>
              <p:nvPicPr>
                <p:cNvPr id="230" name="Rectangle 3" descr=""/>
                <p:cNvPicPr/>
                <p:nvPr/>
              </p:nvPicPr>
              <p:blipFill>
                <a:blip r:embed="rId31"/>
                <a:stretch/>
              </p:blipFill>
              <p:spPr>
                <a:xfrm>
                  <a:off x="1282320" y="762120"/>
                  <a:ext cx="1765800" cy="5410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1" name=""/>
                <p:cNvSpPr/>
                <p:nvPr/>
              </p:nvSpPr>
              <p:spPr>
                <a:xfrm>
                  <a:off x="1341720" y="798120"/>
                  <a:ext cx="1640520" cy="530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00"/>
                      </a:solidFill>
                      <a:latin typeface="Arial"/>
                    </a:rPr>
                    <a:t>Subsistence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00"/>
                      </a:solidFill>
                      <a:latin typeface="Arial"/>
                    </a:rPr>
                    <a:t>household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2" name="TextBox 91"/>
              <p:cNvSpPr/>
              <p:nvPr/>
            </p:nvSpPr>
            <p:spPr>
              <a:xfrm>
                <a:off x="0" y="949680"/>
                <a:ext cx="1342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00000"/>
                    </a:solidFill>
                    <a:latin typeface="Arial"/>
                  </a:rPr>
                  <a:t>Consump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TextBox 92"/>
              <p:cNvSpPr/>
              <p:nvPr/>
            </p:nvSpPr>
            <p:spPr>
              <a:xfrm>
                <a:off x="140040" y="1631520"/>
                <a:ext cx="118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00000"/>
                    </a:solidFill>
                    <a:latin typeface="Arial"/>
                  </a:rPr>
                  <a:t>Distribu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TextBox 93"/>
              <p:cNvSpPr/>
              <p:nvPr/>
            </p:nvSpPr>
            <p:spPr>
              <a:xfrm>
                <a:off x="149040" y="3373200"/>
                <a:ext cx="1043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00000"/>
                    </a:solidFill>
                    <a:latin typeface="Calibri"/>
                  </a:rPr>
                  <a:t>Trad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TextBox 94"/>
              <p:cNvSpPr/>
              <p:nvPr/>
            </p:nvSpPr>
            <p:spPr>
              <a:xfrm>
                <a:off x="149040" y="4357800"/>
                <a:ext cx="11044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00000"/>
                    </a:solidFill>
                    <a:latin typeface="Calibri"/>
                  </a:rPr>
                  <a:t>On-farm p</a:t>
                </a:r>
                <a:r>
                  <a:rPr b="1" lang="en-US" sz="1400" spc="-1" strike="noStrike">
                    <a:solidFill>
                      <a:srgbClr val="c00000"/>
                    </a:solidFill>
                    <a:latin typeface="Arial"/>
                  </a:rPr>
                  <a:t>roduc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TextBox 95"/>
              <p:cNvSpPr/>
              <p:nvPr/>
            </p:nvSpPr>
            <p:spPr>
              <a:xfrm>
                <a:off x="218880" y="5493960"/>
                <a:ext cx="714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00000"/>
                    </a:solidFill>
                    <a:latin typeface="Arial"/>
                  </a:rPr>
                  <a:t>Input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TextBox 96"/>
              <p:cNvSpPr/>
              <p:nvPr/>
            </p:nvSpPr>
            <p:spPr>
              <a:xfrm>
                <a:off x="1329480" y="6099840"/>
                <a:ext cx="1544760" cy="59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70c0"/>
                    </a:solidFill>
                    <a:latin typeface="Calibri"/>
                  </a:rPr>
                  <a:t>Channel 1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70c0"/>
                    </a:solidFill>
                    <a:latin typeface="Calibri"/>
                  </a:rPr>
                  <a:t>Subsistence production 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70c0"/>
                    </a:solidFill>
                    <a:latin typeface="Calibri"/>
                  </a:rPr>
                  <a:t>&amp; consumptio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TextBox 92"/>
            <p:cNvSpPr/>
            <p:nvPr/>
          </p:nvSpPr>
          <p:spPr>
            <a:xfrm>
              <a:off x="156600" y="22860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00000"/>
                  </a:solidFill>
                  <a:latin typeface="Arial"/>
                </a:rPr>
                <a:t>Process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3"/>
          <p:cNvSpPr/>
          <p:nvPr/>
        </p:nvSpPr>
        <p:spPr>
          <a:xfrm>
            <a:off x="380880" y="1295280"/>
            <a:ext cx="84582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Use encouragement as an instrumental variable for ad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extension of credit to some farmers, randomized price subsidies through coupon distributi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Randomized Mother-Baby t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1523880" y="152280"/>
            <a:ext cx="7239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ls design: Demand-side: Encouragemen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4"/>
          <p:cNvSpPr/>
          <p:nvPr/>
        </p:nvSpPr>
        <p:spPr>
          <a:xfrm>
            <a:off x="1523880" y="152280"/>
            <a:ext cx="7239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ls design: Demand-side: Encouragement: M-B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6201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2T14:08:11Z</dcterms:created>
  <dc:creator>gbright</dc:creator>
  <dc:description/>
  <dc:language>en-US</dc:language>
  <cp:lastModifiedBy>Dr. Rusike</cp:lastModifiedBy>
  <dcterms:modified xsi:type="dcterms:W3CDTF">2012-09-06T04:32:22Z</dcterms:modified>
  <cp:revision>532</cp:revision>
  <dc:subject/>
  <dc:title>Slide 1</dc:title>
</cp:coreProperties>
</file>