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172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C433-9EE5-4ACB-B5FD-EF8BB700A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70071-D8BB-4EF2-9968-5AE26BD3F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54ED-28E7-4CF3-B063-02C0A1412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39A6A-9DDB-473A-A744-870E66050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55A8-7E66-4EF1-8354-E35809519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5E4F-4167-4207-9800-BD57B73A3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D10E-66EB-4D0B-850A-063F6430A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215F-25C0-45B5-90BD-4135589C1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CF71-667F-427F-BCD2-B388B43E9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7A81-1CA5-46A5-BA14-D080F033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D158-701F-4452-BAD2-0FCCFFE6D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C2F-5CDD-4223-A92A-F754C4EE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BC9A-7636-415A-B743-1D2E2095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8D35-B87D-4CF5-838F-2B8AAA5A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313-D192-4965-BBF5-E26A4351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A04D-E510-4FEE-A759-94BEBE1B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F1E-6CC5-4D25-B059-5392E1C2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2A5-10FB-4B2E-A39F-27F896C0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28BC-4DEF-4CAB-8CCF-5EF66B82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FB41-5E5B-4104-ADDB-9CDB0367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911E-A458-4EE0-8015-706BE9AC71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Relationship between agricultural biodiversity and dietary diversity of children aged 6-36 months in rural areas of Northern Ghana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NTED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 Mahama Saaka (Ph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DS, School of Allied Health Sciences- Ta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action term was statistically significant [β = -0.16 (95% CI: -0.21, -0.004, p = 0.042)] and this confirms that the relationship between production diversity and dietary diversity scores differs according to the socioeconomic status of the child’s househo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from households of high wealth index had mean dietary diversity score which was 0.06 standard units significantly higher than their counterparts from households of lower wealth index [β = 0.06 (95% CI: 0.04, 0.51)]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nclusion and Recommend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tudy provided evidence that increased agricultural biodiversity positively associated with dietary diversity of preschool children but this relationship was moderated by socioeconomic status of the child’s household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nclusion and Recommend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refore recommended that the Ministry of Agriculture and related organizations should take steps to train/educate rural farmers on agricultural biodiversity especially the poor 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udy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ational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&amp;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a positive relationship between biodiversity and nutrition appears to be evident from a number of studies, more research is needed to better understand in which socio-ecological settings and contexts do biodiversity and nutritional and dietary outcomes relate and which factors mediate the relationshi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udy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ational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&amp;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aper investigated whether and how biodiversity contributes to diversified diets of children and how economic factors interact with biodiversity to mediate consumption of nutrient dense fo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per is based on analysis of data which was collected in a base-line cross-sectional survey from 50 communities located in five districts of Norther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y population comprised mothers/primary caregivers and their children who were selected using a two-stage cluster sampling proced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ary diversity was derived from a semi-quantitative 24-hour food recal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crop and livestock species produced on a farm was used as the measure of production diver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ical regression analysis was used to identify predictors and test for interac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tion analyses were used to assess whether socioeconomic status of the household mediates the link between agricultural biodiversity and dietary diversity of child’ di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s</a:t>
            </a:r>
            <a:br>
              <a:rPr sz="36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positive relationship between agricultural biodiversity (variety of animals kept and plants grown for food) and the diversity of child’s di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er children (24-36 months), high agricultural biodiversity, small household size and households of higher household wealth index were consistent predict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rongest predictor was child’s age with a standardized beta (β) weight of 0.45, p &lt; 0.001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econd highest contributor was production diversity with beta (β) weight of 0.25, p = 0.00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oeconomic status of the household did not mediate the link between agricultural biodiversity and dietary diversity of child’ diet. Rather, it interacted with agricultural biodiversity on dietary diversity of chi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22:30:10Z</dcterms:created>
  <dc:creator>Amy</dc:creator>
  <dc:description/>
  <dc:language>en-US</dc:language>
  <cp:lastModifiedBy>mahama Saaka</cp:lastModifiedBy>
  <dcterms:modified xsi:type="dcterms:W3CDTF">2016-12-12T11:57:53Z</dcterms:modified>
  <cp:revision>1464</cp:revision>
  <dc:subject/>
  <dc:title>Gastroenteritis at a University in Texas</dc:title>
</cp:coreProperties>
</file>