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6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theme/theme19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40.xml" ContentType="application/vnd.openxmlformats-officedocument.theme+xml"/>
  <Override PartName="/ppt/theme/theme39.xml" ContentType="application/vnd.openxmlformats-officedocument.theme+xml"/>
  <Override PartName="/ppt/theme/theme41.xml" ContentType="application/vnd.openxmlformats-officedocument.theme+xml"/>
  <Override PartName="/ppt/theme/theme30.xml" ContentType="application/vnd.openxmlformats-officedocument.theme+xml"/>
  <Override PartName="/ppt/theme/theme42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42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media/image22.png" ContentType="image/pn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5.png" ContentType="image/png"/>
  <Override PartName="/ppt/media/image16.png" ContentType="image/png"/>
  <Override PartName="/ppt/media/image24.png" ContentType="image/png"/>
  <Override PartName="/ppt/media/image1.png" ContentType="image/png"/>
  <Override PartName="/ppt/media/image3.jpeg" ContentType="image/jpeg"/>
  <Override PartName="/ppt/media/image37.jpeg" ContentType="image/jpeg"/>
  <Override PartName="/ppt/media/image25.jpeg" ContentType="image/jpeg"/>
  <Override PartName="/ppt/media/image2.png" ContentType="image/png"/>
  <Override PartName="/ppt/media/image4.png" ContentType="image/png"/>
  <Override PartName="/ppt/media/image12.jpeg" ContentType="image/jpeg"/>
  <Override PartName="/ppt/media/image34.png" ContentType="image/png"/>
  <Override PartName="/ppt/media/image23.png" ContentType="image/png"/>
  <Override PartName="/ppt/media/image13.jpeg" ContentType="image/jpeg"/>
  <Override PartName="/ppt/media/image29.jpeg" ContentType="image/jpeg"/>
  <Override PartName="/ppt/media/image5.png" ContentType="image/png"/>
  <Override PartName="/ppt/media/image27.jpeg" ContentType="image/jpeg"/>
  <Override PartName="/ppt/media/image52.png" ContentType="image/png"/>
  <Override PartName="/ppt/media/image31.jpeg" ContentType="image/jpeg"/>
  <Override PartName="/ppt/media/image40.wmf" ContentType="image/x-wmf"/>
  <Override PartName="/ppt/media/image7.jpeg" ContentType="image/jpeg"/>
  <Override PartName="/ppt/media/image28.jpeg" ContentType="image/jpeg"/>
  <Override PartName="/ppt/media/image41.png" ContentType="image/png"/>
  <Override PartName="/ppt/media/image42.png" ContentType="image/png"/>
  <Override PartName="/ppt/media/image43.png" ContentType="image/png"/>
  <Override PartName="/ppt/media/image44.wmf" ContentType="image/x-wmf"/>
  <Override PartName="/ppt/media/image45.png" ContentType="image/png"/>
  <Override PartName="/ppt/media/image33.jpeg" ContentType="image/jpeg"/>
  <Override PartName="/ppt/media/image30.wmf" ContentType="image/x-wmf"/>
  <Override PartName="/ppt/media/image46.jpeg" ContentType="image/jpeg"/>
  <Override PartName="/ppt/media/image48.png" ContentType="image/png"/>
  <Override PartName="/ppt/media/image32.jpeg" ContentType="image/jpeg"/>
  <Override PartName="/ppt/media/image49.wmf" ContentType="image/x-wmf"/>
  <Override PartName="/ppt/media/image51.png" ContentType="image/png"/>
  <Override PartName="/ppt/media/image50.png" ContentType="image/png"/>
  <Override PartName="/ppt/media/image11.wmf" ContentType="image/x-wmf"/>
  <Override PartName="/ppt/media/image17.jpeg" ContentType="image/jpeg"/>
  <Override PartName="/ppt/media/image26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14.jpeg" ContentType="image/jpeg"/>
  <Override PartName="/ppt/media/image6.png" ContentType="image/png"/>
  <Override PartName="/ppt/media/image36.png" ContentType="image/png"/>
  <Override PartName="/ppt/media/image10.png" ContentType="image/png"/>
  <Override PartName="/ppt/media/image47.png" ContentType="image/png"/>
  <Override PartName="/ppt/media/image3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</p:sldMasterIdLst>
  <p:notesMasterIdLst>
    <p:notesMasterId r:id="rId43"/>
  </p:notesMasterIdLst>
  <p:sldIdLst>
    <p:sldId id="256" r:id="rId44"/>
    <p:sldId id="257" r:id="rId45"/>
    <p:sldId id="258" r:id="rId46"/>
    <p:sldId id="259" r:id="rId47"/>
    <p:sldId id="260" r:id="rId48"/>
    <p:sldId id="261" r:id="rId49"/>
    <p:sldId id="262" r:id="rId50"/>
    <p:sldId id="263" r:id="rId51"/>
    <p:sldId id="264" r:id="rId52"/>
    <p:sldId id="265" r:id="rId53"/>
    <p:sldId id="266" r:id="rId54"/>
    <p:sldId id="267" r:id="rId55"/>
    <p:sldId id="268" r:id="rId56"/>
    <p:sldId id="269" r:id="rId57"/>
    <p:sldId id="270" r:id="rId58"/>
    <p:sldId id="271" r:id="rId59"/>
    <p:sldId id="272" r:id="rId60"/>
    <p:sldId id="27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notesMaster" Target="notesMasters/notesMaster1.xml"/><Relationship Id="rId44" Type="http://schemas.openxmlformats.org/officeDocument/2006/relationships/slide" Target="slides/slide1.xml"/><Relationship Id="rId45" Type="http://schemas.openxmlformats.org/officeDocument/2006/relationships/slide" Target="slides/slide2.xml"/><Relationship Id="rId46" Type="http://schemas.openxmlformats.org/officeDocument/2006/relationships/slide" Target="slides/slide3.xml"/><Relationship Id="rId47" Type="http://schemas.openxmlformats.org/officeDocument/2006/relationships/slide" Target="slides/slide4.xml"/><Relationship Id="rId48" Type="http://schemas.openxmlformats.org/officeDocument/2006/relationships/slide" Target="slides/slide5.xml"/><Relationship Id="rId49" Type="http://schemas.openxmlformats.org/officeDocument/2006/relationships/slide" Target="slides/slide6.xml"/><Relationship Id="rId50" Type="http://schemas.openxmlformats.org/officeDocument/2006/relationships/slide" Target="slides/slide7.xml"/><Relationship Id="rId51" Type="http://schemas.openxmlformats.org/officeDocument/2006/relationships/slide" Target="slides/slide8.xml"/><Relationship Id="rId52" Type="http://schemas.openxmlformats.org/officeDocument/2006/relationships/slide" Target="slides/slide9.xml"/><Relationship Id="rId53" Type="http://schemas.openxmlformats.org/officeDocument/2006/relationships/slide" Target="slides/slide10.xml"/><Relationship Id="rId54" Type="http://schemas.openxmlformats.org/officeDocument/2006/relationships/slide" Target="slides/slide11.xml"/><Relationship Id="rId55" Type="http://schemas.openxmlformats.org/officeDocument/2006/relationships/slide" Target="slides/slide12.xml"/><Relationship Id="rId56" Type="http://schemas.openxmlformats.org/officeDocument/2006/relationships/slide" Target="slides/slide13.xml"/><Relationship Id="rId57" Type="http://schemas.openxmlformats.org/officeDocument/2006/relationships/slide" Target="slides/slide14.xml"/><Relationship Id="rId58" Type="http://schemas.openxmlformats.org/officeDocument/2006/relationships/slide" Target="slides/slide15.xml"/><Relationship Id="rId59" Type="http://schemas.openxmlformats.org/officeDocument/2006/relationships/slide" Target="slides/slide16.xml"/><Relationship Id="rId60" Type="http://schemas.openxmlformats.org/officeDocument/2006/relationships/slide" Target="slides/slide17.xml"/><Relationship Id="rId61" Type="http://schemas.openxmlformats.org/officeDocument/2006/relationships/slide" Target="slides/slide18.xml"/><Relationship Id="rId6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PlaceHolder 2"/>
          <p:cNvSpPr>
            <a:spLocks noGrp="1"/>
          </p:cNvSpPr>
          <p:nvPr>
            <p:ph type="dt" idx="11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3" name="PlaceHolder 5"/>
          <p:cNvSpPr>
            <a:spLocks noGrp="1"/>
          </p:cNvSpPr>
          <p:nvPr>
            <p:ph type="ftr" idx="11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PlaceHolder 6"/>
          <p:cNvSpPr>
            <a:spLocks noGrp="1"/>
          </p:cNvSpPr>
          <p:nvPr>
            <p:ph type="sldNum" idx="11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C98B2-54F1-4757-A619-CAAF3F7381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E6F34-5FC0-4AC3-BFB7-4AF8730543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0% of all farmers cultivate maize on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% maize, groundn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% maize, paddy, be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%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A9706-7091-4B09-A82C-2780DAA50A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D66B2-63BB-4E73-A2F3-8592CEA0D4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8B856-E1AD-4B0A-B701-60EEAA0B21A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098720" y="67644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898200" y="4358880"/>
            <a:ext cx="5011560" cy="414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537E-FC3E-446D-8B50-313AE4798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B54A-49DA-4F50-97D9-95F94DCDD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AFDC4B9-47DA-4FF2-A0DC-95E1EA63B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59E3989-3769-450F-A10F-C9A5CFC4F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94021DB-52E1-41FE-9649-BEDED4B8E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63D07F4-6BAA-4217-AC4A-31642CDF3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5F8797D-CBB8-4906-ABD5-1BC32EA7A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243ADA9-90C3-4FC4-895D-93F07E776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C4180EB-3AFA-45F8-A0D9-735C2212A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B0EA94B-F67C-437D-B127-7979DBA61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71F9227-D627-41B6-B4F4-C40EB15EE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196D2C1-1369-4145-B371-D6A3AA8BE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9E58-942D-48D7-B3A5-C5AAD731C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43CC238-0AD8-4912-B0EC-6ADC2AA97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CA6A438-4576-4D00-88DE-A19430A0A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1238C07-A8BB-4763-B0CA-1F75D8F26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9E08B22-8749-4E6C-B4B5-289931812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8015420-C684-4585-B9F2-EF380DE85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4D1E6FA-2E34-46E0-BF6A-97B1E31E0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F501975-A982-4488-ACA9-DC08E6441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45751FF-DF66-4DDD-B2BD-45797D144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87EF5FB-A32F-463F-8C62-EACD39E61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BBAAC68-2D49-45F7-844C-76981764A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B510-BD24-420D-8270-9D2DDB568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A2AB14A-33AE-4444-A948-DC4219F97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44810E9-2FFD-4344-8A03-B1805825B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19301F2-2ABB-413D-95AF-B075DD133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7C24BE8-FCD2-4432-BA08-3A651AFDB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8EAEDBC-3F1F-43D9-BEC3-9FACEA786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509E261-2895-4ACB-8FBD-DD5C06F34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3079C3C-26CB-4156-8B8E-3B1CEC5FD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D2A23E7-6D85-4439-AC7C-E822DB1DA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03124CB-1E57-4F4F-8C31-2C71CADB4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26400E1-D178-4449-AEA8-33BED2FE6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E224E-8669-49BF-AEC1-4C933F9BB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E732FAD-65AF-4E3C-B802-995B0A011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821B2E5-3F69-4EC5-AB69-C860E11D0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BF4CF2B-586E-4AAC-BF55-FC620FBC0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7C19DA9-BF7E-4FDF-A542-AABB6ECE8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2710076-0DE0-4B63-8B19-3D83331A8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631A481-D59E-45E2-B47B-F19F82CFC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CD6BF11-9457-4F07-B324-7245A8526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9CEFDB2-6046-4A1B-99B7-4145F3A87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57B3F77-CC07-48EC-9A94-0F45B1502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45BE96A-9DBA-4D1B-8C92-56675F71C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33927-63C1-4614-A667-AD9A44EA5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A264A78-A4EE-40D2-96B2-1BE5DED1E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7126351-9E31-4C0F-AD5D-71C85CF7C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FBC68A6-EEEB-45E0-BB8A-AD25053A4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8C758DD-A967-4646-B031-B1351CB71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A7D489F-F9F8-4712-A6F4-74C412883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93181D5-5A7E-47A3-A136-F646A05D2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E368B25-C8EA-44C8-B41F-0DBADE63A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A7A3181-24CC-4E63-A158-C3C47A054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C76D771-6C53-4773-BD4A-0640DC027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FF1EB1B-7A70-4FEA-9875-FA589549A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A35F5-4C3D-4E79-B0F8-74B7A7CDE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12D3C7E-B7C9-400F-9774-B24709067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E0F856F-5816-4BCA-9013-AA6E4FDDE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2C2D3B0-FF0B-4317-9C75-B737B53CB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92BA898-E7CF-4C4D-9661-62BAB7282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F5BB1AD-577E-4066-956A-39AD1B4DB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0955367-5E8E-47E1-9EEA-DC7FEAF55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3AC7D8B-5935-497A-9C91-364D97E24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A6BCDDB-CE98-41EF-88AB-C25E33A73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C1C3416-D3B8-4377-BB67-5892F1231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F4E6A66-2A91-4794-80B8-F332E0C62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2E7C3-04E5-4BB6-9E20-C265F03D0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7A522AD-D35E-46AB-8B9C-10430D1D9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573A524-79B8-45DF-95F4-12AB1C59F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DFE57D3-1A2F-4284-B08B-807DB3842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9B51DDA-E745-4C58-A7CA-1A84DD78F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5BA0E95-3BA8-4268-A472-A438D094B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88A8E45-0E46-4174-9EDF-38205D096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2B3FBA9-80E4-43B3-A06B-F3AC493E9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0929F3B-B107-446B-BD4C-8EAD54ACE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52A0E09-6314-4D11-8DB7-D45A86A96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DC1E919-83B1-429E-97B9-64D623C01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319B3-CB3D-4207-A1E8-0E330002F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E26E720-D2F9-4015-9EBF-1618927EA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482B014-FDE5-403F-A2FD-CFE71BBE4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42CF847-D199-4E2A-9B4D-8E0A117B8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F0244EA-B582-4D4E-9E72-49C9C4CA1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7F471CF-1434-4740-9FA3-AE6DAD909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A87A800-C82D-4868-8272-FBFFFA42E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6E7D2A2-32F3-47A6-BCD9-93A0AD864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6F256F9-114C-45DF-889E-899948925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7CFC4B57-1504-4FA1-A656-C6101541D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D5CA914-06FC-40D7-B990-8D0A54312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A9243-0AAC-49B8-AA10-1837CB9C6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0F723CE-1028-4B0D-A975-3BDC86A38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794D660-215A-4FD9-9549-EE8E46AE2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336E0C0-2DD1-4DB2-BF9A-CD53B9C7C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100D283-AB9F-4ECB-95F6-5EE347FC2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7BE0ECC-4B68-496C-A43C-E3149E806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C933722-FB1C-4680-A669-A118DB335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FC187920-CD81-475C-BA2D-1B4594A75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7AE614D-92FD-4BCC-8417-44696AC74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2994D76-E516-46C5-BFEF-9FFD4EF1F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666611D-7654-4690-BCDF-D0C53D575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FEE43-2B20-45C5-A177-03A0C7F72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1CE935B-0A6A-4598-AFDB-6C2F058E5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28E1865-EA89-433B-9237-C21239B25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3CF2159-F30E-4A09-BCA6-6C64C6079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311DAD0-88F8-44B1-89E2-3E3A9BB88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24E58D65-58A0-499E-A44E-607D51A8F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6EC2BE2-1F3D-4350-9A54-D648258E3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839A582-E249-4E6F-9C4C-97AECED26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B014DE1-28F5-451B-943F-C8B90262D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A75C89A-BA83-470B-B532-CA7F13CA3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6135540D-AAC4-46C3-866B-35C2E93D7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6BED-AB8C-4EDE-ABAB-6599FAE2C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B0278-DE30-4F5A-97C9-760146CA6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4403C3BF-F8FD-4250-9A03-8EA65C127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2288956-3582-4992-9975-CC3DEB43A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6A9F199C-E97E-4D52-B243-DC1751E85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2FD06E1-6D51-449E-979D-5EBF8F69C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925B9D4-FB10-4054-A852-8259AA612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5AF0DDCF-FE77-40A8-B52E-4E6856CF6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3238DA00-E411-4291-BFA5-9FC30EB4C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91A993C0-F563-4316-8E94-4074ADD8C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90B49E04-5FB3-4BA8-BC88-D6A80848D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B7D3AFF1-88BC-4893-882E-E37183F79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D3A22-391C-4E89-ABAA-872DE6A47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825B80B7-7273-4EA3-9F9B-06D30B2CB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3D0F5F05-52F2-43B7-9378-4EA4D20E7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AE44AFF7-5F4B-4060-BA7A-475338844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949D07BC-808C-4AD5-B44D-FA8C80682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C0D92C5C-0846-44F8-A152-EF9F4AFD3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1FD12671-2B50-4B05-BAE5-3547F4B28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9D100EE9-6D75-4EFF-B3DC-B2E2A12CF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FD54087E-369A-4F69-9545-471DF32DF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0736D2BB-5A18-4087-9B46-A82CC9E60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44E11D24-7CB2-43E2-AB3C-937DE18C6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3DFA6-0A0E-4D26-8AAA-D0E166074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8D554C08-43FF-4DAD-B130-1D3A4F402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F11577E4-2C61-4473-9E19-BCFB7FF8E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CC6FEF47-5ACD-4107-8C0A-8E1AA731B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98FF7995-35B1-4F9D-BA11-AD7E102C8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5DCF65FC-ECFF-4CFE-960B-3C70F83CD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F8D51CF5-684F-48AD-A169-BA139262D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9153B055-7D8E-4596-B383-AF311DF2C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A65C9F60-F769-4E17-8550-F483CD1C1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6"/>
          </p:nvPr>
        </p:nvSpPr>
        <p:spPr/>
        <p:txBody>
          <a:bodyPr/>
          <a:p>
            <a:fld id="{CACB84DC-1873-42A8-A909-05F4970B8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A0477-A43A-4692-A5F9-436CB16CE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A7546-521F-4189-A01A-CE3F6A56C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318228-366A-4F55-ACB8-39B229CE2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A01394-369C-478F-AFC6-3DF3D1F75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041B1A1C-3BA2-433F-BBD2-755E686AC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9E95D55C-1231-4374-A740-C75BFE743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2627BA50-CD24-4988-B7D9-AEB645DDA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53E92F92-4185-4BF7-900D-25A79B888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9649E6E6-05A0-4FBE-B6D2-E3C7D5823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ABAAEA-7FFB-421D-9DA6-554E610EE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FA853E55-C11E-424F-B458-0130ECE61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E00A5019-F456-4F70-9F36-2A3E27363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ABE8D286-690A-499C-B1CC-51BAF1AE6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894B5F85-60B3-45F9-8980-8C54AAF38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2672349C-7DF9-4097-BBF9-81FC5580C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55F86197-8972-4B9A-B696-E7928ECBD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18184CB7-3D6E-4418-BA35-390C18B38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11D03471-A36C-4D35-96CC-D567E3606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0667D41A-A585-4EA8-924D-416892F7B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5837A039-D9EB-4D5B-88DD-A6D6B9EEE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F0DDD8-99A3-42C8-B587-01F5841B0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2B132420-F24D-4AC0-8ACB-4AAC4800E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CB6BF48A-85A8-4B4F-990E-11FCAE566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A0D3E7A6-DA39-4A36-ABE6-9FB0A8249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E9D63CF6-B3F3-4F21-B11E-FCB6B76B0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36DA392B-B2E6-470D-B4EE-D70AAE64C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2485789A-A8F2-4311-831A-43D754F71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B39F3ECF-655D-4EAA-BAB6-845E3BE0B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7A6CBAE6-033A-4510-9209-A7DD3D041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5F415DB7-A9E8-4D55-A0CE-C4F30D52F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9CC1D889-A427-49E6-9F40-B7BB7BF86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BF3CC9-B67E-4569-B6D2-F85B594AC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D3B517D8-80A9-4881-B751-C4E248213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FDED1210-1076-496F-A7E3-D0E783AFB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10CD2EE5-D0FA-4F9B-808C-64E3FE958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0F4DDF6C-CB92-42B3-8D19-A35C457E7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87332BDD-B371-4D05-8395-7A6C8C354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224C1F29-D530-4DF1-BA13-C9BB82FF7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B5E432EA-BF59-4332-BA4F-AAD261D0E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20C254DF-41B4-4114-AD2C-C0478254E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D0DD13AC-90D0-4150-A38F-2FA7AB30F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AE9A4478-CB91-4F53-ACCF-CE381B71B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3654-B4C6-4DAA-98D0-B621768E7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1013B6-687C-4C72-AB57-BBBE5ECC8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7DE4EB35-136D-402F-AA0E-85F933206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FCDCB8E7-B49A-4DF3-BC29-8E87C55DB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B7A6587A-8CDA-4DBA-9D95-FD7353DA5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168CC647-C574-4286-800E-E131AB05A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1DC30B5C-304E-4752-9F2B-2A4D4567B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C22AC3AD-F693-4DA8-8910-A967C91C1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09F42579-629A-4F19-9FCF-85B680CA1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3540F337-7A15-4B7E-9A2B-EAF8DE04B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6F8172EC-9C31-4FE5-A022-AE181ECFE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D13B84A3-6A6E-4A1A-AF8A-E099A7059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2237C4-52C0-412B-9A1E-BF3FC415C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FD22725E-9496-423C-86CD-E95B6972C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24D1A5A7-686E-4936-B487-DB3AF77E3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29BADF37-8878-486A-A47D-97B9E4F9E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F56A90-17AC-44CC-A75B-B6C803831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D5EA04-CEA1-4F5C-BE6C-648FAD62E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46F9EF7-B7E6-4F3C-9B14-527EDD08D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D87C7ED-8569-4156-9168-236FDAE0A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98D7A0D-B1B2-45C9-8278-50417F8C3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2792A5-D0BD-4700-BC7D-2959330C8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AC87B77-50D0-4739-919C-88AE49DCB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610DA95-86E2-4C9E-8EEB-860CE7394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01FD0E3-6000-4150-9B08-DD60EB151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5766F5B-3736-4B71-BDD7-B50F65CAC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2E36768-E89A-4A24-8DD4-6D28DED06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9C51E53-975E-4C43-A3F4-6792D79A8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DE9C21D-3350-41EE-B2C9-A72465978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85B1E17-CB7D-4769-96FD-6EFB1D8AF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538A93F-D84D-479C-BDFF-40EE37ACD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B3354FB-A891-4A2A-89B3-3569447C8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0E5479-7768-4AE2-98DB-6CA4B5FCC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DFC26E0-2EED-41BF-AF29-8B34504E6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069679A-0A35-4C92-933C-9B4F86C2A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ACCC186-C0B6-4B19-B64D-AA6EC72C5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6FBB45B-6E11-437E-90AF-35608A8BA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6FD1470-AA3B-465E-A6E7-FA7B2FCB5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11E6C09-E3BA-4735-B33E-C1C5F8BCD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65F2493-0710-4E37-87E1-794132072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D38430D-0015-4C56-BBD1-333FC4C44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2BB42EB-50C1-4454-B7BF-DEBC47692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563AF42-8A22-4FAC-8714-05101211C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7D8EEF-326F-4B5C-8623-D2BFC03AE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D32251B-0E3E-4E11-8877-F7AB89869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655FD94-E6DB-435F-9F48-619AAD5AB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710DA8B-61C8-4B06-8625-5773C971F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0BFBD21-4AA9-4CD8-B374-1A794B127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1FA165A-E9AB-4BB3-B666-918E59D7F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1A5E042-034D-43FF-9C3A-DAEFEE282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7EE2DC7-03D4-4FFA-82FF-25FD0985B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BE5497B-115F-4FC8-A533-D7500CCA8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972A986-F641-4A85-8683-92E6F174B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767BC8C-B320-470B-A256-BDAAF8613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E8DD19-E35F-4619-BE0F-B8CF0FA6A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29EC5EF-1CA5-4979-923D-E2606294B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9101EB6-9076-469E-8FF3-A445E61C4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8E95034-9EB4-4D03-8B04-00B78097C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B907387-D06C-4A70-9391-166EEF814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A0943D5-2057-4725-BF25-4E3416B3C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41582BC-C962-4817-9171-04732FEC1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BBA7759-6B81-405E-83CF-5750AF2E1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A64D187-1682-4C50-BEB0-FCA733E51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3FD47C1-A5A1-4B96-8DB5-90EBC5517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06975A6-4F2A-4CB1-9082-10D46BD86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C09165-96B5-4301-A535-1AD2D907A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4997A95-A917-423A-B128-D65F4E456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F56DB18-7201-44BC-9451-4EBAC9465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3F30145-B968-4D2D-816D-19364C981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0915107-D918-42B1-8F26-235BBD096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3CD415D-9E93-4F52-9E68-2702ACF96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4EA4C89-E0F4-4C33-A455-C8A6CFEA0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98C5F8E-8609-45B4-BDD1-90AB3E65D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4490581-F729-49F6-858D-5ACC4CAC7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B3F1731-987D-405E-87A5-5F6B2D0C3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04363A5-35EA-4020-A0B2-52CEEB1BE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248578-606A-4688-9A8B-EB1ED41BA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3FDC3A4-4E1B-43AE-B69D-AD22D81AA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034407A-C3D0-436D-A155-96AC30390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CD9136A-1889-4357-92AE-36418A711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3358FC7-56E9-43E3-AEA1-2EA6CEBF9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603587A-22E2-473F-91C9-6398BFA90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DCBF94D-884C-4FFC-9150-760B97E8F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A01FB4F-660E-4C5A-81CB-F172064D6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4D032F4-2934-4386-8959-938B6A332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CC9844E-B264-475B-A939-F0C5E8B30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4BEDC3F-C05E-4F9D-A368-7A6195C83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46D4-A0B3-4964-8033-FB8730426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1AA27F-98FB-467A-AE06-9100C97EB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EE151BB-F096-405B-B719-177AB4285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F9E3E9D-2CCE-4FB3-99F1-625C0DED2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3063B59-7CC5-489B-AAE7-8102CED60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D1D2CD2-9737-45CD-8232-803340A5D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D6DD68F-5F55-4120-A73F-071C8ADE7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A3E6A44-8BF3-4589-8C26-AE0383BE7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A44631C-EFDE-4772-839D-50E65FB95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26F985C-E9CA-4892-B7FE-077A880D1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3C578E3-8A1E-47DC-BDBD-96C730CB2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CBB4EEB-69DA-4B3B-9417-4DAE7E86C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71D743-4233-4A4F-BC18-D8AB6B2EF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858EFDE-C84C-4176-9CEE-5ED1923A5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1F53E14-6A92-405A-94EC-69EAD0528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33B21F3-C656-4343-A18C-92D9EDA0F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38807CE-8364-460B-B4DA-FAFFCB798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50EDD7B-BADC-4A5F-A4E3-7E048D67A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297076C-8F81-4B21-9280-98409812B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9EFC6F3-179A-44AB-A78B-FEDDC40FE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EBECF2D-0FBE-409D-8EA3-AD523993B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F29A268-543B-4D5B-803F-8CEF8073E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F99B7E7-EF10-4455-857F-EED60E9B3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4C7A40-73F6-409A-8501-1F4F82312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41211FF-2656-4C01-A242-885263FF8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CBF3474-6219-4854-A5DF-AFACC1A67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D20E99E-12F4-4545-9DCF-BDCDB4C51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AFCA3E1-E641-4DED-BF63-940872084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9F7520B-3DEA-41D7-A307-ED849FA7C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A019DA9-D016-4878-9E30-FAD3C7FC9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AFE30D7-3F44-4276-8120-40E057BD6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CC2ADFD-5149-48B0-93D2-9C1F1EA11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565FF1D-4B8C-42C1-ADEE-C27594FD1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BD8C1D5-F2BC-45E6-8F36-091EF783C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1B13AA-F0B7-47C2-B1DC-4ECBFD7FC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440F7CF-6459-4FB2-BDD0-799CD0AD9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BEBD824-9B46-49AD-BD4E-AF65E9EFF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EAEC520-F258-4894-8D99-615B44868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D4C9744-AC11-4554-A3DF-11A438450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1CD757E-6903-4D0A-AAC8-F4BD64D5D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BD631B2-2D10-42D0-B837-36684FBAC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AB20523-C932-453E-A527-DC3B8CF1A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126B987-C78A-447D-AB82-A66993D8E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BB80F2C-10B2-413A-BA0F-3449F8C95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AC2C91D-4756-4132-8463-FCB4C4EC1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32815B-26E4-435E-B424-F4483D87B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B963603-A582-4CA3-9A12-1AFE4C022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68BB63F-4D07-4560-800A-FD18C2E01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133C2F8-B3AC-42A3-910A-9663033AF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852069C-71AA-448D-9554-AD7E4DBA5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CB035D2-B6EA-4182-8144-C843010BA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1C08F5C-B2D0-422C-B08F-08D8EE63E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1F9349D-9B5D-41C4-A10D-254676753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082AD83-31D7-4917-B0AC-E541750E9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87B704B-02FA-4CA0-AE36-50B8F1B7D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9C6CB91-C010-43FE-891E-B0047E9D4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7A3BE7-DC58-4C02-BC1F-CD8927AC3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BBFD4CC-3170-4992-A93C-80416C791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B6E8CBB-61F0-40C7-9CFB-911D8B8D5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14B0C4D-0459-475A-BC02-9BA15DE67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4311739-7CAC-4C25-A85B-6A0BD309D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078B040-4002-4510-894E-82CE9CF2A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599631D-D461-4408-805B-DF118EB9A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A09AF15-5472-4493-8C95-4F1DB8B0F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42421E5-B8B6-45F6-A68A-9B73802D2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BD65F24-9024-43D5-AF8B-B34B6A145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65901FC-D2D3-4673-87C0-56D428D8D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021223-7A00-4833-9E94-498AA8CBA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0CFB48B-328C-45E4-9C3E-4D7CC5202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BDFA066-ECCD-47B3-B225-29A7D6F1C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1A19409-F0D2-4759-BBC1-2480F4EF5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1287780-EFB9-475B-BAC2-AF0D35142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77F36B2-A4CB-4815-9D65-CAC011E6A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2A4E5C3-99B9-46D2-931B-1D0E573CA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6BA0FEF-4FD3-4CAC-9ABE-9A212A443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C8EF4E1-080A-41C9-922C-43F39829D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728D060-2485-4AF1-B887-43942879D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9167126-E73C-40A4-A077-E4CFCBDEB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BB0C17-410A-4A04-9294-3040B91A8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B739067-1A49-4A32-BF0F-D9A52B537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554EFE6-D2A8-42B2-A23B-B058ECCE4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C6CB6B4-2ACB-4836-B952-60A9E44C3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4E93433-87EB-486A-8CE6-37FA9B268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3D00941-9BBD-4E96-AD0D-9E022B859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2586A52-2DA7-4BDA-A331-9556E2488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20B0FE0-C4C0-4DC8-8C04-B3DE4C8D9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5A5D8CA-7137-4220-B75A-72A18AE97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12EA85D-38F7-4C52-8400-E7A60CE80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9C24214-4A96-4BA8-A94D-98FAAF018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AED789-6DE9-4841-B0F7-FF133139A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54CD2EB-8C93-447E-8F6F-A00D8F844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BB4F6F7C-8745-41D0-9C19-04144A677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D5E770DA-D941-49B8-9003-3854E1D78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3153FEC-04DA-44AC-9DF3-8A986A3AE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6BC95FE7-ECF2-44EF-9384-4C1C4B988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E1B8C58C-995B-4BC3-B120-2525773B2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C3DB45CB-8E48-448D-B287-50BE5F7F9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4AA48EE3-428A-45F2-9D93-F2A0E8B06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EA6B287C-C169-4B3B-9DEF-3B7639384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5E961E8-4B27-4B49-A2DA-A12EEE833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EF0BEA-7642-41FE-88EB-71262EF66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02C8AE4B-2387-4B22-B4F3-F68540367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E8C5A958-6982-4144-9C72-D01A92167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AB4A9C58-314C-41C2-893F-5B43A3615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83FB-A418-4D57-B458-36967917D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29E878-167D-4686-AF74-E05BC0ECA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33D108-FFE0-4740-898A-87C5D7CC6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6A3962-11A8-4CDE-B30A-AB7D322B4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44042F-2754-4752-BFC2-461F29465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A55F60-4A0D-4A6E-A84E-25173B47D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2B4A31-A5EC-47FB-9523-D80CEF049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305124-C979-4718-9C9B-D6ED706DF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2D38E6-6B21-424A-8DD7-84E0CDD31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11F73D-B923-4360-B7F4-D117D325F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48DE20-FCD1-4DE3-B6C3-64FEECFD9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7D02-2CB2-449F-BCDF-16FAD4A45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E1AF1D-5186-464A-AFAA-7847424FA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9457898-4512-446C-8354-5CC95565A11F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960C56C-38DB-4E58-902F-8A3CA06012D4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44515E-5F71-49CF-B3A9-405735C1AA11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0A1F6B7-C4BC-45FC-87E9-EDEDA6AED690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785AD7C-4B4F-429A-96BA-B75344846F27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635E11-0C81-4FEE-A926-7F3FBCEF8F40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967F77E-2A01-42A8-BACF-27B1407DD745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B381560-11E9-4A0B-9601-DDF09C0B54FA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ED5981E-89FB-44EE-BF70-1ED28944CE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4FA1-1A19-4A2A-A310-D609FB87A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9C152AF-3B97-4C5B-A21F-DB89B2DC7A89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14D5C28-54F3-46FB-91C6-D2862F970CE7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EA39200-E458-4D3F-9A46-669D4587EC2C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4AB3E56-6685-45B6-BF8F-374D03C3B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C440DA6-0EBC-4093-B995-F67DCC130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A2174F4-F8A9-47CE-8565-572DFB7BE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100DE5F-FFF7-4D8B-BBE5-46323CE60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D7528D6-794F-49B1-85EE-BE71D68EB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6772E4C-B33B-4852-AE93-70A0CECDF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A09B9F4-848E-4422-9984-BC38EEE81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1DDD-8F69-44ED-B6AE-5C54F4C2B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227DC54-6AB5-47CD-B340-03B358262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458AAA7-B0D9-412D-9443-CB88928E0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83CCF89-CFD4-41B8-AA2B-6261A5D50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90827F8-F130-4B9B-AEA0-412C18EC6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6918D05-5582-498E-AAAC-78418EB47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8ECDCB3-D387-4684-BE42-0AF306AAA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C92A1D9-C46F-48C2-BE4C-3D962B5CD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9F7126A-DA58-41CA-8798-0B0E44F7D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22AD86B-93CF-4AEB-93F9-82A94F113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1E73E16-777E-4A6D-A253-D53AD3532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A735-B2EA-4228-A101-5291DE3FC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B021DDA-F253-4777-8149-EDB0FFC90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3AE6537-E62D-47C2-978D-FF7ED7FEC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3C2F354-A10A-4774-8F82-F6803CF9C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0E7A619-1AA5-43D2-95D7-F3EC2F72C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D91AEDB-8B69-4AFE-923D-27689767F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728C887-E54B-4DC3-A1FE-A205D5C82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861B569-7FD0-450A-832C-7E8B41719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B11DC98-686B-41B6-A0E6-BE4272A83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6B4EFD3-00D9-4F0B-AEAB-0C2E3B8F7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B6A3248-036B-4718-A4C6-9BC5C7651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09.xml"/><Relationship Id="rId4" Type="http://schemas.openxmlformats.org/officeDocument/2006/relationships/slideLayout" Target="../slideLayouts/slideLayout410.xml"/><Relationship Id="rId5" Type="http://schemas.openxmlformats.org/officeDocument/2006/relationships/slideLayout" Target="../slideLayouts/slideLayout411.xml"/><Relationship Id="rId6" Type="http://schemas.openxmlformats.org/officeDocument/2006/relationships/slideLayout" Target="../slideLayouts/slideLayout412.xml"/><Relationship Id="rId7" Type="http://schemas.openxmlformats.org/officeDocument/2006/relationships/slideLayout" Target="../slideLayouts/slideLayout413.xml"/><Relationship Id="rId8" Type="http://schemas.openxmlformats.org/officeDocument/2006/relationships/slideLayout" Target="../slideLayouts/slideLayout414.xml"/><Relationship Id="rId9" Type="http://schemas.openxmlformats.org/officeDocument/2006/relationships/slideLayout" Target="../slideLayouts/slideLayout415.xml"/><Relationship Id="rId10" Type="http://schemas.openxmlformats.org/officeDocument/2006/relationships/slideLayout" Target="../slideLayouts/slideLayout416.xml"/><Relationship Id="rId11" Type="http://schemas.openxmlformats.org/officeDocument/2006/relationships/slideLayout" Target="../slideLayouts/slideLayout417.xml"/><Relationship Id="rId12" Type="http://schemas.openxmlformats.org/officeDocument/2006/relationships/slideLayout" Target="../slideLayouts/slideLayout418.xml"/><Relationship Id="rId13" Type="http://schemas.openxmlformats.org/officeDocument/2006/relationships/slideLayout" Target="../slideLayouts/slideLayout419.xml"/><Relationship Id="rId14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21.xml"/><Relationship Id="rId4" Type="http://schemas.openxmlformats.org/officeDocument/2006/relationships/slideLayout" Target="../slideLayouts/slideLayout422.xml"/><Relationship Id="rId5" Type="http://schemas.openxmlformats.org/officeDocument/2006/relationships/slideLayout" Target="../slideLayouts/slideLayout423.xml"/><Relationship Id="rId6" Type="http://schemas.openxmlformats.org/officeDocument/2006/relationships/slideLayout" Target="../slideLayouts/slideLayout424.xml"/><Relationship Id="rId7" Type="http://schemas.openxmlformats.org/officeDocument/2006/relationships/slideLayout" Target="../slideLayouts/slideLayout425.xml"/><Relationship Id="rId8" Type="http://schemas.openxmlformats.org/officeDocument/2006/relationships/slideLayout" Target="../slideLayouts/slideLayout426.xml"/><Relationship Id="rId9" Type="http://schemas.openxmlformats.org/officeDocument/2006/relationships/slideLayout" Target="../slideLayouts/slideLayout427.xml"/><Relationship Id="rId10" Type="http://schemas.openxmlformats.org/officeDocument/2006/relationships/slideLayout" Target="../slideLayouts/slideLayout428.xml"/><Relationship Id="rId11" Type="http://schemas.openxmlformats.org/officeDocument/2006/relationships/slideLayout" Target="../slideLayouts/slideLayout429.xml"/><Relationship Id="rId12" Type="http://schemas.openxmlformats.org/officeDocument/2006/relationships/slideLayout" Target="../slideLayouts/slideLayout430.xml"/><Relationship Id="rId13" Type="http://schemas.openxmlformats.org/officeDocument/2006/relationships/slideLayout" Target="../slideLayouts/slideLayout431.xml"/><Relationship Id="rId14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33.xml"/><Relationship Id="rId4" Type="http://schemas.openxmlformats.org/officeDocument/2006/relationships/slideLayout" Target="../slideLayouts/slideLayout434.xml"/><Relationship Id="rId5" Type="http://schemas.openxmlformats.org/officeDocument/2006/relationships/slideLayout" Target="../slideLayouts/slideLayout435.xml"/><Relationship Id="rId6" Type="http://schemas.openxmlformats.org/officeDocument/2006/relationships/slideLayout" Target="../slideLayouts/slideLayout436.xml"/><Relationship Id="rId7" Type="http://schemas.openxmlformats.org/officeDocument/2006/relationships/slideLayout" Target="../slideLayouts/slideLayout437.xml"/><Relationship Id="rId8" Type="http://schemas.openxmlformats.org/officeDocument/2006/relationships/slideLayout" Target="../slideLayouts/slideLayout438.xml"/><Relationship Id="rId9" Type="http://schemas.openxmlformats.org/officeDocument/2006/relationships/slideLayout" Target="../slideLayouts/slideLayout439.xml"/><Relationship Id="rId10" Type="http://schemas.openxmlformats.org/officeDocument/2006/relationships/slideLayout" Target="../slideLayouts/slideLayout440.xml"/><Relationship Id="rId11" Type="http://schemas.openxmlformats.org/officeDocument/2006/relationships/slideLayout" Target="../slideLayouts/slideLayout441.xml"/><Relationship Id="rId12" Type="http://schemas.openxmlformats.org/officeDocument/2006/relationships/slideLayout" Target="../slideLayouts/slideLayout442.xml"/><Relationship Id="rId13" Type="http://schemas.openxmlformats.org/officeDocument/2006/relationships/slideLayout" Target="../slideLayouts/slideLayout443.xml"/><Relationship Id="rId14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45.xml"/><Relationship Id="rId4" Type="http://schemas.openxmlformats.org/officeDocument/2006/relationships/slideLayout" Target="../slideLayouts/slideLayout446.xml"/><Relationship Id="rId5" Type="http://schemas.openxmlformats.org/officeDocument/2006/relationships/slideLayout" Target="../slideLayouts/slideLayout447.xml"/><Relationship Id="rId6" Type="http://schemas.openxmlformats.org/officeDocument/2006/relationships/slideLayout" Target="../slideLayouts/slideLayout448.xml"/><Relationship Id="rId7" Type="http://schemas.openxmlformats.org/officeDocument/2006/relationships/slideLayout" Target="../slideLayouts/slideLayout449.xml"/><Relationship Id="rId8" Type="http://schemas.openxmlformats.org/officeDocument/2006/relationships/slideLayout" Target="../slideLayouts/slideLayout450.xml"/><Relationship Id="rId9" Type="http://schemas.openxmlformats.org/officeDocument/2006/relationships/slideLayout" Target="../slideLayouts/slideLayout451.xml"/><Relationship Id="rId10" Type="http://schemas.openxmlformats.org/officeDocument/2006/relationships/slideLayout" Target="../slideLayouts/slideLayout452.xml"/><Relationship Id="rId11" Type="http://schemas.openxmlformats.org/officeDocument/2006/relationships/slideLayout" Target="../slideLayouts/slideLayout453.xml"/><Relationship Id="rId12" Type="http://schemas.openxmlformats.org/officeDocument/2006/relationships/slideLayout" Target="../slideLayouts/slideLayout454.xml"/><Relationship Id="rId13" Type="http://schemas.openxmlformats.org/officeDocument/2006/relationships/slideLayout" Target="../slideLayouts/slideLayout455.xml"/><Relationship Id="rId14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57.xml"/><Relationship Id="rId4" Type="http://schemas.openxmlformats.org/officeDocument/2006/relationships/slideLayout" Target="../slideLayouts/slideLayout458.xml"/><Relationship Id="rId5" Type="http://schemas.openxmlformats.org/officeDocument/2006/relationships/slideLayout" Target="../slideLayouts/slideLayout459.xml"/><Relationship Id="rId6" Type="http://schemas.openxmlformats.org/officeDocument/2006/relationships/slideLayout" Target="../slideLayouts/slideLayout460.xml"/><Relationship Id="rId7" Type="http://schemas.openxmlformats.org/officeDocument/2006/relationships/slideLayout" Target="../slideLayouts/slideLayout461.xml"/><Relationship Id="rId8" Type="http://schemas.openxmlformats.org/officeDocument/2006/relationships/slideLayout" Target="../slideLayouts/slideLayout462.xml"/><Relationship Id="rId9" Type="http://schemas.openxmlformats.org/officeDocument/2006/relationships/slideLayout" Target="../slideLayouts/slideLayout463.xml"/><Relationship Id="rId10" Type="http://schemas.openxmlformats.org/officeDocument/2006/relationships/slideLayout" Target="../slideLayouts/slideLayout464.xml"/><Relationship Id="rId11" Type="http://schemas.openxmlformats.org/officeDocument/2006/relationships/slideLayout" Target="../slideLayouts/slideLayout465.xml"/><Relationship Id="rId12" Type="http://schemas.openxmlformats.org/officeDocument/2006/relationships/slideLayout" Target="../slideLayouts/slideLayout466.xml"/><Relationship Id="rId13" Type="http://schemas.openxmlformats.org/officeDocument/2006/relationships/slideLayout" Target="../slideLayouts/slideLayout467.xml"/><Relationship Id="rId14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69.xml"/><Relationship Id="rId4" Type="http://schemas.openxmlformats.org/officeDocument/2006/relationships/slideLayout" Target="../slideLayouts/slideLayout470.xml"/><Relationship Id="rId5" Type="http://schemas.openxmlformats.org/officeDocument/2006/relationships/slideLayout" Target="../slideLayouts/slideLayout471.xml"/><Relationship Id="rId6" Type="http://schemas.openxmlformats.org/officeDocument/2006/relationships/slideLayout" Target="../slideLayouts/slideLayout472.xml"/><Relationship Id="rId7" Type="http://schemas.openxmlformats.org/officeDocument/2006/relationships/slideLayout" Target="../slideLayouts/slideLayout473.xml"/><Relationship Id="rId8" Type="http://schemas.openxmlformats.org/officeDocument/2006/relationships/slideLayout" Target="../slideLayouts/slideLayout474.xml"/><Relationship Id="rId9" Type="http://schemas.openxmlformats.org/officeDocument/2006/relationships/slideLayout" Target="../slideLayouts/slideLayout475.xml"/><Relationship Id="rId10" Type="http://schemas.openxmlformats.org/officeDocument/2006/relationships/slideLayout" Target="../slideLayouts/slideLayout476.xml"/><Relationship Id="rId11" Type="http://schemas.openxmlformats.org/officeDocument/2006/relationships/slideLayout" Target="../slideLayouts/slideLayout477.xml"/><Relationship Id="rId12" Type="http://schemas.openxmlformats.org/officeDocument/2006/relationships/slideLayout" Target="../slideLayouts/slideLayout478.xml"/><Relationship Id="rId13" Type="http://schemas.openxmlformats.org/officeDocument/2006/relationships/slideLayout" Target="../slideLayouts/slideLayout479.xml"/><Relationship Id="rId14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81.xml"/><Relationship Id="rId4" Type="http://schemas.openxmlformats.org/officeDocument/2006/relationships/slideLayout" Target="../slideLayouts/slideLayout482.xml"/><Relationship Id="rId5" Type="http://schemas.openxmlformats.org/officeDocument/2006/relationships/slideLayout" Target="../slideLayouts/slideLayout483.xml"/><Relationship Id="rId6" Type="http://schemas.openxmlformats.org/officeDocument/2006/relationships/slideLayout" Target="../slideLayouts/slideLayout484.xml"/><Relationship Id="rId7" Type="http://schemas.openxmlformats.org/officeDocument/2006/relationships/slideLayout" Target="../slideLayouts/slideLayout485.xml"/><Relationship Id="rId8" Type="http://schemas.openxmlformats.org/officeDocument/2006/relationships/slideLayout" Target="../slideLayouts/slideLayout486.xml"/><Relationship Id="rId9" Type="http://schemas.openxmlformats.org/officeDocument/2006/relationships/slideLayout" Target="../slideLayouts/slideLayout487.xml"/><Relationship Id="rId10" Type="http://schemas.openxmlformats.org/officeDocument/2006/relationships/slideLayout" Target="../slideLayouts/slideLayout488.xml"/><Relationship Id="rId11" Type="http://schemas.openxmlformats.org/officeDocument/2006/relationships/slideLayout" Target="../slideLayouts/slideLayout489.xml"/><Relationship Id="rId12" Type="http://schemas.openxmlformats.org/officeDocument/2006/relationships/slideLayout" Target="../slideLayouts/slideLayout490.xml"/><Relationship Id="rId13" Type="http://schemas.openxmlformats.org/officeDocument/2006/relationships/slideLayout" Target="../slideLayouts/slideLayout491.xml"/><Relationship Id="rId14" Type="http://schemas.openxmlformats.org/officeDocument/2006/relationships/slideLayout" Target="../slideLayouts/slideLayout492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87C8E-68F0-4B95-9762-F87A550BB3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2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FD426-2157-4FF8-8F01-B475568615A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dt" idx="3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 type="ftr" idx="3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 type="sldNum" idx="3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48061-C580-4806-A385-EBA017F9EAE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dt" idx="3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ftr" idx="3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sldNum" idx="3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5EB29-F7C4-4A94-9740-D56B83208DB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dt" idx="3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ftr" idx="3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sldNum" idx="3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482C9-8FCA-4706-806C-0FE122DED26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dt" idx="3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ftr" idx="4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sldNum" idx="4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35931-176A-4993-A899-C42E09B4D3E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 type="dt" idx="4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 type="ftr" idx="4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 type="sldNum" idx="4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59818-9054-44EA-BF0E-17B0E3B8592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 type="dt" idx="4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 type="ftr" idx="4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 type="sldNum" idx="4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6C214-3B2F-4AA2-8CC8-3C60E700989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 type="dt" idx="4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 type="ftr" idx="4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 type="sldNum" idx="5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5C72E-B62B-425D-8E3E-EFCF3BF8750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 type="dt" idx="5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 type="ftr" idx="5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5"/>
          <p:cNvSpPr>
            <a:spLocks noGrp="1"/>
          </p:cNvSpPr>
          <p:nvPr>
            <p:ph type="sldNum" idx="5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39C4F-413D-4DE7-A83F-421A35CDF4F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9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740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 type="dt" idx="5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DBEF3-8E05-4A70-A466-FE6491517E22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 type="ftr" idx="55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5"/>
          <p:cNvSpPr>
            <a:spLocks noGrp="1"/>
          </p:cNvSpPr>
          <p:nvPr>
            <p:ph type="sldNum" idx="56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E7166-63E0-4E36-A928-2F730E5617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96904-34C9-4C44-83C0-C8AE42F803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0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821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ftr" idx="57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1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862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 type="ftr" idx="58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2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903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 type="dt" idx="5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9C09C-ECEA-41CB-9085-49CF80249EF0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 type="ftr" idx="60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 type="sldNum" idx="61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3CFB6-43B8-453A-84FA-B75BBD3D45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5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946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 type="dt" idx="6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5DFF3-0C34-4657-B7D8-5DD7D98FE79A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 type="ftr" idx="63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 type="sldNum" idx="64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5732C-12AA-4E8F-9DB7-82F7D93F78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8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989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 type="dt" idx="6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AF080-F2CB-4042-A191-666693A2C08E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 type="ftr" idx="66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5"/>
          <p:cNvSpPr>
            <a:spLocks noGrp="1"/>
          </p:cNvSpPr>
          <p:nvPr>
            <p:ph type="sldNum" idx="67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B1655-F0FF-4B9B-BA01-DE2D77695F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1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1032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 type="dt" idx="6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12B0B-F608-4D04-9B02-9D5095F8B345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PlaceHolder 4"/>
          <p:cNvSpPr>
            <a:spLocks noGrp="1"/>
          </p:cNvSpPr>
          <p:nvPr>
            <p:ph type="ftr" idx="69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5"/>
          <p:cNvSpPr>
            <a:spLocks noGrp="1"/>
          </p:cNvSpPr>
          <p:nvPr>
            <p:ph type="sldNum" idx="70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60791-1EC0-4E5A-B219-E1E6D71AF3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4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1075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 type="dt" idx="7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6C18E-DFCB-48AD-970D-F549EDD16B06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PlaceHolder 4"/>
          <p:cNvSpPr>
            <a:spLocks noGrp="1"/>
          </p:cNvSpPr>
          <p:nvPr>
            <p:ph type="ftr" idx="72"/>
          </p:nvPr>
        </p:nvSpPr>
        <p:spPr>
          <a:xfrm>
            <a:off x="6019560" y="6324120"/>
            <a:ext cx="2895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4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1155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 type="dt" idx="7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35270-C06F-4118-AA8B-DC4C163E4340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 type="ftr" idx="74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PlaceHolder 5"/>
          <p:cNvSpPr>
            <a:spLocks noGrp="1"/>
          </p:cNvSpPr>
          <p:nvPr>
            <p:ph type="sldNum" idx="75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A5991-BFB4-43A8-B2C3-260DA1CCA9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6BF0D-C8CC-4E1C-B159-AA1F09AADA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7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1198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1" name="PlaceHolder 3"/>
          <p:cNvSpPr>
            <a:spLocks noGrp="1"/>
          </p:cNvSpPr>
          <p:nvPr>
            <p:ph type="dt" idx="7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08B06-6C34-48AB-81E2-750C0E8D6C73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PlaceHolder 4"/>
          <p:cNvSpPr>
            <a:spLocks noGrp="1"/>
          </p:cNvSpPr>
          <p:nvPr>
            <p:ph type="ftr" idx="77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PlaceHolder 5"/>
          <p:cNvSpPr>
            <a:spLocks noGrp="1"/>
          </p:cNvSpPr>
          <p:nvPr>
            <p:ph type="sldNum" idx="78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BB6DD-EEC9-4EFE-8739-61BBC1B4CF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ee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1241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4" name="PlaceHolder 3"/>
          <p:cNvSpPr>
            <a:spLocks noGrp="1"/>
          </p:cNvSpPr>
          <p:nvPr>
            <p:ph type="dt" idx="7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C9D0B-8F10-41A9-8C3B-3F586B36D98D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PlaceHolder 4"/>
          <p:cNvSpPr>
            <a:spLocks noGrp="1"/>
          </p:cNvSpPr>
          <p:nvPr>
            <p:ph type="ftr" idx="80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5"/>
          <p:cNvSpPr>
            <a:spLocks noGrp="1"/>
          </p:cNvSpPr>
          <p:nvPr>
            <p:ph type="sldNum" idx="81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E145B-ED8A-4B18-B127-9D9B6BE64C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1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1284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 type="dt" idx="8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E6C48-A980-494A-9267-8B130E502D89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 type="ftr" idx="83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PlaceHolder 5"/>
          <p:cNvSpPr>
            <a:spLocks noGrp="1"/>
          </p:cNvSpPr>
          <p:nvPr>
            <p:ph type="sldNum" idx="84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72882-BD44-4E66-977A-3FB8EE657E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a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6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1327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 type="dt" idx="8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E90E3-FFD0-44E7-A284-CA4643807551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 type="ftr" idx="86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5"/>
          <p:cNvSpPr>
            <a:spLocks noGrp="1"/>
          </p:cNvSpPr>
          <p:nvPr>
            <p:ph type="sldNum" idx="87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F480B-668F-49E4-8E69-F4BCD30B01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9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1370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 type="dt" idx="8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70C55-5E27-4BB5-8B2C-73C4A2A0F102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 type="ftr" idx="89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PlaceHolder 5"/>
          <p:cNvSpPr>
            <a:spLocks noGrp="1"/>
          </p:cNvSpPr>
          <p:nvPr>
            <p:ph type="sldNum" idx="90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B95E8-0C10-4C7F-8EF9-8525283E9D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2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1413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6" name="PlaceHolder 3"/>
          <p:cNvSpPr>
            <a:spLocks noGrp="1"/>
          </p:cNvSpPr>
          <p:nvPr>
            <p:ph type="dt" idx="9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B3CCA-8067-4E76-9901-92706ED62D81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PlaceHolder 4"/>
          <p:cNvSpPr>
            <a:spLocks noGrp="1"/>
          </p:cNvSpPr>
          <p:nvPr>
            <p:ph type="ftr" idx="92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PlaceHolder 5"/>
          <p:cNvSpPr>
            <a:spLocks noGrp="1"/>
          </p:cNvSpPr>
          <p:nvPr>
            <p:ph type="sldNum" idx="93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75F3F-5555-4C22-9BB6-70D34668B0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3"/>
    <p:sldLayoutId id="2147484092" r:id="rId4"/>
    <p:sldLayoutId id="2147484093" r:id="rId5"/>
    <p:sldLayoutId id="2147484094" r:id="rId6"/>
    <p:sldLayoutId id="2147484095" r:id="rId7"/>
    <p:sldLayoutId id="2147484096" r:id="rId8"/>
    <p:sldLayoutId id="2147484097" r:id="rId9"/>
    <p:sldLayoutId id="2147484098" r:id="rId10"/>
    <p:sldLayoutId id="2147484099" r:id="rId11"/>
    <p:sldLayoutId id="2147484100" r:id="rId12"/>
    <p:sldLayoutId id="2147484101" r:id="rId13"/>
    <p:sldLayoutId id="2147484102" r:id="rId14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5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1456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TextBox 7"/>
          <p:cNvSpPr/>
          <p:nvPr/>
        </p:nvSpPr>
        <p:spPr>
          <a:xfrm>
            <a:off x="454680" y="1687680"/>
            <a:ext cx="1460880" cy="3682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DSSAT</a:t>
            </a:r>
            <a:r>
              <a:rPr b="0" lang="en-US" sz="1800" spc="-1" strike="noStrike">
                <a:solidFill>
                  <a:srgbClr val="7f7f7f"/>
                </a:solidFill>
                <a:latin typeface="Calibri"/>
              </a:rPr>
              <a:t>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Round Same Side Corner Rectangle 8"/>
          <p:cNvSpPr/>
          <p:nvPr/>
        </p:nvSpPr>
        <p:spPr>
          <a:xfrm>
            <a:off x="3726000" y="847800"/>
            <a:ext cx="2057400" cy="447480"/>
          </a:xfrm>
          <a:prstGeom prst="pie">
            <a:avLst/>
          </a:prstGeom>
          <a:solidFill>
            <a:srgbClr val="dbee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2060"/>
                </a:solidFill>
                <a:uFillTx/>
                <a:latin typeface="Calibri"/>
              </a:rPr>
              <a:t>WHAT WE </a:t>
            </a:r>
            <a:r>
              <a:rPr b="1" lang="en-US" sz="2000" spc="-1" strike="noStrike" u="sng">
                <a:solidFill>
                  <a:srgbClr val="002060"/>
                </a:solidFill>
                <a:uFillTx/>
                <a:latin typeface="Calibri"/>
              </a:rPr>
              <a:t>H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1" name="PlaceHolder 3"/>
          <p:cNvSpPr>
            <a:spLocks noGrp="1"/>
          </p:cNvSpPr>
          <p:nvPr>
            <p:ph type="dt" idx="9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4002D-5826-49EB-BACF-3C2372A75688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PlaceHolder 4"/>
          <p:cNvSpPr>
            <a:spLocks noGrp="1"/>
          </p:cNvSpPr>
          <p:nvPr>
            <p:ph type="ftr" idx="95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PlaceHolder 5"/>
          <p:cNvSpPr>
            <a:spLocks noGrp="1"/>
          </p:cNvSpPr>
          <p:nvPr>
            <p:ph type="sldNum" idx="96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0DCB7-305A-429C-9652-3D42CAC590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3"/>
    <p:sldLayoutId id="2147484105" r:id="rId4"/>
    <p:sldLayoutId id="2147484106" r:id="rId5"/>
    <p:sldLayoutId id="2147484107" r:id="rId6"/>
    <p:sldLayoutId id="2147484108" r:id="rId7"/>
    <p:sldLayoutId id="2147484109" r:id="rId8"/>
    <p:sldLayoutId id="2147484110" r:id="rId9"/>
    <p:sldLayoutId id="2147484111" r:id="rId10"/>
    <p:sldLayoutId id="2147484112" r:id="rId11"/>
    <p:sldLayoutId id="2147484113" r:id="rId12"/>
    <p:sldLayoutId id="2147484114" r:id="rId13"/>
    <p:sldLayoutId id="2147484115" r:id="rId14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ee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0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1501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TextBox 7"/>
          <p:cNvSpPr/>
          <p:nvPr/>
        </p:nvSpPr>
        <p:spPr>
          <a:xfrm>
            <a:off x="454320" y="1687680"/>
            <a:ext cx="1404720" cy="3682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DSSAT</a:t>
            </a:r>
            <a:r>
              <a:rPr b="0" lang="en-US" sz="1800" spc="-1" strike="noStrike">
                <a:solidFill>
                  <a:srgbClr val="7f7f7f"/>
                </a:solidFill>
                <a:latin typeface="Calibri"/>
              </a:rPr>
              <a:t>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5" name="PlaceHolder 3"/>
          <p:cNvSpPr>
            <a:spLocks noGrp="1"/>
          </p:cNvSpPr>
          <p:nvPr>
            <p:ph type="dt" idx="9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51B47-5D3D-4491-BD89-7C767EE4699A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PlaceHolder 4"/>
          <p:cNvSpPr>
            <a:spLocks noGrp="1"/>
          </p:cNvSpPr>
          <p:nvPr>
            <p:ph type="ftr" idx="98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PlaceHolder 5"/>
          <p:cNvSpPr>
            <a:spLocks noGrp="1"/>
          </p:cNvSpPr>
          <p:nvPr>
            <p:ph type="sldNum" idx="99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D1F4F-A16B-42FA-A2BA-732B047B79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3"/>
    <p:sldLayoutId id="2147484118" r:id="rId4"/>
    <p:sldLayoutId id="2147484119" r:id="rId5"/>
    <p:sldLayoutId id="2147484120" r:id="rId6"/>
    <p:sldLayoutId id="2147484121" r:id="rId7"/>
    <p:sldLayoutId id="2147484122" r:id="rId8"/>
    <p:sldLayoutId id="2147484123" r:id="rId9"/>
    <p:sldLayoutId id="2147484124" r:id="rId10"/>
    <p:sldLayoutId id="2147484125" r:id="rId11"/>
    <p:sldLayoutId id="2147484126" r:id="rId12"/>
    <p:sldLayoutId id="2147484127" r:id="rId13"/>
    <p:sldLayoutId id="2147484128" r:id="rId14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a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4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1545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TextBox 7"/>
          <p:cNvSpPr/>
          <p:nvPr/>
        </p:nvSpPr>
        <p:spPr>
          <a:xfrm>
            <a:off x="454320" y="1687680"/>
            <a:ext cx="1404720" cy="3682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DSSAT</a:t>
            </a:r>
            <a:r>
              <a:rPr b="0" lang="en-US" sz="1800" spc="-1" strike="noStrike">
                <a:solidFill>
                  <a:srgbClr val="7f7f7f"/>
                </a:solidFill>
                <a:latin typeface="Calibri"/>
              </a:rPr>
              <a:t>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9" name="PlaceHolder 3"/>
          <p:cNvSpPr>
            <a:spLocks noGrp="1"/>
          </p:cNvSpPr>
          <p:nvPr>
            <p:ph type="dt" idx="10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6EDBB-8BAF-4DD6-90FA-BF076A391F1D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PlaceHolder 4"/>
          <p:cNvSpPr>
            <a:spLocks noGrp="1"/>
          </p:cNvSpPr>
          <p:nvPr>
            <p:ph type="ftr" idx="101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PlaceHolder 5"/>
          <p:cNvSpPr>
            <a:spLocks noGrp="1"/>
          </p:cNvSpPr>
          <p:nvPr>
            <p:ph type="sldNum" idx="102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3512D-CF62-411A-B46A-546EE03B31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3"/>
    <p:sldLayoutId id="2147484131" r:id="rId4"/>
    <p:sldLayoutId id="2147484132" r:id="rId5"/>
    <p:sldLayoutId id="2147484133" r:id="rId6"/>
    <p:sldLayoutId id="2147484134" r:id="rId7"/>
    <p:sldLayoutId id="2147484135" r:id="rId8"/>
    <p:sldLayoutId id="2147484136" r:id="rId9"/>
    <p:sldLayoutId id="2147484137" r:id="rId10"/>
    <p:sldLayoutId id="2147484138" r:id="rId11"/>
    <p:sldLayoutId id="2147484139" r:id="rId12"/>
    <p:sldLayoutId id="2147484140" r:id="rId13"/>
    <p:sldLayoutId id="2147484141" r:id="rId14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1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8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1589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TextBox 7"/>
          <p:cNvSpPr/>
          <p:nvPr/>
        </p:nvSpPr>
        <p:spPr>
          <a:xfrm>
            <a:off x="454320" y="1687680"/>
            <a:ext cx="1404720" cy="3682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DSSAT</a:t>
            </a:r>
            <a:r>
              <a:rPr b="0" lang="en-US" sz="1800" spc="-1" strike="noStrike">
                <a:solidFill>
                  <a:srgbClr val="7f7f7f"/>
                </a:solidFill>
                <a:latin typeface="Calibri"/>
              </a:rPr>
              <a:t>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3" name="PlaceHolder 3"/>
          <p:cNvSpPr>
            <a:spLocks noGrp="1"/>
          </p:cNvSpPr>
          <p:nvPr>
            <p:ph type="dt" idx="10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F2AE0-36A3-4B7E-8CBE-67BD5039DB84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PlaceHolder 4"/>
          <p:cNvSpPr>
            <a:spLocks noGrp="1"/>
          </p:cNvSpPr>
          <p:nvPr>
            <p:ph type="ftr" idx="104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PlaceHolder 5"/>
          <p:cNvSpPr>
            <a:spLocks noGrp="1"/>
          </p:cNvSpPr>
          <p:nvPr>
            <p:ph type="sldNum" idx="105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8E474-9F10-41BC-A90B-E982C9CA4D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3"/>
    <p:sldLayoutId id="2147484144" r:id="rId4"/>
    <p:sldLayoutId id="2147484145" r:id="rId5"/>
    <p:sldLayoutId id="2147484146" r:id="rId6"/>
    <p:sldLayoutId id="2147484147" r:id="rId7"/>
    <p:sldLayoutId id="2147484148" r:id="rId8"/>
    <p:sldLayoutId id="2147484149" r:id="rId9"/>
    <p:sldLayoutId id="2147484150" r:id="rId10"/>
    <p:sldLayoutId id="2147484151" r:id="rId11"/>
    <p:sldLayoutId id="2147484152" r:id="rId12"/>
    <p:sldLayoutId id="2147484153" r:id="rId13"/>
    <p:sldLayoutId id="2147484154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CD4C2-ACE4-4E70-89B3-57811985DD1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2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1633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6" name="PlaceHolder 3"/>
          <p:cNvSpPr>
            <a:spLocks noGrp="1"/>
          </p:cNvSpPr>
          <p:nvPr>
            <p:ph type="dt" idx="10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DD1D5-F4E3-40F1-85FC-A3D93B4B79FD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PlaceHolder 4"/>
          <p:cNvSpPr>
            <a:spLocks noGrp="1"/>
          </p:cNvSpPr>
          <p:nvPr>
            <p:ph type="ftr" idx="107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PlaceHolder 5"/>
          <p:cNvSpPr>
            <a:spLocks noGrp="1"/>
          </p:cNvSpPr>
          <p:nvPr>
            <p:ph type="sldNum" idx="108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A07C9-C0FA-4C5A-BFB6-E6AB73DF00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3"/>
    <p:sldLayoutId id="2147484157" r:id="rId4"/>
    <p:sldLayoutId id="2147484158" r:id="rId5"/>
    <p:sldLayoutId id="2147484159" r:id="rId6"/>
    <p:sldLayoutId id="2147484160" r:id="rId7"/>
    <p:sldLayoutId id="2147484161" r:id="rId8"/>
    <p:sldLayoutId id="2147484162" r:id="rId9"/>
    <p:sldLayoutId id="2147484163" r:id="rId10"/>
    <p:sldLayoutId id="2147484164" r:id="rId11"/>
    <p:sldLayoutId id="2147484165" r:id="rId12"/>
    <p:sldLayoutId id="2147484166" r:id="rId13"/>
    <p:sldLayoutId id="2147484167" r:id="rId14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5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1676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9" name="PlaceHolder 3"/>
          <p:cNvSpPr>
            <a:spLocks noGrp="1"/>
          </p:cNvSpPr>
          <p:nvPr>
            <p:ph type="dt" idx="10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PlaceHolder 4"/>
          <p:cNvSpPr>
            <a:spLocks noGrp="1"/>
          </p:cNvSpPr>
          <p:nvPr>
            <p:ph type="ftr" idx="1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PlaceHolder 5"/>
          <p:cNvSpPr>
            <a:spLocks noGrp="1"/>
          </p:cNvSpPr>
          <p:nvPr>
            <p:ph type="sldNum" idx="1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03BE2-5073-4D3D-988E-7B3D4F5622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3"/>
    <p:sldLayoutId id="2147484170" r:id="rId4"/>
    <p:sldLayoutId id="2147484171" r:id="rId5"/>
    <p:sldLayoutId id="2147484172" r:id="rId6"/>
    <p:sldLayoutId id="2147484173" r:id="rId7"/>
    <p:sldLayoutId id="2147484174" r:id="rId8"/>
    <p:sldLayoutId id="2147484175" r:id="rId9"/>
    <p:sldLayoutId id="2147484176" r:id="rId10"/>
    <p:sldLayoutId id="2147484177" r:id="rId11"/>
    <p:sldLayoutId id="2147484178" r:id="rId12"/>
    <p:sldLayoutId id="2147484179" r:id="rId13"/>
    <p:sldLayoutId id="2147484180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25DA6-5621-4815-A1E1-C1B7B8B8A2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ftr" idx="16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sldNum" idx="17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4D63A-E3B2-4E5B-9029-20390BFAB2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8EBF7-3535-4869-B204-06CCEC8E79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dt" idx="2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ftr" idx="2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sldNum" idx="2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EEB5D-FEB8-44CB-9B92-38B20AA63D7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7D228-9559-4CC2-8F49-BB6BB3B0E05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image" Target="../media/image19.jpeg"/><Relationship Id="rId9" Type="http://schemas.openxmlformats.org/officeDocument/2006/relationships/image" Target="../media/image20.jpeg"/><Relationship Id="rId10" Type="http://schemas.openxmlformats.org/officeDocument/2006/relationships/image" Target="../media/image21.jpeg"/><Relationship Id="rId11" Type="http://schemas.openxmlformats.org/officeDocument/2006/relationships/image" Target="../media/image22.png"/><Relationship Id="rId12" Type="http://schemas.openxmlformats.org/officeDocument/2006/relationships/image" Target="../media/image23.png"/><Relationship Id="rId13" Type="http://schemas.openxmlformats.org/officeDocument/2006/relationships/image" Target="../media/image24.png"/><Relationship Id="rId14" Type="http://schemas.openxmlformats.org/officeDocument/2006/relationships/image" Target="../media/image25.jpeg"/><Relationship Id="rId15" Type="http://schemas.openxmlformats.org/officeDocument/2006/relationships/image" Target="../media/image26.png"/><Relationship Id="rId16" Type="http://schemas.openxmlformats.org/officeDocument/2006/relationships/image" Target="../media/image27.jpeg"/><Relationship Id="rId17" Type="http://schemas.openxmlformats.org/officeDocument/2006/relationships/image" Target="../media/image28.jpeg"/><Relationship Id="rId18" Type="http://schemas.openxmlformats.org/officeDocument/2006/relationships/image" Target="../media/image29.jpeg"/><Relationship Id="rId19" Type="http://schemas.openxmlformats.org/officeDocument/2006/relationships/image" Target="../media/image30.wmf"/><Relationship Id="rId20" Type="http://schemas.openxmlformats.org/officeDocument/2006/relationships/image" Target="../media/image31.jpeg"/><Relationship Id="rId21" Type="http://schemas.openxmlformats.org/officeDocument/2006/relationships/image" Target="../media/image32.jpeg"/><Relationship Id="rId22" Type="http://schemas.openxmlformats.org/officeDocument/2006/relationships/image" Target="../media/image33.jpeg"/><Relationship Id="rId23" Type="http://schemas.openxmlformats.org/officeDocument/2006/relationships/image" Target="../media/image34.png"/><Relationship Id="rId24" Type="http://schemas.openxmlformats.org/officeDocument/2006/relationships/image" Target="../media/image35.jpeg"/><Relationship Id="rId25" Type="http://schemas.openxmlformats.org/officeDocument/2006/relationships/image" Target="../media/image36.png"/><Relationship Id="rId26" Type="http://schemas.openxmlformats.org/officeDocument/2006/relationships/slideLayout" Target="../slideLayouts/slideLayout241.xml"/><Relationship Id="rId2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wmf"/><Relationship Id="rId5" Type="http://schemas.openxmlformats.org/officeDocument/2006/relationships/image" Target="../media/image41.png"/><Relationship Id="rId6" Type="http://schemas.openxmlformats.org/officeDocument/2006/relationships/image" Target="../media/image42.png"/><Relationship Id="rId7" Type="http://schemas.openxmlformats.org/officeDocument/2006/relationships/image" Target="../media/image43.png"/><Relationship Id="rId8" Type="http://schemas.openxmlformats.org/officeDocument/2006/relationships/image" Target="../media/image44.wmf"/><Relationship Id="rId9" Type="http://schemas.openxmlformats.org/officeDocument/2006/relationships/image" Target="../media/image45.png"/><Relationship Id="rId10" Type="http://schemas.openxmlformats.org/officeDocument/2006/relationships/image" Target="../media/image46.jpeg"/><Relationship Id="rId11" Type="http://schemas.openxmlformats.org/officeDocument/2006/relationships/image" Target="../media/image47.png"/><Relationship Id="rId12" Type="http://schemas.openxmlformats.org/officeDocument/2006/relationships/image" Target="../media/image48.png"/><Relationship Id="rId13" Type="http://schemas.openxmlformats.org/officeDocument/2006/relationships/image" Target="../media/image49.wmf"/><Relationship Id="rId14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57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5" name="Subtitle 2" descr=""/>
          <p:cNvPicPr/>
          <p:nvPr/>
        </p:nvPicPr>
        <p:blipFill>
          <a:blip r:embed="rId1"/>
          <a:stretch/>
        </p:blipFill>
        <p:spPr>
          <a:xfrm>
            <a:off x="1139760" y="3389400"/>
            <a:ext cx="6688080" cy="2103480"/>
          </a:xfrm>
          <a:prstGeom prst="rect">
            <a:avLst/>
          </a:prstGeom>
          <a:ln w="0">
            <a:noFill/>
          </a:ln>
        </p:spPr>
      </p:pic>
      <p:sp>
        <p:nvSpPr>
          <p:cNvPr id="1726" name="TextBox 4"/>
          <p:cNvSpPr/>
          <p:nvPr/>
        </p:nvSpPr>
        <p:spPr>
          <a:xfrm>
            <a:off x="304920" y="268200"/>
            <a:ext cx="86104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933c"/>
                </a:solidFill>
                <a:latin typeface="Calibri"/>
              </a:rPr>
              <a:t>Sustainable intensification of maize-legume-livestock integrated farming systems in Eastern and Southern Af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Calibri"/>
              </a:rPr>
              <a:t>IITA-Dar es Salaam, Tanzania, 6-9 Feb 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7" name="Picture 2" descr="D:\temp\wz5023\CGIAR-CSI Logo 2011\cgiar-csi_new_logo_2011_final.jpg"/>
          <p:cNvPicPr/>
          <p:nvPr/>
        </p:nvPicPr>
        <p:blipFill>
          <a:blip r:embed="rId2"/>
          <a:stretch/>
        </p:blipFill>
        <p:spPr>
          <a:xfrm>
            <a:off x="2057400" y="5975280"/>
            <a:ext cx="2286000" cy="513000"/>
          </a:xfrm>
          <a:prstGeom prst="rect">
            <a:avLst/>
          </a:prstGeom>
          <a:ln w="0">
            <a:noFill/>
          </a:ln>
        </p:spPr>
      </p:pic>
      <p:pic>
        <p:nvPicPr>
          <p:cNvPr id="1728" name="Rectangle 8" descr=""/>
          <p:cNvPicPr/>
          <p:nvPr/>
        </p:nvPicPr>
        <p:blipFill>
          <a:blip r:embed="rId3"/>
          <a:stretch/>
        </p:blipFill>
        <p:spPr>
          <a:xfrm>
            <a:off x="378000" y="1719360"/>
            <a:ext cx="8619840" cy="1176120"/>
          </a:xfrm>
          <a:prstGeom prst="rect">
            <a:avLst/>
          </a:prstGeom>
          <a:ln w="0">
            <a:noFill/>
          </a:ln>
        </p:spPr>
      </p:pic>
      <p:pic>
        <p:nvPicPr>
          <p:cNvPr id="1729" name="Picture 3" descr="sm-ifpri"/>
          <p:cNvPicPr/>
          <p:nvPr/>
        </p:nvPicPr>
        <p:blipFill>
          <a:blip r:embed="rId4"/>
          <a:stretch/>
        </p:blipFill>
        <p:spPr>
          <a:xfrm>
            <a:off x="7821720" y="5637240"/>
            <a:ext cx="1066680" cy="942840"/>
          </a:xfrm>
          <a:prstGeom prst="rect">
            <a:avLst/>
          </a:prstGeom>
          <a:ln w="0">
            <a:noFill/>
          </a:ln>
        </p:spPr>
      </p:pic>
      <p:pic>
        <p:nvPicPr>
          <p:cNvPr id="1730" name="Picture 3" descr=""/>
          <p:cNvPicPr/>
          <p:nvPr/>
        </p:nvPicPr>
        <p:blipFill>
          <a:blip r:embed="rId5"/>
          <a:stretch/>
        </p:blipFill>
        <p:spPr>
          <a:xfrm>
            <a:off x="5029200" y="5943600"/>
            <a:ext cx="2033640" cy="512640"/>
          </a:xfrm>
          <a:prstGeom prst="rect">
            <a:avLst/>
          </a:prstGeom>
          <a:ln w="0">
            <a:noFill/>
          </a:ln>
        </p:spPr>
      </p:pic>
      <p:pic>
        <p:nvPicPr>
          <p:cNvPr id="1731" name="Picture 2" descr=""/>
          <p:cNvPicPr/>
          <p:nvPr/>
        </p:nvPicPr>
        <p:blipFill>
          <a:blip r:embed="rId6"/>
          <a:stretch/>
        </p:blipFill>
        <p:spPr>
          <a:xfrm>
            <a:off x="380880" y="5742000"/>
            <a:ext cx="1143000" cy="91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otype Intensification Inde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59" name="Picture 2" descr=""/>
          <p:cNvPicPr/>
          <p:nvPr/>
        </p:nvPicPr>
        <p:blipFill>
          <a:blip r:embed="rId1"/>
          <a:stretch/>
        </p:blipFill>
        <p:spPr>
          <a:xfrm>
            <a:off x="498600" y="1219320"/>
            <a:ext cx="8378640" cy="5511600"/>
          </a:xfrm>
          <a:prstGeom prst="rect">
            <a:avLst/>
          </a:prstGeom>
          <a:ln w="0">
            <a:noFill/>
          </a:ln>
        </p:spPr>
      </p:pic>
      <p:sp>
        <p:nvSpPr>
          <p:cNvPr id="1860" name="TextBox 2"/>
          <p:cNvSpPr/>
          <p:nvPr/>
        </p:nvSpPr>
        <p:spPr>
          <a:xfrm>
            <a:off x="290880" y="6478560"/>
            <a:ext cx="453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ource: Based on Agricultural Sample Enumeration 2001-2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arm-Scale Crop Enterprises (Tanzania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62" name="Picture 2" descr=""/>
          <p:cNvPicPr/>
          <p:nvPr/>
        </p:nvPicPr>
        <p:blipFill>
          <a:blip r:embed="rId1"/>
          <a:stretch/>
        </p:blipFill>
        <p:spPr>
          <a:xfrm>
            <a:off x="685800" y="1066680"/>
            <a:ext cx="7705800" cy="5639040"/>
          </a:xfrm>
          <a:prstGeom prst="rect">
            <a:avLst/>
          </a:prstGeom>
          <a:ln w="0">
            <a:noFill/>
          </a:ln>
        </p:spPr>
      </p:pic>
      <p:sp>
        <p:nvSpPr>
          <p:cNvPr id="1863" name="TextBox 3"/>
          <p:cNvSpPr/>
          <p:nvPr/>
        </p:nvSpPr>
        <p:spPr>
          <a:xfrm>
            <a:off x="354600" y="6478560"/>
            <a:ext cx="867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ource: Based on Tanzania Agricultural Census 2007-08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based on minimum land area allocation or 0.02ha per crop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4" name="Group 26"/>
          <p:cNvGrpSpPr/>
          <p:nvPr/>
        </p:nvGrpSpPr>
        <p:grpSpPr>
          <a:xfrm>
            <a:off x="380880" y="2895480"/>
            <a:ext cx="3429000" cy="3447000"/>
            <a:chOff x="380880" y="2895480"/>
            <a:chExt cx="3429000" cy="3447000"/>
          </a:xfrm>
        </p:grpSpPr>
        <p:pic>
          <p:nvPicPr>
            <p:cNvPr id="1865" name="Picture 17" descr="Objective3_Walsh_Page_10_Image_0001.jpg"/>
            <p:cNvPicPr/>
            <p:nvPr/>
          </p:nvPicPr>
          <p:blipFill>
            <a:blip r:embed="rId1"/>
            <a:stretch/>
          </p:blipFill>
          <p:spPr>
            <a:xfrm>
              <a:off x="380880" y="2895480"/>
              <a:ext cx="1773360" cy="1828800"/>
            </a:xfrm>
            <a:prstGeom prst="rect">
              <a:avLst/>
            </a:prstGeom>
            <a:ln w="22320">
              <a:solidFill>
                <a:srgbClr val="000000"/>
              </a:solidFill>
              <a:miter/>
            </a:ln>
          </p:spPr>
        </p:pic>
        <p:sp>
          <p:nvSpPr>
            <p:cNvPr id="1866" name="TextBox 22"/>
            <p:cNvSpPr/>
            <p:nvPr/>
          </p:nvSpPr>
          <p:spPr>
            <a:xfrm>
              <a:off x="456840" y="5943600"/>
              <a:ext cx="335304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Elev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7" name="Group 33"/>
          <p:cNvGrpSpPr/>
          <p:nvPr/>
        </p:nvGrpSpPr>
        <p:grpSpPr>
          <a:xfrm>
            <a:off x="379440" y="3124080"/>
            <a:ext cx="3352680" cy="3218400"/>
            <a:chOff x="379440" y="3124080"/>
            <a:chExt cx="3352680" cy="3218400"/>
          </a:xfrm>
        </p:grpSpPr>
        <p:pic>
          <p:nvPicPr>
            <p:cNvPr id="1868" name="Picture 18" descr="Objective3_Walsh_Page_10_Image_0003.jpg"/>
            <p:cNvPicPr/>
            <p:nvPr/>
          </p:nvPicPr>
          <p:blipFill>
            <a:blip r:embed="rId2"/>
            <a:stretch/>
          </p:blipFill>
          <p:spPr>
            <a:xfrm>
              <a:off x="469080" y="3124080"/>
              <a:ext cx="1752480" cy="1820160"/>
            </a:xfrm>
            <a:prstGeom prst="rect">
              <a:avLst/>
            </a:prstGeom>
            <a:ln w="22320">
              <a:solidFill>
                <a:srgbClr val="000000"/>
              </a:solidFill>
              <a:miter/>
            </a:ln>
          </p:spPr>
        </p:pic>
        <p:sp>
          <p:nvSpPr>
            <p:cNvPr id="1869" name="TextBox 32"/>
            <p:cNvSpPr/>
            <p:nvPr/>
          </p:nvSpPr>
          <p:spPr>
            <a:xfrm>
              <a:off x="379440" y="5943600"/>
              <a:ext cx="335268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Slope, aspect, draina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0" name="Group 35"/>
          <p:cNvGrpSpPr/>
          <p:nvPr/>
        </p:nvGrpSpPr>
        <p:grpSpPr>
          <a:xfrm>
            <a:off x="345960" y="3352680"/>
            <a:ext cx="3353040" cy="2980440"/>
            <a:chOff x="345960" y="3352680"/>
            <a:chExt cx="3353040" cy="2980440"/>
          </a:xfrm>
        </p:grpSpPr>
        <p:pic>
          <p:nvPicPr>
            <p:cNvPr id="1871" name="Picture 12" descr="point_thresholds_all.jpg"/>
            <p:cNvPicPr/>
            <p:nvPr/>
          </p:nvPicPr>
          <p:blipFill>
            <a:blip r:embed="rId3"/>
            <a:stretch/>
          </p:blipFill>
          <p:spPr>
            <a:xfrm>
              <a:off x="556560" y="3352680"/>
              <a:ext cx="1752840" cy="1830240"/>
            </a:xfrm>
            <a:prstGeom prst="rect">
              <a:avLst/>
            </a:prstGeom>
            <a:ln w="22320">
              <a:solidFill>
                <a:srgbClr val="000000"/>
              </a:solidFill>
              <a:miter/>
            </a:ln>
          </p:spPr>
        </p:pic>
        <p:sp>
          <p:nvSpPr>
            <p:cNvPr id="1872" name="TextBox 34"/>
            <p:cNvSpPr/>
            <p:nvPr/>
          </p:nvSpPr>
          <p:spPr>
            <a:xfrm>
              <a:off x="345960" y="5934240"/>
              <a:ext cx="335304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Settlements, ports, marke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3" name="Group 37"/>
          <p:cNvGrpSpPr/>
          <p:nvPr/>
        </p:nvGrpSpPr>
        <p:grpSpPr>
          <a:xfrm>
            <a:off x="250920" y="3505320"/>
            <a:ext cx="3352680" cy="2837160"/>
            <a:chOff x="250920" y="3505320"/>
            <a:chExt cx="3352680" cy="2837160"/>
          </a:xfrm>
        </p:grpSpPr>
        <p:pic>
          <p:nvPicPr>
            <p:cNvPr id="1874" name="Picture 6" descr=""/>
            <p:cNvPicPr/>
            <p:nvPr/>
          </p:nvPicPr>
          <p:blipFill>
            <a:blip r:embed="rId4"/>
            <a:stretch/>
          </p:blipFill>
          <p:spPr>
            <a:xfrm>
              <a:off x="631800" y="3505320"/>
              <a:ext cx="1847880" cy="184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5" name="TextBox 36"/>
            <p:cNvSpPr/>
            <p:nvPr/>
          </p:nvSpPr>
          <p:spPr>
            <a:xfrm>
              <a:off x="250920" y="5943600"/>
              <a:ext cx="335268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Road, rail, river, ICT network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6" name="Group 48"/>
          <p:cNvGrpSpPr/>
          <p:nvPr/>
        </p:nvGrpSpPr>
        <p:grpSpPr>
          <a:xfrm>
            <a:off x="222120" y="3733920"/>
            <a:ext cx="3276720" cy="2608560"/>
            <a:chOff x="222120" y="3733920"/>
            <a:chExt cx="3276720" cy="2608560"/>
          </a:xfrm>
        </p:grpSpPr>
        <p:grpSp>
          <p:nvGrpSpPr>
            <p:cNvPr id="1877" name="Group 45"/>
            <p:cNvGrpSpPr/>
            <p:nvPr/>
          </p:nvGrpSpPr>
          <p:grpSpPr>
            <a:xfrm>
              <a:off x="771840" y="3733920"/>
              <a:ext cx="1828800" cy="1828800"/>
              <a:chOff x="771840" y="3733920"/>
              <a:chExt cx="1828800" cy="1828800"/>
            </a:xfrm>
          </p:grpSpPr>
          <p:pic>
            <p:nvPicPr>
              <p:cNvPr id="1878" name="Picture 8" descr=""/>
              <p:cNvPicPr/>
              <p:nvPr/>
            </p:nvPicPr>
            <p:blipFill>
              <a:blip r:embed="rId5"/>
              <a:stretch/>
            </p:blipFill>
            <p:spPr>
              <a:xfrm>
                <a:off x="771840" y="3733920"/>
                <a:ext cx="1828800" cy="1828800"/>
              </a:xfrm>
              <a:prstGeom prst="rect">
                <a:avLst/>
              </a:prstGeom>
              <a:ln w="22320">
                <a:solidFill>
                  <a:srgbClr val="000000"/>
                </a:solidFill>
                <a:miter/>
              </a:ln>
            </p:spPr>
          </p:pic>
          <p:sp>
            <p:nvSpPr>
              <p:cNvPr id="1879" name="Rectangle 35"/>
              <p:cNvSpPr/>
              <p:nvPr/>
            </p:nvSpPr>
            <p:spPr>
              <a:xfrm>
                <a:off x="923400" y="4800600"/>
                <a:ext cx="457200" cy="45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80" name="TextBox 46"/>
            <p:cNvSpPr/>
            <p:nvPr/>
          </p:nvSpPr>
          <p:spPr>
            <a:xfrm>
              <a:off x="222120" y="5943600"/>
              <a:ext cx="327672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Market travel times &amp; cos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1" name="PlaceHolder 1"/>
          <p:cNvSpPr>
            <a:spLocks noGrp="1"/>
          </p:cNvSpPr>
          <p:nvPr>
            <p:ph type="title"/>
          </p:nvPr>
        </p:nvSpPr>
        <p:spPr>
          <a:xfrm>
            <a:off x="280800" y="220320"/>
            <a:ext cx="8667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unger, Poverty &amp; Productivity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Spatial Covariates/Proxies &amp; Analytical Flo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82" name="Group 50"/>
          <p:cNvGrpSpPr/>
          <p:nvPr/>
        </p:nvGrpSpPr>
        <p:grpSpPr>
          <a:xfrm>
            <a:off x="176040" y="3886200"/>
            <a:ext cx="3657600" cy="2456280"/>
            <a:chOff x="176040" y="3886200"/>
            <a:chExt cx="3657600" cy="2456280"/>
          </a:xfrm>
        </p:grpSpPr>
        <p:sp>
          <p:nvSpPr>
            <p:cNvPr id="1883" name="TextBox 49"/>
            <p:cNvSpPr/>
            <p:nvPr/>
          </p:nvSpPr>
          <p:spPr>
            <a:xfrm>
              <a:off x="176040" y="5943600"/>
              <a:ext cx="365760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Port travel times &amp; cos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84" name="Picture 42" descr="Ports&amp;Markestheds.jpg"/>
            <p:cNvPicPr/>
            <p:nvPr/>
          </p:nvPicPr>
          <p:blipFill>
            <a:blip r:embed="rId6"/>
            <a:stretch/>
          </p:blipFill>
          <p:spPr>
            <a:xfrm>
              <a:off x="901440" y="3886200"/>
              <a:ext cx="1841040" cy="1842840"/>
            </a:xfrm>
            <a:prstGeom prst="rect">
              <a:avLst/>
            </a:prstGeom>
            <a:ln w="22320">
              <a:solidFill>
                <a:srgbClr val="000000"/>
              </a:solidFill>
              <a:miter/>
            </a:ln>
          </p:spPr>
        </p:pic>
      </p:grpSp>
      <p:sp>
        <p:nvSpPr>
          <p:cNvPr id="1885" name="TextBox 51"/>
          <p:cNvSpPr/>
          <p:nvPr/>
        </p:nvSpPr>
        <p:spPr>
          <a:xfrm>
            <a:off x="330120" y="1484280"/>
            <a:ext cx="210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rrain, Demography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frastructure, Admin Un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6" name="TextBox 52"/>
          <p:cNvSpPr/>
          <p:nvPr/>
        </p:nvSpPr>
        <p:spPr>
          <a:xfrm>
            <a:off x="2324160" y="1600200"/>
            <a:ext cx="2104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nvironment &am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nstra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7" name="TextBox 53"/>
          <p:cNvSpPr/>
          <p:nvPr/>
        </p:nvSpPr>
        <p:spPr>
          <a:xfrm>
            <a:off x="4240080" y="1600200"/>
            <a:ext cx="210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ystems &amp; Perform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8" name="TextBox 54"/>
          <p:cNvSpPr/>
          <p:nvPr/>
        </p:nvSpPr>
        <p:spPr>
          <a:xfrm>
            <a:off x="6019920" y="1676520"/>
            <a:ext cx="210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ventions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espon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9" name="Group 33"/>
          <p:cNvGrpSpPr/>
          <p:nvPr/>
        </p:nvGrpSpPr>
        <p:grpSpPr>
          <a:xfrm>
            <a:off x="0" y="2895480"/>
            <a:ext cx="4800600" cy="3447000"/>
            <a:chOff x="0" y="2895480"/>
            <a:chExt cx="4800600" cy="3447000"/>
          </a:xfrm>
        </p:grpSpPr>
        <p:pic>
          <p:nvPicPr>
            <p:cNvPr id="1890" name="Picture 30" descr="annex2_acz.jpg"/>
            <p:cNvPicPr/>
            <p:nvPr/>
          </p:nvPicPr>
          <p:blipFill>
            <a:blip r:embed="rId7"/>
            <a:stretch/>
          </p:blipFill>
          <p:spPr>
            <a:xfrm>
              <a:off x="2514600" y="2895480"/>
              <a:ext cx="1905120" cy="1981080"/>
            </a:xfrm>
            <a:prstGeom prst="rect">
              <a:avLst/>
            </a:prstGeom>
            <a:ln w="22320">
              <a:solidFill>
                <a:srgbClr val="000000"/>
              </a:solidFill>
              <a:miter/>
            </a:ln>
          </p:spPr>
        </p:pic>
        <p:sp>
          <p:nvSpPr>
            <p:cNvPr id="1891" name="TextBox 31"/>
            <p:cNvSpPr/>
            <p:nvPr/>
          </p:nvSpPr>
          <p:spPr>
            <a:xfrm>
              <a:off x="0" y="5943600"/>
              <a:ext cx="480060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Agroecological Zon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2" name="Group 44"/>
          <p:cNvGrpSpPr/>
          <p:nvPr/>
        </p:nvGrpSpPr>
        <p:grpSpPr>
          <a:xfrm>
            <a:off x="2311560" y="3048120"/>
            <a:ext cx="2971800" cy="3264120"/>
            <a:chOff x="2311560" y="3048120"/>
            <a:chExt cx="2971800" cy="3264120"/>
          </a:xfrm>
        </p:grpSpPr>
        <p:grpSp>
          <p:nvGrpSpPr>
            <p:cNvPr id="1893" name="Group 42"/>
            <p:cNvGrpSpPr/>
            <p:nvPr/>
          </p:nvGrpSpPr>
          <p:grpSpPr>
            <a:xfrm>
              <a:off x="2616120" y="3048120"/>
              <a:ext cx="1828800" cy="1869480"/>
              <a:chOff x="2616120" y="3048120"/>
              <a:chExt cx="1828800" cy="1869480"/>
            </a:xfrm>
          </p:grpSpPr>
          <p:pic>
            <p:nvPicPr>
              <p:cNvPr id="1894" name="Picture 40" descr="annex2_agext.jpg"/>
              <p:cNvPicPr/>
              <p:nvPr/>
            </p:nvPicPr>
            <p:blipFill>
              <a:blip r:embed="rId8"/>
              <a:stretch/>
            </p:blipFill>
            <p:spPr>
              <a:xfrm>
                <a:off x="2616120" y="3048120"/>
                <a:ext cx="1828800" cy="1869480"/>
              </a:xfrm>
              <a:prstGeom prst="rect">
                <a:avLst/>
              </a:prstGeom>
              <a:ln w="22320">
                <a:solidFill>
                  <a:srgbClr val="385d8a"/>
                </a:solidFill>
                <a:miter/>
              </a:ln>
            </p:spPr>
          </p:pic>
          <p:pic>
            <p:nvPicPr>
              <p:cNvPr id="1895" name="Picture 41" descr="annex2_agext.jpg"/>
              <p:cNvPicPr/>
              <p:nvPr/>
            </p:nvPicPr>
            <p:blipFill>
              <a:blip r:embed="rId9"/>
              <a:stretch/>
            </p:blipFill>
            <p:spPr>
              <a:xfrm>
                <a:off x="2624760" y="4101480"/>
                <a:ext cx="685800" cy="7102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896" name="TextBox 43"/>
            <p:cNvSpPr/>
            <p:nvPr/>
          </p:nvSpPr>
          <p:spPr>
            <a:xfrm>
              <a:off x="2311560" y="5943960"/>
              <a:ext cx="29718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Cropland extent &amp; intensi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7" name="Group 60"/>
          <p:cNvGrpSpPr/>
          <p:nvPr/>
        </p:nvGrpSpPr>
        <p:grpSpPr>
          <a:xfrm>
            <a:off x="2072160" y="3200400"/>
            <a:ext cx="3658320" cy="3111840"/>
            <a:chOff x="2072160" y="3200400"/>
            <a:chExt cx="3658320" cy="3111840"/>
          </a:xfrm>
        </p:grpSpPr>
        <p:pic>
          <p:nvPicPr>
            <p:cNvPr id="1898" name="Picture 13" descr="cpartellus-africa-gis-high res-trimmed"/>
            <p:cNvPicPr/>
            <p:nvPr/>
          </p:nvPicPr>
          <p:blipFill>
            <a:blip r:embed="rId10"/>
            <a:stretch/>
          </p:blipFill>
          <p:spPr>
            <a:xfrm>
              <a:off x="2716920" y="3200400"/>
              <a:ext cx="1910160" cy="1995120"/>
            </a:xfrm>
            <a:prstGeom prst="rect">
              <a:avLst/>
            </a:prstGeom>
            <a:ln w="22320">
              <a:solidFill>
                <a:srgbClr val="000000"/>
              </a:solidFill>
              <a:miter/>
            </a:ln>
          </p:spPr>
        </p:pic>
        <p:sp>
          <p:nvSpPr>
            <p:cNvPr id="1899" name="TextBox 59"/>
            <p:cNvSpPr/>
            <p:nvPr/>
          </p:nvSpPr>
          <p:spPr>
            <a:xfrm>
              <a:off x="2072160" y="5943960"/>
              <a:ext cx="36583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Pests &amp; Diseases (Maize Stem Borer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0" name="Group 63"/>
          <p:cNvGrpSpPr/>
          <p:nvPr/>
        </p:nvGrpSpPr>
        <p:grpSpPr>
          <a:xfrm>
            <a:off x="2057400" y="3340080"/>
            <a:ext cx="3657600" cy="2972160"/>
            <a:chOff x="2057400" y="3340080"/>
            <a:chExt cx="3657600" cy="2972160"/>
          </a:xfrm>
        </p:grpSpPr>
        <p:pic>
          <p:nvPicPr>
            <p:cNvPr id="1901" name="Picture 7" descr=""/>
            <p:cNvPicPr/>
            <p:nvPr/>
          </p:nvPicPr>
          <p:blipFill>
            <a:blip r:embed="rId11"/>
            <a:stretch/>
          </p:blipFill>
          <p:spPr>
            <a:xfrm>
              <a:off x="2806560" y="3340080"/>
              <a:ext cx="1960920" cy="198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2" name="TextBox 62"/>
            <p:cNvSpPr/>
            <p:nvPr/>
          </p:nvSpPr>
          <p:spPr>
            <a:xfrm>
              <a:off x="2057400" y="5943960"/>
              <a:ext cx="36576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Drought Incidence &amp; Severi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3" name="Group 66"/>
          <p:cNvGrpSpPr/>
          <p:nvPr/>
        </p:nvGrpSpPr>
        <p:grpSpPr>
          <a:xfrm>
            <a:off x="2093760" y="3479760"/>
            <a:ext cx="3429000" cy="2832480"/>
            <a:chOff x="2093760" y="3479760"/>
            <a:chExt cx="3429000" cy="2832480"/>
          </a:xfrm>
        </p:grpSpPr>
        <p:pic>
          <p:nvPicPr>
            <p:cNvPr id="1904" name="Picture 15" descr=""/>
            <p:cNvPicPr/>
            <p:nvPr/>
          </p:nvPicPr>
          <p:blipFill>
            <a:blip r:embed="rId12"/>
            <a:stretch/>
          </p:blipFill>
          <p:spPr>
            <a:xfrm>
              <a:off x="2932920" y="3479760"/>
              <a:ext cx="1905120" cy="2058480"/>
            </a:xfrm>
            <a:prstGeom prst="rect">
              <a:avLst/>
            </a:prstGeom>
            <a:ln w="22320">
              <a:solidFill>
                <a:srgbClr val="000000"/>
              </a:solidFill>
              <a:miter/>
            </a:ln>
          </p:spPr>
        </p:pic>
        <p:sp>
          <p:nvSpPr>
            <p:cNvPr id="1905" name="TextBox 65"/>
            <p:cNvSpPr/>
            <p:nvPr/>
          </p:nvSpPr>
          <p:spPr>
            <a:xfrm>
              <a:off x="2093760" y="5943960"/>
              <a:ext cx="34290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Runof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6" name="Group 84"/>
          <p:cNvGrpSpPr/>
          <p:nvPr/>
        </p:nvGrpSpPr>
        <p:grpSpPr>
          <a:xfrm>
            <a:off x="-304920" y="4013280"/>
            <a:ext cx="3357360" cy="2387520"/>
            <a:chOff x="-304920" y="4013280"/>
            <a:chExt cx="3357360" cy="2387520"/>
          </a:xfrm>
        </p:grpSpPr>
        <p:grpSp>
          <p:nvGrpSpPr>
            <p:cNvPr id="1907" name="Group 82"/>
            <p:cNvGrpSpPr/>
            <p:nvPr/>
          </p:nvGrpSpPr>
          <p:grpSpPr>
            <a:xfrm>
              <a:off x="918000" y="4013280"/>
              <a:ext cx="2134440" cy="2298600"/>
              <a:chOff x="918000" y="4013280"/>
              <a:chExt cx="2134440" cy="2298600"/>
            </a:xfrm>
          </p:grpSpPr>
          <p:pic>
            <p:nvPicPr>
              <p:cNvPr id="1908" name="Picture 2" descr=""/>
              <p:cNvPicPr/>
              <p:nvPr/>
            </p:nvPicPr>
            <p:blipFill>
              <a:blip r:embed="rId13"/>
              <a:stretch/>
            </p:blipFill>
            <p:spPr>
              <a:xfrm>
                <a:off x="1003320" y="4013280"/>
                <a:ext cx="1905480" cy="1811880"/>
              </a:xfrm>
              <a:prstGeom prst="rect">
                <a:avLst/>
              </a:prstGeom>
              <a:ln w="22320">
                <a:solidFill>
                  <a:srgbClr val="000000"/>
                </a:solidFill>
                <a:miter/>
              </a:ln>
            </p:spPr>
          </p:pic>
          <p:sp>
            <p:nvSpPr>
              <p:cNvPr id="1909" name="TextBox 81"/>
              <p:cNvSpPr/>
              <p:nvPr/>
            </p:nvSpPr>
            <p:spPr>
              <a:xfrm>
                <a:off x="918000" y="5943600"/>
                <a:ext cx="213444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alibri"/>
                  </a:rPr>
                  <a:t>Administrative Unit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10" name="Rectangle 83"/>
            <p:cNvSpPr/>
            <p:nvPr/>
          </p:nvSpPr>
          <p:spPr>
            <a:xfrm>
              <a:off x="-304920" y="5943600"/>
              <a:ext cx="1219320" cy="4572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1" name="Group 73"/>
          <p:cNvGrpSpPr/>
          <p:nvPr/>
        </p:nvGrpSpPr>
        <p:grpSpPr>
          <a:xfrm>
            <a:off x="2422440" y="2882880"/>
            <a:ext cx="4191120" cy="3429360"/>
            <a:chOff x="2422440" y="2882880"/>
            <a:chExt cx="4191120" cy="3429360"/>
          </a:xfrm>
        </p:grpSpPr>
        <p:pic>
          <p:nvPicPr>
            <p:cNvPr id="1912" name="Picture 67" descr="SSA_en.jpg"/>
            <p:cNvPicPr/>
            <p:nvPr/>
          </p:nvPicPr>
          <p:blipFill>
            <a:blip r:embed="rId14"/>
            <a:stretch/>
          </p:blipFill>
          <p:spPr>
            <a:xfrm>
              <a:off x="4521600" y="2882880"/>
              <a:ext cx="1930680" cy="2057400"/>
            </a:xfrm>
            <a:prstGeom prst="rect">
              <a:avLst/>
            </a:prstGeom>
            <a:ln w="22320">
              <a:solidFill>
                <a:srgbClr val="000000"/>
              </a:solidFill>
              <a:miter/>
            </a:ln>
          </p:spPr>
        </p:pic>
        <p:sp>
          <p:nvSpPr>
            <p:cNvPr id="1913" name="TextBox 68"/>
            <p:cNvSpPr/>
            <p:nvPr/>
          </p:nvSpPr>
          <p:spPr>
            <a:xfrm>
              <a:off x="2422440" y="5943960"/>
              <a:ext cx="41911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Farming System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4" name="Group 74"/>
          <p:cNvGrpSpPr/>
          <p:nvPr/>
        </p:nvGrpSpPr>
        <p:grpSpPr>
          <a:xfrm>
            <a:off x="4164120" y="3009960"/>
            <a:ext cx="3352680" cy="3339360"/>
            <a:chOff x="4164120" y="3009960"/>
            <a:chExt cx="3352680" cy="3339360"/>
          </a:xfrm>
        </p:grpSpPr>
        <p:pic>
          <p:nvPicPr>
            <p:cNvPr id="1915" name="Picture 3" descr=""/>
            <p:cNvPicPr/>
            <p:nvPr/>
          </p:nvPicPr>
          <p:blipFill>
            <a:blip r:embed="rId15"/>
            <a:stretch/>
          </p:blipFill>
          <p:spPr>
            <a:xfrm>
              <a:off x="4659120" y="3009960"/>
              <a:ext cx="1905120" cy="2057400"/>
            </a:xfrm>
            <a:prstGeom prst="rect">
              <a:avLst/>
            </a:prstGeom>
            <a:ln w="22320">
              <a:solidFill>
                <a:srgbClr val="385d8a"/>
              </a:solidFill>
              <a:miter/>
            </a:ln>
          </p:spPr>
        </p:pic>
        <p:sp>
          <p:nvSpPr>
            <p:cNvPr id="1916" name="TextBox 71"/>
            <p:cNvSpPr/>
            <p:nvPr/>
          </p:nvSpPr>
          <p:spPr>
            <a:xfrm>
              <a:off x="4164120" y="5981040"/>
              <a:ext cx="33526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Crop Suitability: Rainfed Whea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7" name="Group 78"/>
          <p:cNvGrpSpPr/>
          <p:nvPr/>
        </p:nvGrpSpPr>
        <p:grpSpPr>
          <a:xfrm>
            <a:off x="3963960" y="2921040"/>
            <a:ext cx="3367080" cy="3402720"/>
            <a:chOff x="3963960" y="2921040"/>
            <a:chExt cx="3367080" cy="3402720"/>
          </a:xfrm>
        </p:grpSpPr>
        <p:pic>
          <p:nvPicPr>
            <p:cNvPr id="1918" name="Picture 3" descr="cropmap_pulse3"/>
            <p:cNvPicPr/>
            <p:nvPr/>
          </p:nvPicPr>
          <p:blipFill>
            <a:blip r:embed="rId16"/>
            <a:stretch/>
          </p:blipFill>
          <p:spPr>
            <a:xfrm>
              <a:off x="3963960" y="2921040"/>
              <a:ext cx="2762640" cy="2666160"/>
            </a:xfrm>
            <a:prstGeom prst="rect">
              <a:avLst/>
            </a:prstGeom>
            <a:ln w="22320">
              <a:solidFill>
                <a:srgbClr val="000000"/>
              </a:solidFill>
              <a:miter/>
            </a:ln>
          </p:spPr>
        </p:pic>
        <p:sp>
          <p:nvSpPr>
            <p:cNvPr id="1919" name="TextBox 77"/>
            <p:cNvSpPr/>
            <p:nvPr/>
          </p:nvSpPr>
          <p:spPr>
            <a:xfrm>
              <a:off x="4053960" y="5955480"/>
              <a:ext cx="32770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Crop Distribution &amp; Yield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0" name="Group 79"/>
          <p:cNvGrpSpPr/>
          <p:nvPr/>
        </p:nvGrpSpPr>
        <p:grpSpPr>
          <a:xfrm>
            <a:off x="3732480" y="3125880"/>
            <a:ext cx="3696480" cy="3186720"/>
            <a:chOff x="3732480" y="3125880"/>
            <a:chExt cx="3696480" cy="3186720"/>
          </a:xfrm>
        </p:grpSpPr>
        <p:pic>
          <p:nvPicPr>
            <p:cNvPr id="1921" name="Content Placeholder 4" descr="val_of_prod_pcap_v2.jpg"/>
            <p:cNvPicPr/>
            <p:nvPr/>
          </p:nvPicPr>
          <p:blipFill>
            <a:blip r:embed="rId17"/>
            <a:stretch/>
          </p:blipFill>
          <p:spPr>
            <a:xfrm>
              <a:off x="4668120" y="3125880"/>
              <a:ext cx="1905120" cy="2056680"/>
            </a:xfrm>
            <a:prstGeom prst="rect">
              <a:avLst/>
            </a:prstGeom>
            <a:ln w="22320">
              <a:solidFill>
                <a:srgbClr val="4f81bd"/>
              </a:solidFill>
              <a:miter/>
            </a:ln>
          </p:spPr>
        </p:pic>
        <p:pic>
          <p:nvPicPr>
            <p:cNvPr id="1922" name="Content Placeholder 4" descr="val_of_prod_pcap_v2.jpg"/>
            <p:cNvPicPr/>
            <p:nvPr/>
          </p:nvPicPr>
          <p:blipFill>
            <a:blip r:embed="rId18"/>
            <a:stretch/>
          </p:blipFill>
          <p:spPr>
            <a:xfrm>
              <a:off x="4757040" y="3214800"/>
              <a:ext cx="2057760" cy="2056680"/>
            </a:xfrm>
            <a:prstGeom prst="rect">
              <a:avLst/>
            </a:prstGeom>
            <a:ln w="22320">
              <a:solidFill>
                <a:srgbClr val="4f81bd"/>
              </a:solidFill>
              <a:miter/>
            </a:ln>
          </p:spPr>
        </p:pic>
        <p:sp>
          <p:nvSpPr>
            <p:cNvPr id="1923" name="TextBox 76"/>
            <p:cNvSpPr/>
            <p:nvPr/>
          </p:nvSpPr>
          <p:spPr>
            <a:xfrm>
              <a:off x="3732480" y="5944320"/>
              <a:ext cx="36964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Value of Production per Rural Pers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4" name="Group 87"/>
          <p:cNvGrpSpPr/>
          <p:nvPr/>
        </p:nvGrpSpPr>
        <p:grpSpPr>
          <a:xfrm>
            <a:off x="1881360" y="2895480"/>
            <a:ext cx="7030800" cy="3416760"/>
            <a:chOff x="1881360" y="2895480"/>
            <a:chExt cx="7030800" cy="3416760"/>
          </a:xfrm>
        </p:grpSpPr>
        <p:pic>
          <p:nvPicPr>
            <p:cNvPr id="1925" name="Picture 2" descr=""/>
            <p:cNvPicPr/>
            <p:nvPr/>
          </p:nvPicPr>
          <p:blipFill>
            <a:blip r:embed="rId19"/>
            <a:stretch/>
          </p:blipFill>
          <p:spPr>
            <a:xfrm>
              <a:off x="5484600" y="2895480"/>
              <a:ext cx="3049920" cy="2439000"/>
            </a:xfrm>
            <a:prstGeom prst="rect">
              <a:avLst/>
            </a:prstGeom>
            <a:ln w="22320">
              <a:solidFill>
                <a:srgbClr val="000000"/>
              </a:solidFill>
              <a:miter/>
            </a:ln>
          </p:spPr>
        </p:pic>
        <p:sp>
          <p:nvSpPr>
            <p:cNvPr id="1926" name="TextBox 86"/>
            <p:cNvSpPr/>
            <p:nvPr/>
          </p:nvSpPr>
          <p:spPr>
            <a:xfrm>
              <a:off x="1881360" y="5943960"/>
              <a:ext cx="70308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Yield Responses to Inputs, Management, C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7" name="Group 93"/>
          <p:cNvGrpSpPr/>
          <p:nvPr/>
        </p:nvGrpSpPr>
        <p:grpSpPr>
          <a:xfrm>
            <a:off x="3276720" y="2895480"/>
            <a:ext cx="6368760" cy="3505320"/>
            <a:chOff x="3276720" y="2895480"/>
            <a:chExt cx="6368760" cy="3505320"/>
          </a:xfrm>
        </p:grpSpPr>
        <p:grpSp>
          <p:nvGrpSpPr>
            <p:cNvPr id="1928" name="Group 91"/>
            <p:cNvGrpSpPr/>
            <p:nvPr/>
          </p:nvGrpSpPr>
          <p:grpSpPr>
            <a:xfrm>
              <a:off x="4464360" y="2895480"/>
              <a:ext cx="5181120" cy="3416400"/>
              <a:chOff x="4464360" y="2895480"/>
              <a:chExt cx="5181120" cy="3416400"/>
            </a:xfrm>
          </p:grpSpPr>
          <p:pic>
            <p:nvPicPr>
              <p:cNvPr id="1929" name="Picture 88" descr="rev_diff1.jpg"/>
              <p:cNvPicPr/>
              <p:nvPr/>
            </p:nvPicPr>
            <p:blipFill>
              <a:blip r:embed="rId20"/>
              <a:stretch/>
            </p:blipFill>
            <p:spPr>
              <a:xfrm>
                <a:off x="6247800" y="2895480"/>
                <a:ext cx="1780920" cy="1752840"/>
              </a:xfrm>
              <a:prstGeom prst="rect">
                <a:avLst/>
              </a:prstGeom>
              <a:ln w="22320">
                <a:solidFill>
                  <a:srgbClr val="000000"/>
                </a:solidFill>
                <a:miter/>
              </a:ln>
            </p:spPr>
          </p:pic>
          <p:pic>
            <p:nvPicPr>
              <p:cNvPr id="1930" name="Picture 89" descr="rev_diff1.jpg"/>
              <p:cNvPicPr/>
              <p:nvPr/>
            </p:nvPicPr>
            <p:blipFill>
              <a:blip r:embed="rId21"/>
              <a:stretch/>
            </p:blipFill>
            <p:spPr>
              <a:xfrm>
                <a:off x="6324120" y="2971440"/>
                <a:ext cx="1935720" cy="1905120"/>
              </a:xfrm>
              <a:prstGeom prst="rect">
                <a:avLst/>
              </a:prstGeom>
              <a:ln w="22320">
                <a:solidFill>
                  <a:srgbClr val="000000"/>
                </a:solidFill>
                <a:miter/>
              </a:ln>
            </p:spPr>
          </p:pic>
          <p:sp>
            <p:nvSpPr>
              <p:cNvPr id="1931" name="TextBox 90"/>
              <p:cNvSpPr/>
              <p:nvPr/>
            </p:nvSpPr>
            <p:spPr>
              <a:xfrm>
                <a:off x="4464360" y="5943600"/>
                <a:ext cx="518112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alibri"/>
                  </a:rPr>
                  <a:t>Profitability of small scale irrigat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32" name="Rectangle 92"/>
            <p:cNvSpPr/>
            <p:nvPr/>
          </p:nvSpPr>
          <p:spPr>
            <a:xfrm>
              <a:off x="3276720" y="5867640"/>
              <a:ext cx="2057400" cy="533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3" name="Group 97"/>
          <p:cNvGrpSpPr/>
          <p:nvPr/>
        </p:nvGrpSpPr>
        <p:grpSpPr>
          <a:xfrm>
            <a:off x="5186520" y="3086280"/>
            <a:ext cx="4343400" cy="3226320"/>
            <a:chOff x="5186520" y="3086280"/>
            <a:chExt cx="4343400" cy="3226320"/>
          </a:xfrm>
        </p:grpSpPr>
        <p:pic>
          <p:nvPicPr>
            <p:cNvPr id="1934" name="Picture 94" descr="con_nutmap_wood.jpg"/>
            <p:cNvPicPr/>
            <p:nvPr/>
          </p:nvPicPr>
          <p:blipFill>
            <a:blip r:embed="rId22"/>
            <a:stretch/>
          </p:blipFill>
          <p:spPr>
            <a:xfrm>
              <a:off x="6437880" y="3086280"/>
              <a:ext cx="1981080" cy="1981080"/>
            </a:xfrm>
            <a:prstGeom prst="rect">
              <a:avLst/>
            </a:prstGeom>
            <a:ln w="22320">
              <a:solidFill>
                <a:srgbClr val="000000"/>
              </a:solidFill>
              <a:miter/>
            </a:ln>
          </p:spPr>
        </p:pic>
        <p:sp>
          <p:nvSpPr>
            <p:cNvPr id="1935" name="TextBox 96"/>
            <p:cNvSpPr/>
            <p:nvPr/>
          </p:nvSpPr>
          <p:spPr>
            <a:xfrm>
              <a:off x="5186520" y="5944320"/>
              <a:ext cx="43434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Quantity of Nutrients Remov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6" name="Group 100"/>
          <p:cNvGrpSpPr/>
          <p:nvPr/>
        </p:nvGrpSpPr>
        <p:grpSpPr>
          <a:xfrm>
            <a:off x="5638680" y="3198960"/>
            <a:ext cx="3722760" cy="3116880"/>
            <a:chOff x="5638680" y="3198960"/>
            <a:chExt cx="3722760" cy="3116880"/>
          </a:xfrm>
        </p:grpSpPr>
        <p:pic>
          <p:nvPicPr>
            <p:cNvPr id="1937" name="Picture 4" descr="E:\stan\ssa\kept_cities\results3\maize pixel price.jpg"/>
            <p:cNvPicPr/>
            <p:nvPr/>
          </p:nvPicPr>
          <p:blipFill>
            <a:blip r:embed="rId23"/>
            <a:stretch/>
          </p:blipFill>
          <p:spPr>
            <a:xfrm>
              <a:off x="6546960" y="3198960"/>
              <a:ext cx="1956960" cy="240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8" name="TextBox 99"/>
            <p:cNvSpPr/>
            <p:nvPr/>
          </p:nvSpPr>
          <p:spPr>
            <a:xfrm>
              <a:off x="5638680" y="5947560"/>
              <a:ext cx="37227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Fertilizer Profitabili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9" name="Group 103"/>
          <p:cNvGrpSpPr/>
          <p:nvPr/>
        </p:nvGrpSpPr>
        <p:grpSpPr>
          <a:xfrm>
            <a:off x="6004080" y="2695680"/>
            <a:ext cx="3202920" cy="3616920"/>
            <a:chOff x="6004080" y="2695680"/>
            <a:chExt cx="3202920" cy="3616920"/>
          </a:xfrm>
        </p:grpSpPr>
        <p:pic>
          <p:nvPicPr>
            <p:cNvPr id="1940" name="Picture 101" descr="uganda_6.jpg"/>
            <p:cNvPicPr/>
            <p:nvPr/>
          </p:nvPicPr>
          <p:blipFill>
            <a:blip r:embed="rId24"/>
            <a:stretch/>
          </p:blipFill>
          <p:spPr>
            <a:xfrm>
              <a:off x="6335640" y="2695680"/>
              <a:ext cx="2374560" cy="31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1" name="TextBox 102"/>
            <p:cNvSpPr/>
            <p:nvPr/>
          </p:nvSpPr>
          <p:spPr>
            <a:xfrm>
              <a:off x="6004080" y="5944320"/>
              <a:ext cx="32029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Distribution of Welfare Benefi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2" name="Group 105"/>
          <p:cNvGrpSpPr/>
          <p:nvPr/>
        </p:nvGrpSpPr>
        <p:grpSpPr>
          <a:xfrm>
            <a:off x="5334120" y="1636560"/>
            <a:ext cx="4286160" cy="4675680"/>
            <a:chOff x="5334120" y="1636560"/>
            <a:chExt cx="4286160" cy="4675680"/>
          </a:xfrm>
        </p:grpSpPr>
        <p:grpSp>
          <p:nvGrpSpPr>
            <p:cNvPr id="1943" name="Group 57"/>
            <p:cNvGrpSpPr/>
            <p:nvPr/>
          </p:nvGrpSpPr>
          <p:grpSpPr>
            <a:xfrm>
              <a:off x="7363800" y="1636560"/>
              <a:ext cx="2256480" cy="3545280"/>
              <a:chOff x="7363800" y="1636560"/>
              <a:chExt cx="2256480" cy="3545280"/>
            </a:xfrm>
          </p:grpSpPr>
          <p:sp>
            <p:nvSpPr>
              <p:cNvPr id="1944" name="TextBox 55"/>
              <p:cNvSpPr/>
              <p:nvPr/>
            </p:nvSpPr>
            <p:spPr>
              <a:xfrm>
                <a:off x="7515000" y="1636560"/>
                <a:ext cx="210528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alibri"/>
                  </a:rPr>
                  <a:t>Linkage t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alibri"/>
                  </a:rPr>
                  <a:t>Macr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alibri"/>
                  </a:rPr>
                  <a:t>Model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945" name="Picture 2" descr=""/>
              <p:cNvPicPr/>
              <p:nvPr/>
            </p:nvPicPr>
            <p:blipFill>
              <a:blip r:embed="rId25"/>
              <a:stretch/>
            </p:blipFill>
            <p:spPr>
              <a:xfrm>
                <a:off x="7363800" y="3276720"/>
                <a:ext cx="1780200" cy="1905120"/>
              </a:xfrm>
              <a:prstGeom prst="rect">
                <a:avLst/>
              </a:prstGeom>
              <a:ln w="9360">
                <a:solidFill>
                  <a:srgbClr val="385d8a"/>
                </a:solidFill>
                <a:miter/>
              </a:ln>
            </p:spPr>
          </p:pic>
        </p:grpSp>
        <p:sp>
          <p:nvSpPr>
            <p:cNvPr id="1946" name="TextBox 104"/>
            <p:cNvSpPr/>
            <p:nvPr/>
          </p:nvSpPr>
          <p:spPr>
            <a:xfrm>
              <a:off x="5334120" y="5943960"/>
              <a:ext cx="38098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Aggregate to FPU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7" name="TextBox 84"/>
          <p:cNvSpPr/>
          <p:nvPr/>
        </p:nvSpPr>
        <p:spPr>
          <a:xfrm>
            <a:off x="240840" y="6550200"/>
            <a:ext cx="26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ource: HarvestChoice/IFPRI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1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1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1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1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1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1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1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1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1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1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1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1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1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1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1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1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1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1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8" name="Picture 1" descr="wheat high input suitability aez 2009.jpg"/>
          <p:cNvPicPr/>
          <p:nvPr/>
        </p:nvPicPr>
        <p:blipFill>
          <a:blip r:embed="rId1"/>
          <a:stretch/>
        </p:blipFill>
        <p:spPr>
          <a:xfrm>
            <a:off x="1243080" y="146160"/>
            <a:ext cx="3146400" cy="3193920"/>
          </a:xfrm>
          <a:prstGeom prst="rect">
            <a:avLst/>
          </a:prstGeom>
          <a:ln w="9360">
            <a:solidFill>
              <a:srgbClr val="254061"/>
            </a:solidFill>
            <a:miter/>
          </a:ln>
        </p:spPr>
      </p:pic>
      <p:sp>
        <p:nvSpPr>
          <p:cNvPr id="1949" name="TextBox 8"/>
          <p:cNvSpPr/>
          <p:nvPr/>
        </p:nvSpPr>
        <p:spPr>
          <a:xfrm rot="16200000">
            <a:off x="-3244680" y="3244680"/>
            <a:ext cx="6858000" cy="36828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RAINFED W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0" name="TextBox 9"/>
          <p:cNvSpPr/>
          <p:nvPr/>
        </p:nvSpPr>
        <p:spPr>
          <a:xfrm rot="16200000">
            <a:off x="-934920" y="1293480"/>
            <a:ext cx="2968920" cy="368280"/>
          </a:xfrm>
          <a:prstGeom prst="rect">
            <a:avLst/>
          </a:prstGeom>
          <a:solidFill>
            <a:srgbClr val="9a9d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. Agro-climatic suit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1" name="Group 53"/>
          <p:cNvGrpSpPr/>
          <p:nvPr/>
        </p:nvGrpSpPr>
        <p:grpSpPr>
          <a:xfrm>
            <a:off x="5783400" y="1293840"/>
            <a:ext cx="3433680" cy="2340000"/>
            <a:chOff x="5783400" y="1293840"/>
            <a:chExt cx="3433680" cy="2340000"/>
          </a:xfrm>
        </p:grpSpPr>
        <p:pic>
          <p:nvPicPr>
            <p:cNvPr id="1952" name="Content Placeholder 14" descr="t28.tif"/>
            <p:cNvPicPr/>
            <p:nvPr/>
          </p:nvPicPr>
          <p:blipFill>
            <a:blip r:embed="rId2"/>
            <a:stretch/>
          </p:blipFill>
          <p:spPr>
            <a:xfrm>
              <a:off x="6828480" y="1293840"/>
              <a:ext cx="2388600" cy="234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3" name="Right Arrow 15"/>
            <p:cNvSpPr/>
            <p:nvPr/>
          </p:nvSpPr>
          <p:spPr>
            <a:xfrm rot="1899600">
              <a:off x="7097760" y="1969920"/>
              <a:ext cx="504720" cy="380880"/>
            </a:xfrm>
            <a:prstGeom prst="rightArrow">
              <a:avLst>
                <a:gd name="adj1" fmla="val 50000"/>
                <a:gd name="adj2" fmla="val 49993"/>
              </a:avLst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4298000"/>
            </a:gradFill>
            <a:ln w="9360">
              <a:solidFill>
                <a:srgbClr val="98b95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4" name="TextBox 17"/>
            <p:cNvSpPr/>
            <p:nvPr/>
          </p:nvSpPr>
          <p:spPr>
            <a:xfrm>
              <a:off x="5783400" y="2705040"/>
              <a:ext cx="979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alibri"/>
                </a:rPr>
                <a:t>Recommende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alibri"/>
                </a:rPr>
                <a:t>Fertilizer R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5" name="Group 55"/>
          <p:cNvGrpSpPr/>
          <p:nvPr/>
        </p:nvGrpSpPr>
        <p:grpSpPr>
          <a:xfrm>
            <a:off x="4537080" y="10800"/>
            <a:ext cx="4167360" cy="2949480"/>
            <a:chOff x="4537080" y="10800"/>
            <a:chExt cx="4167360" cy="2949480"/>
          </a:xfrm>
        </p:grpSpPr>
        <p:sp>
          <p:nvSpPr>
            <p:cNvPr id="1956" name="TextBox 16"/>
            <p:cNvSpPr/>
            <p:nvPr/>
          </p:nvSpPr>
          <p:spPr>
            <a:xfrm>
              <a:off x="5169960" y="1922400"/>
              <a:ext cx="6440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alibri"/>
                </a:rPr>
                <a:t>No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alibri"/>
                </a:rPr>
                <a:t>Fertiliz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57" name="Group 54"/>
            <p:cNvGrpSpPr/>
            <p:nvPr/>
          </p:nvGrpSpPr>
          <p:grpSpPr>
            <a:xfrm>
              <a:off x="4537080" y="10800"/>
              <a:ext cx="4167360" cy="2949480"/>
              <a:chOff x="4537080" y="10800"/>
              <a:chExt cx="4167360" cy="2949480"/>
            </a:xfrm>
          </p:grpSpPr>
          <p:sp>
            <p:nvSpPr>
              <p:cNvPr id="1958" name="TextBox 10"/>
              <p:cNvSpPr/>
              <p:nvPr/>
            </p:nvSpPr>
            <p:spPr>
              <a:xfrm rot="16200000">
                <a:off x="3383640" y="1164240"/>
                <a:ext cx="2949480" cy="642600"/>
              </a:xfrm>
              <a:prstGeom prst="rect">
                <a:avLst/>
              </a:prstGeom>
              <a:solidFill>
                <a:srgbClr val="9a9d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31840"/>
                    <a:tab algn="l" pos="463680"/>
                    <a:tab algn="l" pos="695160"/>
                    <a:tab algn="l" pos="927000"/>
                    <a:tab algn="l" pos="1158840"/>
                    <a:tab algn="l" pos="1390680"/>
                    <a:tab algn="l" pos="1622520"/>
                    <a:tab algn="l" pos="1854360"/>
                    <a:tab algn="l" pos="2085840"/>
                    <a:tab algn="l" pos="2317680"/>
                    <a:tab algn="l" pos="2549520"/>
                    <a:tab algn="l" pos="2781360"/>
                    <a:tab algn="l" pos="3013200"/>
                    <a:tab algn="l" pos="3244680"/>
                    <a:tab algn="l" pos="3476520"/>
                    <a:tab algn="l" pos="3708360"/>
                    <a:tab algn="l" pos="3940200"/>
                    <a:tab algn="l" pos="4172040"/>
                    <a:tab algn="l" pos="4403880"/>
                    <a:tab algn="l" pos="463536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2.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	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Yield responses to fertilizer  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59" name="Group 52"/>
              <p:cNvGrpSpPr/>
              <p:nvPr/>
            </p:nvGrpSpPr>
            <p:grpSpPr>
              <a:xfrm>
                <a:off x="4907160" y="73800"/>
                <a:ext cx="3797280" cy="2226600"/>
                <a:chOff x="4907160" y="73800"/>
                <a:chExt cx="3797280" cy="2226600"/>
              </a:xfrm>
            </p:grpSpPr>
            <p:pic>
              <p:nvPicPr>
                <p:cNvPr id="1960" name="Content Placeholder 15" descr="t29.tif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4907160" y="73800"/>
                  <a:ext cx="2274120" cy="22266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61" name="Picture 2" descr=""/>
                <p:cNvPicPr/>
                <p:nvPr/>
              </p:nvPicPr>
              <p:blipFill>
                <a:blip r:embed="rId4"/>
                <a:srcRect l="0" t="0" r="0" b="37609"/>
                <a:stretch/>
              </p:blipFill>
              <p:spPr>
                <a:xfrm>
                  <a:off x="7576560" y="393480"/>
                  <a:ext cx="654840" cy="1015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62" name="TextBox 18"/>
                <p:cNvSpPr/>
                <p:nvPr/>
              </p:nvSpPr>
              <p:spPr>
                <a:xfrm>
                  <a:off x="7515000" y="166320"/>
                  <a:ext cx="118944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Calibri"/>
                    </a:rPr>
                    <a:t>Mean Yield (kg/ha)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3" name="TextBox 19"/>
                <p:cNvSpPr/>
                <p:nvPr/>
              </p:nvSpPr>
              <p:spPr>
                <a:xfrm>
                  <a:off x="7674120" y="776160"/>
                  <a:ext cx="41220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Calibri"/>
                    </a:rPr>
                    <a:t>4000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964" name="Group 56"/>
          <p:cNvGrpSpPr/>
          <p:nvPr/>
        </p:nvGrpSpPr>
        <p:grpSpPr>
          <a:xfrm>
            <a:off x="368280" y="3429000"/>
            <a:ext cx="4137120" cy="3182760"/>
            <a:chOff x="368280" y="3429000"/>
            <a:chExt cx="4137120" cy="3182760"/>
          </a:xfrm>
        </p:grpSpPr>
        <p:sp>
          <p:nvSpPr>
            <p:cNvPr id="1965" name="TextBox 11"/>
            <p:cNvSpPr/>
            <p:nvPr/>
          </p:nvSpPr>
          <p:spPr>
            <a:xfrm rot="16200000">
              <a:off x="-1003680" y="4812480"/>
              <a:ext cx="3112920" cy="368280"/>
            </a:xfrm>
            <a:prstGeom prst="rect">
              <a:avLst/>
            </a:prstGeom>
            <a:solidFill>
              <a:srgbClr val="9a9d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31840"/>
                  <a:tab algn="l" pos="463680"/>
                  <a:tab algn="l" pos="695160"/>
                  <a:tab algn="l" pos="927000"/>
                  <a:tab algn="l" pos="1158840"/>
                  <a:tab algn="l" pos="1390680"/>
                  <a:tab algn="l" pos="1622520"/>
                  <a:tab algn="l" pos="1854360"/>
                  <a:tab algn="l" pos="2085840"/>
                  <a:tab algn="l" pos="2317680"/>
                  <a:tab algn="l" pos="2549520"/>
                  <a:tab algn="l" pos="2781360"/>
                  <a:tab algn="l" pos="3013200"/>
                  <a:tab algn="l" pos="3244680"/>
                  <a:tab algn="l" pos="3476520"/>
                  <a:tab algn="l" pos="3708360"/>
                  <a:tab algn="l" pos="3940200"/>
                  <a:tab algn="l" pos="4172040"/>
                  <a:tab algn="l" pos="4403880"/>
                  <a:tab algn="l" pos="463536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3.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Modeling of farm-gate pric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66" name="Content Placeholder 6" descr="wh12_2_from_port.png"/>
            <p:cNvPicPr/>
            <p:nvPr/>
          </p:nvPicPr>
          <p:blipFill>
            <a:blip r:embed="rId5"/>
            <a:stretch/>
          </p:blipFill>
          <p:spPr>
            <a:xfrm>
              <a:off x="1106280" y="3647160"/>
              <a:ext cx="1419840" cy="141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7" name="Content Placeholder 7" descr="wh12_2_from_capital.png"/>
            <p:cNvPicPr/>
            <p:nvPr/>
          </p:nvPicPr>
          <p:blipFill>
            <a:blip r:embed="rId6"/>
            <a:stretch/>
          </p:blipFill>
          <p:spPr>
            <a:xfrm>
              <a:off x="1106280" y="5281200"/>
              <a:ext cx="1416600" cy="133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8" name="TextBox 21"/>
            <p:cNvSpPr/>
            <p:nvPr/>
          </p:nvSpPr>
          <p:spPr>
            <a:xfrm>
              <a:off x="752400" y="3429000"/>
              <a:ext cx="1130400" cy="55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alibri"/>
                </a:rPr>
                <a:t>Transport cost: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Port t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Farm-g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9" name="TextBox 22"/>
            <p:cNvSpPr/>
            <p:nvPr/>
          </p:nvSpPr>
          <p:spPr>
            <a:xfrm>
              <a:off x="752400" y="4986360"/>
              <a:ext cx="1130400" cy="55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alibri"/>
                </a:rPr>
                <a:t>Transport cost: </a:t>
              </a: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Capital to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alibri"/>
                </a:rPr>
                <a:t>Farm-g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70" name="Picture 4" descr=""/>
            <p:cNvPicPr/>
            <p:nvPr/>
          </p:nvPicPr>
          <p:blipFill>
            <a:blip r:embed="rId7"/>
            <a:stretch/>
          </p:blipFill>
          <p:spPr>
            <a:xfrm>
              <a:off x="2836800" y="3773520"/>
              <a:ext cx="1502640" cy="112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1" name="TextBox 26"/>
            <p:cNvSpPr/>
            <p:nvPr/>
          </p:nvSpPr>
          <p:spPr>
            <a:xfrm>
              <a:off x="2460600" y="3429000"/>
              <a:ext cx="113040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alibri"/>
                </a:rPr>
                <a:t>Wheat farming enterprise dat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72" name="Picture 5" descr=""/>
            <p:cNvPicPr/>
            <p:nvPr/>
          </p:nvPicPr>
          <p:blipFill>
            <a:blip r:embed="rId8"/>
            <a:stretch/>
          </p:blipFill>
          <p:spPr>
            <a:xfrm>
              <a:off x="2494440" y="5376960"/>
              <a:ext cx="2010960" cy="110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3" name="TextBox 30"/>
            <p:cNvSpPr/>
            <p:nvPr/>
          </p:nvSpPr>
          <p:spPr>
            <a:xfrm>
              <a:off x="2435400" y="5000400"/>
              <a:ext cx="161784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alibri"/>
                </a:rPr>
                <a:t>International wheat and fertilizer pric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4" name="Group 57"/>
          <p:cNvGrpSpPr/>
          <p:nvPr/>
        </p:nvGrpSpPr>
        <p:grpSpPr>
          <a:xfrm>
            <a:off x="4525920" y="3429000"/>
            <a:ext cx="4438800" cy="3154320"/>
            <a:chOff x="4525920" y="3429000"/>
            <a:chExt cx="4438800" cy="3154320"/>
          </a:xfrm>
        </p:grpSpPr>
        <p:sp>
          <p:nvSpPr>
            <p:cNvPr id="1975" name="TextBox 27"/>
            <p:cNvSpPr/>
            <p:nvPr/>
          </p:nvSpPr>
          <p:spPr>
            <a:xfrm rot="16200000">
              <a:off x="3132720" y="4821840"/>
              <a:ext cx="3154320" cy="368280"/>
            </a:xfrm>
            <a:prstGeom prst="rect">
              <a:avLst/>
            </a:prstGeom>
            <a:solidFill>
              <a:srgbClr val="9a9d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231840"/>
                  <a:tab algn="l" pos="463680"/>
                  <a:tab algn="l" pos="695160"/>
                  <a:tab algn="l" pos="927000"/>
                  <a:tab algn="l" pos="1158840"/>
                  <a:tab algn="l" pos="1390680"/>
                  <a:tab algn="l" pos="1622520"/>
                  <a:tab algn="l" pos="1854360"/>
                  <a:tab algn="l" pos="2085840"/>
                  <a:tab algn="l" pos="2317680"/>
                  <a:tab algn="l" pos="2549520"/>
                  <a:tab algn="l" pos="2781360"/>
                  <a:tab algn="l" pos="3013200"/>
                  <a:tab algn="l" pos="3244680"/>
                  <a:tab algn="l" pos="3476520"/>
                  <a:tab algn="l" pos="3708360"/>
                  <a:tab algn="l" pos="3940200"/>
                  <a:tab algn="l" pos="4172040"/>
                  <a:tab algn="l" pos="4403880"/>
                  <a:tab algn="l" pos="463536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4.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Profitability analysi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76" name="Group 50"/>
            <p:cNvGrpSpPr/>
            <p:nvPr/>
          </p:nvGrpSpPr>
          <p:grpSpPr>
            <a:xfrm>
              <a:off x="4962600" y="3444120"/>
              <a:ext cx="4002120" cy="3041640"/>
              <a:chOff x="4962600" y="3444120"/>
              <a:chExt cx="4002120" cy="3041640"/>
            </a:xfrm>
          </p:grpSpPr>
          <p:pic>
            <p:nvPicPr>
              <p:cNvPr id="1977" name="Picture 2" descr=""/>
              <p:cNvPicPr/>
              <p:nvPr/>
            </p:nvPicPr>
            <p:blipFill>
              <a:blip r:embed="rId9"/>
              <a:stretch/>
            </p:blipFill>
            <p:spPr>
              <a:xfrm>
                <a:off x="4962600" y="3444120"/>
                <a:ext cx="4002120" cy="2846520"/>
              </a:xfrm>
              <a:prstGeom prst="rect">
                <a:avLst/>
              </a:prstGeom>
              <a:ln w="9360">
                <a:solidFill>
                  <a:srgbClr val="254061"/>
                </a:solidFill>
                <a:miter/>
              </a:ln>
            </p:spPr>
          </p:pic>
          <p:sp>
            <p:nvSpPr>
              <p:cNvPr id="1978" name="TextBox 35"/>
              <p:cNvSpPr/>
              <p:nvPr/>
            </p:nvSpPr>
            <p:spPr>
              <a:xfrm>
                <a:off x="7220160" y="5782680"/>
                <a:ext cx="831600" cy="703080"/>
              </a:xfrm>
              <a:prstGeom prst="rect">
                <a:avLst/>
              </a:prstGeom>
              <a:solidFill>
                <a:srgbClr val="c6d9f1"/>
              </a:solidFill>
              <a:ln w="93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alibri"/>
                  </a:rPr>
                  <a:t>Profitability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alibri"/>
                  </a:rPr>
                  <a:t>Sensitivity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alibri"/>
                  </a:rPr>
                  <a:t>Analysi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Calibri"/>
                  </a:rPr>
                  <a:t>Tool (Excel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979" name="Picture 1" descr="wheat high input suitability aez 2009.jpg"/>
          <p:cNvPicPr/>
          <p:nvPr/>
        </p:nvPicPr>
        <p:blipFill>
          <a:blip r:embed="rId10"/>
          <a:stretch/>
        </p:blipFill>
        <p:spPr>
          <a:xfrm>
            <a:off x="731880" y="1511280"/>
            <a:ext cx="1100160" cy="1523880"/>
          </a:xfrm>
          <a:prstGeom prst="rect">
            <a:avLst/>
          </a:prstGeom>
          <a:ln w="0">
            <a:noFill/>
          </a:ln>
        </p:spPr>
      </p:pic>
      <p:grpSp>
        <p:nvGrpSpPr>
          <p:cNvPr id="1980" name="Group 49"/>
          <p:cNvGrpSpPr/>
          <p:nvPr/>
        </p:nvGrpSpPr>
        <p:grpSpPr>
          <a:xfrm>
            <a:off x="5411880" y="663480"/>
            <a:ext cx="3109680" cy="2333880"/>
            <a:chOff x="5411880" y="663480"/>
            <a:chExt cx="3109680" cy="2333880"/>
          </a:xfrm>
        </p:grpSpPr>
        <p:sp>
          <p:nvSpPr>
            <p:cNvPr id="1981" name="Rectangle 40"/>
            <p:cNvSpPr/>
            <p:nvPr/>
          </p:nvSpPr>
          <p:spPr>
            <a:xfrm>
              <a:off x="5425920" y="663480"/>
              <a:ext cx="3095640" cy="2333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82" name="Group 48"/>
            <p:cNvGrpSpPr/>
            <p:nvPr/>
          </p:nvGrpSpPr>
          <p:grpSpPr>
            <a:xfrm>
              <a:off x="5411880" y="715680"/>
              <a:ext cx="3106080" cy="2235600"/>
              <a:chOff x="5411880" y="715680"/>
              <a:chExt cx="3106080" cy="2235600"/>
            </a:xfrm>
          </p:grpSpPr>
          <p:pic>
            <p:nvPicPr>
              <p:cNvPr id="1983" name="Picture 39" descr="cumulative_eth_ken.png"/>
              <p:cNvPicPr/>
              <p:nvPr/>
            </p:nvPicPr>
            <p:blipFill>
              <a:blip r:embed="rId11"/>
              <a:stretch/>
            </p:blipFill>
            <p:spPr>
              <a:xfrm>
                <a:off x="5692320" y="898920"/>
                <a:ext cx="2825640" cy="1842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84" name="TextBox 41"/>
              <p:cNvSpPr/>
              <p:nvPr/>
            </p:nvSpPr>
            <p:spPr>
              <a:xfrm>
                <a:off x="5972760" y="715680"/>
                <a:ext cx="2325600" cy="22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ts val="998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Calibri"/>
                  </a:rPr>
                  <a:t>Variety: Digelu                                   Variety:  Veery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985" name="TextBox 42" descr=""/>
              <p:cNvPicPr/>
              <p:nvPr/>
            </p:nvPicPr>
            <p:blipFill>
              <a:blip r:embed="rId12"/>
              <a:stretch/>
            </p:blipFill>
            <p:spPr>
              <a:xfrm>
                <a:off x="5411880" y="1060200"/>
                <a:ext cx="334800" cy="1494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86" name="TextBox 43"/>
              <p:cNvSpPr/>
              <p:nvPr/>
            </p:nvSpPr>
            <p:spPr>
              <a:xfrm>
                <a:off x="6210720" y="2735640"/>
                <a:ext cx="18554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Calibri"/>
                  </a:rPr>
                  <a:t>Yield                                                       Yield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7" name="TextBox 44"/>
              <p:cNvSpPr/>
              <p:nvPr/>
            </p:nvSpPr>
            <p:spPr>
              <a:xfrm>
                <a:off x="5977440" y="1010880"/>
                <a:ext cx="4579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alibri"/>
                  </a:rPr>
                  <a:t>No fert.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8" name="TextBox 45"/>
              <p:cNvSpPr/>
              <p:nvPr/>
            </p:nvSpPr>
            <p:spPr>
              <a:xfrm>
                <a:off x="6348240" y="1215720"/>
                <a:ext cx="520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alibri"/>
                  </a:rPr>
                  <a:t>100% 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alibri"/>
                  </a:rPr>
                  <a:t>Rec. Fert.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9" name="TextBox 46"/>
              <p:cNvSpPr/>
              <p:nvPr/>
            </p:nvSpPr>
            <p:spPr>
              <a:xfrm>
                <a:off x="7385040" y="2040120"/>
                <a:ext cx="45792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alibri"/>
                  </a:rPr>
                  <a:t>No fert.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0" name="TextBox 47"/>
              <p:cNvSpPr/>
              <p:nvPr/>
            </p:nvSpPr>
            <p:spPr>
              <a:xfrm>
                <a:off x="7878960" y="2216160"/>
                <a:ext cx="520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alibri"/>
                  </a:rPr>
                  <a:t>100% 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Calibri"/>
                  </a:rPr>
                  <a:t>Rec. Fert.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91" name="Group 59"/>
          <p:cNvGrpSpPr/>
          <p:nvPr/>
        </p:nvGrpSpPr>
        <p:grpSpPr>
          <a:xfrm>
            <a:off x="4941720" y="4191120"/>
            <a:ext cx="4165920" cy="2595960"/>
            <a:chOff x="4941720" y="4191120"/>
            <a:chExt cx="4165920" cy="2595960"/>
          </a:xfrm>
        </p:grpSpPr>
        <p:sp>
          <p:nvSpPr>
            <p:cNvPr id="1992" name="TextBox 36"/>
            <p:cNvSpPr/>
            <p:nvPr/>
          </p:nvSpPr>
          <p:spPr>
            <a:xfrm>
              <a:off x="5565600" y="6540840"/>
              <a:ext cx="304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alibri"/>
                </a:rPr>
                <a:t>Net Economic Return and  Potential Produc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93" name="Picture 6" descr=""/>
            <p:cNvPicPr/>
            <p:nvPr/>
          </p:nvPicPr>
          <p:blipFill>
            <a:blip r:embed="rId13"/>
            <a:stretch/>
          </p:blipFill>
          <p:spPr>
            <a:xfrm>
              <a:off x="4941720" y="4191120"/>
              <a:ext cx="4165920" cy="2355840"/>
            </a:xfrm>
            <a:prstGeom prst="rect">
              <a:avLst/>
            </a:prstGeom>
            <a:ln w="9360">
              <a:solidFill>
                <a:srgbClr val="254061"/>
              </a:solidFill>
              <a:miter/>
            </a:ln>
          </p:spPr>
        </p:pic>
      </p:grpSp>
      <p:sp>
        <p:nvSpPr>
          <p:cNvPr id="1994" name="TextBox 48"/>
          <p:cNvSpPr/>
          <p:nvPr/>
        </p:nvSpPr>
        <p:spPr>
          <a:xfrm>
            <a:off x="365040" y="6599160"/>
            <a:ext cx="4783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Calibri"/>
              </a:rPr>
              <a:t>Source: CIMMYT – HarvestChoice/IFPRI “Wheat Potential for Africa “ (2011 draft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1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1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1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1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5" name="PlaceHolder 1"/>
          <p:cNvSpPr>
            <a:spLocks noGrp="1"/>
          </p:cNvSpPr>
          <p:nvPr>
            <p:ph type="title"/>
          </p:nvPr>
        </p:nvSpPr>
        <p:spPr>
          <a:xfrm>
            <a:off x="457200" y="149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aize-Legume Analytical Too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96" name="Picture 2" descr=""/>
          <p:cNvPicPr/>
          <p:nvPr/>
        </p:nvPicPr>
        <p:blipFill>
          <a:blip r:embed="rId1"/>
          <a:stretch/>
        </p:blipFill>
        <p:spPr>
          <a:xfrm>
            <a:off x="0" y="1347840"/>
            <a:ext cx="9144000" cy="5129280"/>
          </a:xfrm>
          <a:prstGeom prst="rect">
            <a:avLst/>
          </a:prstGeom>
          <a:ln w="15840">
            <a:solidFill>
              <a:srgbClr val="31859c"/>
            </a:solidFill>
            <a:miter/>
          </a:ln>
        </p:spPr>
      </p:pic>
      <p:pic>
        <p:nvPicPr>
          <p:cNvPr id="1997" name="Picture 3" descr=""/>
          <p:cNvPicPr/>
          <p:nvPr/>
        </p:nvPicPr>
        <p:blipFill>
          <a:blip r:embed="rId2"/>
          <a:stretch/>
        </p:blipFill>
        <p:spPr>
          <a:xfrm>
            <a:off x="-22320" y="1314360"/>
            <a:ext cx="2779920" cy="3291120"/>
          </a:xfrm>
          <a:prstGeom prst="rect">
            <a:avLst/>
          </a:prstGeom>
          <a:ln w="0">
            <a:noFill/>
          </a:ln>
        </p:spPr>
      </p:pic>
      <p:sp>
        <p:nvSpPr>
          <p:cNvPr id="1998" name="TextBox 5"/>
          <p:cNvSpPr/>
          <p:nvPr/>
        </p:nvSpPr>
        <p:spPr>
          <a:xfrm>
            <a:off x="376920" y="6599160"/>
            <a:ext cx="40165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Calibri"/>
              </a:rPr>
              <a:t>Source: HarvestChoice/IFPRI  Prototype SIMLESA simulations (2010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M&amp;E Implementation to dat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0" name=""/>
          <p:cNvSpPr txBox="1"/>
          <p:nvPr/>
        </p:nvSpPr>
        <p:spPr>
          <a:xfrm>
            <a:off x="456840" y="167652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arget area stratification and site sele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stablishing core FtF M&amp;E oblig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ecruiting an M&amp;E Coordin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Building an M&amp;E implementation community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especially with national and local partn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esigning an open-access, web-based M&amp;E data and analysis platform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lanning annual M&amp;E technical meeting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1" name="Rectangle 2"/>
          <p:cNvSpPr/>
          <p:nvPr/>
        </p:nvSpPr>
        <p:spPr>
          <a:xfrm>
            <a:off x="685800" y="838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2" name="Straight Connector 26"/>
          <p:cNvSpPr/>
          <p:nvPr/>
        </p:nvSpPr>
        <p:spPr>
          <a:xfrm>
            <a:off x="444600" y="4968720"/>
            <a:ext cx="8020080" cy="1800"/>
          </a:xfrm>
          <a:prstGeom prst="line">
            <a:avLst/>
          </a:prstGeom>
          <a:ln w="57240">
            <a:solidFill>
              <a:srgbClr val="1068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3" name="TextBox 35"/>
          <p:cNvSpPr/>
          <p:nvPr/>
        </p:nvSpPr>
        <p:spPr>
          <a:xfrm>
            <a:off x="3057480" y="5589720"/>
            <a:ext cx="101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3-9 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4" name="Straight Connector 29"/>
          <p:cNvSpPr/>
          <p:nvPr/>
        </p:nvSpPr>
        <p:spPr>
          <a:xfrm flipH="1">
            <a:off x="3564000" y="4981680"/>
            <a:ext cx="1440" cy="304560"/>
          </a:xfrm>
          <a:prstGeom prst="line">
            <a:avLst/>
          </a:prstGeom>
          <a:ln w="57240">
            <a:solidFill>
              <a:srgbClr val="1068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5" name="TextBox 40"/>
          <p:cNvSpPr/>
          <p:nvPr/>
        </p:nvSpPr>
        <p:spPr>
          <a:xfrm>
            <a:off x="5770440" y="5589720"/>
            <a:ext cx="102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-12 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6" name="Straight Connector 31"/>
          <p:cNvSpPr/>
          <p:nvPr/>
        </p:nvSpPr>
        <p:spPr>
          <a:xfrm>
            <a:off x="6281640" y="4948200"/>
            <a:ext cx="0" cy="357120"/>
          </a:xfrm>
          <a:prstGeom prst="line">
            <a:avLst/>
          </a:prstGeom>
          <a:ln w="57240">
            <a:solidFill>
              <a:srgbClr val="1068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7" name="TextBox 40"/>
          <p:cNvSpPr/>
          <p:nvPr/>
        </p:nvSpPr>
        <p:spPr>
          <a:xfrm>
            <a:off x="214200" y="436680"/>
            <a:ext cx="892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MS PGothic"/>
              </a:rPr>
              <a:t>West Africa: Year 1 M&amp;E Time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8" name="TextBox 40"/>
          <p:cNvSpPr/>
          <p:nvPr/>
        </p:nvSpPr>
        <p:spPr>
          <a:xfrm>
            <a:off x="534960" y="494820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Zapf Dingbats"/>
                <a:ea typeface="MS PGothic"/>
              </a:rPr>
              <a:t>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9" name="TextBox 35"/>
          <p:cNvSpPr/>
          <p:nvPr/>
        </p:nvSpPr>
        <p:spPr>
          <a:xfrm>
            <a:off x="444600" y="5589720"/>
            <a:ext cx="101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1-3 Month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0" name="TextBox 4"/>
          <p:cNvSpPr/>
          <p:nvPr/>
        </p:nvSpPr>
        <p:spPr>
          <a:xfrm>
            <a:off x="303120" y="1620720"/>
            <a:ext cx="2292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 Area Characterizatio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te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1" name="TextBox 1"/>
          <p:cNvSpPr/>
          <p:nvPr/>
        </p:nvSpPr>
        <p:spPr>
          <a:xfrm>
            <a:off x="2864520" y="1422360"/>
            <a:ext cx="135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en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2" name="Straight Arrow Connector 3"/>
          <p:cNvCxnSpPr/>
          <p:nvPr/>
        </p:nvCxnSpPr>
        <p:spPr>
          <a:xfrm>
            <a:off x="419040" y="2566800"/>
            <a:ext cx="875520" cy="1080"/>
          </a:xfrm>
          <a:prstGeom prst="straightConnector1">
            <a:avLst/>
          </a:prstGeom>
          <a:ln w="38160">
            <a:solidFill>
              <a:srgbClr val="b6dcd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013" name="TextBox 4"/>
          <p:cNvSpPr/>
          <p:nvPr/>
        </p:nvSpPr>
        <p:spPr>
          <a:xfrm>
            <a:off x="712800" y="2697120"/>
            <a:ext cx="341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 Activities-&gt; M&amp;E Indic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4" name="TextBox 5"/>
          <p:cNvSpPr/>
          <p:nvPr/>
        </p:nvSpPr>
        <p:spPr>
          <a:xfrm>
            <a:off x="1944720" y="3170160"/>
            <a:ext cx="16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rvey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5" name="TextBox 6"/>
          <p:cNvSpPr/>
          <p:nvPr/>
        </p:nvSpPr>
        <p:spPr>
          <a:xfrm>
            <a:off x="4915800" y="371016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line Surve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TextBox 7"/>
          <p:cNvSpPr/>
          <p:nvPr/>
        </p:nvSpPr>
        <p:spPr>
          <a:xfrm>
            <a:off x="4327560" y="2197080"/>
            <a:ext cx="173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onent 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7" name="Straight Arrow Connector 25"/>
          <p:cNvCxnSpPr/>
          <p:nvPr/>
        </p:nvCxnSpPr>
        <p:spPr>
          <a:xfrm>
            <a:off x="1293480" y="3087360"/>
            <a:ext cx="1764360" cy="1080"/>
          </a:xfrm>
          <a:prstGeom prst="straightConnector1">
            <a:avLst/>
          </a:prstGeom>
          <a:ln w="38160">
            <a:solidFill>
              <a:srgbClr val="b6dcd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018" name="Straight Arrow Connector 28"/>
          <p:cNvCxnSpPr/>
          <p:nvPr/>
        </p:nvCxnSpPr>
        <p:spPr>
          <a:xfrm>
            <a:off x="2000160" y="3565080"/>
            <a:ext cx="1766160" cy="1080"/>
          </a:xfrm>
          <a:prstGeom prst="straightConnector1">
            <a:avLst/>
          </a:prstGeom>
          <a:ln w="38160">
            <a:solidFill>
              <a:srgbClr val="b6dcd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019" name="Straight Arrow Connector 30"/>
          <p:cNvCxnSpPr/>
          <p:nvPr/>
        </p:nvCxnSpPr>
        <p:spPr>
          <a:xfrm>
            <a:off x="4549680" y="4071600"/>
            <a:ext cx="2718720" cy="1080"/>
          </a:xfrm>
          <a:prstGeom prst="straightConnector1">
            <a:avLst/>
          </a:prstGeom>
          <a:ln w="38160">
            <a:solidFill>
              <a:srgbClr val="b6dcd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020" name="Straight Arrow Connector 32"/>
          <p:cNvCxnSpPr/>
          <p:nvPr/>
        </p:nvCxnSpPr>
        <p:spPr>
          <a:xfrm>
            <a:off x="2527200" y="2082600"/>
            <a:ext cx="1999440" cy="1080"/>
          </a:xfrm>
          <a:prstGeom prst="straightConnector1">
            <a:avLst/>
          </a:prstGeom>
          <a:ln w="38160">
            <a:solidFill>
              <a:srgbClr val="b6dcd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021" name="Straight Arrow Connector 34"/>
          <p:cNvCxnSpPr/>
          <p:nvPr/>
        </p:nvCxnSpPr>
        <p:spPr>
          <a:xfrm>
            <a:off x="4197240" y="2569680"/>
            <a:ext cx="1999440" cy="1080"/>
          </a:xfrm>
          <a:prstGeom prst="straightConnector1">
            <a:avLst/>
          </a:prstGeom>
          <a:ln w="38160">
            <a:solidFill>
              <a:srgbClr val="b6dcd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022" name="TextBox 1"/>
          <p:cNvSpPr/>
          <p:nvPr/>
        </p:nvSpPr>
        <p:spPr>
          <a:xfrm>
            <a:off x="927000" y="4287960"/>
            <a:ext cx="595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Impact Evaluation: Scaling Out &amp; Proj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23" name="Straight Arrow Connector 23"/>
          <p:cNvCxnSpPr/>
          <p:nvPr/>
        </p:nvCxnSpPr>
        <p:spPr>
          <a:xfrm>
            <a:off x="1187280" y="4723920"/>
            <a:ext cx="4879440" cy="1080"/>
          </a:xfrm>
          <a:prstGeom prst="straightConnector1">
            <a:avLst/>
          </a:prstGeom>
          <a:ln w="38160">
            <a:solidFill>
              <a:srgbClr val="b6dcdf"/>
            </a:solidFill>
            <a:miter/>
            <a:headEnd len="med" type="triangle" w="med"/>
            <a:tailEnd len="med" type="triangle" w="med"/>
          </a:ln>
        </p:spPr>
      </p:cxnSp>
      <p:pic>
        <p:nvPicPr>
          <p:cNvPr id="2024" name="Picture 2" descr=""/>
          <p:cNvPicPr/>
          <p:nvPr/>
        </p:nvPicPr>
        <p:blipFill>
          <a:blip r:embed="rId1"/>
          <a:stretch/>
        </p:blipFill>
        <p:spPr>
          <a:xfrm>
            <a:off x="4229280" y="2841480"/>
            <a:ext cx="448920" cy="6573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2025" name="TextBox 1"/>
          <p:cNvSpPr/>
          <p:nvPr/>
        </p:nvSpPr>
        <p:spPr>
          <a:xfrm>
            <a:off x="4696560" y="2884320"/>
            <a:ext cx="1084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gr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&amp;E P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te/Station (&amp; R&amp;D) Invento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7" name=""/>
          <p:cNvSpPr txBox="1"/>
          <p:nvPr/>
        </p:nvSpPr>
        <p:spPr>
          <a:xfrm>
            <a:off x="228600" y="167652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tation Location     (if known, Lat:___ Long: ___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Location Name: ________________________________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istrict: _____________   Region: __________________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ite/Station Full Name: ______________________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itution: ________________________________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echnologies/Practices tested/demonstrate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ntact detail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8" name="Rectangle 3"/>
          <p:cNvSpPr/>
          <p:nvPr/>
        </p:nvSpPr>
        <p:spPr>
          <a:xfrm>
            <a:off x="714240" y="4497480"/>
            <a:ext cx="7315200" cy="990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ssues/Ques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0" name=""/>
          <p:cNvSpPr txBox="1"/>
          <p:nvPr/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at is the appropriate split of M&amp;E roles between the M &amp; the E? (e.g., strong interest in early assessments of outcomes and spillover potential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at is the likely cost of meeting donor’s minimum reporting needs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ow to ensure CAADP alignment (e.g. components selected on basis of elicited demand or available supply?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at are Site Implementation VS Program wide M&amp;E needs/roles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.g., IITA-lead Tanzania “M&amp;E” plans VS IFPRI-lead SSA M&amp;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.g., How will “Tanzania efforts” efforts be coordinated? Who should program M&amp;E be in dialog with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stablishing shared roles in data and tool development, access and application across program partners and stakehold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.g. obtaining appropriate cross-fertilization in site selection, field data collection, annual reporting/analysis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at interest in engaging actively in a program M&amp;E community (especially from national partners)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o are likely candidates for M&amp;E Coordinator position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0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20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20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20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20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20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20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20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20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500"/>
                                        <p:tgtEl>
                                          <p:spTgt spid="20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20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AADP-CGIAR Program Alignment: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echnical Frame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3" name="Picture 2" descr=""/>
          <p:cNvPicPr/>
          <p:nvPr/>
        </p:nvPicPr>
        <p:blipFill>
          <a:blip r:embed="rId1"/>
          <a:stretch/>
        </p:blipFill>
        <p:spPr>
          <a:xfrm>
            <a:off x="380880" y="1828800"/>
            <a:ext cx="8534520" cy="38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457200" y="6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&amp;E Guiding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5" name=""/>
          <p:cNvSpPr txBox="1"/>
          <p:nvPr/>
        </p:nvSpPr>
        <p:spPr>
          <a:xfrm>
            <a:off x="304560" y="1066320"/>
            <a:ext cx="84582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FtF Compliance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Conform to the FtF core indicato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Multi-scale, Multi-site reporting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Meet broad stakeholder needs and support multi-scale/multi-site M&amp;E through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ction-site, sub-system and system report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untry reports: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Breakout of site reports to serve national stakeholder nee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egional Site-report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for each of the three regional SI program sit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SA-reports: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cross-system reporting and SI-wide “roll-up” of indicators across: Sudano-Sahelian zone, Ethiopian Highlands, Eastern and Southern Afr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Monitoring &amp; projection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Provide monitoring reports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and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short-term projections (targets) of key M&amp;E indicators for intervention sites in project “Zone of Influence”, updated annuall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Scaling indicators up and out (spatial &amp; temporal):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Use a range of biophysical, bio-economic , market and welfare models for ex ante analysis of output, outcome, and impact indicators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Keywords: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extrapolation, aggregation, tradeoffs, spillover potential, sustainability, welfare and environmental goa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Open-access data and analysis platform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Maintain a transparent, open-access M&amp;E data management and analysis platform to serve the needs of SI stakehold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7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7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7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7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17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7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7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Key Activities for M&amp;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7" name=""/>
          <p:cNvSpPr txBox="1"/>
          <p:nvPr/>
        </p:nvSpPr>
        <p:spPr>
          <a:xfrm>
            <a:off x="380520" y="1219320"/>
            <a:ext cx="84582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Stocktaking: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ventory (and mapping) of partner sites and SI component innovations. Characterization of sites &amp; innov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Stratification and diagnosis of target systems/geographies: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ighlight key differences in initial conditions, drivers of change, and SI-related constraints or opportunit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Identification of potential sites: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at are representative of the identified stratification and cost-effective for implement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Map proposed activities and outcomes into M&amp;E indicator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Design &amp; conduct baseline and periodic surveys: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Using secondary data sources where possible (e.g. NSO/MoA, DHS, LSMS, CRP survey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Maintaining an Innovation Inventory: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o enable discovery and delivery of innovation options project-wid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Establish a Linked Model/Evaluation capacity: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o support M&amp;E reporting cycle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f outcome and impact indicators (e.g., up/out-scaling and projections with and w/o SI interventions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Impact/Attribution assessment: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o the standards required  (ex post studi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7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7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7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7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17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7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7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7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8" name="Group 105"/>
          <p:cNvGrpSpPr/>
          <p:nvPr/>
        </p:nvGrpSpPr>
        <p:grpSpPr>
          <a:xfrm>
            <a:off x="3857760" y="1054080"/>
            <a:ext cx="2322360" cy="5410080"/>
            <a:chOff x="3857760" y="1054080"/>
            <a:chExt cx="2322360" cy="5410080"/>
          </a:xfrm>
        </p:grpSpPr>
        <p:grpSp>
          <p:nvGrpSpPr>
            <p:cNvPr id="1739" name="Group 102"/>
            <p:cNvGrpSpPr/>
            <p:nvPr/>
          </p:nvGrpSpPr>
          <p:grpSpPr>
            <a:xfrm>
              <a:off x="4214880" y="1054080"/>
              <a:ext cx="1965240" cy="5410080"/>
              <a:chOff x="4214880" y="1054080"/>
              <a:chExt cx="1965240" cy="5410080"/>
            </a:xfrm>
          </p:grpSpPr>
          <p:sp>
            <p:nvSpPr>
              <p:cNvPr id="1740" name="Rectangle 60"/>
              <p:cNvSpPr/>
              <p:nvPr/>
            </p:nvSpPr>
            <p:spPr>
              <a:xfrm>
                <a:off x="4214880" y="1054080"/>
                <a:ext cx="1965240" cy="541008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Calibri"/>
                  </a:rPr>
                  <a:t>OUTCOME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1" name="Rectangle 20"/>
              <p:cNvSpPr/>
              <p:nvPr/>
            </p:nvSpPr>
            <p:spPr>
              <a:xfrm>
                <a:off x="4265640" y="1411200"/>
                <a:ext cx="1836720" cy="7412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c00000"/>
                    </a:solidFill>
                    <a:latin typeface="Calibri"/>
                  </a:rPr>
                  <a:t>More efficient, productive, &amp; resilient production system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42" name="Right Arrow 104"/>
            <p:cNvSpPr/>
            <p:nvPr/>
          </p:nvSpPr>
          <p:spPr>
            <a:xfrm>
              <a:off x="3857760" y="3843360"/>
              <a:ext cx="369720" cy="344160"/>
            </a:xfrm>
            <a:prstGeom prst="rightArrow">
              <a:avLst>
                <a:gd name="adj1" fmla="val 50000"/>
                <a:gd name="adj2" fmla="val 50043"/>
              </a:avLst>
            </a:prstGeom>
            <a:noFill/>
            <a:ln w="2844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3" name="Rectangle 9"/>
          <p:cNvSpPr/>
          <p:nvPr/>
        </p:nvSpPr>
        <p:spPr>
          <a:xfrm>
            <a:off x="1693800" y="1066680"/>
            <a:ext cx="2151000" cy="54104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ASSUM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Rectangle 10"/>
          <p:cNvSpPr/>
          <p:nvPr/>
        </p:nvSpPr>
        <p:spPr>
          <a:xfrm>
            <a:off x="1746360" y="1400040"/>
            <a:ext cx="2074680" cy="48276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d0d0d"/>
                </a:solidFill>
                <a:latin typeface="Calibri"/>
              </a:rPr>
              <a:t>Available /Adapt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d0d0d"/>
                </a:solidFill>
                <a:latin typeface="Calibri"/>
              </a:rPr>
              <a:t>Innovation Compon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Rectangle 11"/>
          <p:cNvSpPr/>
          <p:nvPr/>
        </p:nvSpPr>
        <p:spPr>
          <a:xfrm>
            <a:off x="1746360" y="4218120"/>
            <a:ext cx="2074680" cy="52704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d0d0d"/>
                </a:solidFill>
                <a:latin typeface="Calibri"/>
              </a:rPr>
              <a:t>Willing, capable, relevant partners/users engag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Rectangle 12"/>
          <p:cNvSpPr/>
          <p:nvPr/>
        </p:nvSpPr>
        <p:spPr>
          <a:xfrm>
            <a:off x="1746360" y="1952640"/>
            <a:ext cx="2074680" cy="73008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d0d0d"/>
                </a:solidFill>
                <a:latin typeface="Calibri"/>
              </a:rPr>
              <a:t>Significant SI gains from  systems-focused component 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Rectangle 14"/>
          <p:cNvSpPr/>
          <p:nvPr/>
        </p:nvSpPr>
        <p:spPr>
          <a:xfrm>
            <a:off x="1746360" y="4795920"/>
            <a:ext cx="2074680" cy="46512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d0d0d"/>
                </a:solidFill>
                <a:latin typeface="Calibri"/>
              </a:rPr>
              <a:t>Quick wins/lessons are feasible, focus long-t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Rectangle 15"/>
          <p:cNvSpPr/>
          <p:nvPr/>
        </p:nvSpPr>
        <p:spPr>
          <a:xfrm>
            <a:off x="1746360" y="2712960"/>
            <a:ext cx="2074680" cy="68112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d0d0d"/>
                </a:solidFill>
                <a:latin typeface="Calibri"/>
              </a:rPr>
              <a:t>Innovative &amp; tractable  implementation models can be appli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9" name="Group 59"/>
          <p:cNvGrpSpPr/>
          <p:nvPr/>
        </p:nvGrpSpPr>
        <p:grpSpPr>
          <a:xfrm>
            <a:off x="152280" y="1066680"/>
            <a:ext cx="1524240" cy="5410440"/>
            <a:chOff x="152280" y="1066680"/>
            <a:chExt cx="1524240" cy="5410440"/>
          </a:xfrm>
        </p:grpSpPr>
        <p:sp>
          <p:nvSpPr>
            <p:cNvPr id="1750" name="Rectangle 13"/>
            <p:cNvSpPr/>
            <p:nvPr/>
          </p:nvSpPr>
          <p:spPr>
            <a:xfrm>
              <a:off x="152280" y="1066680"/>
              <a:ext cx="990720" cy="54104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e46c0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d0d0d"/>
                  </a:solidFill>
                  <a:latin typeface="Calibri"/>
                </a:rPr>
                <a:t>CAAD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1" name="Rectangle 3"/>
            <p:cNvSpPr/>
            <p:nvPr/>
          </p:nvSpPr>
          <p:spPr>
            <a:xfrm>
              <a:off x="279000" y="1828440"/>
              <a:ext cx="152280" cy="3733920"/>
            </a:xfrm>
            <a:prstGeom prst="rect">
              <a:avLst/>
            </a:prstGeom>
            <a:solidFill>
              <a:srgbClr val="ffc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2" name="Rectangle 4"/>
            <p:cNvSpPr/>
            <p:nvPr/>
          </p:nvSpPr>
          <p:spPr>
            <a:xfrm>
              <a:off x="523800" y="1828440"/>
              <a:ext cx="442800" cy="838080"/>
            </a:xfrm>
            <a:prstGeom prst="rect">
              <a:avLst/>
            </a:prstGeom>
            <a:solidFill>
              <a:srgbClr val="ffc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3" name="Rectangle 5"/>
            <p:cNvSpPr/>
            <p:nvPr/>
          </p:nvSpPr>
          <p:spPr>
            <a:xfrm>
              <a:off x="523800" y="2793960"/>
              <a:ext cx="442800" cy="838080"/>
            </a:xfrm>
            <a:prstGeom prst="rect">
              <a:avLst/>
            </a:prstGeom>
            <a:solidFill>
              <a:srgbClr val="ffc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I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4" name="Rectangle 6"/>
            <p:cNvSpPr/>
            <p:nvPr/>
          </p:nvSpPr>
          <p:spPr>
            <a:xfrm>
              <a:off x="523800" y="3759120"/>
              <a:ext cx="442800" cy="838080"/>
            </a:xfrm>
            <a:prstGeom prst="rect">
              <a:avLst/>
            </a:prstGeom>
            <a:solidFill>
              <a:srgbClr val="ffc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II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Rectangle 7"/>
            <p:cNvSpPr/>
            <p:nvPr/>
          </p:nvSpPr>
          <p:spPr>
            <a:xfrm>
              <a:off x="523800" y="4714920"/>
              <a:ext cx="442800" cy="838080"/>
            </a:xfrm>
            <a:prstGeom prst="rect">
              <a:avLst/>
            </a:prstGeom>
            <a:solidFill>
              <a:srgbClr val="ffc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IV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6" name="Left-Right Arrow 16"/>
            <p:cNvSpPr/>
            <p:nvPr/>
          </p:nvSpPr>
          <p:spPr>
            <a:xfrm>
              <a:off x="1155960" y="3794040"/>
              <a:ext cx="520560" cy="328320"/>
            </a:xfrm>
            <a:prstGeom prst="leftRightArrow">
              <a:avLst>
                <a:gd name="adj1" fmla="val 50000"/>
                <a:gd name="adj2" fmla="val 50032"/>
              </a:avLst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IGN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7" name="Rectangle 17"/>
          <p:cNvSpPr/>
          <p:nvPr/>
        </p:nvSpPr>
        <p:spPr>
          <a:xfrm>
            <a:off x="1746360" y="3441600"/>
            <a:ext cx="2074680" cy="72396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d0d0d"/>
                </a:solidFill>
                <a:latin typeface="Calibri"/>
              </a:rPr>
              <a:t>Delivery mechanisms  integral to project design and 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Rectangle 18"/>
          <p:cNvSpPr/>
          <p:nvPr/>
        </p:nvSpPr>
        <p:spPr>
          <a:xfrm>
            <a:off x="1733400" y="5318280"/>
            <a:ext cx="2075040" cy="65376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d0d0d"/>
                </a:solidFill>
                <a:latin typeface="Calibri"/>
              </a:rPr>
              <a:t>Scaling up/out and maximising spillovers are part of project 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Rectangle 19"/>
          <p:cNvSpPr/>
          <p:nvPr/>
        </p:nvSpPr>
        <p:spPr>
          <a:xfrm>
            <a:off x="4265640" y="2211480"/>
            <a:ext cx="1817640" cy="8380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Calibri"/>
              </a:rPr>
              <a:t>More effective use of land, water, biod’vrsty resour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Rectangle 21"/>
          <p:cNvSpPr/>
          <p:nvPr/>
        </p:nvSpPr>
        <p:spPr>
          <a:xfrm>
            <a:off x="4265640" y="3084480"/>
            <a:ext cx="1835280" cy="72540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Calibri"/>
              </a:rPr>
              <a:t>Greater, more equitable returns  to hh labour and ass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22"/>
          <p:cNvSpPr/>
          <p:nvPr/>
        </p:nvSpPr>
        <p:spPr>
          <a:xfrm>
            <a:off x="4265640" y="3843360"/>
            <a:ext cx="1835280" cy="5349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Calibri"/>
              </a:rPr>
              <a:t>Improved household nutrition (esp W&amp;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Rectangle 24"/>
          <p:cNvSpPr/>
          <p:nvPr/>
        </p:nvSpPr>
        <p:spPr>
          <a:xfrm>
            <a:off x="4265640" y="4411800"/>
            <a:ext cx="1822320" cy="5857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Calibri"/>
              </a:rPr>
              <a:t>Better served and more efficient value cha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TextBox 25"/>
          <p:cNvSpPr/>
          <p:nvPr/>
        </p:nvSpPr>
        <p:spPr>
          <a:xfrm>
            <a:off x="201960" y="228600"/>
            <a:ext cx="87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roject Assumptions, Outcomes, Impacts, &amp; FtF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Rectangle 49"/>
          <p:cNvSpPr/>
          <p:nvPr/>
        </p:nvSpPr>
        <p:spPr>
          <a:xfrm>
            <a:off x="4287960" y="5667480"/>
            <a:ext cx="1819080" cy="749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Calibri"/>
              </a:rPr>
              <a:t>Improved  research methods,  partnership and delivery mod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Rectangle 58"/>
          <p:cNvSpPr/>
          <p:nvPr/>
        </p:nvSpPr>
        <p:spPr>
          <a:xfrm>
            <a:off x="1731960" y="6019920"/>
            <a:ext cx="2075040" cy="41436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d0d0d"/>
                </a:solidFill>
                <a:latin typeface="Calibri"/>
              </a:rPr>
              <a:t>M&amp;</a:t>
            </a:r>
            <a:r>
              <a:rPr b="1" lang="en-US" sz="2400" spc="-1" strike="noStrike">
                <a:solidFill>
                  <a:srgbClr val="0d0d0d"/>
                </a:solidFill>
                <a:latin typeface="Calibri"/>
              </a:rPr>
              <a:t>E</a:t>
            </a:r>
            <a:r>
              <a:rPr b="1" lang="en-US" sz="1400" spc="-1" strike="noStrike">
                <a:solidFill>
                  <a:srgbClr val="0d0d0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6" name="Group 103"/>
          <p:cNvGrpSpPr/>
          <p:nvPr/>
        </p:nvGrpSpPr>
        <p:grpSpPr>
          <a:xfrm>
            <a:off x="6162480" y="1400040"/>
            <a:ext cx="2946600" cy="4435560"/>
            <a:chOff x="6162480" y="1400040"/>
            <a:chExt cx="2946600" cy="4435560"/>
          </a:xfrm>
        </p:grpSpPr>
        <p:cxnSp>
          <p:nvCxnSpPr>
            <p:cNvPr id="1767" name="Straight Arrow Connector 106"/>
            <p:cNvCxnSpPr>
              <a:stCxn id="1768" idx="3"/>
              <a:endCxn id="1769" idx="1"/>
            </p:cNvCxnSpPr>
            <p:nvPr/>
          </p:nvCxnSpPr>
          <p:spPr>
            <a:xfrm>
              <a:off x="6798960" y="2806560"/>
              <a:ext cx="276840" cy="1591200"/>
            </a:xfrm>
            <a:prstGeom prst="straightConnector1">
              <a:avLst/>
            </a:prstGeom>
            <a:ln w="28440">
              <a:solidFill>
                <a:srgbClr val="0070c0"/>
              </a:solidFill>
              <a:miter/>
              <a:tailEnd len="med" type="arrow" w="med"/>
            </a:ln>
          </p:spPr>
        </p:cxnSp>
        <p:cxnSp>
          <p:nvCxnSpPr>
            <p:cNvPr id="1770" name="Straight Arrow Connector 84"/>
            <p:cNvCxnSpPr>
              <a:stCxn id="1768" idx="3"/>
              <a:endCxn id="1771" idx="1"/>
            </p:cNvCxnSpPr>
            <p:nvPr/>
          </p:nvCxnSpPr>
          <p:spPr>
            <a:xfrm flipH="1">
              <a:off x="6582600" y="2806200"/>
              <a:ext cx="216360" cy="2283480"/>
            </a:xfrm>
            <a:prstGeom prst="straightConnector1">
              <a:avLst/>
            </a:prstGeom>
            <a:ln w="28440">
              <a:solidFill>
                <a:srgbClr val="0070c0"/>
              </a:solidFill>
              <a:miter/>
              <a:tailEnd len="med" type="arrow" w="med"/>
            </a:ln>
          </p:spPr>
        </p:cxnSp>
        <p:sp>
          <p:nvSpPr>
            <p:cNvPr id="1772" name="Oval 64"/>
            <p:cNvSpPr/>
            <p:nvPr/>
          </p:nvSpPr>
          <p:spPr>
            <a:xfrm>
              <a:off x="6238800" y="3052440"/>
              <a:ext cx="1371600" cy="56520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ccc1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Wome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Empower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9" name="Oval 26"/>
            <p:cNvSpPr/>
            <p:nvPr/>
          </p:nvSpPr>
          <p:spPr>
            <a:xfrm>
              <a:off x="6942240" y="4336920"/>
              <a:ext cx="919080" cy="41904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ccc1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Pric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3" name="Oval 27"/>
            <p:cNvSpPr/>
            <p:nvPr/>
          </p:nvSpPr>
          <p:spPr>
            <a:xfrm>
              <a:off x="7807320" y="3035160"/>
              <a:ext cx="1031760" cy="41904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ccc1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Pover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4" name="Oval 28"/>
            <p:cNvSpPr/>
            <p:nvPr/>
          </p:nvSpPr>
          <p:spPr>
            <a:xfrm>
              <a:off x="7067520" y="3585960"/>
              <a:ext cx="1109520" cy="41904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ccc1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Incom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5" name="Oval 29"/>
            <p:cNvSpPr/>
            <p:nvPr/>
          </p:nvSpPr>
          <p:spPr>
            <a:xfrm>
              <a:off x="8016840" y="3894120"/>
              <a:ext cx="1092240" cy="41904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ccc1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Hunger/Nutri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76" name="Straight Arrow Connector 41"/>
            <p:cNvCxnSpPr>
              <a:stCxn id="1774" idx="0"/>
              <a:endCxn id="1773" idx="2"/>
            </p:cNvCxnSpPr>
            <p:nvPr/>
          </p:nvCxnSpPr>
          <p:spPr>
            <a:xfrm flipV="1">
              <a:off x="7623000" y="3244320"/>
              <a:ext cx="184680" cy="342000"/>
            </a:xfrm>
            <a:prstGeom prst="straightConnector1">
              <a:avLst/>
            </a:prstGeom>
            <a:ln w="2844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1777" name="Straight Arrow Connector 42"/>
            <p:cNvCxnSpPr>
              <a:stCxn id="1769" idx="6"/>
              <a:endCxn id="1775" idx="3"/>
            </p:cNvCxnSpPr>
            <p:nvPr/>
          </p:nvCxnSpPr>
          <p:spPr>
            <a:xfrm flipV="1">
              <a:off x="7860960" y="4252320"/>
              <a:ext cx="316440" cy="294120"/>
            </a:xfrm>
            <a:prstGeom prst="straightConnector1">
              <a:avLst/>
            </a:prstGeom>
            <a:ln w="2844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1778" name="Straight Arrow Connector 44"/>
            <p:cNvCxnSpPr>
              <a:endCxn id="1775" idx="0"/>
            </p:cNvCxnSpPr>
            <p:nvPr/>
          </p:nvCxnSpPr>
          <p:spPr>
            <a:xfrm>
              <a:off x="8516880" y="3429000"/>
              <a:ext cx="46440" cy="465840"/>
            </a:xfrm>
            <a:prstGeom prst="straightConnector1">
              <a:avLst/>
            </a:prstGeom>
            <a:ln w="28440">
              <a:solidFill>
                <a:srgbClr val="4a7ebb"/>
              </a:solidFill>
              <a:miter/>
              <a:headEnd len="med" type="arrow" w="med"/>
              <a:tailEnd len="med" type="arrow" w="med"/>
            </a:ln>
          </p:spPr>
        </p:cxnSp>
        <p:cxnSp>
          <p:nvCxnSpPr>
            <p:cNvPr id="1779" name="Straight Arrow Connector 47"/>
            <p:cNvCxnSpPr>
              <a:endCxn id="1774" idx="4"/>
            </p:cNvCxnSpPr>
            <p:nvPr/>
          </p:nvCxnSpPr>
          <p:spPr>
            <a:xfrm flipV="1">
              <a:off x="7311960" y="4005000"/>
              <a:ext cx="311760" cy="403920"/>
            </a:xfrm>
            <a:prstGeom prst="straightConnector1">
              <a:avLst/>
            </a:prstGeom>
            <a:ln w="28440">
              <a:solidFill>
                <a:srgbClr val="0070c0"/>
              </a:solidFill>
              <a:miter/>
              <a:tailEnd len="med" type="arrow" w="med"/>
            </a:ln>
          </p:spPr>
        </p:cxnSp>
        <p:sp>
          <p:nvSpPr>
            <p:cNvPr id="1780" name="Oval 50"/>
            <p:cNvSpPr/>
            <p:nvPr/>
          </p:nvSpPr>
          <p:spPr>
            <a:xfrm>
              <a:off x="7427880" y="1400040"/>
              <a:ext cx="1611360" cy="793800"/>
            </a:xfrm>
            <a:prstGeom prst="ellipse">
              <a:avLst/>
            </a:prstGeom>
            <a:solidFill>
              <a:srgbClr val="92d050"/>
            </a:solidFill>
            <a:ln w="255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Stable/Re-generating environ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81" name="Straight Arrow Connector 51"/>
            <p:cNvCxnSpPr>
              <a:stCxn id="1780" idx="4"/>
              <a:endCxn id="1773" idx="0"/>
            </p:cNvCxnSpPr>
            <p:nvPr/>
          </p:nvCxnSpPr>
          <p:spPr>
            <a:xfrm>
              <a:off x="8232480" y="2193480"/>
              <a:ext cx="91080" cy="842040"/>
            </a:xfrm>
            <a:prstGeom prst="straightConnector1">
              <a:avLst/>
            </a:prstGeom>
            <a:ln w="28440">
              <a:solidFill>
                <a:srgbClr val="4a7ebb"/>
              </a:solidFill>
              <a:miter/>
              <a:headEnd len="med" type="arrow" w="med"/>
              <a:tailEnd len="med" type="arrow" w="med"/>
            </a:ln>
          </p:spPr>
        </p:cxnSp>
        <p:cxnSp>
          <p:nvCxnSpPr>
            <p:cNvPr id="1782" name="Straight Arrow Connector 55"/>
            <p:cNvCxnSpPr>
              <a:endCxn id="1774" idx="0"/>
            </p:cNvCxnSpPr>
            <p:nvPr/>
          </p:nvCxnSpPr>
          <p:spPr>
            <a:xfrm>
              <a:off x="7542360" y="2666520"/>
              <a:ext cx="81360" cy="919800"/>
            </a:xfrm>
            <a:prstGeom prst="straightConnector1">
              <a:avLst/>
            </a:prstGeom>
            <a:ln w="28440">
              <a:solidFill>
                <a:srgbClr val="4a7ebb"/>
              </a:solidFill>
              <a:miter/>
              <a:headEnd len="med" type="arrow" w="med"/>
              <a:tailEnd len="med" type="arrow" w="med"/>
            </a:ln>
          </p:spPr>
        </p:cxnSp>
        <p:cxnSp>
          <p:nvCxnSpPr>
            <p:cNvPr id="1783" name="Straight Arrow Connector 61"/>
            <p:cNvCxnSpPr>
              <a:endCxn id="1775" idx="2"/>
            </p:cNvCxnSpPr>
            <p:nvPr/>
          </p:nvCxnSpPr>
          <p:spPr>
            <a:xfrm>
              <a:off x="6183000" y="4098600"/>
              <a:ext cx="1834200" cy="5400"/>
            </a:xfrm>
            <a:prstGeom prst="straightConnector1">
              <a:avLst/>
            </a:prstGeom>
            <a:ln w="28440">
              <a:solidFill>
                <a:srgbClr val="0070c0"/>
              </a:solidFill>
              <a:miter/>
              <a:tailEnd len="med" type="arrow" w="med"/>
            </a:ln>
          </p:spPr>
        </p:cxnSp>
        <p:cxnSp>
          <p:nvCxnSpPr>
            <p:cNvPr id="1784" name="Straight Arrow Connector 62"/>
            <p:cNvCxnSpPr>
              <a:endCxn id="1780" idx="2"/>
            </p:cNvCxnSpPr>
            <p:nvPr/>
          </p:nvCxnSpPr>
          <p:spPr>
            <a:xfrm flipV="1">
              <a:off x="6183000" y="1796040"/>
              <a:ext cx="1245240" cy="711720"/>
            </a:xfrm>
            <a:prstGeom prst="straightConnector1">
              <a:avLst/>
            </a:prstGeom>
            <a:ln w="28440">
              <a:solidFill>
                <a:srgbClr val="0070c0"/>
              </a:solidFill>
              <a:miter/>
              <a:tailEnd len="med" type="arrow" w="med"/>
            </a:ln>
          </p:spPr>
        </p:cxnSp>
        <p:cxnSp>
          <p:nvCxnSpPr>
            <p:cNvPr id="1785" name="Straight Arrow Connector 63"/>
            <p:cNvCxnSpPr>
              <a:endCxn id="1769" idx="2"/>
            </p:cNvCxnSpPr>
            <p:nvPr/>
          </p:nvCxnSpPr>
          <p:spPr>
            <a:xfrm flipV="1">
              <a:off x="6183000" y="4546080"/>
              <a:ext cx="759240" cy="122400"/>
            </a:xfrm>
            <a:prstGeom prst="straightConnector1">
              <a:avLst/>
            </a:prstGeom>
            <a:ln w="28440">
              <a:solidFill>
                <a:srgbClr val="0070c0"/>
              </a:solidFill>
              <a:miter/>
              <a:tailEnd len="med" type="arrow" w="med"/>
            </a:ln>
          </p:spPr>
        </p:cxnSp>
        <p:cxnSp>
          <p:nvCxnSpPr>
            <p:cNvPr id="1786" name="Straight Arrow Connector 68"/>
            <p:cNvCxnSpPr/>
            <p:nvPr/>
          </p:nvCxnSpPr>
          <p:spPr>
            <a:xfrm flipV="1">
              <a:off x="6179760" y="1641240"/>
              <a:ext cx="1362600" cy="155880"/>
            </a:xfrm>
            <a:prstGeom prst="straightConnector1">
              <a:avLst/>
            </a:prstGeom>
            <a:ln w="28440">
              <a:solidFill>
                <a:srgbClr val="0070c0"/>
              </a:solidFill>
              <a:miter/>
              <a:tailEnd len="med" type="arrow" w="med"/>
            </a:ln>
          </p:spPr>
        </p:cxnSp>
        <p:cxnSp>
          <p:nvCxnSpPr>
            <p:cNvPr id="1787" name="Straight Arrow Connector 70"/>
            <p:cNvCxnSpPr>
              <a:endCxn id="1774" idx="2"/>
            </p:cNvCxnSpPr>
            <p:nvPr/>
          </p:nvCxnSpPr>
          <p:spPr>
            <a:xfrm>
              <a:off x="6162480" y="3524040"/>
              <a:ext cx="905400" cy="272160"/>
            </a:xfrm>
            <a:prstGeom prst="straightConnector1">
              <a:avLst/>
            </a:prstGeom>
            <a:ln w="28440">
              <a:solidFill>
                <a:srgbClr val="0070c0"/>
              </a:solidFill>
              <a:miter/>
              <a:tailEnd len="med" type="arrow" w="med"/>
            </a:ln>
          </p:spPr>
        </p:cxnSp>
        <p:sp>
          <p:nvSpPr>
            <p:cNvPr id="1771" name="Oval 72"/>
            <p:cNvSpPr/>
            <p:nvPr/>
          </p:nvSpPr>
          <p:spPr>
            <a:xfrm>
              <a:off x="6343560" y="4962600"/>
              <a:ext cx="1638360" cy="873000"/>
            </a:xfrm>
            <a:prstGeom prst="ellipse">
              <a:avLst/>
            </a:prstGeom>
            <a:solidFill>
              <a:srgbClr val="fcd5b5"/>
            </a:solidFill>
            <a:ln w="25560">
              <a:solidFill>
                <a:srgbClr val="ccc1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Increased  value-added, jobs &amp; trad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8" name="Oval 73"/>
            <p:cNvSpPr/>
            <p:nvPr/>
          </p:nvSpPr>
          <p:spPr>
            <a:xfrm>
              <a:off x="6594480" y="2128680"/>
              <a:ext cx="1395360" cy="793800"/>
            </a:xfrm>
            <a:prstGeom prst="ellipse">
              <a:avLst/>
            </a:prstGeom>
            <a:solidFill>
              <a:srgbClr val="92d050"/>
            </a:solidFill>
            <a:ln w="255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Increased food, feed, fodd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88" name="Straight Arrow Connector 76"/>
            <p:cNvCxnSpPr>
              <a:endCxn id="1768" idx="1"/>
            </p:cNvCxnSpPr>
            <p:nvPr/>
          </p:nvCxnSpPr>
          <p:spPr>
            <a:xfrm>
              <a:off x="6183000" y="1796760"/>
              <a:ext cx="616680" cy="450000"/>
            </a:xfrm>
            <a:prstGeom prst="straightConnector1">
              <a:avLst/>
            </a:prstGeom>
            <a:ln w="28440">
              <a:solidFill>
                <a:srgbClr val="0070c0"/>
              </a:solidFill>
              <a:miter/>
              <a:tailEnd len="med" type="arrow" w="med"/>
            </a:ln>
          </p:spPr>
        </p:cxnSp>
        <p:cxnSp>
          <p:nvCxnSpPr>
            <p:cNvPr id="1789" name="Straight Arrow Connector 81"/>
            <p:cNvCxnSpPr>
              <a:endCxn id="1771" idx="1"/>
            </p:cNvCxnSpPr>
            <p:nvPr/>
          </p:nvCxnSpPr>
          <p:spPr>
            <a:xfrm>
              <a:off x="6180120" y="4716360"/>
              <a:ext cx="403920" cy="373680"/>
            </a:xfrm>
            <a:prstGeom prst="straightConnector1">
              <a:avLst/>
            </a:prstGeom>
            <a:ln w="28440">
              <a:solidFill>
                <a:srgbClr val="0070c0"/>
              </a:solidFill>
              <a:miter/>
              <a:tailEnd len="med" type="arrow" w="med"/>
            </a:ln>
          </p:spPr>
        </p:cxnSp>
        <p:cxnSp>
          <p:nvCxnSpPr>
            <p:cNvPr id="1790" name="Straight Arrow Connector 88"/>
            <p:cNvCxnSpPr>
              <a:endCxn id="1769" idx="4"/>
            </p:cNvCxnSpPr>
            <p:nvPr/>
          </p:nvCxnSpPr>
          <p:spPr>
            <a:xfrm flipV="1">
              <a:off x="7171920" y="4755600"/>
              <a:ext cx="229320" cy="240120"/>
            </a:xfrm>
            <a:prstGeom prst="straightConnector1">
              <a:avLst/>
            </a:prstGeom>
            <a:ln w="28440">
              <a:solidFill>
                <a:srgbClr val="4a7ebb"/>
              </a:solidFill>
              <a:miter/>
              <a:headEnd len="med" type="arrow" w="med"/>
              <a:tailEnd len="med" type="arrow" w="med"/>
            </a:ln>
          </p:spPr>
        </p:cxnSp>
        <p:sp>
          <p:nvSpPr>
            <p:cNvPr id="1791" name="Oval 53"/>
            <p:cNvSpPr/>
            <p:nvPr/>
          </p:nvSpPr>
          <p:spPr>
            <a:xfrm>
              <a:off x="7953480" y="4594320"/>
              <a:ext cx="1009440" cy="41904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ccc1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alibri"/>
                </a:rPr>
                <a:t>Sector Growt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92" name="Straight Arrow Connector 54"/>
            <p:cNvCxnSpPr>
              <a:stCxn id="1774" idx="4"/>
              <a:endCxn id="1791" idx="1"/>
            </p:cNvCxnSpPr>
            <p:nvPr/>
          </p:nvCxnSpPr>
          <p:spPr>
            <a:xfrm>
              <a:off x="7623000" y="4005360"/>
              <a:ext cx="478440" cy="651600"/>
            </a:xfrm>
            <a:prstGeom prst="straightConnector1">
              <a:avLst/>
            </a:prstGeom>
            <a:ln w="28440">
              <a:solidFill>
                <a:srgbClr val="0070c0"/>
              </a:solidFill>
              <a:miter/>
              <a:tailEnd len="med" type="arrow" w="med"/>
            </a:ln>
          </p:spPr>
        </p:cxnSp>
        <p:cxnSp>
          <p:nvCxnSpPr>
            <p:cNvPr id="1793" name="Straight Arrow Connector 57"/>
            <p:cNvCxnSpPr>
              <a:stCxn id="1771" idx="7"/>
              <a:endCxn id="1791" idx="3"/>
            </p:cNvCxnSpPr>
            <p:nvPr/>
          </p:nvCxnSpPr>
          <p:spPr>
            <a:xfrm flipV="1">
              <a:off x="7742160" y="4952160"/>
              <a:ext cx="358920" cy="137160"/>
            </a:xfrm>
            <a:prstGeom prst="straightConnector1">
              <a:avLst/>
            </a:prstGeom>
            <a:ln w="28440">
              <a:solidFill>
                <a:srgbClr val="4a7ebb"/>
              </a:solidFill>
              <a:miter/>
              <a:tailEnd len="med" type="arrow" w="med"/>
            </a:ln>
          </p:spPr>
        </p:cxnSp>
      </p:grpSp>
      <p:grpSp>
        <p:nvGrpSpPr>
          <p:cNvPr id="1794" name="Group 36"/>
          <p:cNvGrpSpPr/>
          <p:nvPr/>
        </p:nvGrpSpPr>
        <p:grpSpPr>
          <a:xfrm>
            <a:off x="6246720" y="2768760"/>
            <a:ext cx="2835360" cy="2408040"/>
            <a:chOff x="6246720" y="2768760"/>
            <a:chExt cx="2835360" cy="2408040"/>
          </a:xfrm>
        </p:grpSpPr>
        <p:sp>
          <p:nvSpPr>
            <p:cNvPr id="1795" name="Flowchart: Connector 67"/>
            <p:cNvSpPr/>
            <p:nvPr/>
          </p:nvSpPr>
          <p:spPr>
            <a:xfrm>
              <a:off x="8713800" y="3602160"/>
              <a:ext cx="368280" cy="380880"/>
            </a:xfrm>
            <a:prstGeom prst="flowChartConnector">
              <a:avLst/>
            </a:prstGeom>
            <a:solidFill>
              <a:srgbClr val="ffffff"/>
            </a:solidFill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6" name="Flowchart: Connector 69"/>
            <p:cNvSpPr/>
            <p:nvPr/>
          </p:nvSpPr>
          <p:spPr>
            <a:xfrm>
              <a:off x="8470800" y="2768760"/>
              <a:ext cx="368280" cy="380880"/>
            </a:xfrm>
            <a:prstGeom prst="flowChartConnector">
              <a:avLst/>
            </a:prstGeom>
            <a:solidFill>
              <a:srgbClr val="ffffff"/>
            </a:solidFill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7" name="Flowchart: Connector 71"/>
            <p:cNvSpPr/>
            <p:nvPr/>
          </p:nvSpPr>
          <p:spPr>
            <a:xfrm>
              <a:off x="8670960" y="4795920"/>
              <a:ext cx="368280" cy="380880"/>
            </a:xfrm>
            <a:prstGeom prst="flowChartConnector">
              <a:avLst/>
            </a:prstGeom>
            <a:solidFill>
              <a:srgbClr val="ffffff"/>
            </a:solidFill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8" name="Flowchart: Connector 74"/>
            <p:cNvSpPr/>
            <p:nvPr/>
          </p:nvSpPr>
          <p:spPr>
            <a:xfrm>
              <a:off x="7507080" y="3335400"/>
              <a:ext cx="368280" cy="380880"/>
            </a:xfrm>
            <a:prstGeom prst="flowChartConnector">
              <a:avLst/>
            </a:prstGeom>
            <a:solidFill>
              <a:srgbClr val="ffffff"/>
            </a:solidFill>
            <a:ln w="3168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70c0"/>
                  </a:solidFill>
                  <a:latin typeface="Calibri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9" name="Flowchart: Connector 75"/>
            <p:cNvSpPr/>
            <p:nvPr/>
          </p:nvSpPr>
          <p:spPr>
            <a:xfrm>
              <a:off x="6246720" y="2922480"/>
              <a:ext cx="368280" cy="380880"/>
            </a:xfrm>
            <a:prstGeom prst="flowChartConnector">
              <a:avLst/>
            </a:prstGeom>
            <a:solidFill>
              <a:srgbClr val="ffffff"/>
            </a:solidFill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0" name="Rectangle 87"/>
          <p:cNvSpPr/>
          <p:nvPr/>
        </p:nvSpPr>
        <p:spPr>
          <a:xfrm>
            <a:off x="4275000" y="5029200"/>
            <a:ext cx="1822680" cy="5857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Calibri"/>
              </a:rPr>
              <a:t>Aware, engaged, empowered, farmers &amp; service providers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1" name="Group 37"/>
          <p:cNvGrpSpPr/>
          <p:nvPr/>
        </p:nvGrpSpPr>
        <p:grpSpPr>
          <a:xfrm>
            <a:off x="923760" y="1100160"/>
            <a:ext cx="7823520" cy="4735440"/>
            <a:chOff x="923760" y="1100160"/>
            <a:chExt cx="7823520" cy="4735440"/>
          </a:xfrm>
        </p:grpSpPr>
        <p:sp>
          <p:nvSpPr>
            <p:cNvPr id="1802" name="Flowchart: Connector 83"/>
            <p:cNvSpPr/>
            <p:nvPr/>
          </p:nvSpPr>
          <p:spPr>
            <a:xfrm>
              <a:off x="5794560" y="1290600"/>
              <a:ext cx="368280" cy="380880"/>
            </a:xfrm>
            <a:prstGeom prst="flowChartConnector">
              <a:avLst/>
            </a:prstGeom>
            <a:solidFill>
              <a:srgbClr val="ffffff"/>
            </a:solidFill>
            <a:ln w="3168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70c0"/>
                  </a:solidFill>
                  <a:latin typeface="Calibri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Flowchart: Connector 85"/>
            <p:cNvSpPr/>
            <p:nvPr/>
          </p:nvSpPr>
          <p:spPr>
            <a:xfrm>
              <a:off x="8379000" y="1100160"/>
              <a:ext cx="368280" cy="380880"/>
            </a:xfrm>
            <a:prstGeom prst="flowChartConnector">
              <a:avLst/>
            </a:prstGeom>
            <a:solidFill>
              <a:srgbClr val="ffffff"/>
            </a:solidFill>
            <a:ln w="3168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70c0"/>
                  </a:solidFill>
                  <a:latin typeface="Calibri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4" name="Flowchart: Connector 86"/>
            <p:cNvSpPr/>
            <p:nvPr/>
          </p:nvSpPr>
          <p:spPr>
            <a:xfrm>
              <a:off x="7680600" y="5454720"/>
              <a:ext cx="368280" cy="380880"/>
            </a:xfrm>
            <a:prstGeom prst="flowChartConnector">
              <a:avLst/>
            </a:prstGeom>
            <a:solidFill>
              <a:srgbClr val="ffffff"/>
            </a:solidFill>
            <a:ln w="3168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70c0"/>
                  </a:solidFill>
                  <a:latin typeface="Calibri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5" name="Flowchart: Connector 89"/>
            <p:cNvSpPr/>
            <p:nvPr/>
          </p:nvSpPr>
          <p:spPr>
            <a:xfrm>
              <a:off x="5880240" y="5031000"/>
              <a:ext cx="366480" cy="380880"/>
            </a:xfrm>
            <a:prstGeom prst="flowChartConnector">
              <a:avLst/>
            </a:prstGeom>
            <a:solidFill>
              <a:srgbClr val="ffffff"/>
            </a:solidFill>
            <a:ln w="3168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70c0"/>
                  </a:solidFill>
                  <a:latin typeface="Calibri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6" name="Flowchart: Connector 90"/>
            <p:cNvSpPr/>
            <p:nvPr/>
          </p:nvSpPr>
          <p:spPr>
            <a:xfrm>
              <a:off x="5699160" y="3085920"/>
              <a:ext cx="366480" cy="380880"/>
            </a:xfrm>
            <a:prstGeom prst="flowChartConnector">
              <a:avLst/>
            </a:prstGeom>
            <a:solidFill>
              <a:srgbClr val="ffffff"/>
            </a:solidFill>
            <a:ln w="3168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70c0"/>
                  </a:solidFill>
                  <a:latin typeface="Calibri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7" name="Flowchart: Connector 91"/>
            <p:cNvSpPr/>
            <p:nvPr/>
          </p:nvSpPr>
          <p:spPr>
            <a:xfrm>
              <a:off x="923760" y="5043600"/>
              <a:ext cx="368280" cy="380880"/>
            </a:xfrm>
            <a:prstGeom prst="flowChartConnector">
              <a:avLst/>
            </a:prstGeom>
            <a:solidFill>
              <a:srgbClr val="ffffff"/>
            </a:solidFill>
            <a:ln w="31680">
              <a:solidFill>
                <a:srgbClr val="1737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70c0"/>
                  </a:solidFill>
                  <a:latin typeface="Calibri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1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8" name="TextBox 4"/>
          <p:cNvSpPr/>
          <p:nvPr/>
        </p:nvSpPr>
        <p:spPr>
          <a:xfrm>
            <a:off x="762120" y="1393920"/>
            <a:ext cx="7619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oresighting activity.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akeholder vision of 15-20 year outcomes for target systems and geograph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Geographic (problem/intervention domain) stratification.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dentifying problem domains that reflect key differences in initial conditions (status and trends) and drivers of chan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TextBox 5"/>
          <p:cNvSpPr/>
          <p:nvPr/>
        </p:nvSpPr>
        <p:spPr>
          <a:xfrm>
            <a:off x="758880" y="685800"/>
            <a:ext cx="799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otential Stratification and Experimental Design Framework*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TextBox 6"/>
          <p:cNvSpPr/>
          <p:nvPr/>
        </p:nvSpPr>
        <p:spPr>
          <a:xfrm>
            <a:off x="633960" y="6400800"/>
            <a:ext cx="596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* Sustainable Intensification Hypothesis Group, Addis 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8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1" name="PlaceHolder 1"/>
          <p:cNvSpPr>
            <a:spLocks noGrp="1"/>
          </p:cNvSpPr>
          <p:nvPr>
            <p:ph type="title"/>
          </p:nvPr>
        </p:nvSpPr>
        <p:spPr>
          <a:xfrm>
            <a:off x="-81360" y="95040"/>
            <a:ext cx="9248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eographic Stratification of Target Systems/Are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12" name="Picture 5" descr=""/>
          <p:cNvPicPr/>
          <p:nvPr/>
        </p:nvPicPr>
        <p:blipFill>
          <a:blip r:embed="rId1"/>
          <a:stretch/>
        </p:blipFill>
        <p:spPr>
          <a:xfrm>
            <a:off x="160200" y="925560"/>
            <a:ext cx="8839440" cy="5718240"/>
          </a:xfrm>
          <a:prstGeom prst="rect">
            <a:avLst/>
          </a:prstGeom>
          <a:ln w="0">
            <a:noFill/>
          </a:ln>
        </p:spPr>
      </p:pic>
      <p:sp>
        <p:nvSpPr>
          <p:cNvPr id="1813" name="TextBox 2"/>
          <p:cNvSpPr/>
          <p:nvPr/>
        </p:nvSpPr>
        <p:spPr>
          <a:xfrm>
            <a:off x="369360" y="6489720"/>
            <a:ext cx="445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ource: Site Selection Group. Addis SI Workshop, Feb 2012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4" name="TextBox 4"/>
          <p:cNvSpPr/>
          <p:nvPr/>
        </p:nvSpPr>
        <p:spPr>
          <a:xfrm>
            <a:off x="762120" y="1263600"/>
            <a:ext cx="761976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oresighting activity.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akeholder vision of 15-20 year outcomes for target systems and geograph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ographic (problem/intervention domain) stratification.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dentifying problem domains that reflect key differences in initial conditions (status and trends) and drivers of chan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ite-specific (farm/landscape) stratificatio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Sustainability and Intensification stratification within each geographic do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rticulate &amp; test potential SI trajectorie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within geographic and site-specific str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TextBox 5"/>
          <p:cNvSpPr/>
          <p:nvPr/>
        </p:nvSpPr>
        <p:spPr>
          <a:xfrm>
            <a:off x="758880" y="685800"/>
            <a:ext cx="799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otential Stratification and Experimental Design Framework*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TextBox 6"/>
          <p:cNvSpPr/>
          <p:nvPr/>
        </p:nvSpPr>
        <p:spPr>
          <a:xfrm>
            <a:off x="633960" y="6400800"/>
            <a:ext cx="596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* Sustainable Intensification Hypothesis Group, Addis 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18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7" name="Group 58"/>
          <p:cNvGrpSpPr/>
          <p:nvPr/>
        </p:nvGrpSpPr>
        <p:grpSpPr>
          <a:xfrm>
            <a:off x="2629080" y="2057400"/>
            <a:ext cx="3085920" cy="2819520"/>
            <a:chOff x="2629080" y="2057400"/>
            <a:chExt cx="3085920" cy="2819520"/>
          </a:xfrm>
        </p:grpSpPr>
        <p:sp>
          <p:nvSpPr>
            <p:cNvPr id="1818" name="Rectangle 57"/>
            <p:cNvSpPr/>
            <p:nvPr/>
          </p:nvSpPr>
          <p:spPr>
            <a:xfrm>
              <a:off x="2629080" y="2095200"/>
              <a:ext cx="1333440" cy="136368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9" name="Straight Connector 52"/>
            <p:cNvSpPr/>
            <p:nvPr/>
          </p:nvSpPr>
          <p:spPr>
            <a:xfrm flipV="1">
              <a:off x="4114800" y="2057400"/>
              <a:ext cx="1600200" cy="18720"/>
            </a:xfrm>
            <a:prstGeom prst="line">
              <a:avLst/>
            </a:prstGeom>
            <a:ln w="28440">
              <a:solidFill>
                <a:srgbClr val="fcd5b5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0" name="Straight Connector 55"/>
            <p:cNvSpPr/>
            <p:nvPr/>
          </p:nvSpPr>
          <p:spPr>
            <a:xfrm>
              <a:off x="4086360" y="3465720"/>
              <a:ext cx="1628640" cy="1411200"/>
            </a:xfrm>
            <a:prstGeom prst="line">
              <a:avLst/>
            </a:prstGeom>
            <a:ln w="28440">
              <a:solidFill>
                <a:srgbClr val="fcd5b5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tratification &amp; SI Trajector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2" name="TextBox 20"/>
          <p:cNvSpPr/>
          <p:nvPr/>
        </p:nvSpPr>
        <p:spPr>
          <a:xfrm>
            <a:off x="-91800" y="3019320"/>
            <a:ext cx="140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ainf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g. Potent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3" name="Group 34"/>
          <p:cNvGrpSpPr/>
          <p:nvPr/>
        </p:nvGrpSpPr>
        <p:grpSpPr>
          <a:xfrm>
            <a:off x="1295280" y="2057400"/>
            <a:ext cx="2667240" cy="3614400"/>
            <a:chOff x="1295280" y="2057400"/>
            <a:chExt cx="2667240" cy="3614400"/>
          </a:xfrm>
        </p:grpSpPr>
        <p:grpSp>
          <p:nvGrpSpPr>
            <p:cNvPr id="1824" name="Group 9"/>
            <p:cNvGrpSpPr/>
            <p:nvPr/>
          </p:nvGrpSpPr>
          <p:grpSpPr>
            <a:xfrm>
              <a:off x="1295280" y="2057400"/>
              <a:ext cx="2667240" cy="2834280"/>
              <a:chOff x="1295280" y="2057400"/>
              <a:chExt cx="2667240" cy="2834280"/>
            </a:xfrm>
          </p:grpSpPr>
          <p:sp>
            <p:nvSpPr>
              <p:cNvPr id="1825" name="Straight Connector 4"/>
              <p:cNvSpPr/>
              <p:nvPr/>
            </p:nvSpPr>
            <p:spPr>
              <a:xfrm>
                <a:off x="1295280" y="2057400"/>
                <a:ext cx="0" cy="2820240"/>
              </a:xfrm>
              <a:prstGeom prst="line">
                <a:avLst/>
              </a:prstGeom>
              <a:ln w="5724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6" name="Straight Connector 7"/>
              <p:cNvSpPr/>
              <p:nvPr/>
            </p:nvSpPr>
            <p:spPr>
              <a:xfrm>
                <a:off x="1295280" y="4891680"/>
                <a:ext cx="2667240" cy="0"/>
              </a:xfrm>
              <a:prstGeom prst="line">
                <a:avLst/>
              </a:prstGeom>
              <a:ln w="5724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7" name="Straight Connector 11"/>
            <p:cNvSpPr/>
            <p:nvPr/>
          </p:nvSpPr>
          <p:spPr>
            <a:xfrm>
              <a:off x="1371240" y="2057400"/>
              <a:ext cx="2591280" cy="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8" name="Straight Connector 13"/>
            <p:cNvSpPr/>
            <p:nvPr/>
          </p:nvSpPr>
          <p:spPr>
            <a:xfrm>
              <a:off x="3962520" y="2133360"/>
              <a:ext cx="0" cy="2743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9" name="Straight Connector 14"/>
            <p:cNvSpPr/>
            <p:nvPr/>
          </p:nvSpPr>
          <p:spPr>
            <a:xfrm>
              <a:off x="2629080" y="2095200"/>
              <a:ext cx="0" cy="2743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0" name="Straight Connector 15"/>
            <p:cNvSpPr/>
            <p:nvPr/>
          </p:nvSpPr>
          <p:spPr>
            <a:xfrm>
              <a:off x="1333080" y="3459240"/>
              <a:ext cx="2591280" cy="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1" name="TextBox 16"/>
            <p:cNvSpPr/>
            <p:nvPr/>
          </p:nvSpPr>
          <p:spPr>
            <a:xfrm>
              <a:off x="2974680" y="2651400"/>
              <a:ext cx="65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Hi-H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2" name="TextBox 17"/>
            <p:cNvSpPr/>
            <p:nvPr/>
          </p:nvSpPr>
          <p:spPr>
            <a:xfrm>
              <a:off x="2972160" y="3886200"/>
              <a:ext cx="67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Lo-H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3" name="TextBox 18"/>
            <p:cNvSpPr/>
            <p:nvPr/>
          </p:nvSpPr>
          <p:spPr>
            <a:xfrm>
              <a:off x="1602000" y="3886200"/>
              <a:ext cx="68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Lo-L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4" name="TextBox 19"/>
            <p:cNvSpPr/>
            <p:nvPr/>
          </p:nvSpPr>
          <p:spPr>
            <a:xfrm>
              <a:off x="1681560" y="2651400"/>
              <a:ext cx="67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Hi-L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5" name="TextBox 21"/>
            <p:cNvSpPr/>
            <p:nvPr/>
          </p:nvSpPr>
          <p:spPr>
            <a:xfrm>
              <a:off x="1920600" y="5029200"/>
              <a:ext cx="1796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Market Potenti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Pop. densi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836" name="Straight Arrow Connector 50"/>
          <p:cNvCxnSpPr/>
          <p:nvPr/>
        </p:nvCxnSpPr>
        <p:spPr>
          <a:xfrm flipV="1">
            <a:off x="6884640" y="3079440"/>
            <a:ext cx="678600" cy="83736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</p:cxnSp>
      <p:grpSp>
        <p:nvGrpSpPr>
          <p:cNvPr id="1837" name="Group 71"/>
          <p:cNvGrpSpPr/>
          <p:nvPr/>
        </p:nvGrpSpPr>
        <p:grpSpPr>
          <a:xfrm>
            <a:off x="6805440" y="2831400"/>
            <a:ext cx="891000" cy="1588680"/>
            <a:chOff x="6805440" y="2831400"/>
            <a:chExt cx="891000" cy="1588680"/>
          </a:xfrm>
        </p:grpSpPr>
        <p:cxnSp>
          <p:nvCxnSpPr>
            <p:cNvPr id="1838" name="Straight Arrow Connector 59"/>
            <p:cNvCxnSpPr/>
            <p:nvPr/>
          </p:nvCxnSpPr>
          <p:spPr>
            <a:xfrm>
              <a:off x="6884640" y="4419360"/>
              <a:ext cx="812160" cy="1080"/>
            </a:xfrm>
            <a:prstGeom prst="straightConnector1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839" name="Elbow Connector 63"/>
            <p:cNvCxnSpPr/>
            <p:nvPr/>
          </p:nvCxnSpPr>
          <p:spPr>
            <a:xfrm flipH="1" flipV="1" rot="5400000">
              <a:off x="6714720" y="2922120"/>
              <a:ext cx="786600" cy="605520"/>
            </a:xfrm>
            <a:prstGeom prst="bentConnector3">
              <a:avLst>
                <a:gd name="adj1" fmla="val 99816"/>
              </a:avLst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</p:cxnSp>
      </p:grpSp>
      <p:sp>
        <p:nvSpPr>
          <p:cNvPr id="1840" name="TextBox 72"/>
          <p:cNvSpPr/>
          <p:nvPr/>
        </p:nvSpPr>
        <p:spPr>
          <a:xfrm>
            <a:off x="633960" y="6400800"/>
            <a:ext cx="596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* Sustainable Intensification Hypothesis Group, Addis 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TextBox 73"/>
          <p:cNvSpPr/>
          <p:nvPr/>
        </p:nvSpPr>
        <p:spPr>
          <a:xfrm>
            <a:off x="1316880" y="1492200"/>
            <a:ext cx="281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f0"/>
                </a:solidFill>
                <a:latin typeface="Calibri"/>
              </a:rPr>
              <a:t>Geographic Strat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2" name="Group 75"/>
          <p:cNvGrpSpPr/>
          <p:nvPr/>
        </p:nvGrpSpPr>
        <p:grpSpPr>
          <a:xfrm>
            <a:off x="4311720" y="1459080"/>
            <a:ext cx="4568040" cy="3957840"/>
            <a:chOff x="4311720" y="1459080"/>
            <a:chExt cx="4568040" cy="3957840"/>
          </a:xfrm>
        </p:grpSpPr>
        <p:grpSp>
          <p:nvGrpSpPr>
            <p:cNvPr id="1843" name="Group 35"/>
            <p:cNvGrpSpPr/>
            <p:nvPr/>
          </p:nvGrpSpPr>
          <p:grpSpPr>
            <a:xfrm>
              <a:off x="4311720" y="2076480"/>
              <a:ext cx="4245480" cy="3340440"/>
              <a:chOff x="4311720" y="2076480"/>
              <a:chExt cx="4245480" cy="3340440"/>
            </a:xfrm>
          </p:grpSpPr>
          <p:grpSp>
            <p:nvGrpSpPr>
              <p:cNvPr id="1844" name="Group 36"/>
              <p:cNvGrpSpPr/>
              <p:nvPr/>
            </p:nvGrpSpPr>
            <p:grpSpPr>
              <a:xfrm>
                <a:off x="5890320" y="2076480"/>
                <a:ext cx="2666880" cy="2834640"/>
                <a:chOff x="5890320" y="2076480"/>
                <a:chExt cx="2666880" cy="2834640"/>
              </a:xfrm>
            </p:grpSpPr>
            <p:sp>
              <p:nvSpPr>
                <p:cNvPr id="1845" name="Straight Connector 46"/>
                <p:cNvSpPr/>
                <p:nvPr/>
              </p:nvSpPr>
              <p:spPr>
                <a:xfrm>
                  <a:off x="5890320" y="2076480"/>
                  <a:ext cx="0" cy="2820600"/>
                </a:xfrm>
                <a:prstGeom prst="line">
                  <a:avLst/>
                </a:prstGeom>
                <a:ln w="57240">
                  <a:solidFill>
                    <a:srgbClr val="4a7eb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6" name="Straight Connector 47"/>
                <p:cNvSpPr/>
                <p:nvPr/>
              </p:nvSpPr>
              <p:spPr>
                <a:xfrm>
                  <a:off x="5890320" y="4911120"/>
                  <a:ext cx="2666880" cy="0"/>
                </a:xfrm>
                <a:prstGeom prst="line">
                  <a:avLst/>
                </a:prstGeom>
                <a:ln w="57240">
                  <a:solidFill>
                    <a:srgbClr val="4a7eb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47" name="Straight Connector 37"/>
              <p:cNvSpPr/>
              <p:nvPr/>
            </p:nvSpPr>
            <p:spPr>
              <a:xfrm>
                <a:off x="5965920" y="2076480"/>
                <a:ext cx="2590920" cy="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8" name="Straight Connector 38"/>
              <p:cNvSpPr/>
              <p:nvPr/>
            </p:nvSpPr>
            <p:spPr>
              <a:xfrm>
                <a:off x="8556840" y="2152440"/>
                <a:ext cx="0" cy="27432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9" name="Straight Connector 39"/>
              <p:cNvSpPr/>
              <p:nvPr/>
            </p:nvSpPr>
            <p:spPr>
              <a:xfrm>
                <a:off x="7223400" y="2114280"/>
                <a:ext cx="0" cy="27432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0" name="Straight Connector 40"/>
              <p:cNvSpPr/>
              <p:nvPr/>
            </p:nvSpPr>
            <p:spPr>
              <a:xfrm>
                <a:off x="5927760" y="3478320"/>
                <a:ext cx="2590920" cy="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1" name="TextBox 41"/>
              <p:cNvSpPr/>
              <p:nvPr/>
            </p:nvSpPr>
            <p:spPr>
              <a:xfrm>
                <a:off x="7569720" y="2670840"/>
                <a:ext cx="653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alibri"/>
                  </a:rPr>
                  <a:t>Hi-Hi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2" name="TextBox 42"/>
              <p:cNvSpPr/>
              <p:nvPr/>
            </p:nvSpPr>
            <p:spPr>
              <a:xfrm>
                <a:off x="7566840" y="3905640"/>
                <a:ext cx="671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alibri"/>
                  </a:rPr>
                  <a:t>Lo-Hi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3" name="TextBox 43"/>
              <p:cNvSpPr/>
              <p:nvPr/>
            </p:nvSpPr>
            <p:spPr>
              <a:xfrm>
                <a:off x="6197400" y="3905640"/>
                <a:ext cx="689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alibri"/>
                  </a:rPr>
                  <a:t>Lo-L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4" name="TextBox 44"/>
              <p:cNvSpPr/>
              <p:nvPr/>
            </p:nvSpPr>
            <p:spPr>
              <a:xfrm>
                <a:off x="6276240" y="2670840"/>
                <a:ext cx="671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alibri"/>
                  </a:rPr>
                  <a:t>Hi-L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5" name="TextBox 45"/>
              <p:cNvSpPr/>
              <p:nvPr/>
            </p:nvSpPr>
            <p:spPr>
              <a:xfrm>
                <a:off x="6222960" y="5048640"/>
                <a:ext cx="2041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alibri"/>
                  </a:rPr>
                  <a:t>Sustainability Inde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6" name="TextBox 48"/>
              <p:cNvSpPr/>
              <p:nvPr/>
            </p:nvSpPr>
            <p:spPr>
              <a:xfrm>
                <a:off x="4311720" y="3050280"/>
                <a:ext cx="1543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alibri"/>
                  </a:rPr>
                  <a:t>Intensificat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alibri"/>
                  </a:rPr>
                  <a:t>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Calibri"/>
                  </a:rPr>
                  <a:t>Inde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57" name="TextBox 74"/>
            <p:cNvSpPr/>
            <p:nvPr/>
          </p:nvSpPr>
          <p:spPr>
            <a:xfrm>
              <a:off x="5515560" y="1459080"/>
              <a:ext cx="3364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b0f0"/>
                  </a:solidFill>
                  <a:latin typeface="Calibri"/>
                </a:rPr>
                <a:t>Farm/Landscape Stratific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1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1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1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5T22:17:45Z</dcterms:created>
  <dc:creator>locadmin</dc:creator>
  <dc:description/>
  <dc:language>en-US</dc:language>
  <cp:lastModifiedBy>PBallantyne</cp:lastModifiedBy>
  <dcterms:modified xsi:type="dcterms:W3CDTF">2012-02-07T07:04:27Z</dcterms:modified>
  <cp:revision>95</cp:revision>
  <dc:subject/>
  <dc:title>PowerPoint Presentation</dc:title>
</cp:coreProperties>
</file>