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13.jpeg" ContentType="image/jpeg"/>
  <Override PartName="/ppt/media/image29.jpeg" ContentType="image/jpeg"/>
  <Override PartName="/ppt/media/image5.png" ContentType="image/png"/>
  <Override PartName="/ppt/media/image27.jpeg" ContentType="image/jpeg"/>
  <Override PartName="/ppt/media/image52.png" ContentType="image/png"/>
  <Override PartName="/ppt/media/image31.jpeg" ContentType="image/jpeg"/>
  <Override PartName="/ppt/media/image40.wmf" ContentType="image/x-wmf"/>
  <Override PartName="/ppt/media/image7.jpeg" ContentType="image/jpeg"/>
  <Override PartName="/ppt/media/image28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33.jpeg" ContentType="image/jpeg"/>
  <Override PartName="/ppt/media/image30.wmf" ContentType="image/x-wmf"/>
  <Override PartName="/ppt/media/image46.jpeg" ContentType="image/jpeg"/>
  <Override PartName="/ppt/media/image48.png" ContentType="image/png"/>
  <Override PartName="/ppt/media/image32.jpeg" ContentType="image/jpeg"/>
  <Override PartName="/ppt/media/image49.wmf" ContentType="image/x-wmf"/>
  <Override PartName="/ppt/media/image51.png" ContentType="image/png"/>
  <Override PartName="/ppt/media/image50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36.png" ContentType="image/png"/>
  <Override PartName="/ppt/media/image10.png" ContentType="image/pn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notesMasterIdLst>
    <p:notesMasterId r:id="rId43"/>
  </p:notes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  <p:sldId id="268" r:id="rId56"/>
    <p:sldId id="269" r:id="rId57"/>
    <p:sldId id="270" r:id="rId58"/>
    <p:sldId id="271" r:id="rId59"/>
    <p:sldId id="272" r:id="rId60"/>
    <p:sldId id="27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notesMaster" Target="notesMasters/notesMaster1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slide" Target="slides/slide13.xml"/><Relationship Id="rId57" Type="http://schemas.openxmlformats.org/officeDocument/2006/relationships/slide" Target="slides/slide14.xml"/><Relationship Id="rId58" Type="http://schemas.openxmlformats.org/officeDocument/2006/relationships/slide" Target="slides/slide15.xml"/><Relationship Id="rId59" Type="http://schemas.openxmlformats.org/officeDocument/2006/relationships/slide" Target="slides/slide16.xml"/><Relationship Id="rId60" Type="http://schemas.openxmlformats.org/officeDocument/2006/relationships/slide" Target="slides/slide17.xml"/><Relationship Id="rId61" Type="http://schemas.openxmlformats.org/officeDocument/2006/relationships/slide" Target="slides/slide1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dt" idx="1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ftr" idx="1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 type="sldNum" idx="1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BCC2-14B4-425C-9CF8-B80CB3CA1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F715-A238-4FA2-84F8-29DC00E46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% of all farmers cultivate maize on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% maize, groundn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% maize, paddy,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%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4A38-171B-49C8-BA0E-4FC7D7511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B0D9-52B7-4478-87FA-6C6C87DAD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EE3C-FB39-43A9-A36F-E6C193D7CC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898200" y="4358880"/>
            <a:ext cx="501156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AED-0F46-4B91-A1D9-F9893AD4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241-4FF1-4E0C-AB4E-F953CB5F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37F14F-C6FF-4CCA-962F-9AF86122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5CE76D-2E3F-44A9-AB4B-B6BE6386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F4BB54-415C-4B46-99D6-ADA17F33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F334BC-006C-49C2-9F8D-3568677E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D321AC-E0F2-4617-9B96-04839BDA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A17D3C-70DD-45EE-A775-DEBD002D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29C814-CEF4-47B2-8094-52812895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C9519A-D1A6-4878-85CA-03FDDEFC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25162D-4F01-475D-A290-6B4D2D8A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99D01F-F4B6-4AE6-B6FF-6F2B1852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FA2E-7177-40D6-9623-1A457A2C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C16CC3-6135-4C7F-B14F-AC606330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92528C-8FB5-45BC-B947-062A7AB7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E18281-8A0E-44EF-BB80-2EF5FF35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F02A8F-61BD-4273-A820-DC4D90FC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4FF2FC-1763-4574-A705-4AEEE224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C38D37-5597-440F-BA4A-0D755A52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223859-5273-4407-90B0-97AB996B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C77C65-B909-420E-B9AE-CDFC6D0B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436188-F7EC-4B75-8708-83285268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A27521-254F-41B0-B72D-1E3BB261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F00-78B6-4E83-9339-991ECED4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4BBA55-5648-4A84-B779-E75DFADB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2F3798-109E-4356-B9E3-986DDA7C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FFAC69-D98F-4785-818E-4CCB8357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FF20BF-F171-4511-815B-C204D7BF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DB44DF-B373-45A4-AB8C-AA228D93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EB7ABD-C4D4-48C9-BBC4-A419AECB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6A08D4-C55E-4FDA-BBDE-DCEB53AF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25DACF-7F68-4D9C-B254-57B92C4F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16C135-EDC6-4ED2-B365-FF7C92A5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06475D-A0F0-472B-8D13-B185AC8D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E041-4985-495A-BB8F-8BC359F0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F4CEFC-D760-46BB-A8B8-9CF98C5A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B539A3-61F1-4718-94EF-F7F5501A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75D8AB-B384-4D12-BE45-702469CB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3AA719-10A7-4C71-9A68-B3AC7B58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BD8A22-C937-47D7-8261-BF48133B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B64A96-65D1-4702-A969-A8A31A49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E73434-A42A-4847-8832-F28D04F0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F2DD27-9C7F-41DE-89ED-5A34EA6D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AC2FC3-A1F8-4D7C-8876-CC354044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10348A-E43F-46E7-8511-47C9004D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961B-1125-46C4-9A6C-F82CDAC8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9A5952-3850-4E4E-B8A4-A75F5651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192771-7DE0-4D9C-9951-88730C04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EDAA27-A392-4641-9766-E0F22F02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498BE0-28DA-43C9-B170-20767B52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4D3FBB-A372-497C-B7A0-845D0154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8C1FA2-524A-497A-8B0A-FC4C8936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F4ED8B-8BA4-4A97-89A0-E79D99FF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FE2BAC-7BE3-4A8F-873E-3C5D3825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870FCD-A29A-4B3C-AB4A-BDB28AB4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2C9AD3-E5E2-4359-91EA-33AB4426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CE98-EF06-4370-A71A-DA2EEA50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2BBDA2-518F-47C2-9CC9-CEA2485F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37B913-2305-45B6-8CFF-6C047D26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DC0F8A-7C2B-4926-9B35-E08F054D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0F66B1-9D74-4AC3-8FB0-C455C8A0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1CEE64-E60E-420F-8E1A-A28A3E81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686661-9D6A-47E6-AE12-B88BC408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2AB304-5118-40AA-BEF6-F9D4B477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CACF9B-1E97-4A9D-8D98-61ABA84F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A8DB44-04CC-42B3-93D0-5DFE49CC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F43D90-4F97-4CCA-8293-1A6916CB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7F80-18D3-4C1A-A5C1-48AB0408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DC4927-E1D7-4433-8CA5-37056BF8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266B3E-6EB9-43CE-B5C5-C643AE17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7C9083-4629-439A-945D-9899E66C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D9529E-7793-4982-A229-DC3D5C97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3F4A57-FADD-45C2-ABDF-0296B6D1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9C5A65-DFFE-43CA-A893-EA9091A1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712A233-F37C-40BF-BE77-8AE2376B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DE2AFB-A223-4BEC-BFD1-64FC2369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99A665-8FE0-425E-846D-E43A9774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A5FB2B-2D77-47D7-A0BA-88950C4E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F88A-5A99-45F6-A2AF-953EB1F2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7B72D3-245E-4001-A51D-020FB6D3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E6818D-B4A1-4BD3-B19B-1FB7C952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E66705-51F6-4A9D-93E7-94D156A4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E487BF-31BC-4DFE-9999-B0017A1C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BD9D1A-6CCD-462E-AD14-1D6BF025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1EDF97-291D-4DA7-8F54-80B3F45A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036AFD-2803-4C3F-ADF9-5103ECB4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C41115-EC7E-40C8-AA10-C62631E1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7F7E21-87B5-431F-99C7-74D22EF8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5567E0-56C6-43D3-8E2C-D896C152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2E60-8937-439B-AFD1-11F46646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B16268-E2A3-4A68-AE61-2D696E96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B11679-BE63-4D23-8FC3-54889FD5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0914C32-33C9-4292-BB35-4B55D484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B042C9-4C56-49B1-A879-FF0C1452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C3B98E-72E1-490B-A219-FAF79FB4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1E5EEA-7BC0-4B7A-9234-315CAD2E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448820E-27F3-44B7-ADC0-9BAF6E6C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311325-E60C-46B4-BCBD-2F17BD3C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13F8B58-214F-449D-B5E6-B82AE40D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B58B74-2329-41E4-A2B8-718C7BFC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0E78-FE7F-4748-968C-BE1E893F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918469F-2C03-4236-9B05-505CA252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F0FB97B-4891-45BF-AC0A-D45F2311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9E0ED8D-A86C-4113-A0FB-1BD5EEFF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29E4424-6BC9-4D79-A1CA-F06ABBBC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62E18D2-EA99-4103-A1E4-83F473DB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5DEC6D-0D0B-45BD-AAFE-4763BE61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C595E0-4BB2-4CA0-950A-E5F7D13A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A72E987-5959-4034-9D62-9DF93DDF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07B684-9EE0-4442-8EB8-CEFD48F6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4271B6A-5149-4AAB-8613-1C1F660C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AFC-EF3E-432F-AAE5-DE8A5351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94FF-145C-43B6-8FBF-492CB240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360D94E-5B35-4239-ACF8-7DB1B18C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06C6EA-7CEE-4067-9D2F-D21E817A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2790D1D-1B45-4984-9EF3-ACDEE593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35B3833-6FD4-4368-8542-9DA71979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592D24E-E5C9-4B9B-B32B-E62B4D78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4081819-FEA2-46CE-8F91-25D6F93E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2B49CAC-B1D1-4AC5-BDE7-6B3C9D77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BE8E7A8-D964-4228-AD2F-BE115699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9B05206-5B15-4679-926D-3518C003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8079E71-D077-4534-B879-35DF9164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C24E-D44C-4893-B555-525A4A56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A228A4C-3F58-4C84-A049-765D09E2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F4456F1-E1C3-452E-A99A-C223279F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3C8B33B-391D-472E-A2C4-2B632907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9EA1DDC-DC6D-4129-80E2-A424041C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4137488-6944-4C9E-9854-A450A232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008EB76-DD5F-4C96-814D-660CAE02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F2C62E3-A87A-4EC0-BF55-A91382B7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0BCD1C0-2FDA-4D12-BE80-70EECE07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5ABF7DB-BF29-4850-9A0D-35BAB378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069F0F2-2140-4896-B209-CE22C40B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B5DB-54DE-437B-BC16-E51D7450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626F158-70FB-47D8-B68A-BA8CF11C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EFCC7B7-99EB-4E75-855B-709CF58D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EE67949-0FD5-4500-BA4F-AB1A3114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E9E5539-0EBF-4151-8B1B-4C2D7817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C1DD5AA-8342-4769-BBB4-C13A7DEB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A20C1F8-F277-4072-B225-39E260C3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5466A5D-B7FA-4011-82A9-7C8CA279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58B3683-D6A6-48ED-8395-03351658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DD8796-4024-49C6-9E60-F2E48C98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4713-6D94-4762-9845-B438F7A3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9EF4-15CF-4C3E-9F19-320CC03B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F7725-D768-4F0E-99AF-545583EB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DF459-7585-47B5-B799-09D571A3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40F198B-9366-4413-A952-D2DBCCB5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59CD330-A659-40E0-A67D-2D103B3B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03C8AC6-5412-4172-AF6E-8DB093F4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4FE62A7-5DE5-451E-9A12-F8DAE462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020A5DF-169C-499B-97D4-CB82D018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62DEF-426A-4E7F-B90D-B7D2E386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8493BFF-F795-49EC-8833-86EE4B76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F2D2FAD-2951-4A21-BC00-CF517EC0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DA80C76-31CC-4237-AD7D-07C6BDDC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C96B4F0-C1BD-40DC-AAEF-6BFA1998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A3A74B0-2EA3-449B-99D3-017AA8A9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0FE79A8-6FDC-4744-A897-17922641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A046D99-A199-45A7-971A-275292CC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EA66838-90B2-42FC-852D-35FBEE75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7CE4036-FB73-4A29-AA02-9555094A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D73357C-04C6-4DCA-8222-1BA1A0A7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CA8C5-2D68-43BA-9F02-07E817E1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254C2C3-29DE-40E6-8EDD-B477049B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C17C760-71A4-4320-B681-925613E7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54068C4-B1D6-4B54-A707-EC98F63E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89812DB-AE6C-445A-A5C0-DE31464F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FD13F1C-590A-4888-B54A-B6C83EE0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D238B10-29EE-4A83-8193-16F165D6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B44B058-3983-4FC9-8828-79C4D412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DE2A0EE-D1F9-4F81-8005-C5AD964B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EBE47A4-0EA9-4709-B36D-FC43DA6B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D95BEC9-22D8-47BB-9BE7-AF4EBF2C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B647-1816-49C2-B6A4-35C5E1C3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8614522-3C3D-4237-A1A4-76CA0FB9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E1459F9-A36A-4D49-8B95-ABD3985B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C87BC3E-3F8F-42BB-9396-D727F8A0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2A0759E-0B30-4D55-865E-D8FA2E2B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375E15B-3F83-4BCE-B0B6-35D2F477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DFEEAFA-87BD-4344-85EF-7E66F01A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AAD7BFC-2955-4EC2-A498-42A2277C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3C1BA51-AAB1-48A8-BF16-FD138060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71214B9-CCE2-4702-8A0E-80170723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37F6663-45E4-4153-9B17-C0CAE97B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9B8-2314-44F0-A5FE-464A935D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4F219-C8D1-494C-8F23-7A9A5D27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52D74B2-A4F4-46EA-AC69-41533664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90152B6-05BC-405A-97CF-4706768A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075909A-1B50-44BA-B997-A1A4EFBE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F771508-433E-432F-A0A8-27C84C84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D8437E4-87A6-40E1-8EC4-DBB4EB83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FA9869B-E756-40CD-AB6C-408F652F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7306AF4-EAAA-4608-B188-FF0D4B39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D4F1722-7D4B-40A7-B9BC-22478A15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B7BAFF8-1882-46EF-B9DF-D61B383F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F572C58-1B13-49C7-AF53-1C00E781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CFB9B-C7F3-44CB-AAF1-4EB9A46A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627ABA8-D4E3-47FF-A5E9-1A7B65E7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9E52384-BE6E-4AC9-9B50-894785DB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08CF5CA-E053-4388-AB6B-BEB2FC2C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F46A5-5969-4217-8B6F-FA2533A0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F6C43-B481-4EEB-A95D-1DD33A29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A91B66-3F10-4FD6-90B0-3CD0C342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AD44A6-0D9A-444E-B7E8-41D8828E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F8EFF7-FCBE-4905-982E-34A5A299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9A287-1B0C-496B-BE09-DD444D25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1B29A7-4043-40E9-B02D-E850C9FB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616A62-CA25-464C-A1A3-BA4898D4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FB40FD-1AEA-48A1-B938-D1A44752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6A544E-2D3C-419A-90DE-B1F5D817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1B0428-74D8-4DB1-A2FF-443B26DA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6A33FB-BD64-45A2-8F56-3688F510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FFA6CA-6FD6-458E-892D-31CCAE35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001A47-84A1-4F7A-97A4-08CBABF1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F0BBB3-92AF-4E5A-98D5-EDAED798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681909-4AC2-4794-BC3F-2F3D2922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DBC68-9326-4019-A760-51049F21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6BD42A-401A-426D-96E3-DBE2B1D8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7AF4FA-3B8F-4EE6-A5E0-00D99538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EA93C8-E0CB-4DFE-9DDC-40E14F0A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3599B7-C524-44BD-A05A-10B4DCBD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161F2D-E269-48A2-BBE7-A56AC4C6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9E7029-FD60-4FD0-AB0A-A8F1B72B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EA6D15-97DD-45C1-9E80-C338CBB9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EC2392-162B-431E-AD50-976F8F0B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1895EB-680C-44A8-A7CF-B2BDB988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5F37D7-1E1A-4675-9DF2-4D167D62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CE15C-8151-485B-BF21-96D98F11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6D1066-A7BC-4235-8D6B-29BF7F3A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9F6B5E-7CA5-4613-9C5A-C85E9228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47E699-A729-4490-AE64-F585347F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462DEC-D961-4F50-B083-BAAAAF25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5A820B-1612-4FCA-BB8B-9F73243A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A0F625-543F-474D-8C5E-238055B2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EE8E31-1360-4A6C-9933-16B81795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42D363-7749-4455-934D-39A915A1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1B45AF-6D75-4458-BF4F-2C648B25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946F9A-2F9C-4C49-A5B0-A892A1E5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80C98-DB75-47F5-8686-C87024F1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E898CF-42B8-4EF4-AF3A-9DD3D8E0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F797E6-F6BF-4773-97AD-40CD352F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96E099-335D-4053-B76F-A7E2C7ED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E77110-0B2F-4309-B5F9-DF313CB8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A05150-EBCA-4078-B03D-4655717B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BA3ACF-7D43-4346-A281-0F431F06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0AA05E-36FD-4DBC-B338-F893A7E7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7D8D51-F8AF-445B-AE8B-D478534B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3700C4-3804-40D3-B8B7-F7DD932F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63F55D-9285-410F-926F-1A011DB6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5C29B-2B3D-4AC6-A737-89B461AC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57C7D3-DA71-4AA8-BAD2-543BBCD1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067E09-8FE7-4C9A-992F-D233AA96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2BD1AC-B43E-4A5D-A5C0-892A16A0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3681BD-6B72-4D1C-9005-375F1CAD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8DBFED-2D67-41E0-87E0-179B2E72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658EC8-778A-44DB-BD8A-D7BB6F14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00B844-1CA8-4948-B94A-FD4CFF96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C071E8-FC13-4D80-9D88-FFCACF48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A185AB-D1A2-4BFE-B24B-0C46EF61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7A39D7-6ACA-4FDA-8264-60B4FF27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28ADD-9FAC-461E-9F82-B70F42A2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18F5D0-CDB6-433B-938F-A5388A1B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3A39DF-B119-44F2-9C9C-1A320923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E5DC25-E840-4A72-9F80-CB498DC1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EDD659-CCFE-4AC0-906D-C7A9FF2F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8E514D-C879-45B9-8BC5-96C259EE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D7B11C-0B02-419E-B624-2108D0D2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558C9F-A512-41CE-8FF4-5792757F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8CFC53-B2EC-461C-A12B-AFA4861A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CA04E5-DE69-4822-8899-BF33BF55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02F052-70C3-4B41-A4D7-34B968BE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8AF-2938-4DCC-9022-252C0E0D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3B573-A996-4BC7-83E7-DE386AE3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A294F4-692B-4FEB-9F78-5E105686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FFD5A3-2707-4622-8F1D-AD69E48D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C89CF4-2BE3-4B80-AE89-FE13CAC0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9566C5-1321-4A31-8AE7-B1867E00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F570DD-4E4F-47C1-A92B-CB252C6A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CC270D-48F7-4276-AD19-71753269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7545AD-E695-4A56-B186-816E8B87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B414ED-2CBA-40CA-A8E9-2E0E0750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BF8277-38FA-4EC7-9552-DED98E0E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78B32D-E99D-4D24-AAA2-22CB7189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74812-BC19-45C5-B310-3AD33A33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149F7B-F10E-4824-B88B-DAC01744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1690FC-646B-44AA-B7B3-CD58AC7F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3BF9A4-18DD-4FDB-A06C-AA28956C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91808A-735D-4E38-8105-A462ADB5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52E19F-3324-4ABD-89E4-E199B10C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DC1C4F-D312-40A2-BCA8-66C0199D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8F8D14-8D6A-462B-AF5E-E36F535D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DCD817-7DCB-476F-BBFA-BD1974E6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710402-ACDB-4FAA-9CE5-FB009689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231E7D-006E-4AB3-BB46-511FA2D5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AE0B9-67E4-4DAC-9C96-767E0DF7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C7480C-86AB-4350-8F5D-E17691A3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C02EF0-731F-4390-81E6-8D16D0C0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D8E61A-1908-45C7-A071-A717F716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0F9951-3FDC-4BAF-AF2F-C31CDAAC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F66591-1955-49BA-B7FA-CDA59C7D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8BA35C-ADE5-454D-8360-9F08CAE3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A76915-E3CC-44DF-A6E1-A778B732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EEAF9D-7FCA-4DFF-A20C-816111E5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BBE1BA8-3074-4389-8B34-6EF25870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1EF0CD-8E15-4C67-9480-3F7A62FF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CBCC5-F6A7-412C-A750-A02481DF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48A143-7AA8-456D-B2EC-AAC45778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F4D433-1E33-4B26-93B4-0E045506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24FA5B-B2A6-4FE1-AC39-CFA58A15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046D88-6D8D-4B72-BE6C-A2F59180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54145C-47A6-4424-BBDD-EA4A22BF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E6D624-051F-41CE-AC1E-636A06A2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7B6F21-F878-4AFC-9036-F6BCE1CF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4EB7CB-253B-4C76-B925-62D72B92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74F0F91-011D-4C22-83A2-F0F5AE9B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21A669-9650-451E-BC43-282C149D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8A993-D09F-49EB-87FA-8BA7E725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89883F0-92AE-4C2D-9C51-C688A98E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8B2D16-E913-4A23-B48D-9A54E7D5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991360-E3AE-43C3-9883-6A6556AB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F98BC32-828B-4DF5-98B1-6D7C3272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FBF194-CA9D-4D8F-90DD-78108C13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16A6C4-5D11-44CE-AF1F-BA0FA620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0D0239-691C-4D9B-AE5C-82C199D9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963A9C-00BC-4F49-8851-5657A779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7653C0-440C-4F11-BE97-50B80F77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595807-B130-4540-9AA6-F3867FE3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A5851-7CD1-44D6-8A33-57BDB135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DA7FCEA-FD98-4850-9342-9466832D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BE0D883-B40F-4B06-8B24-EC80F2FB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682CA5-0512-403F-A05D-E4FC0746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F260C5-9A69-4734-B5E2-3AFAF69D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6458EF6-22C1-481A-9BDC-7831F204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FB21EF-2B11-41CA-9AE1-AE4513EA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7D08225-750E-4157-8D35-5C8B66FB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AF2E2B-963F-47BC-820D-9EBBD336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936E7D-1F0A-4F4A-8A4E-C6FC95FB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001A0F-11E6-43EA-8530-8B03A320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30803-F911-4B9C-BA9B-7E9F4DA5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42040D-332A-4F91-A935-6A77F97E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4478DD-4E4D-470D-8F4A-48B235E1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04A36D4-FC37-4D37-BBF6-2795629F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B5FA8C3-F3D1-4879-8D70-FE5818CE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8817E5-AB61-4112-A43B-61FCEC05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134515-967A-4A8B-903A-D78265CC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35566BA-6488-4D2D-B713-3FDFCFCB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43E477-D4E4-4382-9B54-32CB9C5A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185B566-074E-4C96-B046-95008C94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72B052-99C1-43BE-A9C4-F6169206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0AF33-5A08-4F20-A0B7-1AA81DA3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39411D-C248-49FC-9DA3-5411C36D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26D236-4AC8-4747-AC20-3E28C52A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9CF633-C1DB-4CD7-92D8-22D2238F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46FE97-CF0D-4457-B26A-3270EA8E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C71046-5FD8-43BC-B968-C3919CB5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1A2ACD-82F0-485B-B246-A19F171D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F06E43-E962-4D9E-874C-0736979B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98865E3-93A4-4AFE-88CB-4543FE0A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CA0CEA3-7F99-46C8-93B8-58BF9713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581367-5585-4841-BD65-1715A9EA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EAB92-F634-4043-B06E-D0729459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6F8FC0-08F1-4326-993A-A6D3B804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F66427-B161-46FB-9484-ED767227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35E6941-F645-43C6-A31C-8853B658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7EDA286-2C48-4613-AAD3-5FC30F8C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4471B52-D771-4F76-8CA2-85E48923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28D006B-BD99-48F2-8309-18842EA3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A259F9-FF47-4CDE-AD03-5C17B115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AC198B5-9968-4B69-B865-90F9677A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959E38-819F-4A44-8BAE-4C2DB7C5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1E70F5A-69B8-436E-B00E-3AD2C6B3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D40F6-C2BA-40A3-A022-348AF0E3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16E2F9F-78EC-477B-A4F1-9772DCA9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9A03F50-6900-481B-9C89-5526B208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626660A-CE3E-4A08-8494-2E28665C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CBF2-FBCB-49E3-886C-5A5CCE0D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EAD4F-1A07-465F-B7A0-1F3C41B9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254C3-598F-483F-AF4C-C42A7B2D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81118-5771-479F-8BB9-2D8ADE16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A467E-6442-4DBC-B119-BB3F3F2F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FF1BF-7675-44CB-9F73-15594F06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48322-17C5-4988-8385-3587C7B3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03F84-58EB-4528-8E7A-CC72EBD6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325E0-D28E-4D43-B143-426E318B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692B1-6F3E-4DC0-8A0B-701EE89A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4F1F7-5676-4293-8B27-566ADD0D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AAD-7D23-4F07-88F0-360A6A6A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D4E66-A053-45C9-8950-C7261243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DDFA19-C52D-46A9-A9B8-15CFA03365A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8248AD-FD56-499C-87EF-3EECF2DFD42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09979-D8E9-421F-9CE6-A53965B0481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C04A4-4B6D-4B10-ACD9-224779A56EB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BCF362-C2F3-4729-A75D-9EF47FCC9E9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0F1DA1-0646-48F3-807A-D9CA2E7356B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AB17D7-40FF-4EA0-AE91-A039E16121D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F5700-FEBE-4933-88D8-99DD8D4BBBD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C0691A-63D0-4BAE-8D81-D8A99882B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8E4-8D14-4E0A-A1E8-994EE751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089DC1-C810-473E-94A0-DFEE9D8F77C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A6425B-E2BD-4628-A2C2-ECDC6794CC9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A0AFD-2D65-437A-9AE5-F3135D59148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C9526A-4C90-4822-8F2A-8B37308E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89BCB4-90AF-4888-9BDF-62F9C5EE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FDFC49-46C5-4B1B-85A5-7CF3E2D2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E372FA-6FBD-471E-9C30-0FD69589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76976C-38FC-4DD9-A8B9-68D28BA9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373B66-9C1D-4FEC-A36C-6172C8F3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0F2EEA-EC48-4D43-8516-F5136E06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847-69F4-48F7-B5BB-3B117030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270785-8ADA-4660-B936-4C362B53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32C369-7F22-42A0-9C35-AA6662E3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35EA82-3CA0-49EE-874D-F4108A31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2BAA3-E315-49E8-8920-F64CE7D5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5B286F-CD0A-487A-861C-F4818E56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783288-83EF-4F75-A0C7-2E715D26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E833CE-8047-45E1-85B5-65632462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3FD897-61F8-4305-BAB4-3747B039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7A8B08-305E-4DB6-81FD-B4CB14F7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D2FD67-A4B3-47FF-A91A-CE809DB8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C9E-4D22-4561-B843-360FEB4D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232FFC-79B5-4159-82C9-E4BE24A6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7B0780-EEFB-46CF-9670-5D24D2F1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8E3E2A-44DE-4791-9EFE-04C9BFB0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70E0C4-97F0-4374-9D0C-061EA5BC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0F3E27-3EC0-4539-AED4-DE0F5BC3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F5414D-FBF8-4F65-BE11-26942239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0D5678-82EA-4CA0-B10E-6E66AB5A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90241C-32CF-47B2-AC0B-320ECC67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B3B708-45F6-4470-8FD7-3807BB73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E0F50A-C317-4704-9C78-1E405880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2C56-C6F9-4DA1-B782-C0EB42DAF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8A95-5A42-4882-94D7-01407F3316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4C26-0DEA-46C1-847E-FE282D7FC2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77C9-E3AD-40F5-9586-FE14B710F9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4340-B05F-4DCE-A77F-A90557FC0D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33A3-F8D9-4A30-847C-7A84CDF850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AB87-CD75-4747-9C03-49F9AD313E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C476-5E70-4E96-BAF5-BFA380CEA4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2AAD-2E9B-4A7F-BA5D-37158A08F9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1D56-4B24-4FAA-8FFA-BA04D0C4D5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EFED-89EF-462C-AA15-33717FBBB3E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5469-DCE2-4C44-A1C0-2C6B33B0C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5620-1068-4FD6-8421-2462C8C0B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5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ftr" idx="5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0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6713-9717-46C1-A391-A3C2E5C890B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4172-4091-418E-9196-2897EFE55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4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6431-158A-4B19-9AC3-71F188B0A62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4273-1B50-4B8F-8095-B747EE6AF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8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E010-C040-4D81-B5A6-D97DD15DA7E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6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6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7513-569F-4121-BC96-CC1C413AE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3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FBB3-FEDD-4AE0-9806-B3EC5FC7D29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ftr" idx="6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sldNum" idx="7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A670-6A37-4FAC-96EB-950152074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7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A8D7-889C-4266-9D7C-7787295A1DB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ftr" idx="72"/>
          </p:nvPr>
        </p:nvSpPr>
        <p:spPr>
          <a:xfrm>
            <a:off x="6019560" y="632412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5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2A4A-6410-4A6B-AB85-E3CFA363708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 type="ftr" idx="7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 type="sldNum" idx="7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F128-55F9-4A59-B79B-6BD201CC2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F887-B334-47A0-9216-FB8B82EDA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9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9153-2FDE-45AC-B01A-E47BB35F98D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 type="ftr" idx="7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 type="sldNum" idx="7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1727-6971-4722-80A5-3DB660304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4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142A-FC9B-4A0B-A1C8-F2F9BC2475D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ftr" idx="8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 type="sldNum" idx="8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FB3E-08BF-4B25-88E9-9AD8E1870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94E6-F832-4DE3-AF9E-285BF9B4B94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 type="ftr" idx="8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 type="sldNum" idx="8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DCD7-0A50-4798-AD4B-DAD52B0AE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32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B7BF-91B7-44E3-9122-6EE1969F5B7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8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4261-5B88-49CD-B6C9-B2336A5ED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37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CF78-E06B-455C-ABCC-8C8DEFC7FE6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8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793C-A1A1-4641-852B-7D13585B4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41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6F96-51CA-4E83-ADD3-D0D52370C05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2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3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D537-CB16-4512-8A99-4E328DF0A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4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Box 7"/>
          <p:cNvSpPr/>
          <p:nvPr/>
        </p:nvSpPr>
        <p:spPr>
          <a:xfrm>
            <a:off x="454680" y="1687680"/>
            <a:ext cx="146088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ound Same Side Corner Rectangle 8"/>
          <p:cNvSpPr/>
          <p:nvPr/>
        </p:nvSpPr>
        <p:spPr>
          <a:xfrm>
            <a:off x="3726000" y="847800"/>
            <a:ext cx="2057400" cy="447480"/>
          </a:xfrm>
          <a:prstGeom prst="pie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WHAT WE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C591-2804-4631-AC6C-A3B0DC94010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 type="ftr" idx="9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 type="sldNum" idx="9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F1F1-8597-4D0A-94DA-9CB7F18A9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0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8C1A-DA88-4D49-BABD-ED207E7C5F5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ftr" idx="9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 type="sldNum" idx="9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BC0A-2CD0-4E64-9A3B-D370D826C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4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7A87-D2AC-4F5B-9F34-99B5320AFB4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 type="ftr" idx="10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 type="sldNum" idx="10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E6E7-B3F3-4052-8DAD-2E3CACE3A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8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4207-EFD6-47E7-89BB-BBFA7FE61C1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 type="ftr" idx="10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 type="sldNum" idx="10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D3A5-0913-4422-BAAA-AAFF027F9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F14D-22F0-4EE0-AA24-79D1CC0E5C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63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4228-0517-4DBD-979C-ABC63348B24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ftr" idx="10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 type="sldNum" idx="10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69C8-358B-43C0-9C67-67EB7AD57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67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66BE-988A-45B3-88F4-943506594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C566-CB02-4776-BAE4-CB3E874FD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49F6-4DAB-4AEB-9B34-D76CEAD04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3933-5581-404C-A28E-316EAD907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AF82-5C3D-4C50-9A07-76B45416DD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B599-4DC5-4805-9F01-1D9F3FC639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jpeg"/><Relationship Id="rId15" Type="http://schemas.openxmlformats.org/officeDocument/2006/relationships/image" Target="../media/image26.png"/><Relationship Id="rId16" Type="http://schemas.openxmlformats.org/officeDocument/2006/relationships/image" Target="../media/image27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wmf"/><Relationship Id="rId20" Type="http://schemas.openxmlformats.org/officeDocument/2006/relationships/image" Target="../media/image31.jpeg"/><Relationship Id="rId21" Type="http://schemas.openxmlformats.org/officeDocument/2006/relationships/image" Target="../media/image32.jpeg"/><Relationship Id="rId22" Type="http://schemas.openxmlformats.org/officeDocument/2006/relationships/image" Target="../media/image33.jpe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image" Target="../media/image36.png"/><Relationship Id="rId26" Type="http://schemas.openxmlformats.org/officeDocument/2006/relationships/slideLayout" Target="../slideLayouts/slideLayout241.xml"/><Relationship Id="rId2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wmf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wmf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wmf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5" name="Subtitle 2" descr=""/>
          <p:cNvPicPr/>
          <p:nvPr/>
        </p:nvPicPr>
        <p:blipFill>
          <a:blip r:embed="rId1"/>
          <a:stretch/>
        </p:blipFill>
        <p:spPr>
          <a:xfrm>
            <a:off x="1139760" y="3389400"/>
            <a:ext cx="6688080" cy="2103480"/>
          </a:xfrm>
          <a:prstGeom prst="rect">
            <a:avLst/>
          </a:prstGeom>
          <a:ln w="0">
            <a:noFill/>
          </a:ln>
        </p:spPr>
      </p:pic>
      <p:sp>
        <p:nvSpPr>
          <p:cNvPr id="1726" name="TextBox 4"/>
          <p:cNvSpPr/>
          <p:nvPr/>
        </p:nvSpPr>
        <p:spPr>
          <a:xfrm>
            <a:off x="304920" y="268200"/>
            <a:ext cx="8610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Calibri"/>
              </a:rPr>
              <a:t>Sustainable intensification of maize-legume-livestock integrated farming systems in Eastern and Souther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alibri"/>
              </a:rPr>
              <a:t>IITA-Dar es Salaam, Tanzania, 6-9 Feb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7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1728" name="Rectangle 8" descr=""/>
          <p:cNvPicPr/>
          <p:nvPr/>
        </p:nvPicPr>
        <p:blipFill>
          <a:blip r:embed="rId3"/>
          <a:stretch/>
        </p:blipFill>
        <p:spPr>
          <a:xfrm>
            <a:off x="378000" y="1719360"/>
            <a:ext cx="8619840" cy="1176120"/>
          </a:xfrm>
          <a:prstGeom prst="rect">
            <a:avLst/>
          </a:prstGeom>
          <a:ln w="0">
            <a:noFill/>
          </a:ln>
        </p:spPr>
      </p:pic>
      <p:pic>
        <p:nvPicPr>
          <p:cNvPr id="1729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1730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1731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type Intensification I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9" name="Picture 2" descr=""/>
          <p:cNvPicPr/>
          <p:nvPr/>
        </p:nvPicPr>
        <p:blipFill>
          <a:blip r:embed="rId1"/>
          <a:stretch/>
        </p:blipFill>
        <p:spPr>
          <a:xfrm>
            <a:off x="498600" y="1219320"/>
            <a:ext cx="8378640" cy="5511600"/>
          </a:xfrm>
          <a:prstGeom prst="rect">
            <a:avLst/>
          </a:prstGeom>
          <a:ln w="0">
            <a:noFill/>
          </a:ln>
        </p:spPr>
      </p:pic>
      <p:sp>
        <p:nvSpPr>
          <p:cNvPr id="1860" name="TextBox 2"/>
          <p:cNvSpPr/>
          <p:nvPr/>
        </p:nvSpPr>
        <p:spPr>
          <a:xfrm>
            <a:off x="290880" y="6478560"/>
            <a:ext cx="453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: Based on Agricultural Sample Enumeration 2001-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rm-Scale Crop Enterprises (Tanzani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2" name="Picture 2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05800" cy="5639040"/>
          </a:xfrm>
          <a:prstGeom prst="rect">
            <a:avLst/>
          </a:prstGeom>
          <a:ln w="0">
            <a:noFill/>
          </a:ln>
        </p:spPr>
      </p:pic>
      <p:sp>
        <p:nvSpPr>
          <p:cNvPr id="1863" name="TextBox 3"/>
          <p:cNvSpPr/>
          <p:nvPr/>
        </p:nvSpPr>
        <p:spPr>
          <a:xfrm>
            <a:off x="354600" y="647856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: Based on Tanzania Agricultural Census 2007-08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based on minimum land area allocation or 0.02ha per cro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4" name="Group 26"/>
          <p:cNvGrpSpPr/>
          <p:nvPr/>
        </p:nvGrpSpPr>
        <p:grpSpPr>
          <a:xfrm>
            <a:off x="380880" y="2895480"/>
            <a:ext cx="3429000" cy="3447000"/>
            <a:chOff x="380880" y="2895480"/>
            <a:chExt cx="3429000" cy="3447000"/>
          </a:xfrm>
        </p:grpSpPr>
        <p:pic>
          <p:nvPicPr>
            <p:cNvPr id="1865" name="Picture 17" descr="Objective3_Walsh_Page_10_Image_0001.jpg"/>
            <p:cNvPicPr/>
            <p:nvPr/>
          </p:nvPicPr>
          <p:blipFill>
            <a:blip r:embed="rId1"/>
            <a:stretch/>
          </p:blipFill>
          <p:spPr>
            <a:xfrm>
              <a:off x="380880" y="2895480"/>
              <a:ext cx="1773360" cy="18288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66" name="TextBox 22"/>
            <p:cNvSpPr/>
            <p:nvPr/>
          </p:nvSpPr>
          <p:spPr>
            <a:xfrm>
              <a:off x="456840" y="5943600"/>
              <a:ext cx="335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Ele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Group 33"/>
          <p:cNvGrpSpPr/>
          <p:nvPr/>
        </p:nvGrpSpPr>
        <p:grpSpPr>
          <a:xfrm>
            <a:off x="379440" y="3124080"/>
            <a:ext cx="3352680" cy="3218400"/>
            <a:chOff x="379440" y="3124080"/>
            <a:chExt cx="3352680" cy="3218400"/>
          </a:xfrm>
        </p:grpSpPr>
        <p:pic>
          <p:nvPicPr>
            <p:cNvPr id="1868" name="Picture 18" descr="Objective3_Walsh_Page_10_Image_0003.jpg"/>
            <p:cNvPicPr/>
            <p:nvPr/>
          </p:nvPicPr>
          <p:blipFill>
            <a:blip r:embed="rId2"/>
            <a:stretch/>
          </p:blipFill>
          <p:spPr>
            <a:xfrm>
              <a:off x="469080" y="3124080"/>
              <a:ext cx="1752480" cy="182016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69" name="TextBox 32"/>
            <p:cNvSpPr/>
            <p:nvPr/>
          </p:nvSpPr>
          <p:spPr>
            <a:xfrm>
              <a:off x="379440" y="5943600"/>
              <a:ext cx="3352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lope, aspect, drain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0" name="Group 35"/>
          <p:cNvGrpSpPr/>
          <p:nvPr/>
        </p:nvGrpSpPr>
        <p:grpSpPr>
          <a:xfrm>
            <a:off x="345960" y="3352680"/>
            <a:ext cx="3353040" cy="2980440"/>
            <a:chOff x="345960" y="3352680"/>
            <a:chExt cx="3353040" cy="2980440"/>
          </a:xfrm>
        </p:grpSpPr>
        <p:pic>
          <p:nvPicPr>
            <p:cNvPr id="1871" name="Picture 12" descr="point_thresholds_all.jpg"/>
            <p:cNvPicPr/>
            <p:nvPr/>
          </p:nvPicPr>
          <p:blipFill>
            <a:blip r:embed="rId3"/>
            <a:stretch/>
          </p:blipFill>
          <p:spPr>
            <a:xfrm>
              <a:off x="556560" y="3352680"/>
              <a:ext cx="1752840" cy="183024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72" name="TextBox 34"/>
            <p:cNvSpPr/>
            <p:nvPr/>
          </p:nvSpPr>
          <p:spPr>
            <a:xfrm>
              <a:off x="345960" y="5934240"/>
              <a:ext cx="335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ettlements, ports, marke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Group 37"/>
          <p:cNvGrpSpPr/>
          <p:nvPr/>
        </p:nvGrpSpPr>
        <p:grpSpPr>
          <a:xfrm>
            <a:off x="250920" y="3505320"/>
            <a:ext cx="3352680" cy="2837160"/>
            <a:chOff x="250920" y="3505320"/>
            <a:chExt cx="3352680" cy="2837160"/>
          </a:xfrm>
        </p:grpSpPr>
        <p:pic>
          <p:nvPicPr>
            <p:cNvPr id="1874" name="Picture 6" descr=""/>
            <p:cNvPicPr/>
            <p:nvPr/>
          </p:nvPicPr>
          <p:blipFill>
            <a:blip r:embed="rId4"/>
            <a:stretch/>
          </p:blipFill>
          <p:spPr>
            <a:xfrm>
              <a:off x="631800" y="3505320"/>
              <a:ext cx="18478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TextBox 36"/>
            <p:cNvSpPr/>
            <p:nvPr/>
          </p:nvSpPr>
          <p:spPr>
            <a:xfrm>
              <a:off x="250920" y="5943600"/>
              <a:ext cx="3352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oad, rail, river, ICT networ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6" name="Group 48"/>
          <p:cNvGrpSpPr/>
          <p:nvPr/>
        </p:nvGrpSpPr>
        <p:grpSpPr>
          <a:xfrm>
            <a:off x="222120" y="3733920"/>
            <a:ext cx="3276720" cy="2608560"/>
            <a:chOff x="222120" y="3733920"/>
            <a:chExt cx="3276720" cy="2608560"/>
          </a:xfrm>
        </p:grpSpPr>
        <p:grpSp>
          <p:nvGrpSpPr>
            <p:cNvPr id="1877" name="Group 45"/>
            <p:cNvGrpSpPr/>
            <p:nvPr/>
          </p:nvGrpSpPr>
          <p:grpSpPr>
            <a:xfrm>
              <a:off x="771840" y="3733920"/>
              <a:ext cx="1828800" cy="1828800"/>
              <a:chOff x="771840" y="3733920"/>
              <a:chExt cx="1828800" cy="1828800"/>
            </a:xfrm>
          </p:grpSpPr>
          <p:pic>
            <p:nvPicPr>
              <p:cNvPr id="1878" name="Picture 8" descr=""/>
              <p:cNvPicPr/>
              <p:nvPr/>
            </p:nvPicPr>
            <p:blipFill>
              <a:blip r:embed="rId5"/>
              <a:stretch/>
            </p:blipFill>
            <p:spPr>
              <a:xfrm>
                <a:off x="771840" y="3733920"/>
                <a:ext cx="1828800" cy="182880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879" name="Rectangle 35"/>
              <p:cNvSpPr/>
              <p:nvPr/>
            </p:nvSpPr>
            <p:spPr>
              <a:xfrm>
                <a:off x="923400" y="480060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0" name="TextBox 46"/>
            <p:cNvSpPr/>
            <p:nvPr/>
          </p:nvSpPr>
          <p:spPr>
            <a:xfrm>
              <a:off x="222120" y="5943600"/>
              <a:ext cx="32767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arket travel times &amp;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280800" y="22032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unger, Poverty &amp; Productivit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atial Covariates/Proxies &amp; Analytical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2" name="Group 50"/>
          <p:cNvGrpSpPr/>
          <p:nvPr/>
        </p:nvGrpSpPr>
        <p:grpSpPr>
          <a:xfrm>
            <a:off x="176040" y="3886200"/>
            <a:ext cx="3657600" cy="2456280"/>
            <a:chOff x="176040" y="3886200"/>
            <a:chExt cx="3657600" cy="2456280"/>
          </a:xfrm>
        </p:grpSpPr>
        <p:sp>
          <p:nvSpPr>
            <p:cNvPr id="1883" name="TextBox 49"/>
            <p:cNvSpPr/>
            <p:nvPr/>
          </p:nvSpPr>
          <p:spPr>
            <a:xfrm>
              <a:off x="176040" y="5943600"/>
              <a:ext cx="3657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ort travel times &amp;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4" name="Picture 42" descr="Ports&amp;Markestheds.jpg"/>
            <p:cNvPicPr/>
            <p:nvPr/>
          </p:nvPicPr>
          <p:blipFill>
            <a:blip r:embed="rId6"/>
            <a:stretch/>
          </p:blipFill>
          <p:spPr>
            <a:xfrm>
              <a:off x="901440" y="3886200"/>
              <a:ext cx="1841040" cy="184284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</p:grpSp>
      <p:sp>
        <p:nvSpPr>
          <p:cNvPr id="1885" name="TextBox 51"/>
          <p:cNvSpPr/>
          <p:nvPr/>
        </p:nvSpPr>
        <p:spPr>
          <a:xfrm>
            <a:off x="330120" y="1484280"/>
            <a:ext cx="210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rrain, Demograp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frastructure, Admin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TextBox 52"/>
          <p:cNvSpPr/>
          <p:nvPr/>
        </p:nvSpPr>
        <p:spPr>
          <a:xfrm>
            <a:off x="2324160" y="1600200"/>
            <a:ext cx="21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vironment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Box 53"/>
          <p:cNvSpPr/>
          <p:nvPr/>
        </p:nvSpPr>
        <p:spPr>
          <a:xfrm>
            <a:off x="4240080" y="1600200"/>
            <a:ext cx="21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s &amp;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Box 54"/>
          <p:cNvSpPr/>
          <p:nvPr/>
        </p:nvSpPr>
        <p:spPr>
          <a:xfrm>
            <a:off x="6019920" y="1676520"/>
            <a:ext cx="21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ven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9" name="Group 33"/>
          <p:cNvGrpSpPr/>
          <p:nvPr/>
        </p:nvGrpSpPr>
        <p:grpSpPr>
          <a:xfrm>
            <a:off x="0" y="2895480"/>
            <a:ext cx="4800600" cy="3447000"/>
            <a:chOff x="0" y="2895480"/>
            <a:chExt cx="4800600" cy="3447000"/>
          </a:xfrm>
        </p:grpSpPr>
        <p:pic>
          <p:nvPicPr>
            <p:cNvPr id="1890" name="Picture 30" descr="annex2_acz.jpg"/>
            <p:cNvPicPr/>
            <p:nvPr/>
          </p:nvPicPr>
          <p:blipFill>
            <a:blip r:embed="rId7"/>
            <a:stretch/>
          </p:blipFill>
          <p:spPr>
            <a:xfrm>
              <a:off x="2514600" y="2895480"/>
              <a:ext cx="1905120" cy="19810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91" name="TextBox 31"/>
            <p:cNvSpPr/>
            <p:nvPr/>
          </p:nvSpPr>
          <p:spPr>
            <a:xfrm>
              <a:off x="0" y="5943600"/>
              <a:ext cx="4800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Agroecological Z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2" name="Group 44"/>
          <p:cNvGrpSpPr/>
          <p:nvPr/>
        </p:nvGrpSpPr>
        <p:grpSpPr>
          <a:xfrm>
            <a:off x="2311560" y="3048120"/>
            <a:ext cx="2971800" cy="3264120"/>
            <a:chOff x="2311560" y="3048120"/>
            <a:chExt cx="2971800" cy="3264120"/>
          </a:xfrm>
        </p:grpSpPr>
        <p:grpSp>
          <p:nvGrpSpPr>
            <p:cNvPr id="1893" name="Group 42"/>
            <p:cNvGrpSpPr/>
            <p:nvPr/>
          </p:nvGrpSpPr>
          <p:grpSpPr>
            <a:xfrm>
              <a:off x="2616120" y="3048120"/>
              <a:ext cx="1828800" cy="1869480"/>
              <a:chOff x="2616120" y="3048120"/>
              <a:chExt cx="1828800" cy="1869480"/>
            </a:xfrm>
          </p:grpSpPr>
          <p:pic>
            <p:nvPicPr>
              <p:cNvPr id="1894" name="Picture 40" descr="annex2_agext.jpg"/>
              <p:cNvPicPr/>
              <p:nvPr/>
            </p:nvPicPr>
            <p:blipFill>
              <a:blip r:embed="rId8"/>
              <a:stretch/>
            </p:blipFill>
            <p:spPr>
              <a:xfrm>
                <a:off x="2616120" y="3048120"/>
                <a:ext cx="1828800" cy="1869480"/>
              </a:xfrm>
              <a:prstGeom prst="rect">
                <a:avLst/>
              </a:prstGeom>
              <a:ln w="22320">
                <a:solidFill>
                  <a:srgbClr val="385d8a"/>
                </a:solidFill>
                <a:miter/>
              </a:ln>
            </p:spPr>
          </p:pic>
          <p:pic>
            <p:nvPicPr>
              <p:cNvPr id="1895" name="Picture 41" descr="annex2_agext.jpg"/>
              <p:cNvPicPr/>
              <p:nvPr/>
            </p:nvPicPr>
            <p:blipFill>
              <a:blip r:embed="rId9"/>
              <a:stretch/>
            </p:blipFill>
            <p:spPr>
              <a:xfrm>
                <a:off x="2624760" y="4101480"/>
                <a:ext cx="685800" cy="71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96" name="TextBox 43"/>
            <p:cNvSpPr/>
            <p:nvPr/>
          </p:nvSpPr>
          <p:spPr>
            <a:xfrm>
              <a:off x="2311560" y="5943960"/>
              <a:ext cx="2971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land extent &amp; int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7" name="Group 60"/>
          <p:cNvGrpSpPr/>
          <p:nvPr/>
        </p:nvGrpSpPr>
        <p:grpSpPr>
          <a:xfrm>
            <a:off x="2072160" y="3200400"/>
            <a:ext cx="3658320" cy="3111840"/>
            <a:chOff x="2072160" y="3200400"/>
            <a:chExt cx="3658320" cy="3111840"/>
          </a:xfrm>
        </p:grpSpPr>
        <p:pic>
          <p:nvPicPr>
            <p:cNvPr id="1898" name="Picture 13" descr="cpartellus-africa-gis-high res-trimmed"/>
            <p:cNvPicPr/>
            <p:nvPr/>
          </p:nvPicPr>
          <p:blipFill>
            <a:blip r:embed="rId10"/>
            <a:stretch/>
          </p:blipFill>
          <p:spPr>
            <a:xfrm>
              <a:off x="2716920" y="3200400"/>
              <a:ext cx="1910160" cy="199512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99" name="TextBox 59"/>
            <p:cNvSpPr/>
            <p:nvPr/>
          </p:nvSpPr>
          <p:spPr>
            <a:xfrm>
              <a:off x="2072160" y="5943960"/>
              <a:ext cx="3658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ests &amp; Diseases (Maize Stem Bor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0" name="Group 63"/>
          <p:cNvGrpSpPr/>
          <p:nvPr/>
        </p:nvGrpSpPr>
        <p:grpSpPr>
          <a:xfrm>
            <a:off x="2057400" y="3340080"/>
            <a:ext cx="3657600" cy="2972160"/>
            <a:chOff x="2057400" y="3340080"/>
            <a:chExt cx="3657600" cy="2972160"/>
          </a:xfrm>
        </p:grpSpPr>
        <p:pic>
          <p:nvPicPr>
            <p:cNvPr id="1901" name="Picture 7" descr=""/>
            <p:cNvPicPr/>
            <p:nvPr/>
          </p:nvPicPr>
          <p:blipFill>
            <a:blip r:embed="rId11"/>
            <a:stretch/>
          </p:blipFill>
          <p:spPr>
            <a:xfrm>
              <a:off x="2806560" y="3340080"/>
              <a:ext cx="196092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2" name="TextBox 62"/>
            <p:cNvSpPr/>
            <p:nvPr/>
          </p:nvSpPr>
          <p:spPr>
            <a:xfrm>
              <a:off x="2057400" y="5943960"/>
              <a:ext cx="3657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rought Incidence &amp; Seve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Group 66"/>
          <p:cNvGrpSpPr/>
          <p:nvPr/>
        </p:nvGrpSpPr>
        <p:grpSpPr>
          <a:xfrm>
            <a:off x="2093760" y="3479760"/>
            <a:ext cx="3429000" cy="2832480"/>
            <a:chOff x="2093760" y="3479760"/>
            <a:chExt cx="3429000" cy="2832480"/>
          </a:xfrm>
        </p:grpSpPr>
        <p:pic>
          <p:nvPicPr>
            <p:cNvPr id="1904" name="Picture 15" descr=""/>
            <p:cNvPicPr/>
            <p:nvPr/>
          </p:nvPicPr>
          <p:blipFill>
            <a:blip r:embed="rId12"/>
            <a:stretch/>
          </p:blipFill>
          <p:spPr>
            <a:xfrm>
              <a:off x="2932920" y="3479760"/>
              <a:ext cx="1905120" cy="20584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05" name="TextBox 65"/>
            <p:cNvSpPr/>
            <p:nvPr/>
          </p:nvSpPr>
          <p:spPr>
            <a:xfrm>
              <a:off x="2093760" y="5943960"/>
              <a:ext cx="3429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un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Group 84"/>
          <p:cNvGrpSpPr/>
          <p:nvPr/>
        </p:nvGrpSpPr>
        <p:grpSpPr>
          <a:xfrm>
            <a:off x="-304920" y="4013280"/>
            <a:ext cx="3357360" cy="2387520"/>
            <a:chOff x="-304920" y="4013280"/>
            <a:chExt cx="3357360" cy="2387520"/>
          </a:xfrm>
        </p:grpSpPr>
        <p:grpSp>
          <p:nvGrpSpPr>
            <p:cNvPr id="1907" name="Group 82"/>
            <p:cNvGrpSpPr/>
            <p:nvPr/>
          </p:nvGrpSpPr>
          <p:grpSpPr>
            <a:xfrm>
              <a:off x="918000" y="4013280"/>
              <a:ext cx="2134440" cy="2298600"/>
              <a:chOff x="918000" y="4013280"/>
              <a:chExt cx="2134440" cy="2298600"/>
            </a:xfrm>
          </p:grpSpPr>
          <p:pic>
            <p:nvPicPr>
              <p:cNvPr id="1908" name="Picture 2" descr=""/>
              <p:cNvPicPr/>
              <p:nvPr/>
            </p:nvPicPr>
            <p:blipFill>
              <a:blip r:embed="rId13"/>
              <a:stretch/>
            </p:blipFill>
            <p:spPr>
              <a:xfrm>
                <a:off x="1003320" y="4013280"/>
                <a:ext cx="1905480" cy="181188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909" name="TextBox 81"/>
              <p:cNvSpPr/>
              <p:nvPr/>
            </p:nvSpPr>
            <p:spPr>
              <a:xfrm>
                <a:off x="918000" y="5943600"/>
                <a:ext cx="2134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dministrative Uni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0" name="Rectangle 83"/>
            <p:cNvSpPr/>
            <p:nvPr/>
          </p:nvSpPr>
          <p:spPr>
            <a:xfrm>
              <a:off x="-304920" y="5943600"/>
              <a:ext cx="121932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1" name="Group 73"/>
          <p:cNvGrpSpPr/>
          <p:nvPr/>
        </p:nvGrpSpPr>
        <p:grpSpPr>
          <a:xfrm>
            <a:off x="2422440" y="2882880"/>
            <a:ext cx="4191120" cy="3429360"/>
            <a:chOff x="2422440" y="2882880"/>
            <a:chExt cx="4191120" cy="3429360"/>
          </a:xfrm>
        </p:grpSpPr>
        <p:pic>
          <p:nvPicPr>
            <p:cNvPr id="1912" name="Picture 67" descr="SSA_en.jpg"/>
            <p:cNvPicPr/>
            <p:nvPr/>
          </p:nvPicPr>
          <p:blipFill>
            <a:blip r:embed="rId14"/>
            <a:stretch/>
          </p:blipFill>
          <p:spPr>
            <a:xfrm>
              <a:off x="4521600" y="2882880"/>
              <a:ext cx="1930680" cy="20574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13" name="TextBox 68"/>
            <p:cNvSpPr/>
            <p:nvPr/>
          </p:nvSpPr>
          <p:spPr>
            <a:xfrm>
              <a:off x="2422440" y="5943960"/>
              <a:ext cx="4191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arming 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4" name="Group 74"/>
          <p:cNvGrpSpPr/>
          <p:nvPr/>
        </p:nvGrpSpPr>
        <p:grpSpPr>
          <a:xfrm>
            <a:off x="4164120" y="3009960"/>
            <a:ext cx="3352680" cy="3339360"/>
            <a:chOff x="4164120" y="3009960"/>
            <a:chExt cx="3352680" cy="3339360"/>
          </a:xfrm>
        </p:grpSpPr>
        <p:pic>
          <p:nvPicPr>
            <p:cNvPr id="1915" name="Picture 3" descr=""/>
            <p:cNvPicPr/>
            <p:nvPr/>
          </p:nvPicPr>
          <p:blipFill>
            <a:blip r:embed="rId15"/>
            <a:stretch/>
          </p:blipFill>
          <p:spPr>
            <a:xfrm>
              <a:off x="4659120" y="3009960"/>
              <a:ext cx="1905120" cy="2057400"/>
            </a:xfrm>
            <a:prstGeom prst="rect">
              <a:avLst/>
            </a:prstGeom>
            <a:ln w="22320">
              <a:solidFill>
                <a:srgbClr val="385d8a"/>
              </a:solidFill>
              <a:miter/>
            </a:ln>
          </p:spPr>
        </p:pic>
        <p:sp>
          <p:nvSpPr>
            <p:cNvPr id="1916" name="TextBox 71"/>
            <p:cNvSpPr/>
            <p:nvPr/>
          </p:nvSpPr>
          <p:spPr>
            <a:xfrm>
              <a:off x="4164120" y="5981040"/>
              <a:ext cx="335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 Suitability: Rainfed Whe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7" name="Group 78"/>
          <p:cNvGrpSpPr/>
          <p:nvPr/>
        </p:nvGrpSpPr>
        <p:grpSpPr>
          <a:xfrm>
            <a:off x="3963960" y="2921040"/>
            <a:ext cx="3367080" cy="3402720"/>
            <a:chOff x="3963960" y="2921040"/>
            <a:chExt cx="3367080" cy="3402720"/>
          </a:xfrm>
        </p:grpSpPr>
        <p:pic>
          <p:nvPicPr>
            <p:cNvPr id="1918" name="Picture 3" descr="cropmap_pulse3"/>
            <p:cNvPicPr/>
            <p:nvPr/>
          </p:nvPicPr>
          <p:blipFill>
            <a:blip r:embed="rId16"/>
            <a:stretch/>
          </p:blipFill>
          <p:spPr>
            <a:xfrm>
              <a:off x="3963960" y="2921040"/>
              <a:ext cx="2762640" cy="266616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19" name="TextBox 77"/>
            <p:cNvSpPr/>
            <p:nvPr/>
          </p:nvSpPr>
          <p:spPr>
            <a:xfrm>
              <a:off x="4053960" y="5955480"/>
              <a:ext cx="327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 Distribution &amp; Yiel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Group 79"/>
          <p:cNvGrpSpPr/>
          <p:nvPr/>
        </p:nvGrpSpPr>
        <p:grpSpPr>
          <a:xfrm>
            <a:off x="3732480" y="3125880"/>
            <a:ext cx="3696480" cy="3186720"/>
            <a:chOff x="3732480" y="3125880"/>
            <a:chExt cx="3696480" cy="3186720"/>
          </a:xfrm>
        </p:grpSpPr>
        <p:pic>
          <p:nvPicPr>
            <p:cNvPr id="1921" name="Content Placeholder 4" descr="val_of_prod_pcap_v2.jpg"/>
            <p:cNvPicPr/>
            <p:nvPr/>
          </p:nvPicPr>
          <p:blipFill>
            <a:blip r:embed="rId17"/>
            <a:stretch/>
          </p:blipFill>
          <p:spPr>
            <a:xfrm>
              <a:off x="4668120" y="3125880"/>
              <a:ext cx="1905120" cy="2056680"/>
            </a:xfrm>
            <a:prstGeom prst="rect">
              <a:avLst/>
            </a:prstGeom>
            <a:ln w="22320">
              <a:solidFill>
                <a:srgbClr val="4f81bd"/>
              </a:solidFill>
              <a:miter/>
            </a:ln>
          </p:spPr>
        </p:pic>
        <p:pic>
          <p:nvPicPr>
            <p:cNvPr id="1922" name="Content Placeholder 4" descr="val_of_prod_pcap_v2.jpg"/>
            <p:cNvPicPr/>
            <p:nvPr/>
          </p:nvPicPr>
          <p:blipFill>
            <a:blip r:embed="rId18"/>
            <a:stretch/>
          </p:blipFill>
          <p:spPr>
            <a:xfrm>
              <a:off x="4757040" y="3214800"/>
              <a:ext cx="2057760" cy="2056680"/>
            </a:xfrm>
            <a:prstGeom prst="rect">
              <a:avLst/>
            </a:prstGeom>
            <a:ln w="22320">
              <a:solidFill>
                <a:srgbClr val="4f81bd"/>
              </a:solidFill>
              <a:miter/>
            </a:ln>
          </p:spPr>
        </p:pic>
        <p:sp>
          <p:nvSpPr>
            <p:cNvPr id="1923" name="TextBox 76"/>
            <p:cNvSpPr/>
            <p:nvPr/>
          </p:nvSpPr>
          <p:spPr>
            <a:xfrm>
              <a:off x="3732480" y="5944320"/>
              <a:ext cx="3696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Value of Production per Rural 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4" name="Group 87"/>
          <p:cNvGrpSpPr/>
          <p:nvPr/>
        </p:nvGrpSpPr>
        <p:grpSpPr>
          <a:xfrm>
            <a:off x="1881360" y="2895480"/>
            <a:ext cx="7030800" cy="3416760"/>
            <a:chOff x="1881360" y="2895480"/>
            <a:chExt cx="7030800" cy="3416760"/>
          </a:xfrm>
        </p:grpSpPr>
        <p:pic>
          <p:nvPicPr>
            <p:cNvPr id="1925" name="Picture 2" descr=""/>
            <p:cNvPicPr/>
            <p:nvPr/>
          </p:nvPicPr>
          <p:blipFill>
            <a:blip r:embed="rId19"/>
            <a:stretch/>
          </p:blipFill>
          <p:spPr>
            <a:xfrm>
              <a:off x="5484600" y="2895480"/>
              <a:ext cx="3049920" cy="24390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26" name="TextBox 86"/>
            <p:cNvSpPr/>
            <p:nvPr/>
          </p:nvSpPr>
          <p:spPr>
            <a:xfrm>
              <a:off x="1881360" y="5943960"/>
              <a:ext cx="7030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Yield Responses to Inputs, Management, C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7" name="Group 93"/>
          <p:cNvGrpSpPr/>
          <p:nvPr/>
        </p:nvGrpSpPr>
        <p:grpSpPr>
          <a:xfrm>
            <a:off x="3276720" y="2895480"/>
            <a:ext cx="6368760" cy="3505320"/>
            <a:chOff x="3276720" y="2895480"/>
            <a:chExt cx="6368760" cy="3505320"/>
          </a:xfrm>
        </p:grpSpPr>
        <p:grpSp>
          <p:nvGrpSpPr>
            <p:cNvPr id="1928" name="Group 91"/>
            <p:cNvGrpSpPr/>
            <p:nvPr/>
          </p:nvGrpSpPr>
          <p:grpSpPr>
            <a:xfrm>
              <a:off x="4464360" y="2895480"/>
              <a:ext cx="5181120" cy="3416400"/>
              <a:chOff x="4464360" y="2895480"/>
              <a:chExt cx="5181120" cy="3416400"/>
            </a:xfrm>
          </p:grpSpPr>
          <p:pic>
            <p:nvPicPr>
              <p:cNvPr id="1929" name="Picture 88" descr="rev_diff1.jpg"/>
              <p:cNvPicPr/>
              <p:nvPr/>
            </p:nvPicPr>
            <p:blipFill>
              <a:blip r:embed="rId20"/>
              <a:stretch/>
            </p:blipFill>
            <p:spPr>
              <a:xfrm>
                <a:off x="6247800" y="2895480"/>
                <a:ext cx="1780920" cy="175284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pic>
            <p:nvPicPr>
              <p:cNvPr id="1930" name="Picture 89" descr="rev_diff1.jpg"/>
              <p:cNvPicPr/>
              <p:nvPr/>
            </p:nvPicPr>
            <p:blipFill>
              <a:blip r:embed="rId21"/>
              <a:stretch/>
            </p:blipFill>
            <p:spPr>
              <a:xfrm>
                <a:off x="6324120" y="2971440"/>
                <a:ext cx="1935720" cy="190512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931" name="TextBox 90"/>
              <p:cNvSpPr/>
              <p:nvPr/>
            </p:nvSpPr>
            <p:spPr>
              <a:xfrm>
                <a:off x="4464360" y="5943600"/>
                <a:ext cx="51811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Profitability of small scale irrig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2" name="Rectangle 92"/>
            <p:cNvSpPr/>
            <p:nvPr/>
          </p:nvSpPr>
          <p:spPr>
            <a:xfrm>
              <a:off x="3276720" y="5867640"/>
              <a:ext cx="205740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3" name="Group 97"/>
          <p:cNvGrpSpPr/>
          <p:nvPr/>
        </p:nvGrpSpPr>
        <p:grpSpPr>
          <a:xfrm>
            <a:off x="5186520" y="3086280"/>
            <a:ext cx="4343400" cy="3226320"/>
            <a:chOff x="5186520" y="3086280"/>
            <a:chExt cx="4343400" cy="3226320"/>
          </a:xfrm>
        </p:grpSpPr>
        <p:pic>
          <p:nvPicPr>
            <p:cNvPr id="1934" name="Picture 94" descr="con_nutmap_wood.jpg"/>
            <p:cNvPicPr/>
            <p:nvPr/>
          </p:nvPicPr>
          <p:blipFill>
            <a:blip r:embed="rId22"/>
            <a:stretch/>
          </p:blipFill>
          <p:spPr>
            <a:xfrm>
              <a:off x="6437880" y="3086280"/>
              <a:ext cx="1981080" cy="19810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35" name="TextBox 96"/>
            <p:cNvSpPr/>
            <p:nvPr/>
          </p:nvSpPr>
          <p:spPr>
            <a:xfrm>
              <a:off x="5186520" y="594432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Quantity of Nutrients Remo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6" name="Group 100"/>
          <p:cNvGrpSpPr/>
          <p:nvPr/>
        </p:nvGrpSpPr>
        <p:grpSpPr>
          <a:xfrm>
            <a:off x="5638680" y="3198960"/>
            <a:ext cx="3722760" cy="3116880"/>
            <a:chOff x="5638680" y="3198960"/>
            <a:chExt cx="3722760" cy="3116880"/>
          </a:xfrm>
        </p:grpSpPr>
        <p:pic>
          <p:nvPicPr>
            <p:cNvPr id="1937" name="Picture 4" descr="E:\stan\ssa\kept_cities\results3\maize pixel price.jpg"/>
            <p:cNvPicPr/>
            <p:nvPr/>
          </p:nvPicPr>
          <p:blipFill>
            <a:blip r:embed="rId23"/>
            <a:stretch/>
          </p:blipFill>
          <p:spPr>
            <a:xfrm>
              <a:off x="6546960" y="3198960"/>
              <a:ext cx="1956960" cy="24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8" name="TextBox 99"/>
            <p:cNvSpPr/>
            <p:nvPr/>
          </p:nvSpPr>
          <p:spPr>
            <a:xfrm>
              <a:off x="5638680" y="5947560"/>
              <a:ext cx="3722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ertilizer Profita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9" name="Group 103"/>
          <p:cNvGrpSpPr/>
          <p:nvPr/>
        </p:nvGrpSpPr>
        <p:grpSpPr>
          <a:xfrm>
            <a:off x="6004080" y="2695680"/>
            <a:ext cx="3202920" cy="3616920"/>
            <a:chOff x="6004080" y="2695680"/>
            <a:chExt cx="3202920" cy="3616920"/>
          </a:xfrm>
        </p:grpSpPr>
        <p:pic>
          <p:nvPicPr>
            <p:cNvPr id="1940" name="Picture 101" descr="uganda_6.jpg"/>
            <p:cNvPicPr/>
            <p:nvPr/>
          </p:nvPicPr>
          <p:blipFill>
            <a:blip r:embed="rId24"/>
            <a:stretch/>
          </p:blipFill>
          <p:spPr>
            <a:xfrm>
              <a:off x="6335640" y="2695680"/>
              <a:ext cx="237456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1" name="TextBox 102"/>
            <p:cNvSpPr/>
            <p:nvPr/>
          </p:nvSpPr>
          <p:spPr>
            <a:xfrm>
              <a:off x="6004080" y="5944320"/>
              <a:ext cx="3202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istribution of Welfare Bene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2" name="Group 105"/>
          <p:cNvGrpSpPr/>
          <p:nvPr/>
        </p:nvGrpSpPr>
        <p:grpSpPr>
          <a:xfrm>
            <a:off x="5334120" y="1636560"/>
            <a:ext cx="4286160" cy="4675680"/>
            <a:chOff x="5334120" y="1636560"/>
            <a:chExt cx="4286160" cy="4675680"/>
          </a:xfrm>
        </p:grpSpPr>
        <p:grpSp>
          <p:nvGrpSpPr>
            <p:cNvPr id="1943" name="Group 57"/>
            <p:cNvGrpSpPr/>
            <p:nvPr/>
          </p:nvGrpSpPr>
          <p:grpSpPr>
            <a:xfrm>
              <a:off x="7363800" y="1636560"/>
              <a:ext cx="2256480" cy="3545280"/>
              <a:chOff x="7363800" y="1636560"/>
              <a:chExt cx="2256480" cy="3545280"/>
            </a:xfrm>
          </p:grpSpPr>
          <p:sp>
            <p:nvSpPr>
              <p:cNvPr id="1944" name="TextBox 55"/>
              <p:cNvSpPr/>
              <p:nvPr/>
            </p:nvSpPr>
            <p:spPr>
              <a:xfrm>
                <a:off x="7515000" y="1636560"/>
                <a:ext cx="2105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inkage 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Macr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Mode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45" name="Picture 2" descr=""/>
              <p:cNvPicPr/>
              <p:nvPr/>
            </p:nvPicPr>
            <p:blipFill>
              <a:blip r:embed="rId25"/>
              <a:stretch/>
            </p:blipFill>
            <p:spPr>
              <a:xfrm>
                <a:off x="7363800" y="3276720"/>
                <a:ext cx="1780200" cy="1905120"/>
              </a:xfrm>
              <a:prstGeom prst="rect">
                <a:avLst/>
              </a:prstGeom>
              <a:ln w="9360">
                <a:solidFill>
                  <a:srgbClr val="385d8a"/>
                </a:solidFill>
                <a:miter/>
              </a:ln>
            </p:spPr>
          </p:pic>
        </p:grpSp>
        <p:sp>
          <p:nvSpPr>
            <p:cNvPr id="1946" name="TextBox 104"/>
            <p:cNvSpPr/>
            <p:nvPr/>
          </p:nvSpPr>
          <p:spPr>
            <a:xfrm>
              <a:off x="5334120" y="5943960"/>
              <a:ext cx="3809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ggregate to F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7" name="TextBox 84"/>
          <p:cNvSpPr/>
          <p:nvPr/>
        </p:nvSpPr>
        <p:spPr>
          <a:xfrm>
            <a:off x="240840" y="655020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HarvestChoice/IFPR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8" name="Picture 1" descr="wheat high input suitability aez 2009.jpg"/>
          <p:cNvPicPr/>
          <p:nvPr/>
        </p:nvPicPr>
        <p:blipFill>
          <a:blip r:embed="rId1"/>
          <a:stretch/>
        </p:blipFill>
        <p:spPr>
          <a:xfrm>
            <a:off x="1243080" y="146160"/>
            <a:ext cx="3146400" cy="319392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  <p:sp>
        <p:nvSpPr>
          <p:cNvPr id="1949" name="TextBox 8"/>
          <p:cNvSpPr/>
          <p:nvPr/>
        </p:nvSpPr>
        <p:spPr>
          <a:xfrm rot="16200000">
            <a:off x="-3244680" y="3244680"/>
            <a:ext cx="6858000" cy="368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AINFED W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9"/>
          <p:cNvSpPr/>
          <p:nvPr/>
        </p:nvSpPr>
        <p:spPr>
          <a:xfrm rot="16200000">
            <a:off x="-934920" y="1293480"/>
            <a:ext cx="2968920" cy="368280"/>
          </a:xfrm>
          <a:prstGeom prst="rect">
            <a:avLst/>
          </a:prstGeom>
          <a:solidFill>
            <a:srgbClr val="9a9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. Agro-climatic sui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1" name="Group 53"/>
          <p:cNvGrpSpPr/>
          <p:nvPr/>
        </p:nvGrpSpPr>
        <p:grpSpPr>
          <a:xfrm>
            <a:off x="5783400" y="1293840"/>
            <a:ext cx="3433680" cy="2340000"/>
            <a:chOff x="5783400" y="1293840"/>
            <a:chExt cx="3433680" cy="2340000"/>
          </a:xfrm>
        </p:grpSpPr>
        <p:pic>
          <p:nvPicPr>
            <p:cNvPr id="1952" name="Content Placeholder 14" descr="t28.tif"/>
            <p:cNvPicPr/>
            <p:nvPr/>
          </p:nvPicPr>
          <p:blipFill>
            <a:blip r:embed="rId2"/>
            <a:stretch/>
          </p:blipFill>
          <p:spPr>
            <a:xfrm>
              <a:off x="6828480" y="1293840"/>
              <a:ext cx="238860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3" name="Right Arrow 15"/>
            <p:cNvSpPr/>
            <p:nvPr/>
          </p:nvSpPr>
          <p:spPr>
            <a:xfrm rot="1899600">
              <a:off x="7097760" y="1969920"/>
              <a:ext cx="504720" cy="380880"/>
            </a:xfrm>
            <a:prstGeom prst="rightArrow">
              <a:avLst>
                <a:gd name="adj1" fmla="val 50000"/>
                <a:gd name="adj2" fmla="val 49993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4298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TextBox 17"/>
            <p:cNvSpPr/>
            <p:nvPr/>
          </p:nvSpPr>
          <p:spPr>
            <a:xfrm>
              <a:off x="5783400" y="2705040"/>
              <a:ext cx="979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Recommend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Fertilizer 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5" name="Group 55"/>
          <p:cNvGrpSpPr/>
          <p:nvPr/>
        </p:nvGrpSpPr>
        <p:grpSpPr>
          <a:xfrm>
            <a:off x="4537080" y="10800"/>
            <a:ext cx="4167360" cy="2949480"/>
            <a:chOff x="4537080" y="10800"/>
            <a:chExt cx="4167360" cy="2949480"/>
          </a:xfrm>
        </p:grpSpPr>
        <p:sp>
          <p:nvSpPr>
            <p:cNvPr id="1956" name="TextBox 16"/>
            <p:cNvSpPr/>
            <p:nvPr/>
          </p:nvSpPr>
          <p:spPr>
            <a:xfrm>
              <a:off x="5169960" y="1922400"/>
              <a:ext cx="64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N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Fertiliz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7" name="Group 54"/>
            <p:cNvGrpSpPr/>
            <p:nvPr/>
          </p:nvGrpSpPr>
          <p:grpSpPr>
            <a:xfrm>
              <a:off x="4537080" y="10800"/>
              <a:ext cx="4167360" cy="2949480"/>
              <a:chOff x="4537080" y="10800"/>
              <a:chExt cx="4167360" cy="2949480"/>
            </a:xfrm>
          </p:grpSpPr>
          <p:sp>
            <p:nvSpPr>
              <p:cNvPr id="1958" name="TextBox 10"/>
              <p:cNvSpPr/>
              <p:nvPr/>
            </p:nvSpPr>
            <p:spPr>
              <a:xfrm rot="16200000">
                <a:off x="3383640" y="1164240"/>
                <a:ext cx="2949480" cy="642600"/>
              </a:xfrm>
              <a:prstGeom prst="rect">
                <a:avLst/>
              </a:prstGeom>
              <a:solidFill>
                <a:srgbClr val="9a9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31840"/>
                    <a:tab algn="l" pos="463680"/>
                    <a:tab algn="l" pos="695160"/>
                    <a:tab algn="l" pos="927000"/>
                    <a:tab algn="l" pos="1158840"/>
                    <a:tab algn="l" pos="1390680"/>
                    <a:tab algn="l" pos="1622520"/>
                    <a:tab algn="l" pos="1854360"/>
                    <a:tab algn="l" pos="2085840"/>
                    <a:tab algn="l" pos="2317680"/>
                    <a:tab algn="l" pos="2549520"/>
                    <a:tab algn="l" pos="2781360"/>
                    <a:tab algn="l" pos="3013200"/>
                    <a:tab algn="l" pos="3244680"/>
                    <a:tab algn="l" pos="3476520"/>
                    <a:tab algn="l" pos="3708360"/>
                    <a:tab algn="l" pos="3940200"/>
                    <a:tab algn="l" pos="4172040"/>
                    <a:tab algn="l" pos="4403880"/>
                    <a:tab algn="l" pos="463536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2.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Yield responses to fertilizer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9" name="Group 52"/>
              <p:cNvGrpSpPr/>
              <p:nvPr/>
            </p:nvGrpSpPr>
            <p:grpSpPr>
              <a:xfrm>
                <a:off x="4907160" y="73800"/>
                <a:ext cx="3797280" cy="2226600"/>
                <a:chOff x="4907160" y="73800"/>
                <a:chExt cx="3797280" cy="2226600"/>
              </a:xfrm>
            </p:grpSpPr>
            <p:pic>
              <p:nvPicPr>
                <p:cNvPr id="1960" name="Content Placeholder 15" descr="t29.tif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907160" y="73800"/>
                  <a:ext cx="2274120" cy="222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1" name="Picture 2" descr=""/>
                <p:cNvPicPr/>
                <p:nvPr/>
              </p:nvPicPr>
              <p:blipFill>
                <a:blip r:embed="rId4"/>
                <a:srcRect l="0" t="0" r="0" b="37609"/>
                <a:stretch/>
              </p:blipFill>
              <p:spPr>
                <a:xfrm>
                  <a:off x="7576560" y="393480"/>
                  <a:ext cx="654840" cy="1015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2" name="TextBox 18"/>
                <p:cNvSpPr/>
                <p:nvPr/>
              </p:nvSpPr>
              <p:spPr>
                <a:xfrm>
                  <a:off x="7515000" y="166320"/>
                  <a:ext cx="1189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alibri"/>
                    </a:rPr>
                    <a:t>Mean Yield (kg/ha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TextBox 19"/>
                <p:cNvSpPr/>
                <p:nvPr/>
              </p:nvSpPr>
              <p:spPr>
                <a:xfrm>
                  <a:off x="7674120" y="776160"/>
                  <a:ext cx="4122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alibri"/>
                    </a:rPr>
                    <a:t>400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64" name="Group 56"/>
          <p:cNvGrpSpPr/>
          <p:nvPr/>
        </p:nvGrpSpPr>
        <p:grpSpPr>
          <a:xfrm>
            <a:off x="368280" y="3429000"/>
            <a:ext cx="4137120" cy="3182760"/>
            <a:chOff x="368280" y="3429000"/>
            <a:chExt cx="4137120" cy="3182760"/>
          </a:xfrm>
        </p:grpSpPr>
        <p:sp>
          <p:nvSpPr>
            <p:cNvPr id="1965" name="TextBox 11"/>
            <p:cNvSpPr/>
            <p:nvPr/>
          </p:nvSpPr>
          <p:spPr>
            <a:xfrm rot="16200000">
              <a:off x="-1003680" y="4812480"/>
              <a:ext cx="3112920" cy="368280"/>
            </a:xfrm>
            <a:prstGeom prst="rect">
              <a:avLst/>
            </a:prstGeom>
            <a:solidFill>
              <a:srgbClr val="9a9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.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Modeling of farm-gate pr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6" name="Content Placeholder 6" descr="wh12_2_from_port.png"/>
            <p:cNvPicPr/>
            <p:nvPr/>
          </p:nvPicPr>
          <p:blipFill>
            <a:blip r:embed="rId5"/>
            <a:stretch/>
          </p:blipFill>
          <p:spPr>
            <a:xfrm>
              <a:off x="1106280" y="3647160"/>
              <a:ext cx="1419840" cy="14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7" name="Content Placeholder 7" descr="wh12_2_from_capital.png"/>
            <p:cNvPicPr/>
            <p:nvPr/>
          </p:nvPicPr>
          <p:blipFill>
            <a:blip r:embed="rId6"/>
            <a:stretch/>
          </p:blipFill>
          <p:spPr>
            <a:xfrm>
              <a:off x="1106280" y="5281200"/>
              <a:ext cx="141660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8" name="TextBox 21"/>
            <p:cNvSpPr/>
            <p:nvPr/>
          </p:nvSpPr>
          <p:spPr>
            <a:xfrm>
              <a:off x="752400" y="3429000"/>
              <a:ext cx="11304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Transport cost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Port 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arm-g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TextBox 22"/>
            <p:cNvSpPr/>
            <p:nvPr/>
          </p:nvSpPr>
          <p:spPr>
            <a:xfrm>
              <a:off x="752400" y="4986360"/>
              <a:ext cx="11304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Transport cost: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apital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arm-g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0" name="Picture 4" descr=""/>
            <p:cNvPicPr/>
            <p:nvPr/>
          </p:nvPicPr>
          <p:blipFill>
            <a:blip r:embed="rId7"/>
            <a:stretch/>
          </p:blipFill>
          <p:spPr>
            <a:xfrm>
              <a:off x="2836800" y="3773520"/>
              <a:ext cx="150264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1" name="TextBox 26"/>
            <p:cNvSpPr/>
            <p:nvPr/>
          </p:nvSpPr>
          <p:spPr>
            <a:xfrm>
              <a:off x="2460600" y="3429000"/>
              <a:ext cx="1130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Wheat farming enterprise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2" name="Picture 5" descr=""/>
            <p:cNvPicPr/>
            <p:nvPr/>
          </p:nvPicPr>
          <p:blipFill>
            <a:blip r:embed="rId8"/>
            <a:stretch/>
          </p:blipFill>
          <p:spPr>
            <a:xfrm>
              <a:off x="2494440" y="5376960"/>
              <a:ext cx="2010960" cy="110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3" name="TextBox 30"/>
            <p:cNvSpPr/>
            <p:nvPr/>
          </p:nvSpPr>
          <p:spPr>
            <a:xfrm>
              <a:off x="2435400" y="5000400"/>
              <a:ext cx="16178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International wheat and fertilizer pr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4" name="Group 57"/>
          <p:cNvGrpSpPr/>
          <p:nvPr/>
        </p:nvGrpSpPr>
        <p:grpSpPr>
          <a:xfrm>
            <a:off x="4525920" y="3429000"/>
            <a:ext cx="4438800" cy="3154320"/>
            <a:chOff x="4525920" y="3429000"/>
            <a:chExt cx="4438800" cy="3154320"/>
          </a:xfrm>
        </p:grpSpPr>
        <p:sp>
          <p:nvSpPr>
            <p:cNvPr id="1975" name="TextBox 27"/>
            <p:cNvSpPr/>
            <p:nvPr/>
          </p:nvSpPr>
          <p:spPr>
            <a:xfrm rot="16200000">
              <a:off x="3132720" y="4821840"/>
              <a:ext cx="3154320" cy="368280"/>
            </a:xfrm>
            <a:prstGeom prst="rect">
              <a:avLst/>
            </a:prstGeom>
            <a:solidFill>
              <a:srgbClr val="9a9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.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rofitability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6" name="Group 50"/>
            <p:cNvGrpSpPr/>
            <p:nvPr/>
          </p:nvGrpSpPr>
          <p:grpSpPr>
            <a:xfrm>
              <a:off x="4962600" y="3444120"/>
              <a:ext cx="4002120" cy="3041640"/>
              <a:chOff x="4962600" y="3444120"/>
              <a:chExt cx="4002120" cy="3041640"/>
            </a:xfrm>
          </p:grpSpPr>
          <p:pic>
            <p:nvPicPr>
              <p:cNvPr id="1977" name="Picture 2" descr=""/>
              <p:cNvPicPr/>
              <p:nvPr/>
            </p:nvPicPr>
            <p:blipFill>
              <a:blip r:embed="rId9"/>
              <a:stretch/>
            </p:blipFill>
            <p:spPr>
              <a:xfrm>
                <a:off x="4962600" y="3444120"/>
                <a:ext cx="4002120" cy="2846520"/>
              </a:xfrm>
              <a:prstGeom prst="rect">
                <a:avLst/>
              </a:prstGeom>
              <a:ln w="9360">
                <a:solidFill>
                  <a:srgbClr val="254061"/>
                </a:solidFill>
                <a:miter/>
              </a:ln>
            </p:spPr>
          </p:pic>
          <p:sp>
            <p:nvSpPr>
              <p:cNvPr id="1978" name="TextBox 35"/>
              <p:cNvSpPr/>
              <p:nvPr/>
            </p:nvSpPr>
            <p:spPr>
              <a:xfrm>
                <a:off x="7220160" y="5782680"/>
                <a:ext cx="831600" cy="703080"/>
              </a:xfrm>
              <a:prstGeom prst="rect">
                <a:avLst/>
              </a:prstGeom>
              <a:solidFill>
                <a:srgbClr val="c6d9f1"/>
              </a:solidFill>
              <a:ln w="93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Profitabilit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Sensitivit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Analys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Tool (Exce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79" name="Picture 1" descr="wheat high input suitability aez 2009.jpg"/>
          <p:cNvPicPr/>
          <p:nvPr/>
        </p:nvPicPr>
        <p:blipFill>
          <a:blip r:embed="rId10"/>
          <a:stretch/>
        </p:blipFill>
        <p:spPr>
          <a:xfrm>
            <a:off x="731880" y="1511280"/>
            <a:ext cx="11001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980" name="Group 49"/>
          <p:cNvGrpSpPr/>
          <p:nvPr/>
        </p:nvGrpSpPr>
        <p:grpSpPr>
          <a:xfrm>
            <a:off x="5411880" y="663480"/>
            <a:ext cx="3109680" cy="2333880"/>
            <a:chOff x="5411880" y="663480"/>
            <a:chExt cx="3109680" cy="2333880"/>
          </a:xfrm>
        </p:grpSpPr>
        <p:sp>
          <p:nvSpPr>
            <p:cNvPr id="1981" name="Rectangle 40"/>
            <p:cNvSpPr/>
            <p:nvPr/>
          </p:nvSpPr>
          <p:spPr>
            <a:xfrm>
              <a:off x="5425920" y="663480"/>
              <a:ext cx="3095640" cy="233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2" name="Group 48"/>
            <p:cNvGrpSpPr/>
            <p:nvPr/>
          </p:nvGrpSpPr>
          <p:grpSpPr>
            <a:xfrm>
              <a:off x="5411880" y="715680"/>
              <a:ext cx="3106080" cy="2235600"/>
              <a:chOff x="5411880" y="715680"/>
              <a:chExt cx="3106080" cy="2235600"/>
            </a:xfrm>
          </p:grpSpPr>
          <p:pic>
            <p:nvPicPr>
              <p:cNvPr id="1983" name="Picture 39" descr="cumulative_eth_ken.png"/>
              <p:cNvPicPr/>
              <p:nvPr/>
            </p:nvPicPr>
            <p:blipFill>
              <a:blip r:embed="rId11"/>
              <a:stretch/>
            </p:blipFill>
            <p:spPr>
              <a:xfrm>
                <a:off x="5692320" y="898920"/>
                <a:ext cx="2825640" cy="184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4" name="TextBox 41"/>
              <p:cNvSpPr/>
              <p:nvPr/>
            </p:nvSpPr>
            <p:spPr>
              <a:xfrm>
                <a:off x="5972760" y="715680"/>
                <a:ext cx="232560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Variety: Digelu                                   Variety:  Veer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85" name="TextBox 42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11880" y="1060200"/>
                <a:ext cx="334800" cy="149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6" name="TextBox 43"/>
              <p:cNvSpPr/>
              <p:nvPr/>
            </p:nvSpPr>
            <p:spPr>
              <a:xfrm>
                <a:off x="6210720" y="2735640"/>
                <a:ext cx="1855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Yield                                                       Yie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TextBox 44"/>
              <p:cNvSpPr/>
              <p:nvPr/>
            </p:nvSpPr>
            <p:spPr>
              <a:xfrm>
                <a:off x="5977440" y="1010880"/>
                <a:ext cx="457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No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TextBox 45"/>
              <p:cNvSpPr/>
              <p:nvPr/>
            </p:nvSpPr>
            <p:spPr>
              <a:xfrm>
                <a:off x="6348240" y="1215720"/>
                <a:ext cx="5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100%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Rec.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TextBox 46"/>
              <p:cNvSpPr/>
              <p:nvPr/>
            </p:nvSpPr>
            <p:spPr>
              <a:xfrm>
                <a:off x="7385040" y="2040120"/>
                <a:ext cx="457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No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TextBox 47"/>
              <p:cNvSpPr/>
              <p:nvPr/>
            </p:nvSpPr>
            <p:spPr>
              <a:xfrm>
                <a:off x="7878960" y="2216160"/>
                <a:ext cx="5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100%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Rec.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1" name="Group 59"/>
          <p:cNvGrpSpPr/>
          <p:nvPr/>
        </p:nvGrpSpPr>
        <p:grpSpPr>
          <a:xfrm>
            <a:off x="4941720" y="4191120"/>
            <a:ext cx="4165920" cy="2595960"/>
            <a:chOff x="4941720" y="4191120"/>
            <a:chExt cx="4165920" cy="2595960"/>
          </a:xfrm>
        </p:grpSpPr>
        <p:sp>
          <p:nvSpPr>
            <p:cNvPr id="1992" name="TextBox 36"/>
            <p:cNvSpPr/>
            <p:nvPr/>
          </p:nvSpPr>
          <p:spPr>
            <a:xfrm>
              <a:off x="5565600" y="6540840"/>
              <a:ext cx="304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Net Economic Return and  Potential Prod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3" name="Picture 6" descr=""/>
            <p:cNvPicPr/>
            <p:nvPr/>
          </p:nvPicPr>
          <p:blipFill>
            <a:blip r:embed="rId13"/>
            <a:stretch/>
          </p:blipFill>
          <p:spPr>
            <a:xfrm>
              <a:off x="4941720" y="4191120"/>
              <a:ext cx="4165920" cy="2355840"/>
            </a:xfrm>
            <a:prstGeom prst="rect">
              <a:avLst/>
            </a:prstGeom>
            <a:ln w="9360">
              <a:solidFill>
                <a:srgbClr val="254061"/>
              </a:solidFill>
              <a:miter/>
            </a:ln>
          </p:spPr>
        </p:pic>
      </p:grpSp>
      <p:sp>
        <p:nvSpPr>
          <p:cNvPr id="1994" name="TextBox 48"/>
          <p:cNvSpPr/>
          <p:nvPr/>
        </p:nvSpPr>
        <p:spPr>
          <a:xfrm>
            <a:off x="365040" y="6599160"/>
            <a:ext cx="4783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ource: CIMMYT – HarvestChoice/IFPRI “Wheat Potential for Africa “ (2011 draf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ize-Legume Analytical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6" name="Picture 2" descr=""/>
          <p:cNvPicPr/>
          <p:nvPr/>
        </p:nvPicPr>
        <p:blipFill>
          <a:blip r:embed="rId1"/>
          <a:stretch/>
        </p:blipFill>
        <p:spPr>
          <a:xfrm>
            <a:off x="0" y="1347840"/>
            <a:ext cx="9144000" cy="5129280"/>
          </a:xfrm>
          <a:prstGeom prst="rect">
            <a:avLst/>
          </a:prstGeom>
          <a:ln w="15840">
            <a:solidFill>
              <a:srgbClr val="31859c"/>
            </a:solidFill>
            <a:miter/>
          </a:ln>
        </p:spPr>
      </p:pic>
      <p:pic>
        <p:nvPicPr>
          <p:cNvPr id="1997" name="Picture 3" descr=""/>
          <p:cNvPicPr/>
          <p:nvPr/>
        </p:nvPicPr>
        <p:blipFill>
          <a:blip r:embed="rId2"/>
          <a:stretch/>
        </p:blipFill>
        <p:spPr>
          <a:xfrm>
            <a:off x="-22320" y="1314360"/>
            <a:ext cx="2779920" cy="3291120"/>
          </a:xfrm>
          <a:prstGeom prst="rect">
            <a:avLst/>
          </a:prstGeom>
          <a:ln w="0">
            <a:noFill/>
          </a:ln>
        </p:spPr>
      </p:pic>
      <p:sp>
        <p:nvSpPr>
          <p:cNvPr id="1998" name="TextBox 5"/>
          <p:cNvSpPr/>
          <p:nvPr/>
        </p:nvSpPr>
        <p:spPr>
          <a:xfrm>
            <a:off x="376920" y="6599160"/>
            <a:ext cx="401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ource: HarvestChoice/IFPRI  Prototype SIMLESA simulations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&amp;E Implementation to 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456840" y="16765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rget area stratification and sit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ablishing core FtF M&amp;E oblig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ruiting an M&amp;E Coordi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ilding an M&amp;E implementation communit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specially with national and local partn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igning an open-access, web-based M&amp;E data and analysis plat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nning annual M&amp;E technical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Rectangle 2"/>
          <p:cNvSpPr/>
          <p:nvPr/>
        </p:nvSpPr>
        <p:spPr>
          <a:xfrm>
            <a:off x="6858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Straight Connector 26"/>
          <p:cNvSpPr/>
          <p:nvPr/>
        </p:nvSpPr>
        <p:spPr>
          <a:xfrm>
            <a:off x="444600" y="4968720"/>
            <a:ext cx="8020080" cy="180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Box 35"/>
          <p:cNvSpPr/>
          <p:nvPr/>
        </p:nvSpPr>
        <p:spPr>
          <a:xfrm>
            <a:off x="305748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3-9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Straight Connector 29"/>
          <p:cNvSpPr/>
          <p:nvPr/>
        </p:nvSpPr>
        <p:spPr>
          <a:xfrm flipH="1">
            <a:off x="3564000" y="4981680"/>
            <a:ext cx="1440" cy="30456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Box 40"/>
          <p:cNvSpPr/>
          <p:nvPr/>
        </p:nvSpPr>
        <p:spPr>
          <a:xfrm>
            <a:off x="5770440" y="5589720"/>
            <a:ext cx="10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-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Straight Connector 31"/>
          <p:cNvSpPr/>
          <p:nvPr/>
        </p:nvSpPr>
        <p:spPr>
          <a:xfrm>
            <a:off x="6281640" y="4948200"/>
            <a:ext cx="0" cy="35712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Box 40"/>
          <p:cNvSpPr/>
          <p:nvPr/>
        </p:nvSpPr>
        <p:spPr>
          <a:xfrm>
            <a:off x="214200" y="43668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West Africa: Year 1 M&amp;E Tim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Box 40"/>
          <p:cNvSpPr/>
          <p:nvPr/>
        </p:nvSpPr>
        <p:spPr>
          <a:xfrm>
            <a:off x="534960" y="4948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Zapf Dingbats"/>
                <a:ea typeface="MS PGothic"/>
              </a:rPr>
              <a:t>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Box 35"/>
          <p:cNvSpPr/>
          <p:nvPr/>
        </p:nvSpPr>
        <p:spPr>
          <a:xfrm>
            <a:off x="44460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-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Box 4"/>
          <p:cNvSpPr/>
          <p:nvPr/>
        </p:nvSpPr>
        <p:spPr>
          <a:xfrm>
            <a:off x="303120" y="1620720"/>
            <a:ext cx="229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rea Characteriz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Box 1"/>
          <p:cNvSpPr/>
          <p:nvPr/>
        </p:nvSpPr>
        <p:spPr>
          <a:xfrm>
            <a:off x="2864520" y="142236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2" name="Straight Arrow Connector 3"/>
          <p:cNvCxnSpPr/>
          <p:nvPr/>
        </p:nvCxnSpPr>
        <p:spPr>
          <a:xfrm>
            <a:off x="419040" y="2566800"/>
            <a:ext cx="87552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13" name="TextBox 4"/>
          <p:cNvSpPr/>
          <p:nvPr/>
        </p:nvSpPr>
        <p:spPr>
          <a:xfrm>
            <a:off x="712800" y="269712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Activities-&gt; M&amp;E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TextBox 5"/>
          <p:cNvSpPr/>
          <p:nvPr/>
        </p:nvSpPr>
        <p:spPr>
          <a:xfrm>
            <a:off x="1944720" y="31701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extBox 6"/>
          <p:cNvSpPr/>
          <p:nvPr/>
        </p:nvSpPr>
        <p:spPr>
          <a:xfrm>
            <a:off x="4915800" y="371016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 Surv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TextBox 7"/>
          <p:cNvSpPr/>
          <p:nvPr/>
        </p:nvSpPr>
        <p:spPr>
          <a:xfrm>
            <a:off x="4327560" y="2197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7" name="Straight Arrow Connector 25"/>
          <p:cNvCxnSpPr/>
          <p:nvPr/>
        </p:nvCxnSpPr>
        <p:spPr>
          <a:xfrm>
            <a:off x="1293480" y="3087360"/>
            <a:ext cx="17643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8" name="Straight Arrow Connector 28"/>
          <p:cNvCxnSpPr/>
          <p:nvPr/>
        </p:nvCxnSpPr>
        <p:spPr>
          <a:xfrm>
            <a:off x="2000160" y="3565080"/>
            <a:ext cx="17661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9" name="Straight Arrow Connector 30"/>
          <p:cNvCxnSpPr/>
          <p:nvPr/>
        </p:nvCxnSpPr>
        <p:spPr>
          <a:xfrm>
            <a:off x="4549680" y="4071600"/>
            <a:ext cx="271872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0" name="Straight Arrow Connector 32"/>
          <p:cNvCxnSpPr/>
          <p:nvPr/>
        </p:nvCxnSpPr>
        <p:spPr>
          <a:xfrm>
            <a:off x="2527200" y="2082600"/>
            <a:ext cx="199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1" name="Straight Arrow Connector 34"/>
          <p:cNvCxnSpPr/>
          <p:nvPr/>
        </p:nvCxnSpPr>
        <p:spPr>
          <a:xfrm>
            <a:off x="4197240" y="2569680"/>
            <a:ext cx="199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22" name="TextBox 1"/>
          <p:cNvSpPr/>
          <p:nvPr/>
        </p:nvSpPr>
        <p:spPr>
          <a:xfrm>
            <a:off x="927000" y="428796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mpact Evaluation: Scaling Out &amp;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3" name="Straight Arrow Connector 23"/>
          <p:cNvCxnSpPr/>
          <p:nvPr/>
        </p:nvCxnSpPr>
        <p:spPr>
          <a:xfrm>
            <a:off x="1187280" y="4723920"/>
            <a:ext cx="487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024" name="Picture 2" descr=""/>
          <p:cNvPicPr/>
          <p:nvPr/>
        </p:nvPicPr>
        <p:blipFill>
          <a:blip r:embed="rId1"/>
          <a:stretch/>
        </p:blipFill>
        <p:spPr>
          <a:xfrm>
            <a:off x="4229280" y="2841480"/>
            <a:ext cx="448920" cy="657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25" name="TextBox 1"/>
          <p:cNvSpPr/>
          <p:nvPr/>
        </p:nvSpPr>
        <p:spPr>
          <a:xfrm>
            <a:off x="4696560" y="2884320"/>
            <a:ext cx="108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&amp;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/Station (&amp; R&amp;D) Inven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22860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tion Location     (if known, Lat:___ Long: ___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tion Name: _______________________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rict: _____________   Region: _________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te/Station Full Name: 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itution: 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ologies/Practices tested/demonstr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act detai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Rectangle 3"/>
          <p:cNvSpPr/>
          <p:nvPr/>
        </p:nvSpPr>
        <p:spPr>
          <a:xfrm>
            <a:off x="714240" y="4497480"/>
            <a:ext cx="7315200" cy="99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appropriate split of M&amp;E roles between the M &amp; the E? (e.g., strong interest in early assessments of outcomes and spillover potent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likely cost of meeting donor’s minimum reporting need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o ensure CAADP alignment (e.g. components selected on basis of elicited demand or available supply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Site Implementation VS Program wide M&amp;E needs/rol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IITA-lead Tanzania “M&amp;E” plans VS IFPRI-lead SSA M&amp;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How will “Tanzania efforts” efforts be coordinated? Who should program M&amp;E be in dialog wit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ing shared roles in data and tool development, access and application across program partners and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obtaining appropriate cross-fertilization in site selection, field data collection, annual reporting/analysi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nterest in engaging actively in a program M&amp;E community (especially from national partners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 are likely candidates for M&amp;E Coordinator posi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0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ADP-CGIAR Program Alignment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chnical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3" name="Picture 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5345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&amp;E Guiding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30456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tF Complianc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Conform to the FtF core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ulti-scale, Multi-site reporting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eet broad stakeholder needs and support multi-scale/multi-site M&amp;E throug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-site, sub-system and system repor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ntry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reakout of site reports to serve national stakeholder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gional Site-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or each of the three regional SI program s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SA-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ross-system reporting and SI-wide “roll-up” of indicators across: Sudano-Sahelian zone, Ethiopian Highlands, Eastern and Southern Af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nitoring &amp; projection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rovide monitoring reports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rt-term projections (targets) of key M&amp;E indicators for intervention sites in project “Zone of Influence”, updated annu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caling indicators up and out (spatial &amp; temporal)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a range of biophysical, bio-economic , market and welfare models for ex ante analysis of output, outcome, and impact indicato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yword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xtrapolation, aggregation, tradeoffs, spillover potential, sustainability, welfare and environmental go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access data and analysis platfor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intain a transparent, open-access M&amp;E data management and analysis platform to serve the needs of SI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ey Activities for M&amp;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ocktaking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ntory (and mapping) of partner sites and SI component innovations. Characterization of sites &amp;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atification and diagnosis of target systems/geographie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ghlight key differences in initial conditions, drivers of change, and SI-related constraints or opportun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ntification of potential site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at are representative of the identified stratification and cost-effective for implement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p proposed activities and outcomes into M&amp;E indica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sign &amp; conduct baseline and periodic survey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ing secondary data sources where possible (e.g. NSO/MoA, DHS, LSMS, CRP survey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intaining an Innovation Inventory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able discovery and delivery of innovation options project-wid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stablish a Linked Model/Evaluation capacity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support M&amp;E reporting cycl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 outcome and impact indicators (e.g., up/out-scaling and projections with and w/o SI interventions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pact/Attribution assessment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the standards required  (ex post stud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8" name="Group 105"/>
          <p:cNvGrpSpPr/>
          <p:nvPr/>
        </p:nvGrpSpPr>
        <p:grpSpPr>
          <a:xfrm>
            <a:off x="3857760" y="1054080"/>
            <a:ext cx="2322360" cy="5410080"/>
            <a:chOff x="3857760" y="1054080"/>
            <a:chExt cx="2322360" cy="5410080"/>
          </a:xfrm>
        </p:grpSpPr>
        <p:grpSp>
          <p:nvGrpSpPr>
            <p:cNvPr id="1739" name="Group 102"/>
            <p:cNvGrpSpPr/>
            <p:nvPr/>
          </p:nvGrpSpPr>
          <p:grpSpPr>
            <a:xfrm>
              <a:off x="4214880" y="1054080"/>
              <a:ext cx="1965240" cy="5410080"/>
              <a:chOff x="4214880" y="1054080"/>
              <a:chExt cx="1965240" cy="5410080"/>
            </a:xfrm>
          </p:grpSpPr>
          <p:sp>
            <p:nvSpPr>
              <p:cNvPr id="1740" name="Rectangle 60"/>
              <p:cNvSpPr/>
              <p:nvPr/>
            </p:nvSpPr>
            <p:spPr>
              <a:xfrm>
                <a:off x="4214880" y="1054080"/>
                <a:ext cx="1965240" cy="54100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OUTCOM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Rectangle 20"/>
              <p:cNvSpPr/>
              <p:nvPr/>
            </p:nvSpPr>
            <p:spPr>
              <a:xfrm>
                <a:off x="4265640" y="1411200"/>
                <a:ext cx="1836720" cy="74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More efficient, productive, &amp; resilient production syst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Right Arrow 104"/>
            <p:cNvSpPr/>
            <p:nvPr/>
          </p:nvSpPr>
          <p:spPr>
            <a:xfrm>
              <a:off x="3857760" y="3843360"/>
              <a:ext cx="369720" cy="344160"/>
            </a:xfrm>
            <a:prstGeom prst="rightArrow">
              <a:avLst>
                <a:gd name="adj1" fmla="val 50000"/>
                <a:gd name="adj2" fmla="val 50043"/>
              </a:avLst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3" name="Rectangle 9"/>
          <p:cNvSpPr/>
          <p:nvPr/>
        </p:nvSpPr>
        <p:spPr>
          <a:xfrm>
            <a:off x="1693800" y="1066680"/>
            <a:ext cx="2151000" cy="5410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le 10"/>
          <p:cNvSpPr/>
          <p:nvPr/>
        </p:nvSpPr>
        <p:spPr>
          <a:xfrm>
            <a:off x="1746360" y="1400040"/>
            <a:ext cx="2074680" cy="4827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Available /Adap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Innovation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11"/>
          <p:cNvSpPr/>
          <p:nvPr/>
        </p:nvSpPr>
        <p:spPr>
          <a:xfrm>
            <a:off x="1746360" y="4218120"/>
            <a:ext cx="2074680" cy="5270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Willing, capable, relevant partners/users enga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Rectangle 12"/>
          <p:cNvSpPr/>
          <p:nvPr/>
        </p:nvSpPr>
        <p:spPr>
          <a:xfrm>
            <a:off x="1746360" y="1952640"/>
            <a:ext cx="2074680" cy="7300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Significant SI gains from  systems-focused component 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14"/>
          <p:cNvSpPr/>
          <p:nvPr/>
        </p:nvSpPr>
        <p:spPr>
          <a:xfrm>
            <a:off x="1746360" y="4795920"/>
            <a:ext cx="2074680" cy="4651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Quick wins/lessons are feasible, focus long-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15"/>
          <p:cNvSpPr/>
          <p:nvPr/>
        </p:nvSpPr>
        <p:spPr>
          <a:xfrm>
            <a:off x="1746360" y="2712960"/>
            <a:ext cx="2074680" cy="6811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Innovative &amp; tractable  implementation models can be appl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59"/>
          <p:cNvGrpSpPr/>
          <p:nvPr/>
        </p:nvGrpSpPr>
        <p:grpSpPr>
          <a:xfrm>
            <a:off x="152280" y="1066680"/>
            <a:ext cx="1524240" cy="5410440"/>
            <a:chOff x="152280" y="1066680"/>
            <a:chExt cx="1524240" cy="5410440"/>
          </a:xfrm>
        </p:grpSpPr>
        <p:sp>
          <p:nvSpPr>
            <p:cNvPr id="1750" name="Rectangle 13"/>
            <p:cNvSpPr/>
            <p:nvPr/>
          </p:nvSpPr>
          <p:spPr>
            <a:xfrm>
              <a:off x="152280" y="1066680"/>
              <a:ext cx="990720" cy="54104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Calibri"/>
                </a:rPr>
                <a:t>CAA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3"/>
            <p:cNvSpPr/>
            <p:nvPr/>
          </p:nvSpPr>
          <p:spPr>
            <a:xfrm>
              <a:off x="279000" y="1828440"/>
              <a:ext cx="152280" cy="373392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4"/>
            <p:cNvSpPr/>
            <p:nvPr/>
          </p:nvSpPr>
          <p:spPr>
            <a:xfrm>
              <a:off x="523800" y="182844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5"/>
            <p:cNvSpPr/>
            <p:nvPr/>
          </p:nvSpPr>
          <p:spPr>
            <a:xfrm>
              <a:off x="523800" y="279396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6"/>
            <p:cNvSpPr/>
            <p:nvPr/>
          </p:nvSpPr>
          <p:spPr>
            <a:xfrm>
              <a:off x="523800" y="375912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7"/>
            <p:cNvSpPr/>
            <p:nvPr/>
          </p:nvSpPr>
          <p:spPr>
            <a:xfrm>
              <a:off x="523800" y="471492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Left-Right Arrow 16"/>
            <p:cNvSpPr/>
            <p:nvPr/>
          </p:nvSpPr>
          <p:spPr>
            <a:xfrm>
              <a:off x="1155960" y="3794040"/>
              <a:ext cx="520560" cy="328320"/>
            </a:xfrm>
            <a:prstGeom prst="leftRightArrow">
              <a:avLst>
                <a:gd name="adj1" fmla="val 50000"/>
                <a:gd name="adj2" fmla="val 50032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GN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7" name="Rectangle 17"/>
          <p:cNvSpPr/>
          <p:nvPr/>
        </p:nvSpPr>
        <p:spPr>
          <a:xfrm>
            <a:off x="1746360" y="3441600"/>
            <a:ext cx="2074680" cy="7239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Delivery mechanisms  integral to project design and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Rectangle 18"/>
          <p:cNvSpPr/>
          <p:nvPr/>
        </p:nvSpPr>
        <p:spPr>
          <a:xfrm>
            <a:off x="1733400" y="5318280"/>
            <a:ext cx="2075040" cy="6537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Scaling up/out and maximising spillovers are part of project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19"/>
          <p:cNvSpPr/>
          <p:nvPr/>
        </p:nvSpPr>
        <p:spPr>
          <a:xfrm>
            <a:off x="4265640" y="2211480"/>
            <a:ext cx="181764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More effective use of land, water, biod’vrsty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21"/>
          <p:cNvSpPr/>
          <p:nvPr/>
        </p:nvSpPr>
        <p:spPr>
          <a:xfrm>
            <a:off x="4265640" y="3084480"/>
            <a:ext cx="1835280" cy="72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Greater, more equitable returns  to hh labour and as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22"/>
          <p:cNvSpPr/>
          <p:nvPr/>
        </p:nvSpPr>
        <p:spPr>
          <a:xfrm>
            <a:off x="4265640" y="3843360"/>
            <a:ext cx="1835280" cy="53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mproved household nutrition (esp W&amp;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24"/>
          <p:cNvSpPr/>
          <p:nvPr/>
        </p:nvSpPr>
        <p:spPr>
          <a:xfrm>
            <a:off x="4265640" y="4411800"/>
            <a:ext cx="182232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Better served and more efficient value ch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Box 25"/>
          <p:cNvSpPr/>
          <p:nvPr/>
        </p:nvSpPr>
        <p:spPr>
          <a:xfrm>
            <a:off x="201960" y="228600"/>
            <a:ext cx="87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Assumptions, Outcomes, Impacts, &amp; FtF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49"/>
          <p:cNvSpPr/>
          <p:nvPr/>
        </p:nvSpPr>
        <p:spPr>
          <a:xfrm>
            <a:off x="4287960" y="5667480"/>
            <a:ext cx="1819080" cy="749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mproved  research methods,  partnership and delivery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58"/>
          <p:cNvSpPr/>
          <p:nvPr/>
        </p:nvSpPr>
        <p:spPr>
          <a:xfrm>
            <a:off x="1731960" y="6019920"/>
            <a:ext cx="2075040" cy="4143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M&amp;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E</a:t>
            </a: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6" name="Group 103"/>
          <p:cNvGrpSpPr/>
          <p:nvPr/>
        </p:nvGrpSpPr>
        <p:grpSpPr>
          <a:xfrm>
            <a:off x="6162480" y="1400040"/>
            <a:ext cx="2946600" cy="4435560"/>
            <a:chOff x="6162480" y="1400040"/>
            <a:chExt cx="2946600" cy="4435560"/>
          </a:xfrm>
        </p:grpSpPr>
        <p:cxnSp>
          <p:nvCxnSpPr>
            <p:cNvPr id="1767" name="Straight Arrow Connector 106"/>
            <p:cNvCxnSpPr>
              <a:stCxn id="1768" idx="3"/>
              <a:endCxn id="1769" idx="1"/>
            </p:cNvCxnSpPr>
            <p:nvPr/>
          </p:nvCxnSpPr>
          <p:spPr>
            <a:xfrm>
              <a:off x="6798960" y="2806560"/>
              <a:ext cx="276840" cy="15912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70" name="Straight Arrow Connector 84"/>
            <p:cNvCxnSpPr>
              <a:stCxn id="1768" idx="3"/>
              <a:endCxn id="1771" idx="1"/>
            </p:cNvCxnSpPr>
            <p:nvPr/>
          </p:nvCxnSpPr>
          <p:spPr>
            <a:xfrm flipH="1">
              <a:off x="6582600" y="2806200"/>
              <a:ext cx="216360" cy="22834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72" name="Oval 64"/>
            <p:cNvSpPr/>
            <p:nvPr/>
          </p:nvSpPr>
          <p:spPr>
            <a:xfrm>
              <a:off x="6238800" y="3052440"/>
              <a:ext cx="1371600" cy="56520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Wom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mpowe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Oval 26"/>
            <p:cNvSpPr/>
            <p:nvPr/>
          </p:nvSpPr>
          <p:spPr>
            <a:xfrm>
              <a:off x="6942240" y="4336920"/>
              <a:ext cx="91908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Oval 27"/>
            <p:cNvSpPr/>
            <p:nvPr/>
          </p:nvSpPr>
          <p:spPr>
            <a:xfrm>
              <a:off x="7807320" y="3035160"/>
              <a:ext cx="103176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Oval 28"/>
            <p:cNvSpPr/>
            <p:nvPr/>
          </p:nvSpPr>
          <p:spPr>
            <a:xfrm>
              <a:off x="7067520" y="3585960"/>
              <a:ext cx="110952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Inc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Oval 29"/>
            <p:cNvSpPr/>
            <p:nvPr/>
          </p:nvSpPr>
          <p:spPr>
            <a:xfrm>
              <a:off x="8016840" y="3894120"/>
              <a:ext cx="109224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Hunger/Nutr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6" name="Straight Arrow Connector 41"/>
            <p:cNvCxnSpPr>
              <a:stCxn id="1774" idx="0"/>
              <a:endCxn id="1773" idx="2"/>
            </p:cNvCxnSpPr>
            <p:nvPr/>
          </p:nvCxnSpPr>
          <p:spPr>
            <a:xfrm flipV="1">
              <a:off x="7623000" y="3244320"/>
              <a:ext cx="184680" cy="34200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777" name="Straight Arrow Connector 42"/>
            <p:cNvCxnSpPr>
              <a:stCxn id="1769" idx="6"/>
              <a:endCxn id="1775" idx="3"/>
            </p:cNvCxnSpPr>
            <p:nvPr/>
          </p:nvCxnSpPr>
          <p:spPr>
            <a:xfrm flipV="1">
              <a:off x="7860960" y="4252320"/>
              <a:ext cx="316440" cy="29412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778" name="Straight Arrow Connector 44"/>
            <p:cNvCxnSpPr>
              <a:endCxn id="1775" idx="0"/>
            </p:cNvCxnSpPr>
            <p:nvPr/>
          </p:nvCxnSpPr>
          <p:spPr>
            <a:xfrm>
              <a:off x="8516880" y="3429000"/>
              <a:ext cx="46440" cy="4658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79" name="Straight Arrow Connector 47"/>
            <p:cNvCxnSpPr>
              <a:endCxn id="1774" idx="4"/>
            </p:cNvCxnSpPr>
            <p:nvPr/>
          </p:nvCxnSpPr>
          <p:spPr>
            <a:xfrm flipV="1">
              <a:off x="7311960" y="4005000"/>
              <a:ext cx="311760" cy="40392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80" name="Oval 50"/>
            <p:cNvSpPr/>
            <p:nvPr/>
          </p:nvSpPr>
          <p:spPr>
            <a:xfrm>
              <a:off x="7427880" y="1400040"/>
              <a:ext cx="1611360" cy="7938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table/Re-generating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1" name="Straight Arrow Connector 51"/>
            <p:cNvCxnSpPr>
              <a:stCxn id="1780" idx="4"/>
              <a:endCxn id="1773" idx="0"/>
            </p:cNvCxnSpPr>
            <p:nvPr/>
          </p:nvCxnSpPr>
          <p:spPr>
            <a:xfrm>
              <a:off x="8232480" y="2193480"/>
              <a:ext cx="91080" cy="8420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82" name="Straight Arrow Connector 55"/>
            <p:cNvCxnSpPr>
              <a:endCxn id="1774" idx="0"/>
            </p:cNvCxnSpPr>
            <p:nvPr/>
          </p:nvCxnSpPr>
          <p:spPr>
            <a:xfrm>
              <a:off x="7542360" y="2666520"/>
              <a:ext cx="81360" cy="91980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83" name="Straight Arrow Connector 61"/>
            <p:cNvCxnSpPr>
              <a:endCxn id="1775" idx="2"/>
            </p:cNvCxnSpPr>
            <p:nvPr/>
          </p:nvCxnSpPr>
          <p:spPr>
            <a:xfrm>
              <a:off x="6183000" y="4098600"/>
              <a:ext cx="1834200" cy="54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4" name="Straight Arrow Connector 62"/>
            <p:cNvCxnSpPr>
              <a:endCxn id="1780" idx="2"/>
            </p:cNvCxnSpPr>
            <p:nvPr/>
          </p:nvCxnSpPr>
          <p:spPr>
            <a:xfrm flipV="1">
              <a:off x="6183000" y="1796040"/>
              <a:ext cx="1245240" cy="71172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5" name="Straight Arrow Connector 63"/>
            <p:cNvCxnSpPr>
              <a:endCxn id="1769" idx="2"/>
            </p:cNvCxnSpPr>
            <p:nvPr/>
          </p:nvCxnSpPr>
          <p:spPr>
            <a:xfrm flipV="1">
              <a:off x="6183000" y="4546080"/>
              <a:ext cx="759240" cy="1224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6" name="Straight Arrow Connector 68"/>
            <p:cNvCxnSpPr/>
            <p:nvPr/>
          </p:nvCxnSpPr>
          <p:spPr>
            <a:xfrm flipV="1">
              <a:off x="6179760" y="1641240"/>
              <a:ext cx="1362600" cy="1558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7" name="Straight Arrow Connector 70"/>
            <p:cNvCxnSpPr>
              <a:endCxn id="1774" idx="2"/>
            </p:cNvCxnSpPr>
            <p:nvPr/>
          </p:nvCxnSpPr>
          <p:spPr>
            <a:xfrm>
              <a:off x="6162480" y="3524040"/>
              <a:ext cx="905400" cy="2721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71" name="Oval 72"/>
            <p:cNvSpPr/>
            <p:nvPr/>
          </p:nvSpPr>
          <p:spPr>
            <a:xfrm>
              <a:off x="6343560" y="4962600"/>
              <a:ext cx="1638360" cy="87300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creased  value-added, jobs &amp; tr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73"/>
            <p:cNvSpPr/>
            <p:nvPr/>
          </p:nvSpPr>
          <p:spPr>
            <a:xfrm>
              <a:off x="6594480" y="2128680"/>
              <a:ext cx="1395360" cy="7938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creased food, feed, fod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8" name="Straight Arrow Connector 76"/>
            <p:cNvCxnSpPr>
              <a:endCxn id="1768" idx="1"/>
            </p:cNvCxnSpPr>
            <p:nvPr/>
          </p:nvCxnSpPr>
          <p:spPr>
            <a:xfrm>
              <a:off x="6183000" y="1796760"/>
              <a:ext cx="616680" cy="4500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9" name="Straight Arrow Connector 81"/>
            <p:cNvCxnSpPr>
              <a:endCxn id="1771" idx="1"/>
            </p:cNvCxnSpPr>
            <p:nvPr/>
          </p:nvCxnSpPr>
          <p:spPr>
            <a:xfrm>
              <a:off x="6180120" y="4716360"/>
              <a:ext cx="403920" cy="3736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90" name="Straight Arrow Connector 88"/>
            <p:cNvCxnSpPr>
              <a:endCxn id="1769" idx="4"/>
            </p:cNvCxnSpPr>
            <p:nvPr/>
          </p:nvCxnSpPr>
          <p:spPr>
            <a:xfrm flipV="1">
              <a:off x="7171920" y="4755600"/>
              <a:ext cx="229320" cy="24012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791" name="Oval 53"/>
            <p:cNvSpPr/>
            <p:nvPr/>
          </p:nvSpPr>
          <p:spPr>
            <a:xfrm>
              <a:off x="7953480" y="4594320"/>
              <a:ext cx="100944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ector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2" name="Straight Arrow Connector 54"/>
            <p:cNvCxnSpPr>
              <a:stCxn id="1774" idx="4"/>
              <a:endCxn id="1791" idx="1"/>
            </p:cNvCxnSpPr>
            <p:nvPr/>
          </p:nvCxnSpPr>
          <p:spPr>
            <a:xfrm>
              <a:off x="7623000" y="4005360"/>
              <a:ext cx="478440" cy="6516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93" name="Straight Arrow Connector 57"/>
            <p:cNvCxnSpPr>
              <a:stCxn id="1771" idx="7"/>
              <a:endCxn id="1791" idx="3"/>
            </p:cNvCxnSpPr>
            <p:nvPr/>
          </p:nvCxnSpPr>
          <p:spPr>
            <a:xfrm flipV="1">
              <a:off x="7742160" y="4952160"/>
              <a:ext cx="358920" cy="137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794" name="Group 36"/>
          <p:cNvGrpSpPr/>
          <p:nvPr/>
        </p:nvGrpSpPr>
        <p:grpSpPr>
          <a:xfrm>
            <a:off x="6246720" y="2768760"/>
            <a:ext cx="2835360" cy="2408040"/>
            <a:chOff x="6246720" y="2768760"/>
            <a:chExt cx="2835360" cy="2408040"/>
          </a:xfrm>
        </p:grpSpPr>
        <p:sp>
          <p:nvSpPr>
            <p:cNvPr id="1795" name="Flowchart: Connector 67"/>
            <p:cNvSpPr/>
            <p:nvPr/>
          </p:nvSpPr>
          <p:spPr>
            <a:xfrm>
              <a:off x="8713800" y="36021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lowchart: Connector 69"/>
            <p:cNvSpPr/>
            <p:nvPr/>
          </p:nvSpPr>
          <p:spPr>
            <a:xfrm>
              <a:off x="8470800" y="27687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lowchart: Connector 71"/>
            <p:cNvSpPr/>
            <p:nvPr/>
          </p:nvSpPr>
          <p:spPr>
            <a:xfrm>
              <a:off x="8670960" y="479592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lowchart: Connector 74"/>
            <p:cNvSpPr/>
            <p:nvPr/>
          </p:nvSpPr>
          <p:spPr>
            <a:xfrm>
              <a:off x="7507080" y="33354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lowchart: Connector 75"/>
            <p:cNvSpPr/>
            <p:nvPr/>
          </p:nvSpPr>
          <p:spPr>
            <a:xfrm>
              <a:off x="6246720" y="292248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0" name="Rectangle 87"/>
          <p:cNvSpPr/>
          <p:nvPr/>
        </p:nvSpPr>
        <p:spPr>
          <a:xfrm>
            <a:off x="4275000" y="5029200"/>
            <a:ext cx="182268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Aware, engaged, empowered, farmers &amp; service provider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1" name="Group 37"/>
          <p:cNvGrpSpPr/>
          <p:nvPr/>
        </p:nvGrpSpPr>
        <p:grpSpPr>
          <a:xfrm>
            <a:off x="923760" y="1100160"/>
            <a:ext cx="7823520" cy="4735440"/>
            <a:chOff x="923760" y="1100160"/>
            <a:chExt cx="7823520" cy="4735440"/>
          </a:xfrm>
        </p:grpSpPr>
        <p:sp>
          <p:nvSpPr>
            <p:cNvPr id="1802" name="Flowchart: Connector 83"/>
            <p:cNvSpPr/>
            <p:nvPr/>
          </p:nvSpPr>
          <p:spPr>
            <a:xfrm>
              <a:off x="5794560" y="12906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lowchart: Connector 85"/>
            <p:cNvSpPr/>
            <p:nvPr/>
          </p:nvSpPr>
          <p:spPr>
            <a:xfrm>
              <a:off x="8379000" y="11001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lowchart: Connector 86"/>
            <p:cNvSpPr/>
            <p:nvPr/>
          </p:nvSpPr>
          <p:spPr>
            <a:xfrm>
              <a:off x="7680600" y="545472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lowchart: Connector 89"/>
            <p:cNvSpPr/>
            <p:nvPr/>
          </p:nvSpPr>
          <p:spPr>
            <a:xfrm>
              <a:off x="5880240" y="5031000"/>
              <a:ext cx="3664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lowchart: Connector 90"/>
            <p:cNvSpPr/>
            <p:nvPr/>
          </p:nvSpPr>
          <p:spPr>
            <a:xfrm>
              <a:off x="5699160" y="3085920"/>
              <a:ext cx="3664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lowchart: Connector 91"/>
            <p:cNvSpPr/>
            <p:nvPr/>
          </p:nvSpPr>
          <p:spPr>
            <a:xfrm>
              <a:off x="923760" y="50436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TextBox 4"/>
          <p:cNvSpPr/>
          <p:nvPr/>
        </p:nvSpPr>
        <p:spPr>
          <a:xfrm>
            <a:off x="762120" y="1393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sighting activity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keholder vision of 15-20 year outcomes for target systems and ge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ographic (problem/intervention domain) stratification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ing problem domains that reflect key differences in initial conditions (status and trends) and drivers of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Box 5"/>
          <p:cNvSpPr/>
          <p:nvPr/>
        </p:nvSpPr>
        <p:spPr>
          <a:xfrm>
            <a:off x="758880" y="685800"/>
            <a:ext cx="79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tential Stratification and Experimental Design Framework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Box 6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-81360" y="95040"/>
            <a:ext cx="924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ographic Stratification of Target Systems/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2" name="Picture 5" descr=""/>
          <p:cNvPicPr/>
          <p:nvPr/>
        </p:nvPicPr>
        <p:blipFill>
          <a:blip r:embed="rId1"/>
          <a:stretch/>
        </p:blipFill>
        <p:spPr>
          <a:xfrm>
            <a:off x="160200" y="925560"/>
            <a:ext cx="8839440" cy="5718240"/>
          </a:xfrm>
          <a:prstGeom prst="rect">
            <a:avLst/>
          </a:prstGeom>
          <a:ln w="0">
            <a:noFill/>
          </a:ln>
        </p:spPr>
      </p:pic>
      <p:sp>
        <p:nvSpPr>
          <p:cNvPr id="1813" name="TextBox 2"/>
          <p:cNvSpPr/>
          <p:nvPr/>
        </p:nvSpPr>
        <p:spPr>
          <a:xfrm>
            <a:off x="369360" y="6489720"/>
            <a:ext cx="44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Site Selection Group. Addis SI Workshop, Feb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TextBox 4"/>
          <p:cNvSpPr/>
          <p:nvPr/>
        </p:nvSpPr>
        <p:spPr>
          <a:xfrm>
            <a:off x="762120" y="1263600"/>
            <a:ext cx="76197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esighting activity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keholder vision of 15-20 year outcomes for target systems and geograph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graphic (problem/intervention domain) stratification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ing problem domains that reflect key differences in initial conditions (status and trends) and drivers of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te-specific (farm/landscape) stratifi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Sustainability and Intensification stratification within each geographic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ticulate &amp; test potential SI trajecto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in geographic and site-specific st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Box 5"/>
          <p:cNvSpPr/>
          <p:nvPr/>
        </p:nvSpPr>
        <p:spPr>
          <a:xfrm>
            <a:off x="758880" y="685800"/>
            <a:ext cx="79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tential Stratification and Experimental Design Framework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Box 6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7" name="Group 58"/>
          <p:cNvGrpSpPr/>
          <p:nvPr/>
        </p:nvGrpSpPr>
        <p:grpSpPr>
          <a:xfrm>
            <a:off x="2629080" y="2057400"/>
            <a:ext cx="3085920" cy="2819520"/>
            <a:chOff x="2629080" y="2057400"/>
            <a:chExt cx="3085920" cy="2819520"/>
          </a:xfrm>
        </p:grpSpPr>
        <p:sp>
          <p:nvSpPr>
            <p:cNvPr id="1818" name="Rectangle 57"/>
            <p:cNvSpPr/>
            <p:nvPr/>
          </p:nvSpPr>
          <p:spPr>
            <a:xfrm>
              <a:off x="2629080" y="2095200"/>
              <a:ext cx="1333440" cy="136368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Straight Connector 52"/>
            <p:cNvSpPr/>
            <p:nvPr/>
          </p:nvSpPr>
          <p:spPr>
            <a:xfrm flipV="1">
              <a:off x="4114800" y="2057400"/>
              <a:ext cx="1600200" cy="18720"/>
            </a:xfrm>
            <a:prstGeom prst="line">
              <a:avLst/>
            </a:prstGeom>
            <a:ln w="28440">
              <a:solidFill>
                <a:srgbClr val="fcd5b5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Straight Connector 55"/>
            <p:cNvSpPr/>
            <p:nvPr/>
          </p:nvSpPr>
          <p:spPr>
            <a:xfrm>
              <a:off x="4086360" y="3465720"/>
              <a:ext cx="1628640" cy="1411200"/>
            </a:xfrm>
            <a:prstGeom prst="line">
              <a:avLst/>
            </a:prstGeom>
            <a:ln w="28440">
              <a:solidFill>
                <a:srgbClr val="fcd5b5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ratification &amp; SI Traject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TextBox 20"/>
          <p:cNvSpPr/>
          <p:nvPr/>
        </p:nvSpPr>
        <p:spPr>
          <a:xfrm>
            <a:off x="-91800" y="3019320"/>
            <a:ext cx="14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ain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g.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3" name="Group 34"/>
          <p:cNvGrpSpPr/>
          <p:nvPr/>
        </p:nvGrpSpPr>
        <p:grpSpPr>
          <a:xfrm>
            <a:off x="1295280" y="2057400"/>
            <a:ext cx="2667240" cy="3614400"/>
            <a:chOff x="1295280" y="2057400"/>
            <a:chExt cx="2667240" cy="3614400"/>
          </a:xfrm>
        </p:grpSpPr>
        <p:grpSp>
          <p:nvGrpSpPr>
            <p:cNvPr id="1824" name="Group 9"/>
            <p:cNvGrpSpPr/>
            <p:nvPr/>
          </p:nvGrpSpPr>
          <p:grpSpPr>
            <a:xfrm>
              <a:off x="1295280" y="2057400"/>
              <a:ext cx="2667240" cy="2834280"/>
              <a:chOff x="1295280" y="2057400"/>
              <a:chExt cx="2667240" cy="2834280"/>
            </a:xfrm>
          </p:grpSpPr>
          <p:sp>
            <p:nvSpPr>
              <p:cNvPr id="1825" name="Straight Connector 4"/>
              <p:cNvSpPr/>
              <p:nvPr/>
            </p:nvSpPr>
            <p:spPr>
              <a:xfrm>
                <a:off x="1295280" y="2057400"/>
                <a:ext cx="0" cy="282024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Straight Connector 7"/>
              <p:cNvSpPr/>
              <p:nvPr/>
            </p:nvSpPr>
            <p:spPr>
              <a:xfrm>
                <a:off x="1295280" y="4891680"/>
                <a:ext cx="266724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7" name="Straight Connector 11"/>
            <p:cNvSpPr/>
            <p:nvPr/>
          </p:nvSpPr>
          <p:spPr>
            <a:xfrm>
              <a:off x="1371240" y="2057400"/>
              <a:ext cx="2591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Straight Connector 13"/>
            <p:cNvSpPr/>
            <p:nvPr/>
          </p:nvSpPr>
          <p:spPr>
            <a:xfrm>
              <a:off x="3962520" y="2133360"/>
              <a:ext cx="0" cy="2743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Straight Connector 14"/>
            <p:cNvSpPr/>
            <p:nvPr/>
          </p:nvSpPr>
          <p:spPr>
            <a:xfrm>
              <a:off x="2629080" y="2095200"/>
              <a:ext cx="0" cy="2743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Straight Connector 15"/>
            <p:cNvSpPr/>
            <p:nvPr/>
          </p:nvSpPr>
          <p:spPr>
            <a:xfrm>
              <a:off x="1333080" y="3459240"/>
              <a:ext cx="2591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TextBox 16"/>
            <p:cNvSpPr/>
            <p:nvPr/>
          </p:nvSpPr>
          <p:spPr>
            <a:xfrm>
              <a:off x="2974680" y="2651400"/>
              <a:ext cx="6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i-H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TextBox 17"/>
            <p:cNvSpPr/>
            <p:nvPr/>
          </p:nvSpPr>
          <p:spPr>
            <a:xfrm>
              <a:off x="2972160" y="388620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o-H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TextBox 18"/>
            <p:cNvSpPr/>
            <p:nvPr/>
          </p:nvSpPr>
          <p:spPr>
            <a:xfrm>
              <a:off x="1602000" y="38862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o-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TextBox 19"/>
            <p:cNvSpPr/>
            <p:nvPr/>
          </p:nvSpPr>
          <p:spPr>
            <a:xfrm>
              <a:off x="1681560" y="265140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i-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TextBox 21"/>
            <p:cNvSpPr/>
            <p:nvPr/>
          </p:nvSpPr>
          <p:spPr>
            <a:xfrm>
              <a:off x="1920600" y="5029200"/>
              <a:ext cx="17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arket Potent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p. d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36" name="Straight Arrow Connector 50"/>
          <p:cNvCxnSpPr/>
          <p:nvPr/>
        </p:nvCxnSpPr>
        <p:spPr>
          <a:xfrm flipV="1">
            <a:off x="6884640" y="3079440"/>
            <a:ext cx="678600" cy="837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837" name="Group 71"/>
          <p:cNvGrpSpPr/>
          <p:nvPr/>
        </p:nvGrpSpPr>
        <p:grpSpPr>
          <a:xfrm>
            <a:off x="6805440" y="2831400"/>
            <a:ext cx="891000" cy="1588680"/>
            <a:chOff x="6805440" y="2831400"/>
            <a:chExt cx="891000" cy="1588680"/>
          </a:xfrm>
        </p:grpSpPr>
        <p:cxnSp>
          <p:nvCxnSpPr>
            <p:cNvPr id="1838" name="Straight Arrow Connector 59"/>
            <p:cNvCxnSpPr/>
            <p:nvPr/>
          </p:nvCxnSpPr>
          <p:spPr>
            <a:xfrm>
              <a:off x="6884640" y="4419360"/>
              <a:ext cx="81216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39" name="Elbow Connector 63"/>
            <p:cNvCxnSpPr/>
            <p:nvPr/>
          </p:nvCxnSpPr>
          <p:spPr>
            <a:xfrm flipH="1" flipV="1" rot="5400000">
              <a:off x="6714720" y="2922120"/>
              <a:ext cx="786600" cy="605520"/>
            </a:xfrm>
            <a:prstGeom prst="bentConnector3">
              <a:avLst>
                <a:gd name="adj1" fmla="val 99816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840" name="TextBox 72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Box 73"/>
          <p:cNvSpPr/>
          <p:nvPr/>
        </p:nvSpPr>
        <p:spPr>
          <a:xfrm>
            <a:off x="1316880" y="149220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Geographic Stra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2" name="Group 75"/>
          <p:cNvGrpSpPr/>
          <p:nvPr/>
        </p:nvGrpSpPr>
        <p:grpSpPr>
          <a:xfrm>
            <a:off x="4311720" y="1459080"/>
            <a:ext cx="4568040" cy="3957840"/>
            <a:chOff x="4311720" y="1459080"/>
            <a:chExt cx="4568040" cy="3957840"/>
          </a:xfrm>
        </p:grpSpPr>
        <p:grpSp>
          <p:nvGrpSpPr>
            <p:cNvPr id="1843" name="Group 35"/>
            <p:cNvGrpSpPr/>
            <p:nvPr/>
          </p:nvGrpSpPr>
          <p:grpSpPr>
            <a:xfrm>
              <a:off x="4311720" y="2076480"/>
              <a:ext cx="4245480" cy="3340440"/>
              <a:chOff x="4311720" y="2076480"/>
              <a:chExt cx="4245480" cy="3340440"/>
            </a:xfrm>
          </p:grpSpPr>
          <p:grpSp>
            <p:nvGrpSpPr>
              <p:cNvPr id="1844" name="Group 36"/>
              <p:cNvGrpSpPr/>
              <p:nvPr/>
            </p:nvGrpSpPr>
            <p:grpSpPr>
              <a:xfrm>
                <a:off x="5890320" y="2076480"/>
                <a:ext cx="2666880" cy="2834640"/>
                <a:chOff x="5890320" y="2076480"/>
                <a:chExt cx="2666880" cy="2834640"/>
              </a:xfrm>
            </p:grpSpPr>
            <p:sp>
              <p:nvSpPr>
                <p:cNvPr id="1845" name="Straight Connector 46"/>
                <p:cNvSpPr/>
                <p:nvPr/>
              </p:nvSpPr>
              <p:spPr>
                <a:xfrm>
                  <a:off x="5890320" y="2076480"/>
                  <a:ext cx="0" cy="2820600"/>
                </a:xfrm>
                <a:prstGeom prst="line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Straight Connector 47"/>
                <p:cNvSpPr/>
                <p:nvPr/>
              </p:nvSpPr>
              <p:spPr>
                <a:xfrm>
                  <a:off x="5890320" y="4911120"/>
                  <a:ext cx="2666880" cy="0"/>
                </a:xfrm>
                <a:prstGeom prst="line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7" name="Straight Connector 37"/>
              <p:cNvSpPr/>
              <p:nvPr/>
            </p:nvSpPr>
            <p:spPr>
              <a:xfrm>
                <a:off x="5965920" y="2076480"/>
                <a:ext cx="259092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Straight Connector 38"/>
              <p:cNvSpPr/>
              <p:nvPr/>
            </p:nvSpPr>
            <p:spPr>
              <a:xfrm>
                <a:off x="8556840" y="2152440"/>
                <a:ext cx="0" cy="27432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Straight Connector 39"/>
              <p:cNvSpPr/>
              <p:nvPr/>
            </p:nvSpPr>
            <p:spPr>
              <a:xfrm>
                <a:off x="7223400" y="2114280"/>
                <a:ext cx="0" cy="27432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Straight Connector 40"/>
              <p:cNvSpPr/>
              <p:nvPr/>
            </p:nvSpPr>
            <p:spPr>
              <a:xfrm>
                <a:off x="5927760" y="3478320"/>
                <a:ext cx="259092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TextBox 41"/>
              <p:cNvSpPr/>
              <p:nvPr/>
            </p:nvSpPr>
            <p:spPr>
              <a:xfrm>
                <a:off x="7569720" y="2670840"/>
                <a:ext cx="65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Hi-H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TextBox 42"/>
              <p:cNvSpPr/>
              <p:nvPr/>
            </p:nvSpPr>
            <p:spPr>
              <a:xfrm>
                <a:off x="7566840" y="390564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o-H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TextBox 43"/>
              <p:cNvSpPr/>
              <p:nvPr/>
            </p:nvSpPr>
            <p:spPr>
              <a:xfrm>
                <a:off x="6197400" y="3905640"/>
                <a:ext cx="68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o-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TextBox 44"/>
              <p:cNvSpPr/>
              <p:nvPr/>
            </p:nvSpPr>
            <p:spPr>
              <a:xfrm>
                <a:off x="6276240" y="267084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Hi-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TextBox 45"/>
              <p:cNvSpPr/>
              <p:nvPr/>
            </p:nvSpPr>
            <p:spPr>
              <a:xfrm>
                <a:off x="6222960" y="5048640"/>
                <a:ext cx="204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ustainability Inde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TextBox 48"/>
              <p:cNvSpPr/>
              <p:nvPr/>
            </p:nvSpPr>
            <p:spPr>
              <a:xfrm>
                <a:off x="4311720" y="3050280"/>
                <a:ext cx="154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Intensif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Inde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7" name="TextBox 74"/>
            <p:cNvSpPr/>
            <p:nvPr/>
          </p:nvSpPr>
          <p:spPr>
            <a:xfrm>
              <a:off x="5515560" y="1459080"/>
              <a:ext cx="336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Calibri"/>
                </a:rPr>
                <a:t>Farm/Landscape Stratif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22:17:45Z</dcterms:created>
  <dc:creator>locadmin</dc:creator>
  <dc:description/>
  <dc:language>en-US</dc:language>
  <cp:lastModifiedBy>PBallantyne</cp:lastModifiedBy>
  <dcterms:modified xsi:type="dcterms:W3CDTF">2012-02-07T07:04:27Z</dcterms:modified>
  <cp:revision>95</cp:revision>
  <dc:subject/>
  <dc:title>PowerPoint Presentation</dc:title>
</cp:coreProperties>
</file>