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2C9F-6796-417C-85F8-C00992FF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B4DB-A8D5-4702-991A-E095FB13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B9D-BE06-408A-905C-7AD01A99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71A-DB2B-4692-885C-545D6050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3FB1-F2A2-4B99-8EC5-2620E390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0B30-225E-447F-ACBA-6ECB0F0C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D8C-A4A6-44FD-954A-E95B593E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A96C-5BE8-4F8B-999C-7B777472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161E-3518-45E3-AC61-4F71BC77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35D-5D08-4687-983F-41A1CCCF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2277-D5DC-4F62-9A33-9075F7AE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3545-37C4-49AE-9EB3-84F94D6A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6A9A-E888-4DE3-81FB-414398B52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W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lection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integrates multiple and mutually supportive farming system components OR builds new partnerships that will facilitate the longer-term RISING research progr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involves substantive collaboration between at least three organiz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will complete reportable results that further the objectives of Feed the Future by September 30, 20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tional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ossing boundaries, one collaborator not a CG cen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partner invol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age with existing or previous initiatives, syner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s are known and mapp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igned with national progr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ilding partnership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 participatory diagnostics to determine concrete issues, develop action plans, design pilot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information baseline for impact assess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too broad/generic: need focus to be achiev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materials needed for next planting seas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ide proposals into numerical results versus steps towards networks/partnerships; consider research and development projects separate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-potential propos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1: Catalogue of crop varieties; aflatoxins literature review; catalogue of crop management options; off-season seed produ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2: Inventory of system components; mapping of development actors. Would like to see this kind of process tied to a specific probl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3: Concerned that the important, strategic projects may not be easily reportable. Training farmers to produce certified seed; dissemination of post-harvest technologies; communication, technology transfer, and outreach strategies; nutrient-enhancing recipes in local languages; identification of networks that support extens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7:23:25Z</dcterms:created>
  <dc:creator>Windows User</dc:creator>
  <dc:description/>
  <dc:language>en-US</dc:language>
  <cp:lastModifiedBy>eleborgne</cp:lastModifiedBy>
  <dcterms:modified xsi:type="dcterms:W3CDTF">2012-02-09T10:59:21Z</dcterms:modified>
  <cp:revision>4</cp:revision>
  <dc:subject/>
  <dc:title>Early Wins</dc:title>
</cp:coreProperties>
</file>