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4EB0-6F78-437D-88EA-93045E71D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D30E-1ECA-47F4-8016-EC9B688E01E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3CF3D-E990-47BA-BB63-19F3E48A2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9E3B-A82E-4B30-8050-F94EDFAE7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4C337-C803-4F43-BDD9-FF0A2C877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221CC-B254-4E64-936E-5DC9707B6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26257-56C4-47F4-ABDE-F584BE6FD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8FC0F-8C9E-4921-8DB2-BE42BAF8E3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48629-F94A-41FD-AF57-52448C7021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668C7-07F1-4AD7-A112-B13054B374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895DA-65CB-41D6-AEEA-6693924C0D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DFADA-4BCF-4731-97EF-4CB32BCFE8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5E23-054B-441F-A324-5B0C536E28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CAA78-3C1F-4551-B02A-B8AEA9F615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28125-CA7B-4EBF-937C-C91508690B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0F156-498B-44F8-971B-62E7865FD8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58BCE-933E-4933-B764-D90F7FFF60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F3FB4-2B83-47E7-A438-FE17E4B5C5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C1498-C953-49EC-BED7-6DB4585F77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6D4D9-00AC-4D2B-87F2-D868430E9BD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F9600-2E1C-4A43-A578-98AAB02F3FC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7ECCE-781C-4FEC-B176-C7F64E5F274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A6434-FDBB-4074-950D-720CD0315F8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939BB-0BDA-4170-AA62-3EA0FE1ADF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EEE82-3E54-423E-9122-532507331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86AD-B54B-44FF-AA0C-0B54DD17F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72C3-8871-4A6E-999A-23A7CE767F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E85A-CD4E-400F-BD30-0942CE4210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4360" y="17521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92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tional Stakeholders’ Consultation Meeting on Livestock for Africa RISING Phase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1835280" y="46530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uidelines for Group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80880" y="198864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 of priority research for development livestock issues for Africa RISING Phase 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to four livestock technologies for sca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actors to be involved in the implementation of livestock related activities in Phase 2 are identified and their potential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 logical framework with activities based on Phase 2 propos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Expected Outputs from Group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will be 3 groups of about 8 persons per gro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roup 1: Leader: Dr Emmanuel Adu; Rapporteur: Dr Addah Wese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roup 2: Leader: Prof Emmanuel Osafo; Rapporteur: Mr Sadat Salif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roup 3: Leader: Dr Victoria Attoh-Kotoku; Rapporteur: Mr Solomon Kon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98864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ency with the Africa RISING project objectives for Phas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ientific sound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asibility (in terms of design, time and budg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ffing capa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alability and potential i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requi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ing crop-livestock integ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kage with human nutr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2184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riteria for identification of priority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98864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can score each livestock issue or thematic identified using the six criteria above on the scale of 0 (None/Poor) to 10 (Very High/Excell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2316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coring of different proposed livestock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50920" y="3357720"/>
          <a:ext cx="8723160" cy="2371680"/>
        </p:xfrm>
        <a:graphic>
          <a:graphicData uri="http://schemas.openxmlformats.org/drawingml/2006/table">
            <a:tbl>
              <a:tblPr/>
              <a:tblGrid>
                <a:gridCol w="720720"/>
                <a:gridCol w="1079280"/>
                <a:gridCol w="936720"/>
                <a:gridCol w="1008000"/>
                <a:gridCol w="792360"/>
                <a:gridCol w="1008000"/>
                <a:gridCol w="1152360"/>
                <a:gridCol w="1079640"/>
                <a:gridCol w="946080"/>
              </a:tblGrid>
              <a:tr h="36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oring based on selected 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ist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ientific qu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a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ffing capa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al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nersh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-L integ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an nutr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14716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Key points from Phase 2 Proposal on Livest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71600" y="2054160"/>
            <a:ext cx="77724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eneric research will complete the loose ends of research on the Sustainable Intensification innovations in phase I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aden and strengthen partnerships particularly with the private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ument adequately research outputs through publication of technical and non-technical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a livestock research strategy to increase visibility of livestock-related activities especially those about small ruminants and pi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14716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Key points from Phase 2 Proposal on Livest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71600" y="2054160"/>
            <a:ext cx="77724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eneric research will complete the loose ends of research on the Sustainable Intensification innovations in phase I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more linkages between crop-livestock diversification and human nutr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k opportunities to link adaptive research with agricultural development projects to add value/complement their activities, and to scale-out tested and validated SI innovations identified from phase 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New Research areas in Phas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2027160"/>
            <a:ext cx="83487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ase II will also explore new research areas and utilization of tools emerging from phase I, identified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crop-livestock integration involving different livestock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post-harvest management and value addition, and demonstration of proven technolog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small-scale mechanization (labor-sav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y more attention to climate-smart-agriculture pack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lore the potential of dairy goats and milk processing for improved nutrition and income gener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50920" y="1218960"/>
            <a:ext cx="8642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07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ogframe– Livestock related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1785960"/>
          <a:ext cx="8497800" cy="4738680"/>
        </p:xfrm>
        <a:graphic>
          <a:graphicData uri="http://schemas.openxmlformats.org/drawingml/2006/table">
            <a:tbl>
              <a:tblPr/>
              <a:tblGrid>
                <a:gridCol w="2174760"/>
                <a:gridCol w="2239920"/>
                <a:gridCol w="2163960"/>
                <a:gridCol w="1919160"/>
              </a:tblGrid>
              <a:tr h="10746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ct Outcome 1: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Productivity and resilience of smallholder crop-livestock systems in the Guinea and Sudan savanna zones of West Africa increas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25720">
                <a:tc gridSpan="4"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UTPUT 1.1 Options for more intensive, diversified, productive, and resilient crop-livestock systems valid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VELY VERIFIABLE INDICA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9036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ANS/SOURCE OF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MPORTANT ASSUMPTIO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8604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ivity 1.1.1: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valuate and disseminate climate-resilient cropping and livestock systems to reduce ris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marL="9036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033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ivity 1.1.2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st and disseminate a combination of improved breeds, housing, feeding, health and breeding management practices to intensify livestock (sheep, goat, pig, and poultry) production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44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ivity 1.1.3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troduce and evaluate dairy breeds of goats and sheep for milk produ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0:36:32Z</dcterms:created>
  <dc:creator>IZeledon</dc:creator>
  <dc:description/>
  <dc:language>en-US</dc:language>
  <cp:lastModifiedBy>AA</cp:lastModifiedBy>
  <cp:lastPrinted>2011-10-06T11:45:23Z</cp:lastPrinted>
  <dcterms:modified xsi:type="dcterms:W3CDTF">2016-11-14T17:30:58Z</dcterms:modified>
  <cp:revision>59</cp:revision>
  <dc:subject/>
  <dc:title>Slide 1</dc:title>
</cp:coreProperties>
</file>