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8830-DDEB-4FE2-83F3-248294101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E94F-D666-495B-BE65-6ABD6E6DD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ED65-F52E-4EE7-BE55-43FCE32FC7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8CB-3D00-40D3-B0AC-E8FDC7195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167-22F7-42B4-AB5B-2B3C8CF6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9728-C83C-4794-B11C-CD1DA67F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327C-6370-4AE2-A98F-BFA7BF4E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9D71-ECE5-4DF4-846A-9ED47B35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1E5-D5C0-432A-960C-032706AB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B0A-1F27-4323-8F07-65F6BF2D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799-C8C6-46AE-ABD7-9A1CE8C1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72E0-E8F3-40AA-A5C2-3FF64357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19DA-E015-4316-BF44-57BAB0ED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3C61-9AD0-4DDA-8FC6-20874FCD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9E6-01CA-4FEA-A886-564D6EB7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3C28-5887-4365-8CD1-4F580E9F4BE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roles (incl. limited nature of engagement) and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selection should be inclusive and trans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emerging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entiv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sensitive matter that needs to be handled carefully (basically no handing out money to participants when they come to training meetings in the vill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nsation guidelines for events such as training outside the village, exchange visits have guidelines that we need to follo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actors may be doing it, but we need to av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(not free, but we need to hear from the experienced partner, NAFAKA on how this is done from this ang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am eng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communication ( and feedback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contractors should follow engagement stand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NAFAKA 2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ing in NAFAKA original locations (Zone 1) and new locations (Zone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graphical fit of the partnership projec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t from locations where NAFAKA is not pres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5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5T05:51:43Z</dcterms:modified>
  <cp:revision>19</cp:revision>
  <dc:subject/>
  <dc:title>PowerPoint Presentation</dc:title>
</cp:coreProperties>
</file>