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2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DFD30-AE7F-4C15-A850-DA3666CD5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B656B-DD45-468E-A1F1-3C1644892C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A Af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3BCFA-2CAD-4552-91F2-CA34E7FB46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4B43-92AE-47A6-8E1E-9D908B731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5EEB-15BA-46DD-B9FA-9BA8B8735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779A-EAA7-4D87-A5D3-F15BD73B3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F1F3-EACB-4319-9939-174C20B39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13F3-2595-4440-86FB-80E2089F5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0192-0B88-4A4D-8DD1-5529BB726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07A7-0E57-4682-8714-CC3ECE42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F1D5-D754-4045-BB11-1A0940B4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450C-9BA5-4E8A-A23B-02090E8D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9A2B-B3A3-4BBD-AE1D-5AB3EBB4F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978E-4D04-48E4-9158-9DB2D77B3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7BF6-DCE4-46CD-B7BC-825024049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1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42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5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46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47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8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89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2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93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94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5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4"/>
          <a:stretch/>
        </p:blipFill>
        <p:spPr>
          <a:xfrm>
            <a:off x="1738440" y="590724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2D20D-7540-4B04-B307-E851BEED42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6.jpe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37720" y="1752480"/>
            <a:ext cx="71247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10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hancing partnership among Africa RISING, NAFAKA and TUBORESHE CHAKULA Programs for fast tracking delivery and scaling of agricultural technologies in Tanza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112480" y="4648320"/>
            <a:ext cx="45752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alibri"/>
              </a:rPr>
              <a:t>Haroon Sseguy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chnology Scaling Speciali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ext Placeholder 2"/>
          <p:cNvSpPr/>
          <p:nvPr/>
        </p:nvSpPr>
        <p:spPr>
          <a:xfrm>
            <a:off x="2438280" y="3733920"/>
            <a:ext cx="4575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Implementation Strateg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Engagement with farmers and partn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rification of roles (incl. limited nature of engagement) and expect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unity selection should be inclusive and transpar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Operational issues emerging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21924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Engagement with farmers and partn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entive mechanis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13800" indent="-21924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ery sensitive matter that needs to be handled carefully (basically no handing out money to participants when they come to training meetings in the villag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13800" indent="-21924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13800" indent="-21924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ensation guidelines for events such as training outside the village, exchange visits have guidelines that we need to follow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13800" indent="-21924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13800" indent="-21924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ther actors may be doing it, but we need to avoi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13800" indent="-21924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13800" indent="-21924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puts (not free, but we need to hear from the experienced partner, NAFAKA on how this is done from this angl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eam engag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utual respe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ear communication ( and feedback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bcontractors should follow engagement standard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NAFAKA 2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ffing in NAFAKA original locations (Zone 1) and new locations (Zone 2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eographical fit of the partnership project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it from locations where NAFAKA is not presen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09120" y="1447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Gill Sans"/>
              </a:rPr>
              <a:t>Acknowledgement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grpSp>
        <p:nvGrpSpPr>
          <p:cNvPr id="453" name="Group 1"/>
          <p:cNvGrpSpPr/>
          <p:nvPr/>
        </p:nvGrpSpPr>
        <p:grpSpPr>
          <a:xfrm>
            <a:off x="1066680" y="4444920"/>
            <a:ext cx="7012080" cy="2154240"/>
            <a:chOff x="1066680" y="4444920"/>
            <a:chExt cx="7012080" cy="2154240"/>
          </a:xfrm>
        </p:grpSpPr>
        <p:pic>
          <p:nvPicPr>
            <p:cNvPr id="454" name="Picture 2" descr=""/>
            <p:cNvPicPr/>
            <p:nvPr/>
          </p:nvPicPr>
          <p:blipFill>
            <a:blip r:embed="rId1"/>
            <a:stretch/>
          </p:blipFill>
          <p:spPr>
            <a:xfrm>
              <a:off x="1066680" y="5819760"/>
              <a:ext cx="685800" cy="7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" name="Picture 11" descr="P:\logos\c\cimmyt\CIMMYT Logo.jpg"/>
            <p:cNvPicPr/>
            <p:nvPr/>
          </p:nvPicPr>
          <p:blipFill>
            <a:blip r:embed="rId2"/>
            <a:stretch/>
          </p:blipFill>
          <p:spPr>
            <a:xfrm>
              <a:off x="7117920" y="5057280"/>
              <a:ext cx="960840" cy="72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" name="Picture 2" descr="P:\logos\i\ICRISAT\icrisat-logo.jpg"/>
            <p:cNvPicPr/>
            <p:nvPr/>
          </p:nvPicPr>
          <p:blipFill>
            <a:blip r:embed="rId3"/>
            <a:stretch/>
          </p:blipFill>
          <p:spPr>
            <a:xfrm>
              <a:off x="4509720" y="6036480"/>
              <a:ext cx="1507320" cy="56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7" name="Picture 6" descr="AVRDC – The World Vegetable Center — avrdc.org"/>
            <p:cNvPicPr/>
            <p:nvPr/>
          </p:nvPicPr>
          <p:blipFill>
            <a:blip r:embed="rId4"/>
            <a:srcRect l="0" t="0" r="63858" b="0"/>
            <a:stretch/>
          </p:blipFill>
          <p:spPr>
            <a:xfrm>
              <a:off x="1066680" y="5148360"/>
              <a:ext cx="1967040" cy="53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7" descr="P:\logos\i\iita\IITA_regular-sienna_with slogan (2).JPG"/>
            <p:cNvPicPr/>
            <p:nvPr/>
          </p:nvPicPr>
          <p:blipFill>
            <a:blip r:embed="rId5"/>
            <a:stretch/>
          </p:blipFill>
          <p:spPr>
            <a:xfrm>
              <a:off x="4190760" y="4444920"/>
              <a:ext cx="1123200" cy="56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9" name="Picture 14" descr=""/>
            <p:cNvPicPr/>
            <p:nvPr/>
          </p:nvPicPr>
          <p:blipFill>
            <a:blip r:embed="rId6"/>
            <a:stretch/>
          </p:blipFill>
          <p:spPr>
            <a:xfrm>
              <a:off x="4145400" y="5191200"/>
              <a:ext cx="1569240" cy="675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itle 1"/>
          <p:cNvSpPr/>
          <p:nvPr/>
        </p:nvSpPr>
        <p:spPr>
          <a:xfrm>
            <a:off x="476280" y="19051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56834"/>
                </a:solidFill>
                <a:latin typeface="Gill Sans"/>
              </a:rPr>
              <a:t>Thank You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7T17:37:57Z</dcterms:created>
  <dc:creator>Haroon Sseguya</dc:creator>
  <dc:description/>
  <dc:language>en-US</dc:language>
  <cp:lastModifiedBy>Haroon Sseguya</cp:lastModifiedBy>
  <cp:lastPrinted>2011-10-06T11:45:23Z</cp:lastPrinted>
  <dcterms:modified xsi:type="dcterms:W3CDTF">2016-07-05T05:51:43Z</dcterms:modified>
  <cp:revision>19</cp:revision>
  <dc:subject/>
  <dc:title>PowerPoint Presentation</dc:title>
</cp:coreProperties>
</file>