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EEF7-0593-46EB-8295-8A63950FF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7558-073C-4449-9E28-1BE32F0DA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1BF3-D183-4A8D-85EE-2BE3ED5AF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77C6-6DAB-4215-B74B-54F6B857C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9DC4-1538-4AA9-8493-BE11D3308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956B-004E-4686-981E-C699801B0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6660-CAED-49FB-B97B-78783697E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BD49-6592-4E3A-8E10-6F621014C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ADB6-DBB0-4AC8-8806-D735B719D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808E-B9FB-4B5A-A2C6-C3E05013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52D9-E567-4566-B9C2-1E152C86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F7A7-D402-4BEF-8C10-C274D465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B6AFC-1E38-4ABE-9BFD-CE47E71137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iller Interventions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rrig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ssible benefits: raises water productivity; double the cropping season and thus yields; greater food security and cash income; high value crops; integration with other components (fruit trees, legumes, grains, fod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ssible Issues: siltation; upstream/downstream conflicts and competition; glut on market; equity issues;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rofores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sible benefits: soil fertility; reduce soil erosion; cash income; food; fodder; construction mate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fic practices: improved fallow; trees on farm; woodlots; fencing,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sible issues: competition over limited space; ownership of trees; establishment challenges (management, livestock predation); labor; access to seed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sible benefits: high yielding varieties increasing harvest for food and cash; fodder; fuel; that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sible issues: access to markets for inputs (fertilizer, herbicides); land preparation and management; trade-offs of improved variety for grain versus fodder needs; quality of grain affected by man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tato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tato and sweet potato benefits: high value per unit of water; can store in field; food security – fills hunger gap; cash crop not as affected by global price fluctuations; high yielding ‘lazy farmer’ crop; drought resistant; relay crop; good in rotation; use of residual soil moisture; dual purpose – fodder and food; Vitamin A from orange-fleshed sweet potato – addressed malnutrition; new storage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tatoes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sible issues: storage, weight-distance to market, rainy season spoilage (though improved varieties address this)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e Rid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sible benefits: yield increases; improved water 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sible issues: soils; slope; lab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s for Re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ign a conceptual framework to rapidly assess complex system to determine possible inven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kground literature re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unity facilitation 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tor and Institution map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earch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earch on the process: what are the impacts of the conceptual approach and implementation on the project outco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tors affecting ado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to best approach and operationalize integ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1:09:35Z</dcterms:created>
  <dc:creator>Katherine</dc:creator>
  <dc:description/>
  <dc:language>en-US</dc:language>
  <cp:lastModifiedBy>Katherine</cp:lastModifiedBy>
  <dcterms:modified xsi:type="dcterms:W3CDTF">2012-02-01T12:21:20Z</dcterms:modified>
  <cp:revision>7</cp:revision>
  <dc:subject/>
  <dc:title>‘Killer Interventions’</dc:title>
</cp:coreProperties>
</file>