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C6EA-D5B0-44C0-982C-2BA5946B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681-3058-4447-9CEA-018734B9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1F34-5C76-49D0-8C77-44D8A753D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21C-AE28-480F-A69E-7BA94A8EF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C3D7-ACE6-44C8-B078-AEC2FB21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870-3878-4615-B1AB-6C60D86C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7779-2325-4048-A73B-CBF0644B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1B81-CFEE-4BAE-9B4A-373DCEBB1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5539-623B-4016-B2A6-514C752B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0476-19FC-469D-9EEB-BF79AAC6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C4D-E9F2-4CF5-8CCA-14CAB1AC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7DF-70C2-4387-9114-B09EF462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C3CC-FB15-43F5-BD13-97B4A9880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ller Interventions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r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e benefits: raises water productivity; double the cropping season and thus yields; greater food security and cash income; high value crops; integration with other components (fruit trees, legumes, grains, fod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e Issues: siltation; upstream/downstream conflicts and competition; glut on market; equity issues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rofore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soil fertility; reduce soil erosion; cash income; food; fodder; construction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practices: improved fallow; trees on farm; woodlots; fencing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competition over limited space; ownership of trees; establishment challenges (management, livestock predation); labor; access to see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high yielding varieties increasing harvest for food and cash; fodder; fuel; that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access to markets for inputs (fertilizer, herbicides); land preparation and management; trade-offs of improved variety for grain versus fodder needs; quality of grain affected by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at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 and sweet potato benefits: high value per unit of water; can store in field; food security – fills hunger gap; cash crop not as affected by global price fluctuations; high yielding ‘lazy farmer’ crop; drought resistant; relay crop; good in rotation; use of residual soil moisture; dual purpose – fodder and food; Vitamin A from orange-fleshed sweet potato – addressed malnutrition; new storag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atoes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storage, weight-distance to market, rainy season spoilage (though improved varieties address this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e Rid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yield increases; improved water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soils; slope; la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for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a conceptual framework to rapidly assess complex system to determine possible in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 facilitation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or and Institution ma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on the process: what are the impacts of the conceptual approach and implementation on the project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affecting ad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best approach and operationalize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1:09:35Z</dcterms:created>
  <dc:creator>Katherine</dc:creator>
  <dc:description/>
  <dc:language>en-US</dc:language>
  <cp:lastModifiedBy>Katherine</cp:lastModifiedBy>
  <dcterms:modified xsi:type="dcterms:W3CDTF">2012-02-01T12:21:20Z</dcterms:modified>
  <cp:revision>7</cp:revision>
  <dc:subject/>
  <dc:title>‘Killer Interventions’</dc:title>
</cp:coreProperties>
</file>