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32D-72B0-4E77-952D-AAB7EA74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D804-8A08-42C6-8216-52CF7928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02BC-CF1E-4157-91AB-2FEDEB8DB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1729-6301-45CA-86A6-C3C182D8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5262-0524-471E-BE0A-94D52CD3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887-802B-4CA8-A96F-443785F2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DA4-0345-4EBB-8198-416DD526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F58-A015-4FF6-9A02-7544A0A7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211-17B0-4909-BBEE-0D0A4F17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3E4B-F432-4AE1-937F-674C50C7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27D5-ED18-4D80-B82A-70FC63D8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CEA0-1E18-479F-A0DA-9D5BFCD3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CF62-D9FB-4A62-B18E-3B344F7736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45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st officially released vegetable varieties and associated technologies in rotation, relay, mixed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egetables already released by the Tanzanian gover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HORT C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itiate partnerships with stakeholders especially farme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etter ensures relevance with what we should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ITA (T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pacity building in crucial areas (field agents, nutrition) in preparation for participation in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ed skilled and knowledgeable partners in component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earch groups of the specific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tension of animal feeding technologies that lead to rapid fattening or increased milk/meat/egg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ill create a link between the project and the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strict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raining farmer groups to produce quality declared (certified) s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aking seed of superior varieties available 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SCI, District agents, CG centers  invol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uilding networks/relationship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ignment of SI technologies with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y marke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gional traders, PPP, 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mmunication, technology transfer and outreach strategy (field days, 8-8, seedfairs, on-farm demos, leaflets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ach thousands of people; supporting the project stimulate interest of stakeholders about project 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tional programmes, supported by IITA/local 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dentification of potential students (selection and placement of MSc. And PhD stud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uman capital; sustainable program operations; 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ject partners, CR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enhancing recipes in local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ready being done by AVRDC, requires scaling 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st-harvest technologies for longer and safer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crease food supply/safety and improve 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 sector, TFNC, IITA, 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dense varieties (eg. Fortified maize varieties, iron-reach mung-bean, protein rich soy bean, vitamin-rich vegetab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ptimization of components of systems intensification. Improve nutrient level of vulnerable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 especially ICRISAT, ILRI, AVRDC. Linkages with HarvestPlus, Peanut C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994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0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rticipatory Diagnosis of opportunities for systems intensification; Farmer-identified priorities for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 identify the best local opportunities for intensifying loc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utreach partners, farmers and other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sh-pull technique for  stem borer control and forage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n be done together with variety evaluation; integration of livestock and 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LRI, CIAT, NAR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ication of networks that support knowledge pro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 know who potential partners are lo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, SANREM CRS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ppropriate and safe soil, water and pest management options for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-adapt with farmers available soil, water and pest management technologies to boost current vegetable productivity in a cereal-vegetable-livestock system contex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CIAT, IITA, ILR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06:57Z</dcterms:created>
  <dc:creator>cojiewo</dc:creator>
  <dc:description/>
  <dc:language>en-US</dc:language>
  <cp:lastModifiedBy>eleborgne</cp:lastModifiedBy>
  <dcterms:modified xsi:type="dcterms:W3CDTF">2012-02-08T11:28:45Z</dcterms:modified>
  <cp:revision>14</cp:revision>
  <dc:subject/>
  <dc:title>Slide 1</dc:title>
</cp:coreProperties>
</file>