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DE1-FCD3-49C2-849B-999E9BC3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E8F-6EEA-4B12-98C2-520A41CB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A55-964A-4915-AE62-2104120E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F67-C046-4BD0-B062-5FFD1F26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81E-FA78-4ACB-84C7-1178B3B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82D-BF8C-4C64-AB75-3EA98039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0BE-851F-41BD-963B-B1A58A8D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801-B242-4925-BCE7-3E1192E0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F6A-C48F-40C5-8789-3496F0CF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9DC-F06B-455B-A8C2-FE999F71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CB6-56C5-4F90-A181-EE8747D1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172-745E-422D-BE3C-C60AB01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D223-FA13-4613-B77E-97E9B596F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fricamap"/>
          <p:cNvPicPr/>
          <p:nvPr/>
        </p:nvPicPr>
        <p:blipFill>
          <a:blip r:embed="rId1"/>
          <a:stretch/>
        </p:blipFill>
        <p:spPr>
          <a:xfrm>
            <a:off x="6134040" y="333360"/>
            <a:ext cx="3009960" cy="230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ing the Draft Concept Not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I. Hoeschle-Zele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93244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effort by colleagues from ICRISAT, ILRI, CIAT, ICRAF, AfricaRice, IMWI, IFPRI, AVRCD, and IIT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partners, others will be part of the further project design process, project implementation and dissemin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outputs fo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leader: IITA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067280" y="98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 livelihoods through sustainably increased productivity of cereal-legume-tree-horticulture-livestock integrated farm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roject addressing 3 cereal-based farming systems (com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­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rghum/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ographic foc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208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r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han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thern, Upper East, Upper West Region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ze, rice, sorghum, pearl 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u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ali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kasso Region (similar agro-eco zone, extends into drier areas north); sorghum, pearl millet,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level, food insecurity risk, gender inequity, potential for productivity improvement with manifol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sites: tbd at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&amp;E: Impact evaluation, scaling up and out assessment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 by IFPRI, separate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duration: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: US$ 3.2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3:13:07Z</dcterms:created>
  <dc:creator>zeledon</dc:creator>
  <dc:description/>
  <dc:language>en-US</dc:language>
  <cp:lastModifiedBy>PBallantyne</cp:lastModifiedBy>
  <dcterms:modified xsi:type="dcterms:W3CDTF">2012-01-10T07:22:25Z</dcterms:modified>
  <cp:revision>7</cp:revision>
  <dc:subject/>
  <dc:title>Sustainable Intensification of Cereal-based Farming Systems in the Sudano-Sahelian Zone</dc:title>
</cp:coreProperties>
</file>