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1D7-6584-483A-8E93-9916915FF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D73D-BC3D-458B-B0F6-BD6B26BF8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637-2764-44EE-82D8-1C06D318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2B68-0739-474F-85C1-1DD0FB75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5F4-287A-4555-B88E-F7BF0D572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DB1D-1C8A-45B5-B33F-73B79A50D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D41-5D6A-495E-9CBD-02C9C505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7F3-BB35-4529-A07E-04A07CCBD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0CD5-93FD-4D1D-A51D-7EAA1D6B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B0C6-A222-41E1-8701-DB5F9E22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32E8-5609-4A1D-A6EC-A94AD6B1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25D0-9B38-4786-89AE-CD62265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D169-5853-4E8E-9BF3-B6B6BC9D3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africamap"/>
          <p:cNvPicPr/>
          <p:nvPr/>
        </p:nvPicPr>
        <p:blipFill>
          <a:blip r:embed="rId1"/>
          <a:stretch/>
        </p:blipFill>
        <p:spPr>
          <a:xfrm>
            <a:off x="6134040" y="333360"/>
            <a:ext cx="3009960" cy="2300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887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</a:t>
            </a:r>
            <a:br>
              <a:rPr sz="40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ing the Draft Concept Note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I. Hoeschle-Zeled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6"/>
          <p:cNvSpPr/>
          <p:nvPr/>
        </p:nvSpPr>
        <p:spPr>
          <a:xfrm>
            <a:off x="0" y="593244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llaborative effort by colleagues from ICRISAT, ILRI, CIAT, ICRAF, AfricaRice, IMWI, IFPRI, AVRCD, and IITA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mary partners, others will be part of the further project design process, project implementation and dissemination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 outputs for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leader: IITA</a:t>
            </a:r>
            <a:br>
              <a:rPr sz="3200"/>
            </a:b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V="1">
            <a:off x="4067280" y="98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verall objective: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4000" y="227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rove livelihoods through sustainably increased productivity of cereal-legume-tree-horticulture-livestock integrated farming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 project addressing 3 cereal-based farming systems (compon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­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orghum/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ric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ographic focus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920880"/>
            <a:ext cx="82296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nor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han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Northern, Upper East, Upper West Regions;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ize, rice, sorghum, pearl mil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outher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Mali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Sikasso Region (similar agro-eco zone, extends into drier areas north); sorghum, pearl millet, ma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verty level, food insecurity risk, gender inequity, potential for productivity improvement with manifold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sites: tbd at this me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&amp;E: Impact evaluation, scaling up and out assessments,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d by IFPRI, separate f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ject duration: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ding: US$ 3.2m/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3:13:07Z</dcterms:created>
  <dc:creator>zeledon</dc:creator>
  <dc:description/>
  <dc:language>en-US</dc:language>
  <cp:lastModifiedBy>PBallantyne</cp:lastModifiedBy>
  <dcterms:modified xsi:type="dcterms:W3CDTF">2012-01-10T07:22:25Z</dcterms:modified>
  <cp:revision>7</cp:revision>
  <dc:subject/>
  <dc:title>Sustainable Intensification of Cereal-based Farming Systems in the Sudano-Sahelian Zone</dc:title>
</cp:coreProperties>
</file>