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B5C-01E1-4679-86DF-DD5A46C1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83C-402F-420B-A3B1-CC32E149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CD6-5196-44DB-831B-A3D2FDBC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BEB-ADF4-4EA1-9795-E94900C9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AC1-FAC6-4C85-907C-A1F48394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E4F-3D7C-4785-95B6-A51A638D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468-B97C-4754-95A2-8FFBD5B1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9AE-CE05-493B-835A-E2F0F1F0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790-0E07-4002-9FB4-917CFF72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D7B-21DB-4E80-A15D-BCA807AE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216-56AF-484D-BFA1-FF8165E5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87A-34F5-4E98-94C2-2DF1424C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DD5D-6D52-4840-8C82-E9FAD53B7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 and Plan for Organizing ESA Research Across Tanzania, Malawi and Zamb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Zambia: SIML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MYT and IITA (maize-legume syst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n Zam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TF – Zamb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ICRIS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ndnut + 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Tanzani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Morogoro (rice); Manyara and Dodoma (maize);  Mbeya (horticulture), et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aize-legume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awi, Tanzania, Mozambique, Kenya,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llover – Uganda, Rwanda, Zambia, Botsw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aize, legumes, livest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ct orientation  - shared vision to change livelihoods through integrated interven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untry participation and ownership – not contract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agement of all relevant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a lead national partner (research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ignment with national and regional investment and food security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ster the systems perspectiv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acity strengthening to rebuild national capac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ing participation and recognition of farmers’ contrib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der equity - inclusion of women (and m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coordinator (lead cen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coordinators (assigned by national lead partn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objective or theme leaders (key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focal points for each theme/obj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coordination by regional/zonal research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report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, national, objective focal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s to make thi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 centers (germplasm and technolog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nsion agenc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vate sector (feed, seed, fert, vet, finance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GOs – out-sca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ulatory agencies, bureau of standards, et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k with other projects (scaling up/out, spillov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ledge management system for the project (website, data, newsletter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novation platforms to support learning and farmer-led innov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farming system in each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ss-country vi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st and partn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ion plots/model fa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icipatory on-farm tr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ilitating and spillo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 plannin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ing of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coordinator plus 4-5 reps from country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eld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rom SRO for spillovers (CCARDESA, ASARECA, ECA, COMES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level (in-kind awards for team w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level awards to recognize team work and excel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of farmer contributions and lead innov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6:19:04Z</dcterms:created>
  <dc:creator>bshiferaw</dc:creator>
  <dc:description/>
  <dc:language>en-US</dc:language>
  <cp:lastModifiedBy>eleborgne</cp:lastModifiedBy>
  <dcterms:modified xsi:type="dcterms:W3CDTF">2012-02-09T09:06:56Z</dcterms:modified>
  <cp:revision>16</cp:revision>
  <dc:subject/>
  <dc:title>Plan and Principles for Organizing ESA Research Across Tanzania, Malawi and Zambia</dc:title>
</cp:coreProperties>
</file>