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3C7D-64F3-45BE-B056-9456E7231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4D69-954B-4AFF-BAA3-6C35277F77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2DE0-EDCE-4DA2-AA0A-1A4D47195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9754-A5A0-49DD-8E17-53491B072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0543-6B25-4177-B534-9570C1EB7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6B0A-BE62-4FF8-ACD7-E243EF8D6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CB1F-9366-4F8C-892B-ED04C38BC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249A6-928C-4C1B-8AFB-9B4B9A4F89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EAF5-2C6C-474B-ABF0-9A1C21BF8F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DDF0-76CE-4FC0-9A77-71C42CE1A0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41329-BA2C-4408-8427-BE437CD564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EB28-C316-4F53-A0E6-9003607EE6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F690-CE2C-4B37-A2D6-0204114EA2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1EED8-E72C-4B7E-B1B0-C9758D81EC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82F3-55D8-4491-9A70-3408CA36A3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A61F-B6B1-4F0C-A23A-92BC7B9BBE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2966-C031-4440-A919-413A0AA7E3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10380-2329-45F7-864F-975F24C1C2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2F4C7-B115-4A82-BD46-79A2DF7BE2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08AEC-D789-4135-80DF-7438CD6445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6C0B-41FE-4628-B494-99B7A7FB63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CDED-B2D0-4AC2-A4FD-D1AC0AA13AB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BC02-9BE9-42DB-9D12-6C0D163BF78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5769-264B-4442-849D-4B05FFF31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B254-05F3-4BDE-A9EC-DEE69F51F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0786-D6E7-4E3C-8653-CC52C53F5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5A3D-3E5A-42DD-9816-55471A90FB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0F47-29DB-411A-B8C1-B6044329DC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8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nsifying Livestock Production (Theme 3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8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MG00556-20120925-1305"/>
          <p:cNvPicPr/>
          <p:nvPr/>
        </p:nvPicPr>
        <p:blipFill>
          <a:blip r:embed="rId1"/>
          <a:stretch/>
        </p:blipFill>
        <p:spPr>
          <a:xfrm>
            <a:off x="1258920" y="1770120"/>
            <a:ext cx="3090960" cy="1895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Figure 1"/>
          <p:cNvPicPr/>
          <p:nvPr/>
        </p:nvPicPr>
        <p:blipFill>
          <a:blip r:embed="rId2"/>
          <a:stretch/>
        </p:blipFill>
        <p:spPr>
          <a:xfrm>
            <a:off x="4349880" y="1790640"/>
            <a:ext cx="3024000" cy="1874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MG00565-20120925-1354"/>
          <p:cNvPicPr/>
          <p:nvPr/>
        </p:nvPicPr>
        <p:blipFill>
          <a:blip r:embed="rId3"/>
          <a:stretch/>
        </p:blipFill>
        <p:spPr>
          <a:xfrm>
            <a:off x="1258920" y="3665520"/>
            <a:ext cx="3090960" cy="2067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wagashibrine"/>
          <p:cNvPicPr/>
          <p:nvPr/>
        </p:nvPicPr>
        <p:blipFill>
          <a:blip r:embed="rId4"/>
          <a:stretch/>
        </p:blipFill>
        <p:spPr>
          <a:xfrm>
            <a:off x="4335480" y="3675240"/>
            <a:ext cx="3024000" cy="2047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1042920" y="587700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ing of milk processors in “Wagashi”  (soft chees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684360" y="1601640"/>
            <a:ext cx="705636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existing and potential feed resources using FEAST in six intervention communities in the 3 regions of Northern Ghana. Surveys on feed market potential in 3 regions in Gh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ervation techniques for efficient use of crop residues as animal f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promising livestock value chains in 3 regions  - Guinea fowl in Northern, small ruminants in Upper West and pig in Upper East reg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MSc students from University of Ghana, Legon completed their thesis; 1 PhD student (UDS Tamale) completed field work and preparing for his def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684360" y="1601640"/>
            <a:ext cx="820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nosis of baseline situation with respect to biophysical, socio-economic and institutional profiles of the study sites, and the production systems (crop, livestock &amp; agroforestry) in Bougouni and Koutiala, Mal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nthesis report on review of existing land use plans and local conventions in Bougouni and Koutiala districts, M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feed resources and constraints to livestock production in six intervention communities in Bougouni and Koutiala districts using FEAST (Feed Assessment Tool) developed by IL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of strength and weakness of local institutions governing natural resources, and strategies to strengthen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of transhumance practices and the effects on natural resource management in the six intervention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ory analysis of the immediate and long-term causes of conflict over natural resource use and identification of  options to reduce conflicts and associated probl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684360" y="1601640"/>
            <a:ext cx="820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of chopping machine for conservation of crop residues and better ut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7740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4. Major Gaps in Phase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684360" y="1916280"/>
            <a:ext cx="8207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ed improvement, particularly community breeding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household nutrition through animal source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nutrient flows in crop-livestock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stock water productivity including rainwater harv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ing drudgery in production (small scale mechaniz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smallholder milk production, value addition and ut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7740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5.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684360" y="1916280"/>
            <a:ext cx="8207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AR: ILRI, ICRIS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RS: CSIR-Animal Research Institute, Ghana; IER Mali; UDS Tamale; KNUST Kuma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GO: AMEDD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991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1. Baseline (Project Starting point in 201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2. Evolution of Livestock Research for Development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3. Key Milestones (Achievements &amp; Less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4. Major Gaps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5.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198720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shop to review constraints and opportunities for intensification of ruminant and non-ruminant production systems in northern Ghana (27-28 Aug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analysi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constraints &amp; opportunities to livestock production) i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seline survey in Mali in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ntory of technologies for Quick Wins in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racterization of 3 key livestock value chains (guinea fowl in Northern region, pig in Upper East and small ruminants in Upper W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1. Baseline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4256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1. Baseline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Objet 1"/>
          <p:cNvGraphicFramePr/>
          <p:nvPr/>
        </p:nvGraphicFramePr>
        <p:xfrm>
          <a:off x="2187720" y="2028960"/>
          <a:ext cx="4768560" cy="280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2028960"/>
                    <a:ext cx="476856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2"/>
          <p:cNvSpPr/>
          <p:nvPr/>
        </p:nvSpPr>
        <p:spPr>
          <a:xfrm>
            <a:off x="684360" y="494172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pulation pyramid of Fonfana Village in Koutiala in 2009/2010 (Source: Travail des enfants dans l’agriculture; total population 63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84360" y="5672160"/>
            <a:ext cx="739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dominance of youthful population in both study sites, household labour for farming is a critical iss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 nutrition is important in both Bougouni &amp; Koutiala in view of the significant proportion of the population that is child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5680" y="1267920"/>
            <a:ext cx="8879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96164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Testing of Quick Wins technologies – No coordinated resear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On-station evaluation of some technologies e.g. non-conventional feeds for pigs and guinea fowl (replacing maize with false yam tuber meals for local pig Ashanti Black; replacing maize with false yam seed or sorghum spent grain (pito mash) for local guinea fowl; to replace maize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Baseline studies in Ghana and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Capacity building – non-degree short term training for farmers and researc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1287000"/>
            <a:ext cx="8820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090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: Training in FEAST and evaluation of fee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 -2016: On-farm testing and evaluation of technologies e.g. feed-health interventions i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3 – 2016: PhD Research (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utrient use in smallholder livestock production systems in Northern Ghana;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2. Lo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titutions governing NRM in Mal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3-2014: Testing feed and housing options to improve productivity of rural poultry and pig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4: Characterization of 3 key livestock value chains (guinea fowl in Northern region, pig in Upper East and small ruminants in Upper W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1287000"/>
            <a:ext cx="8820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090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5-2016: Ensiling techniques for conservation of crop residues in Ghana – On=farm demonstration and training of far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6 – 2017: Piloting feed-health interventions in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5-2016: Development oriented activities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aboration and formalization of local conventions in 3 communities in Bougouni and Koutiala, and demarcation of livestock routes; training in confli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179280" y="1601640"/>
            <a:ext cx="86407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ynthesis on sustainable intensification of cereal-based farming systems in the Sudano-Sahelian zone of Ghana: Analysis of constraints and opportunities for the sustainable intensification of mixed crop-livestock farming systems in northern Gh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nostic workshop to analyze constraints and opportunities of sustainable intensification of crop-livestock systems in Northern Ghana held in August 2012. The proceedings from the workshop is avail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our day training course was organized on crop-livestock farming systems in Tamale, Ghana from 19 to 22 September, 201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3 herdsmen, women and cattle owners were trained in milk hygiene practices in 3 districts of northern Ghana in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684360" y="1601640"/>
            <a:ext cx="82087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25 processors were trained in ‘wagashi’ (soft cheese) processing in the 3 districts in Northern Ghana and 40 milk processors were introduced to rudiments of yoghurt processing in one district in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d-health interventions for improved small ruminant production in 9 communities in 3 regions - increased weight gain, significant decline in mortality and increase in manure output from the treatment animals. More than 5,000 sheep and goats were vaccinated against P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ction of 12 model houses for sheep and goat in 6 intervention communities in Northern Gha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line studies on options to increase productivity of rural poultry and pig production systems, and feeding trials on use of non-conventional feed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on Feed Assessment Tool (FEAST) in Tamale in August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12-14T07:51:04Z</dcterms:modified>
  <cp:revision>80</cp:revision>
  <dc:subject/>
  <dc:title>Slide 1</dc:title>
</cp:coreProperties>
</file>