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C326A-1D42-4C51-B2D6-A454C129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B81F1-93BC-4F87-A25F-273488F1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39996-12B3-49BA-8E06-6F34FDB0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43EE7-8C60-4575-B665-923EE24C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3EDE4-A260-4134-A17E-605DA4EA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5DFC5-E476-4DFA-9726-A515D453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A0659-5C2D-4104-82CD-FDA7C4BE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06000-5144-4D79-8363-062DAE80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5F64-6499-4160-B9AC-D92BE86B7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2C020-8D15-4FBD-954C-D5F4766F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6504B-76E0-4787-A404-C8BE63DF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53FD3-2914-410F-856A-1BF8A61B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78198-9AA9-4D43-8D8D-16A3A886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C2477-8DB8-46F7-9CEC-360A1A7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337C6-989E-47A7-9868-672ADA06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3128A-72CD-4E74-84C2-0B93D0D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04C7A-0A92-4D3C-827C-B0E1395B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D3A93-5720-4C29-B3DE-67190025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346C-C310-4EFE-BA24-B3136142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8821B-3C64-4F61-8B38-54A12490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67C79-E886-4733-9D14-0A65DC6E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92B-5E8A-4D7E-AABC-BA55EAB0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928E-5472-4E57-B05E-FFAFAB5E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21A1-5464-4970-B060-DCD8E3FA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9E8-B8D8-4C77-943B-FF356D04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781E-F14F-4352-B60C-F6A4ABC1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716-E5DC-42E0-92CD-B9ADC025B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8690-9286-4586-82E1-40FE0904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2D60-53ED-4DDC-BE2D-FD8A2633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1E63-04C2-43B0-BE63-04E6D35B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C169-4F86-4EFE-9B5D-F1641471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B492-8CF4-477A-8C31-DA21B4EB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D05-A6CA-4A9B-A4C9-3F851053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8A23B-DF75-4C36-A4C1-BB486C8A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C5C5-96E3-4A9F-954F-1BF7B56B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B426-3420-4933-B292-872EC2D9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B342-C1DE-4050-AA57-71FE5A98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61D9-8C75-4AD4-804C-7E8D7612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79FA-2E8B-4E45-AC42-25FDFC28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7C26-4421-48E6-B951-B9D728B6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56106-E32D-4A21-94D1-31296A06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BC02-9CE2-4BB5-98FF-6E0AFFF1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76C9-13B8-4FC5-8714-149C7E36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64875-63B5-46A8-ACCC-A5FCA1EA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EB07-62E1-453D-8A21-726BD13B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C90B-472C-4E4A-AC3F-1F29BB08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30AD0-3FA4-4ABE-A37B-5963DD80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2BFF2-2F31-40DD-8D66-612FEC610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7290-B61C-46DF-A3A4-7BC98A5F0CB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890A-6758-4718-9055-183D3F26E47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09A84-E073-4F17-93B4-9821E42D09A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1006-4018-4EC5-B82D-637079ABF7B1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38160" y="1492200"/>
            <a:ext cx="91058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, planting density and N fertilizer rate effect on soil quality, weed dynamics and maize yield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519200" y="5516640"/>
            <a:ext cx="587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AAB1-4E3E-4D1B-A24B-4182B8B1CB4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BB74-F8AA-4AD0-B4F4-ED143ADE8AF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6875640" y="-100080"/>
            <a:ext cx="226836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840" y="4276800"/>
            <a:ext cx="227808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8710560" y="0"/>
            <a:ext cx="43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61F2-E695-47FF-B17B-B38F97A1BAD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0" y="6381720"/>
            <a:ext cx="8381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3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8639280" y="6361200"/>
            <a:ext cx="5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43C5-91A6-4317-955B-80F3B0CB4E7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-9360" y="-95400"/>
            <a:ext cx="9210600" cy="654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0" y="6308640"/>
            <a:ext cx="914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4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16960" y="637236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65E0-A56C-4545-922C-BFE3F2A03CD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5DEF-8781-494C-926B-690DB114165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5B03-EBD9-431E-AA19-474F882151E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2A7C-CFF6-4C08-B2FF-E53CC54C8E0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EB9D-6550-43AA-926C-60C610A3443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5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79D0-9408-484E-8B18-EC23B164BDB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6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2BE9-7643-4E8F-8C23-17989938624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and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A93C-6A7A-4BA1-9BA1-ADB0C75094F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38C7-E159-4FAE-8873-468AE1646BE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2F82-9B02-4C4B-9E2D-418A2575700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565C-B138-4E0A-A185-356C9B67B12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itle 1"/>
          <p:cNvSpPr/>
          <p:nvPr/>
        </p:nvSpPr>
        <p:spPr>
          <a:xfrm>
            <a:off x="108000" y="6338880"/>
            <a:ext cx="90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g. 4. Farmer preference for corralling technology  at Navr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02560" y="0"/>
            <a:ext cx="503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AFD9-5960-4156-9E04-A5B1D2428C7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Chart 4"/>
          <p:cNvGraphicFramePr/>
          <p:nvPr/>
        </p:nvGraphicFramePr>
        <p:xfrm>
          <a:off x="-50760" y="-34920"/>
          <a:ext cx="919476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34920"/>
                    <a:ext cx="91947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itle 1"/>
          <p:cNvSpPr/>
          <p:nvPr/>
        </p:nvSpPr>
        <p:spPr>
          <a:xfrm>
            <a:off x="0" y="6338880"/>
            <a:ext cx="9142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5. Farmer preference for maize density at Navr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72400" y="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54A8-9510-4554-8575-72FD9EEB739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Chart 4"/>
          <p:cNvGraphicFramePr/>
          <p:nvPr/>
        </p:nvGraphicFramePr>
        <p:xfrm>
          <a:off x="-50760" y="-22320"/>
          <a:ext cx="9193320" cy="63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22320"/>
                    <a:ext cx="919332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itle 1"/>
          <p:cNvSpPr/>
          <p:nvPr/>
        </p:nvSpPr>
        <p:spPr>
          <a:xfrm>
            <a:off x="28440" y="6288120"/>
            <a:ext cx="909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Fig. 6. Farmer preference for N fertilizer rate at Navron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29560" y="0"/>
            <a:ext cx="51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5005-97F6-441D-BF8C-62C325266A6D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Chart 4"/>
          <p:cNvGraphicFramePr/>
          <p:nvPr/>
        </p:nvGraphicFramePr>
        <p:xfrm>
          <a:off x="-50760" y="-50760"/>
          <a:ext cx="9194760" cy="63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2320" y="1822320"/>
            <a:ext cx="91440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farmers preferred maize performance under SDSG at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PD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F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1F6F-81B3-4CA4-BA91-E43F3D1E67A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0ACD-310F-4836-9C67-9EB910748BF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itle 1"/>
          <p:cNvSpPr/>
          <p:nvPr/>
        </p:nvSpPr>
        <p:spPr>
          <a:xfrm>
            <a:off x="0" y="1197000"/>
            <a:ext cx="69483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Lessons and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108000" y="20606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s complained about theft of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uality of manure from livestock was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upplementary feeding to improve manu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the quality manure also affects fodder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825E-D0E7-4E8A-A910-F41176924AB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DC54-561F-4E1C-AA25-08359E95009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AA28-E9B0-4B8E-B0EB-F4E4222FF8B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0BCF-91AC-4BBC-9228-EAD0D506CB1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6080" y="620640"/>
            <a:ext cx="91314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 preference for SDSG, MPD and NFR technologies on ma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FCA1-5A5B-4FC3-BA4C-3783702FEEBF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804D-2659-4FB0-B393-CDDD5ACBFE0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28F18-564E-4A2D-9AF3-BFD453B66DE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4CE5-9394-4914-874E-3606C3615D9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</cp:lastModifiedBy>
  <cp:lastPrinted>2015-09-01T11:16:39Z</cp:lastPrinted>
  <dcterms:modified xsi:type="dcterms:W3CDTF">2016-12-22T10:52:12Z</dcterms:modified>
  <cp:revision>973</cp:revision>
  <dc:subject/>
  <dc:title>Diapositiva 1</dc:title>
</cp:coreProperties>
</file>