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4291-0247-4FCE-816A-50CC42C9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1D60-43AE-4C14-AF20-47451523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7285-2237-4131-A2FA-461C27AB1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DF62-71F4-45A7-987E-DA3DBF7BE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301C-EB0F-479F-B881-83E29961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7739-4E93-4802-B42A-2845A536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39C1-0BED-4562-A9DD-F7844409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4AE-F544-48F3-A4FA-AD87F7CC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12BA-B3F2-403B-B86A-0993A415F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41D0-082F-4EAB-B244-4BF6EE8E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556-EE45-4E42-B488-258EA825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8F1-3690-4C0A-B534-2F623ACE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7BDA-B847-4EA8-B621-9D2950CDBAF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26B9-92BA-4571-A21E-4FC56E65B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CC99-2253-44E5-8A0A-559E8BF59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Africa  RISING in the Ethiopian Highland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B0F1-BB88-40D5-8FD8-1BE814D67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uary 2012: Project desig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012: Quick Win project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– September 2012: Quick Win projects op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012: Project review and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rojec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Feeds” – ILRI / ICARDA / EIAR / O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Water” – IWMI / ILRI / Addis Ababa, Bahir Dar, Arba Minch Univers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Trees” – ICRAF / ILRI / EIAR / Mekel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Pulses” – ICARDA / EIAR / ORARI / Far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Design – CIMMYT / IL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CC2C-BB5F-46A4-90B7-9E1B5F8E0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his Workshop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“Quick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opportunities presented by “Quick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iarisation with modes of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priority research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 operation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partnership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C53B-949D-4940-991C-5CDC935E7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38:39Z</dcterms:modified>
  <cp:revision>83</cp:revision>
  <dc:subject/>
  <dc:title>PowerPoint Presentation</dc:title>
</cp:coreProperties>
</file>