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F42F-B044-4FBA-BC61-AB5D5FD34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468F-F58A-402D-AD7B-8EE4B5952C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3183-A5D5-4914-B8E7-2A0863CD06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AA85-6D52-4C19-BCC0-3595696FB4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F955-4A85-41BC-AECD-4F15DEF090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0A3C3-06F8-40B1-B476-45A7D8E4A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8A62-D789-4846-8B83-AD6B99D3C9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F8B7-BEF0-4C29-AF51-8279C3730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56EF-B1E1-467E-BBA3-0B767DF972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E952-D029-481B-981A-29681F3CB5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9B1B-7153-4FBB-BF05-1C552F355B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EAE8-CB68-4D4C-8A97-C4EEAB13C7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D70C-BB40-4478-A78F-1BA11E1685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DFE3-99DF-4C27-B306-AD97B4CDE4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DCA7-5704-496E-86C0-B0B3CE23DB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7E9A-ACB6-4313-B6C4-E12A614BBA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4ED1-06B2-4354-877E-1C8C3C8E29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LR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A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CRI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3A819-B8CE-4FE8-B024-BEECAE3CE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CEF2-D1A7-4F59-B210-29A6BC06AD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B7D9-C215-47F2-882C-FB7D8CD7CD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44F86-A4CB-40D4-B0EB-4936EF7825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AEBC-0539-4FB6-A99F-3EE227741F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E286-506F-42DD-A78A-B67D5A456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BFF2-65CA-48B4-A55A-62A2749C7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0D04-0988-4177-9FC3-FF9FB935E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1036-0379-4597-865E-3F1CF4350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824E-1A39-4171-9A9F-0858D6B617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in mind of different system (intensive versus extensiv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FC60F-D37C-4A61-90C9-3276E847D6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8C8C-CF06-4A0C-A55C-545C0C0551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858A-FB69-4774-83D5-C199E8E41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D78A-4284-4747-A793-A96C5A0C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E5A6-7DC6-492A-B859-F355D4D85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384-3A89-4313-8CA0-4920F1E92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C31-654F-4B36-B954-5C9EC9B7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3D6A-4789-44F3-81EF-9BB4BFB7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0323-2617-4FA7-AD28-8699038A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1C7-D0A2-4E5A-A312-686D7C6E6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5235-88BD-410D-996A-9FBF47EA3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269C-6A75-473C-AD5F-A340371DC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8FA-3DFF-4504-86F8-DF3170D8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FC5-8547-4BD2-AE8F-57AB4766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E183-C78B-488B-A924-506D2F3D98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ROP-LIVESTOC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On-farm feed formulation using locally available crops and trees/shrub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corporation of non-starch grain staple food crops into livestock feeds (Cassava &amp; sweetpotato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soil seed crops (sunflower, siemsim, cotton, soya bea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cereal by products (Maize, sorghum, mille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Utilization of fodder from tree/shrubs (leucaena &amp; moringa leaf me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 and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forest/trees/shrub seed production and supply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dder bank/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, ICRISAT, CI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EX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Pasture 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egration of trees/shrubs into pasture with focus on carbon sequestration/C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ies for forage  and tree seeds and planting materi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land use planning to minimize confli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fluencing policy, by-laws &amp; regulation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Meetings of farmers and livestock keepers to identify how they can help each oth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anure management and exchange for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ocking rates manag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/knowledge on child nutr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rop residues/by produ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ory identification of suitable trees and forage spec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zing reserve establish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duct farmer-livestock keepers conflict resolution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use planning meetings with inputs from relevant ministries and local government offic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eptual Frame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the flip ch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VESTOCK-SOIL-CROP INTERAC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ivestock-Soil-Water Intera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ure quality and optimum application rat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 manure quality (nutrient content) in relation to feed and/or pasture typ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optimum application rate for man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 on-farm trials/demonstration for the Interactions of manure/fertilizer and soil moisture on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ventory of water harvesting technologies for livestock use and crop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I-Hombolo (Elirehema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CRAF (Water Harvesting Unit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BF/CI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ivat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ross-cutting iss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gender, climate change, capacity  building, are integrated in all research activiti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d and fertiliz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1258920" y="1447920"/>
            <a:ext cx="3600360" cy="320508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val 3"/>
          <p:cNvSpPr/>
          <p:nvPr/>
        </p:nvSpPr>
        <p:spPr>
          <a:xfrm>
            <a:off x="179280" y="3357720"/>
            <a:ext cx="3600720" cy="296676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Oval 4"/>
          <p:cNvSpPr/>
          <p:nvPr/>
        </p:nvSpPr>
        <p:spPr>
          <a:xfrm>
            <a:off x="2340000" y="3352680"/>
            <a:ext cx="3600360" cy="29718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OP-LIVESTOCK INTERACTIONS FOR INTENSIVE SYSTEM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Dual purpose legume crops and tree/shrubs for ruminant and non-ruminant anima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pid appraisal of available varieties /spec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selection of available varieties/species for market, disease/drought resistance, soil improvement, compatibility with cro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testing at plot and landscape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ink to marke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pacity building on livestock feed util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tilization of crop resid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dentify post-harvesting technologies (PHT) for both crops and livestock (food and feed safe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 protocol for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d out if seed/planting materials are avail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communities to work wi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is already going on/ leverage with on-going projects (e.g. ILRI work in Mvomero),focus feed quality improvement that has implication on the manure quality/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Rs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ARI (Dr. Matowo), Ari-Hombolo (Elirehema), LRC (Dr. Mushi), LRC-Mpwapwa LRC (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ART (Dr. Muliyokela), ZARI (Dr. Mwa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AS (Dr. Mtukes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versity: SUA, University of Zambia, LUANA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G-Centers (ILRI, ICRAF, I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cal government author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 societies (FO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illage Level Poultry and Crop Production for Meat and Eg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feeding and managing poul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ies for improving human nutr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keting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op production of fee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racterize poultry and crop/shrub production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entry points where resear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dentify PHT for improvement of nutrition market and food security (food and feed safet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 research proposal and implementa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2:39Z</dcterms:modified>
  <cp:revision>48</cp:revision>
  <dc:subject/>
  <dc:title>What component technologies  would fit in this system?</dc:title>
</cp:coreProperties>
</file>