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C3769-E8B6-4032-AE7B-F5DCFBB18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2B86-AE30-430E-99AB-0B3569F72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2317-2DB2-4699-81BD-25B5587A3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66B1-AC9A-471F-BE75-18E15BFE0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FB7B3-5DDE-485A-967E-5E547FBE4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1BAB-D953-43B4-AC47-B272F8CB23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C6D20-B6A5-4262-83A1-CF12847A2D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B1AD1-7036-402C-B2FC-1A62D446F3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273F-5E7A-46CE-BE32-6D8FD344C1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8745-8F4B-4968-AA4E-ED90B5D707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55A7-6EE4-44AE-A983-0195893D23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85FD-86F6-439E-8F27-8DAC7A2755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D8F0C-0FA2-49BE-9AC5-8BB5B6EB1A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AF17-802B-4B6B-BE2D-4311DB235E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96C2F-E571-4BE4-972B-BBF9C5CDEB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95ECC-BECF-46CB-9618-DC18B94F89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637CD-34CE-466A-93D1-85C2C16BD7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9393-CCFF-4B7E-B25A-013313845C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398C-5DA1-46C5-A979-8E0481CBBC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ADB3-ED43-42FD-A8E6-95D3DD93C72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555A-301F-41FA-BBFE-CE5A168D6B4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5F9B0-015A-41DF-BA08-AED535E4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53C7F-F55A-4118-85FD-9C4F7284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CB971-20BF-42DE-B1E0-3A78885A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EB1C9-B045-4361-BD50-1C38F2A6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09F91-2C39-497E-BE7B-61216A07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A267B-EEE7-4A3D-98D4-092621D6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F1801-62A3-426C-A79F-17BB705E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3A191-11DC-4B00-B43A-9FBF003B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39477-DCAA-4E7A-B989-315265C4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13AE-C3B0-476B-BB01-4A92AF8CBCD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4F730-02D5-48DB-98B5-6F4C774D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D8702-80D0-4A80-AF75-C51DB18A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59879-3AED-4457-A01F-4CB3EE92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F518-D45D-4B37-AB5A-B575A7952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FBF9-F1D3-4A16-9F64-754ACB069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3FC5-EA03-422D-AEA8-518FC146C2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DDF5-6A52-405D-A11A-8507C94A19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F765-C80B-4A4F-BF6C-4ACD9A251A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78920" y="1600200"/>
            <a:ext cx="2089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entry points &amp; integration levels (Mal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60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683712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59:44Z</dcterms:created>
  <dc:creator>IZeledon</dc:creator>
  <dc:description/>
  <dc:language>en-US</dc:language>
  <cp:lastModifiedBy>LeBorgne, Ewen (ILRI)</cp:lastModifiedBy>
  <cp:lastPrinted>2011-10-06T11:45:23Z</cp:lastPrinted>
  <dcterms:modified xsi:type="dcterms:W3CDTF">2012-10-31T06:47:43Z</dcterms:modified>
  <cp:revision>21</cp:revision>
  <dc:subject/>
  <dc:title>Slide 1</dc:title>
</cp:coreProperties>
</file>