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5CD29-32EF-47C2-9EC6-57C9622300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8F7AC-AFA3-43AC-96D9-85CD78A835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0FF80-BD66-410D-88D9-ADCE419968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86580-F1A7-4EF7-A6EE-BFE19F033E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DB9BC-7BF5-449F-B7C6-B853E35688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B521A-69AB-48E5-A922-4AEAD03AA41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A95F9-A4C6-40FA-9D3F-FE6885C02E6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A486B-BB8C-437D-8C06-C7860118F48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69997-9F94-4C2B-B110-11FFDFC61F5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F1C18-0D5F-4158-BB05-C5EBB66D3C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3E5AF-A355-4C07-94C3-A838F1BA5A6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3058A-44AF-46D0-988A-DE45EBBE4B2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92FDB-0B7F-46E5-BF3F-93AF48F1FDC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9ADF3-47A9-4248-893D-3EA3C81CA8C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501F6-CB1E-4DCC-AD1A-06234259080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BBEE8-753B-4112-B5DF-09385733FDF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C13A1-1F50-4A67-93E5-C0D665FF145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E9340-ECD6-48EE-9D7F-3C95E0A70E6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6AF1F-E367-403D-AC19-EE70811FEB1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11A2D-802E-4F2F-9FD4-22CE5DA2F5E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98F9A-4C93-425C-9735-78821137307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6B6BBE-B661-4085-A260-F7858C974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DB5A2B-DA1B-4F73-8CDF-D90AAA77C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DD46A3-352C-4109-80F1-C838B1DBF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E171FA-985D-49D9-B704-79F0C00BB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D6A4AE-88FC-4974-B674-7CF6EFA4D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8FBD5B-42FA-4E1D-86DE-3A7408617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B7137E-D31E-4525-9E08-1A5E1C64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D70186-F7EC-4AF1-B3B9-85ED94DAF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C3C530-BBBD-4D05-9B22-4DFCCF74E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39459-6211-4E79-8538-506CF5411F6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41E373-ED03-401A-9547-664D8A58A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F55BAB-0B43-4939-A5F9-18D2377F4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311A1D-8EFF-4FB8-ACF3-E59EBBC8A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22283-1878-418F-B162-977CEADBC9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124BE-A7B0-4516-AE75-FCE6DFF5DE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631000" y="6421320"/>
            <a:ext cx="5688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47E2D-6D48-4A3E-926A-29FE650F47A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grpSp>
        <p:nvGrpSpPr>
          <p:cNvPr id="39" name="Group 3"/>
          <p:cNvGrpSpPr/>
          <p:nvPr/>
        </p:nvGrpSpPr>
        <p:grpSpPr>
          <a:xfrm>
            <a:off x="2327400" y="5987880"/>
            <a:ext cx="3943080" cy="606600"/>
            <a:chOff x="2327400" y="5987880"/>
            <a:chExt cx="3943080" cy="606600"/>
          </a:xfrm>
        </p:grpSpPr>
        <p:pic>
          <p:nvPicPr>
            <p:cNvPr id="40" name="Picture 4" descr=""/>
            <p:cNvPicPr/>
            <p:nvPr/>
          </p:nvPicPr>
          <p:blipFill>
            <a:blip r:embed="rId4"/>
            <a:stretch/>
          </p:blipFill>
          <p:spPr>
            <a:xfrm>
              <a:off x="5162400" y="6121800"/>
              <a:ext cx="110808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5" descr=""/>
            <p:cNvPicPr/>
            <p:nvPr/>
          </p:nvPicPr>
          <p:blipFill>
            <a:blip r:embed="rId5"/>
            <a:stretch/>
          </p:blipFill>
          <p:spPr>
            <a:xfrm>
              <a:off x="3222720" y="6168600"/>
              <a:ext cx="1561320" cy="24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Picture 6" descr=""/>
            <p:cNvPicPr/>
            <p:nvPr/>
          </p:nvPicPr>
          <p:blipFill>
            <a:blip r:embed="rId6"/>
            <a:stretch/>
          </p:blipFill>
          <p:spPr>
            <a:xfrm>
              <a:off x="2327400" y="5987880"/>
              <a:ext cx="511200" cy="606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sldNum" idx="2"/>
          </p:nvPr>
        </p:nvSpPr>
        <p:spPr>
          <a:xfrm>
            <a:off x="8706960" y="64213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2729E-C9D4-4471-9AF6-EF8CA8DF1C0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"/>
          <p:cNvSpPr/>
          <p:nvPr/>
        </p:nvSpPr>
        <p:spPr>
          <a:xfrm>
            <a:off x="0" y="21337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4" descr="AR_WA_partners.jpg"/>
          <p:cNvPicPr/>
          <p:nvPr/>
        </p:nvPicPr>
        <p:blipFill>
          <a:blip r:embed="rId4"/>
          <a:stretch/>
        </p:blipFill>
        <p:spPr>
          <a:xfrm>
            <a:off x="1295280" y="3809880"/>
            <a:ext cx="6782040" cy="24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Num" idx="5"/>
          </p:nvPr>
        </p:nvSpPr>
        <p:spPr>
          <a:xfrm>
            <a:off x="8631000" y="6421320"/>
            <a:ext cx="5688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124AE-4CF5-4678-8710-12DE7566E8B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178920" y="1600200"/>
            <a:ext cx="2089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frica RISING entry points &amp; integration levels (Mali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Picture 60" descr=""/>
          <p:cNvPicPr/>
          <p:nvPr/>
        </p:nvPicPr>
        <p:blipFill>
          <a:blip r:embed="rId1"/>
          <a:stretch/>
        </p:blipFill>
        <p:spPr>
          <a:xfrm>
            <a:off x="2195640" y="692280"/>
            <a:ext cx="6837120" cy="60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8T13:59:44Z</dcterms:created>
  <dc:creator>IZeledon</dc:creator>
  <dc:description/>
  <dc:language>en-US</dc:language>
  <cp:lastModifiedBy>LeBorgne, Ewen (ILRI)</cp:lastModifiedBy>
  <cp:lastPrinted>2011-10-06T11:45:23Z</cp:lastPrinted>
  <dcterms:modified xsi:type="dcterms:W3CDTF">2012-10-31T06:47:43Z</dcterms:modified>
  <cp:revision>21</cp:revision>
  <dc:subject/>
  <dc:title>Slide 1</dc:title>
</cp:coreProperties>
</file>