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4.png" ContentType="image/png"/>
  <Override PartName="/ppt/media/image9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1.jpeg" ContentType="image/jpeg"/>
  <Override PartName="/ppt/media/image7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323232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A50D3-7F78-4481-B42D-32A839E80E7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FF2D-177C-46C2-8577-EA2616A5499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A Af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2401-B983-4E8C-B041-9B251C3BD9E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  <a:ea typeface="MS PGothic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  <a:ea typeface="MS PGothic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8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49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0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1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2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53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4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5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4"/>
          <a:stretch/>
        </p:blipFill>
        <p:spPr>
          <a:xfrm>
            <a:off x="1738440" y="5907240"/>
            <a:ext cx="584820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"/>
          <p:cNvPicPr/>
          <p:nvPr/>
        </p:nvPicPr>
        <p:blipFill>
          <a:blip r:embed="rId3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3" descr=""/>
          <p:cNvPicPr/>
          <p:nvPr/>
        </p:nvPicPr>
        <p:blipFill>
          <a:blip r:embed="rId2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Box 3"/>
          <p:cNvSpPr/>
          <p:nvPr/>
        </p:nvSpPr>
        <p:spPr>
          <a:xfrm>
            <a:off x="0" y="30481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56734"/>
                </a:solidFill>
                <a:latin typeface="Calibri"/>
                <a:ea typeface="MS PGothic"/>
              </a:rPr>
              <a:t>Africa Research in Sustainable Intensification for the Next 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56734"/>
                </a:solidFill>
                <a:latin typeface="Calibri"/>
                <a:ea typeface="MS PGothic"/>
              </a:rPr>
              <a:t>africa-rising.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4"/>
          <p:cNvGrpSpPr/>
          <p:nvPr/>
        </p:nvGrpSpPr>
        <p:grpSpPr>
          <a:xfrm>
            <a:off x="1182600" y="5486400"/>
            <a:ext cx="7086600" cy="857160"/>
            <a:chOff x="1182600" y="5486400"/>
            <a:chExt cx="7086600" cy="857160"/>
          </a:xfrm>
        </p:grpSpPr>
        <p:pic>
          <p:nvPicPr>
            <p:cNvPr id="302" name="Picture 5" descr=""/>
            <p:cNvPicPr/>
            <p:nvPr/>
          </p:nvPicPr>
          <p:blipFill>
            <a:blip r:embed="rId2"/>
            <a:stretch/>
          </p:blipFill>
          <p:spPr>
            <a:xfrm>
              <a:off x="1182600" y="5486400"/>
              <a:ext cx="85752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12" descr="P:\logos\i\ifpri\IFPRI_Logo_Standard.jpg"/>
            <p:cNvPicPr/>
            <p:nvPr/>
          </p:nvPicPr>
          <p:blipFill>
            <a:blip r:embed="rId3"/>
            <a:stretch/>
          </p:blipFill>
          <p:spPr>
            <a:xfrm>
              <a:off x="4376520" y="5486400"/>
              <a:ext cx="473040" cy="85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4" name="Picture 7" descr="P:\logos\i\iita\IITA_regular-sienna_with slogan (2).JPG"/>
            <p:cNvPicPr/>
            <p:nvPr/>
          </p:nvPicPr>
          <p:blipFill>
            <a:blip r:embed="rId4"/>
            <a:stretch/>
          </p:blipFill>
          <p:spPr>
            <a:xfrm>
              <a:off x="6911640" y="5569560"/>
              <a:ext cx="1357560" cy="68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5" name="Group 9"/>
          <p:cNvGrpSpPr/>
          <p:nvPr/>
        </p:nvGrpSpPr>
        <p:grpSpPr>
          <a:xfrm>
            <a:off x="1189080" y="6543720"/>
            <a:ext cx="7686720" cy="231120"/>
            <a:chOff x="1189080" y="6543720"/>
            <a:chExt cx="7686720" cy="231120"/>
          </a:xfrm>
        </p:grpSpPr>
        <p:sp>
          <p:nvSpPr>
            <p:cNvPr id="306" name="TextBox 6"/>
            <p:cNvSpPr/>
            <p:nvPr/>
          </p:nvSpPr>
          <p:spPr>
            <a:xfrm>
              <a:off x="1830240" y="6543720"/>
              <a:ext cx="7045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The presentation has a Creative Commons licence. You are free to re-use or distribute this work, provided credit is given to ILRI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7" name="Picture 10" descr="P:\Pictures&amp;Resources\Icons\by-nc-sa.png"/>
            <p:cNvPicPr/>
            <p:nvPr/>
          </p:nvPicPr>
          <p:blipFill>
            <a:blip r:embed="rId5"/>
            <a:stretch/>
          </p:blipFill>
          <p:spPr>
            <a:xfrm>
              <a:off x="1189080" y="6554160"/>
              <a:ext cx="629640" cy="210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08" name="Picture 11" descr=""/>
          <p:cNvPicPr/>
          <p:nvPr/>
        </p:nvPicPr>
        <p:blipFill>
          <a:blip r:embed="rId6"/>
          <a:stretch/>
        </p:blipFill>
        <p:spPr>
          <a:xfrm>
            <a:off x="-9360" y="0"/>
            <a:ext cx="9144000" cy="134928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5181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19840" indent="-1998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99920" indent="-15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19960" indent="-159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40000" indent="-159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png"/><Relationship Id="rId3" Type="http://schemas.openxmlformats.org/officeDocument/2006/relationships/image" Target="../media/image10.jpeg"/><Relationship Id="rId4" Type="http://schemas.openxmlformats.org/officeDocument/2006/relationships/image" Target="../media/image5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solidFill>
            <a:srgbClr val="b3d6ac"/>
          </a:solidFill>
          <a:ln w="0">
            <a:noFill/>
          </a:ln>
        </p:spPr>
        <p:txBody>
          <a:bodyPr lIns="90000" rIns="90000" tIns="46800" bIns="46800" anchor="t">
            <a:normAutofit fontScale="24000"/>
          </a:bodyPr>
          <a:p>
            <a:pPr marL="27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INV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"/>
              </a:rPr>
              <a:t>Bridging Activity Concept No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"/>
              </a:rPr>
              <a:t>Author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Arega Ale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Regis Chikow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Mateete Bekun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"/>
              </a:rPr>
              <a:t>Irmgard Hoeschle-Zeled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73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8080" y="3885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Lilongw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ill Sans"/>
              </a:rPr>
              <a:t>13 June 2016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Gill Sans"/>
              </a:rPr>
              <a:t>Target EPAs &amp; beneficiar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ec182"/>
                </a:solidFill>
                <a:latin typeface="Gill Sans"/>
              </a:rPr>
              <a:t>NASFAM</a:t>
            </a:r>
            <a:r>
              <a:rPr b="0" lang="en-GB" sz="2400" spc="-1" strike="noStrike">
                <a:solidFill>
                  <a:srgbClr val="000000"/>
                </a:solidFill>
                <a:latin typeface="Gill Sans"/>
              </a:rPr>
              <a:t>; </a:t>
            </a:r>
            <a:r>
              <a:rPr b="1" lang="en-GB" sz="2400" spc="-1" strike="noStrike">
                <a:solidFill>
                  <a:srgbClr val="4ea5d8"/>
                </a:solidFill>
                <a:latin typeface="Gill Sans"/>
              </a:rPr>
              <a:t>CADECOM</a:t>
            </a:r>
            <a:r>
              <a:rPr b="0" lang="en-GB" sz="2400" spc="-1" strike="noStrike">
                <a:solidFill>
                  <a:srgbClr val="000000"/>
                </a:solidFill>
                <a:latin typeface="Gill Sans"/>
              </a:rPr>
              <a:t>; </a:t>
            </a:r>
            <a:r>
              <a:rPr b="1" lang="en-GB" sz="2400" spc="-1" strike="noStrike">
                <a:solidFill>
                  <a:srgbClr val="a088b7"/>
                </a:solidFill>
                <a:latin typeface="Gill Sans"/>
              </a:rPr>
              <a:t>FU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1" name=""/>
          <p:cNvGraphicFramePr/>
          <p:nvPr/>
        </p:nvGraphicFramePr>
        <p:xfrm>
          <a:off x="380880" y="1981080"/>
          <a:ext cx="8458200" cy="4907160"/>
        </p:xfrm>
        <a:graphic>
          <a:graphicData uri="http://schemas.openxmlformats.org/drawingml/2006/table">
            <a:tbl>
              <a:tblPr/>
              <a:tblGrid>
                <a:gridCol w="1409760"/>
                <a:gridCol w="1409760"/>
                <a:gridCol w="1409760"/>
                <a:gridCol w="1484280"/>
                <a:gridCol w="1335240"/>
                <a:gridCol w="140940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stric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PAs and number of beneficiaries in bracke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otal bene-ficia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goch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tiya (607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tuli (145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hing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coshya (3460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lonyeni (457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kindi (272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7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tche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jolomole (21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jawira (1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lira (89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long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yanja (176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pingu (2509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leka (520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a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tsma (406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a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d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ifumbwa (140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c3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nyana (388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9c3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thipe (631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fa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6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ed fairs Distri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PAs and beneficiaries to be determin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457200" y="2514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evelop the Project M&amp;E Plan (Logframe/Workplan developed at inception workshop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700"/>
              </a:spcBef>
              <a:buClr>
                <a:srgbClr val="ec821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gree methods of tracking and reporting achiev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Monitoring and Evaluatio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00200" y="228564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323232"/>
                </a:solidFill>
                <a:latin typeface="Old English Text MT"/>
              </a:rPr>
              <a:t>Thank you</a:t>
            </a:r>
            <a:endParaRPr b="0" lang="en-US" sz="9600" spc="-1" strike="noStrike">
              <a:solidFill>
                <a:srgbClr val="323232"/>
              </a:solidFill>
              <a:latin typeface="Calibri"/>
            </a:endParaRPr>
          </a:p>
        </p:txBody>
      </p:sp>
      <p:pic>
        <p:nvPicPr>
          <p:cNvPr id="425" name="Picture 2" descr=""/>
          <p:cNvPicPr/>
          <p:nvPr/>
        </p:nvPicPr>
        <p:blipFill>
          <a:blip r:embed="rId1"/>
          <a:stretch/>
        </p:blipFill>
        <p:spPr>
          <a:xfrm>
            <a:off x="1066680" y="5819760"/>
            <a:ext cx="685800" cy="7570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3" descr=""/>
          <p:cNvPicPr/>
          <p:nvPr/>
        </p:nvPicPr>
        <p:blipFill>
          <a:blip r:embed="rId2"/>
          <a:stretch/>
        </p:blipFill>
        <p:spPr>
          <a:xfrm>
            <a:off x="7243920" y="5867280"/>
            <a:ext cx="709560" cy="7095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1" descr="P:\logos\c\cimmyt\CIMMYT Logo.jpg"/>
          <p:cNvPicPr/>
          <p:nvPr/>
        </p:nvPicPr>
        <p:blipFill>
          <a:blip r:embed="rId3"/>
          <a:stretch/>
        </p:blipFill>
        <p:spPr>
          <a:xfrm>
            <a:off x="7118280" y="5057640"/>
            <a:ext cx="960480" cy="7207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2" descr="P:\logos\i\ifpri\IFPRI_Logo_Standard.jpg"/>
          <p:cNvPicPr/>
          <p:nvPr/>
        </p:nvPicPr>
        <p:blipFill>
          <a:blip r:embed="rId4"/>
          <a:stretch/>
        </p:blipFill>
        <p:spPr>
          <a:xfrm>
            <a:off x="2838600" y="5857920"/>
            <a:ext cx="390240" cy="7095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" descr="P:\logos\i\ICRISAT\icrisat-logo.jpg"/>
          <p:cNvPicPr/>
          <p:nvPr/>
        </p:nvPicPr>
        <p:blipFill>
          <a:blip r:embed="rId5"/>
          <a:stretch/>
        </p:blipFill>
        <p:spPr>
          <a:xfrm>
            <a:off x="4510080" y="6037200"/>
            <a:ext cx="1506600" cy="5619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6" descr="AVRDC – The World Vegetable Center — avrdc.org"/>
          <p:cNvPicPr/>
          <p:nvPr/>
        </p:nvPicPr>
        <p:blipFill>
          <a:blip r:embed="rId6"/>
          <a:srcRect l="0" t="0" r="63858" b="0"/>
          <a:stretch/>
        </p:blipFill>
        <p:spPr>
          <a:xfrm>
            <a:off x="1066680" y="5148360"/>
            <a:ext cx="1967040" cy="53820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7" descr="P:\logos\i\iita\IITA_regular-sienna_with slogan (2).JPG"/>
          <p:cNvPicPr/>
          <p:nvPr/>
        </p:nvPicPr>
        <p:blipFill>
          <a:blip r:embed="rId7"/>
          <a:stretch/>
        </p:blipFill>
        <p:spPr>
          <a:xfrm>
            <a:off x="4191120" y="4444920"/>
            <a:ext cx="1123920" cy="56376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4" descr=""/>
          <p:cNvPicPr/>
          <p:nvPr/>
        </p:nvPicPr>
        <p:blipFill>
          <a:blip r:embed="rId8"/>
          <a:stretch/>
        </p:blipFill>
        <p:spPr>
          <a:xfrm>
            <a:off x="4145040" y="5191200"/>
            <a:ext cx="1569960" cy="67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/>
          </p:nvPr>
        </p:nvSpPr>
        <p:spPr>
          <a:xfrm>
            <a:off x="-76320" y="1294920"/>
            <a:ext cx="929664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Gill Sans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2"/>
          <p:cNvSpPr/>
          <p:nvPr/>
        </p:nvSpPr>
        <p:spPr>
          <a:xfrm>
            <a:off x="152280" y="2286000"/>
            <a:ext cx="89154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USAID Presentation: What the bridging activity 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 u="sng">
                <a:solidFill>
                  <a:srgbClr val="156834"/>
                </a:solidFill>
                <a:uFillTx/>
                <a:latin typeface="Arial"/>
              </a:rPr>
              <a:t>Proviso for the CN Development </a:t>
            </a:r>
            <a:r>
              <a:rPr b="1" lang="en-GB" sz="3200" spc="-1" strike="noStrike" u="sng">
                <a:solidFill>
                  <a:srgbClr val="156834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56834"/>
                </a:solidFill>
                <a:latin typeface="Arial"/>
              </a:rPr>
              <a:t>Do not re-invent the wheel: adapt to and build upon the current project situation;  engage  and learn from current implementers of the INVC Project &amp;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456840" y="1295280"/>
            <a:ext cx="83818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ctivity Go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duce rural poverty through increased household incomes from soybean and groundnut production and mark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ctivity Objectiv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nclusive agricultural sector growth, increased incomes, a diversified diet and improved soil healt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ctivity Componen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dvancing value chain competitiven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Improving productiv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601"/>
              </a:spcBef>
              <a:buClr>
                <a:srgbClr val="156734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Capacity development (embedd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0" y="990360"/>
            <a:ext cx="9067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10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Advancing value chain competitiven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228600" y="1600200"/>
          <a:ext cx="8839080" cy="5219640"/>
        </p:xfrm>
        <a:graphic>
          <a:graphicData uri="http://schemas.openxmlformats.org/drawingml/2006/table">
            <a:tbl>
              <a:tblPr/>
              <a:tblGrid>
                <a:gridCol w="3649680"/>
                <a:gridCol w="2838600"/>
                <a:gridCol w="23508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cted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come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9b268"/>
                    </a:solidFill>
                  </a:tcPr>
                </a:tc>
              </a:tr>
              <a:tr h="48351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ncreased marketing as a result of improved end-market competitiveness and tr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ncreased access to market information and financial servic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ncreased commercial relationships in the value chains, including  vertical coordination of smallholders and 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ncreased household incomes and ass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ncreased lending to smallholder farmers and other value chain particip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Volume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 and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value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 of soybean &amp; gnut sold in the domestic mark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Value of agriculture and rural loans disbursed to smallholder farmers and small busines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26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umber of smallholder farmers, SMEs, producer organizations, and trade and business associations receiving marketing and business development serv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lue of incremental sales of soybeans and groundnuts attributed to project implementati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ss margin per hectare of soybean and groundnut production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ily per capita expenditures of project beneficia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b26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/>
          </p:nvPr>
        </p:nvSpPr>
        <p:spPr>
          <a:xfrm>
            <a:off x="60948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867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ill Sans"/>
              </a:rPr>
              <a:t>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76320" y="1665360"/>
          <a:ext cx="8991360" cy="5164200"/>
        </p:xfrm>
        <a:graphic>
          <a:graphicData uri="http://schemas.openxmlformats.org/drawingml/2006/table">
            <a:tbl>
              <a:tblPr/>
              <a:tblGrid>
                <a:gridCol w="2997000"/>
                <a:gridCol w="5994360"/>
              </a:tblGrid>
              <a:tr h="49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activ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1051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y market activities for farmers, traders &amp; processor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ssess domestic market demand and opportuniti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Facilitate business relationships between farmers &amp;          buyer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17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ilitate access to market information and collective marketing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romote market information centr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2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Strengthen market information system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Expand market opportunities and option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4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Promote community-level product aggregation &amp; bulking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85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ilitate access to information servic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Link farmers to financial institution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Facilitate bank lending through credit guarante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  <a:tr h="1036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</a:t>
                      </a: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te household food processing, utilisation and storag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5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cc9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mproving agricultural produc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152280" y="1905120"/>
          <a:ext cx="8839440" cy="4406760"/>
        </p:xfrm>
        <a:graphic>
          <a:graphicData uri="http://schemas.openxmlformats.org/drawingml/2006/table">
            <a:tbl>
              <a:tblPr/>
              <a:tblGrid>
                <a:gridCol w="3649680"/>
                <a:gridCol w="2838600"/>
                <a:gridCol w="23511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cted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d6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come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  <a:tr h="4010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51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creased yields for legumes and associated crops by at least 50%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51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creased access to, and use of productivity-enhancing technologies by male and female smallholders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51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hanced implementation of better soil fertility management, water conservation practices and other GAPs by male and female smallholder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creased volume of grain legume products available for household consumption, dietary diversity and marketing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creased land area under legume crop productio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Volume of improved seed, rhizobia and other inputs used at HH leve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d6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ze production increased through intensification approach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e diversified and steady food suppl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ased income from sale of legum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067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Improving agricultural productivity cont’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52280" y="1905120"/>
          <a:ext cx="8839440" cy="4190760"/>
        </p:xfrm>
        <a:graphic>
          <a:graphicData uri="http://schemas.openxmlformats.org/drawingml/2006/table">
            <a:tbl>
              <a:tblPr/>
              <a:tblGrid>
                <a:gridCol w="3649680"/>
                <a:gridCol w="2838600"/>
                <a:gridCol w="23511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ected resul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put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3d6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utcome indicato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  <a:tr h="3794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Aft>
                          <a:spcPts val="51"/>
                        </a:spcAft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nhanced use of agricultural extension and advisory services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Constructed water resource management structures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Number of implemented GAPS for increased productivity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Increased farmer capacity to practice and transfer knowledge and information on legume cropping GAPs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d6a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285840" indent="-28584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anded, more diversified income sources from new enterprises and employment opportunities related to legume value chain developmen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ec182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/>
          </p:nvPr>
        </p:nvSpPr>
        <p:spPr>
          <a:xfrm>
            <a:off x="609480" y="9140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8676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Gill Sans"/>
              </a:rPr>
              <a:t>Activ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76320" y="1665360"/>
          <a:ext cx="8839080" cy="4887720"/>
        </p:xfrm>
        <a:graphic>
          <a:graphicData uri="http://schemas.openxmlformats.org/drawingml/2006/table">
            <a:tbl>
              <a:tblPr/>
              <a:tblGrid>
                <a:gridCol w="8839080"/>
              </a:tblGrid>
              <a:tr h="534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  <a:tr h="1388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abling farmers’ access to improved seed using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proaches piloted by INV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ed fairs, tapping into CRS experi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  <a:tr h="960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Ps technology delivery and transfer working with lead farmers, supervised by researchers and extension sta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d6ac"/>
                    </a:solidFill>
                  </a:tcPr>
                </a:tc>
              </a:tr>
              <a:tr h="1001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d advisory services and extension delivery systems, driven by hands-on training of lead farm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ad5"/>
                    </a:solidFill>
                  </a:tcPr>
                </a:tc>
              </a:tr>
              <a:tr h="100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vironmental mitigation through demonstration of climate smart practices and emphasising climate-smart messages during trainin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3d6a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0" y="1371240"/>
            <a:ext cx="9144000" cy="609480"/>
          </a:xfrm>
          <a:prstGeom prst="rect">
            <a:avLst/>
          </a:prstGeom>
          <a:solidFill>
            <a:srgbClr val="fde5cd"/>
          </a:solidFill>
          <a:ln w="9360">
            <a:solidFill>
              <a:srgbClr val="fde5cd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144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"/>
              </a:rPr>
              <a:t>High potential, high achiever 15 EPAs in 5 distric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14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Picture 2" descr="C:\Users\IZeledon\Desktop\SoybeanProduction.png"/>
          <p:cNvPicPr/>
          <p:nvPr/>
        </p:nvPicPr>
        <p:blipFill>
          <a:blip r:embed="rId1"/>
          <a:stretch/>
        </p:blipFill>
        <p:spPr>
          <a:xfrm>
            <a:off x="457200" y="1992240"/>
            <a:ext cx="3809880" cy="4648320"/>
          </a:xfrm>
          <a:prstGeom prst="rect">
            <a:avLst/>
          </a:prstGeom>
          <a:ln w="0">
            <a:noFill/>
          </a:ln>
        </p:spPr>
      </p:pic>
      <p:sp>
        <p:nvSpPr>
          <p:cNvPr id="418" name="TextBox 3"/>
          <p:cNvSpPr/>
          <p:nvPr/>
        </p:nvSpPr>
        <p:spPr>
          <a:xfrm>
            <a:off x="4343400" y="4321080"/>
            <a:ext cx="426708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ed Fairs to be conducted in the districts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laka, Mangochi, Machin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4"/>
          <p:cNvSpPr/>
          <p:nvPr/>
        </p:nvSpPr>
        <p:spPr>
          <a:xfrm>
            <a:off x="3124080" y="9144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arget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2T08:14:19Z</dcterms:created>
  <dc:creator>IZELEDON</dc:creator>
  <dc:description/>
  <dc:language>en-US</dc:language>
  <cp:lastModifiedBy>Mateete</cp:lastModifiedBy>
  <cp:lastPrinted>2011-10-06T11:45:23Z</cp:lastPrinted>
  <dcterms:modified xsi:type="dcterms:W3CDTF">2016-06-13T06:20:03Z</dcterms:modified>
  <cp:revision>149</cp:revision>
  <dc:subject/>
  <dc:title>Slide 1</dc:title>
</cp:coreProperties>
</file>