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62CD-B5DA-4CDB-BF93-4C61252FB2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12DC-600B-47E1-BAB1-94BF0007BE9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26BA-08D1-4D31-A757-E1B2A84E68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Bridging Activity Concept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uth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rega Al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gis Chiko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rmgard Hoeschle-Zele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Lilong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13 June 201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"/>
              </a:rPr>
              <a:t>Target EPAs &amp; beneficia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ec182"/>
                </a:solidFill>
                <a:latin typeface="Gill Sans"/>
              </a:rPr>
              <a:t>NASFA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4ea5d8"/>
                </a:solidFill>
                <a:latin typeface="Gill Sans"/>
              </a:rPr>
              <a:t>CADECO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a088b7"/>
                </a:solidFill>
                <a:latin typeface="Gill Sans"/>
              </a:rPr>
              <a:t>F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80880" y="1981080"/>
          <a:ext cx="8458200" cy="490716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  <a:gridCol w="1409760"/>
                <a:gridCol w="1484280"/>
                <a:gridCol w="1335240"/>
                <a:gridCol w="14094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PAs and number of beneficiaries in bra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bene-fici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go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ya (60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uli (145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in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coshya (34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onyeni (45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indi (27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olomole (21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jawira (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ira (8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ong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yanja (176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ingu (2509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ka (52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tsma (40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fumbwa (140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yana (388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thipe (63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 Distri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As and beneficiaries to be determ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the Project M&amp;E Plan (Logframe/Workplan developed at inception worksho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gree methods of tracking and reporting achie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0200" y="2285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23232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AVRDC – The World Vegetable Center — avrdc.org"/>
          <p:cNvPicPr/>
          <p:nvPr/>
        </p:nvPicPr>
        <p:blipFill>
          <a:blip r:embed="rId6"/>
          <a:srcRect l="0" t="0" r="63858" b="0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76320" y="1294920"/>
            <a:ext cx="9296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152280" y="228600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USAID Presentation: What the bridging activity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Proviso for the CN Development </a:t>
            </a:r>
            <a:r>
              <a:rPr b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56834"/>
                </a:solidFill>
                <a:latin typeface="Arial"/>
              </a:rPr>
              <a:t>Do not re-invent the wheel: adapt to and build upon the current project situation;  engage  and learn from current implementers of the INVC Project &amp;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ity Go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 rural poverty through increased household incomes from soybean and groundnut production and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Objec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lusive agricultural sector growth, increased incomes, a diversified diet and improved soil heal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Compon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ing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acity development (embedd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8600" y="1600200"/>
          <a:ext cx="8839080" cy="521964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0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  <a:tr h="48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marketing as a result of improved end-market competitiveness and 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access to market information and financial servi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commercial relationships in the value chains, including  vertical coordination of smallholders and 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household incomes and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lending to smallholder farmers and other value chain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of soybean &amp; gnut sold in the domestic mar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 of agriculture and rural loans disbursed to smallholder farmers and small busi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smallholder farmers, SMEs, producer organizations, and trade and business associations receiving marketing and business development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of incremental sales of soybeans and groundnuts attributed to project 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margin per hectare of soybean and groundnut productio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per capita expenditures of project benefici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320" y="1665360"/>
          <a:ext cx="8991360" cy="5164200"/>
        </p:xfrm>
        <a:graphic>
          <a:graphicData uri="http://schemas.openxmlformats.org/drawingml/2006/table">
            <a:tbl>
              <a:tblPr/>
              <a:tblGrid>
                <a:gridCol w="2997000"/>
                <a:gridCol w="5994360"/>
              </a:tblGrid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5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market activities for farmers, traders &amp; processo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ssess domestic market demand and opportunit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usiness relationships between farmers &amp;          buy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7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market information and collective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market information cent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rengthen market information system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xpand market opportunities and op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community-level product aggregation &amp; bulk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information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nk farmers to financial institu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ank lending through credit guarante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e household food processing, utilisation and storag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2280" y="1905120"/>
          <a:ext cx="8839440" cy="4406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4010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yields for legumes and associated crops by at least 5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access to, and use of productivity-enhancing technologies by male and female smallholde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implementation of better soil fertility management, water conservation practices and other GAPs by male and female smallhold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volume of grain legume products available for household consumption, dietary diversity and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land area under legume crop produc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 of improved seed, rhizobia and other inputs used at HH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production increased through intensification approach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diversified and steady food suppl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income from sale of legum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 cont’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52280" y="1905120"/>
          <a:ext cx="8839440" cy="4190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79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use of agricultural extension and advisory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onstructed water resource management structure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implemented GAPS for increased productiv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farmer capacity to practice and transfer knowledge and information on legume cropping GAP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anded, more diversified income sources from new enterprises and employment opportunities related to legume value chain develop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6320" y="1665360"/>
          <a:ext cx="8839080" cy="4887720"/>
        </p:xfrm>
        <a:graphic>
          <a:graphicData uri="http://schemas.openxmlformats.org/drawingml/2006/table">
            <a:tbl>
              <a:tblPr/>
              <a:tblGrid>
                <a:gridCol w="8839080"/>
              </a:tblGrid>
              <a:tr h="53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3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abling farmers’ access to improved seed u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aches piloted by INV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, tapping into CRS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Ps technology delivery and transfer working with lead farmers, supervised by researchers and extension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  <a:tr h="100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dvisory services and extension delivery systems, driven by hands-on training of lead far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00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vironmental mitigation through demonstration of climate smart practices and emphasising climate-smart messages during tra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fde5cd"/>
          </a:solidFill>
          <a:ln w="9360">
            <a:solidFill>
              <a:srgbClr val="fde5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High potential, high achiever 15 EPAs in 5 distr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C:\Users\IZeledon\Desktop\SoybeanProduction.png"/>
          <p:cNvPicPr/>
          <p:nvPr/>
        </p:nvPicPr>
        <p:blipFill>
          <a:blip r:embed="rId1"/>
          <a:stretch/>
        </p:blipFill>
        <p:spPr>
          <a:xfrm>
            <a:off x="457200" y="199224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4343400" y="4321080"/>
            <a:ext cx="4267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 Fairs to be conducted in the distric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ka, Mangochi, Mach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124080" y="914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rge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Mateete</cp:lastModifiedBy>
  <cp:lastPrinted>2011-10-06T11:45:23Z</cp:lastPrinted>
  <dcterms:modified xsi:type="dcterms:W3CDTF">2016-06-13T06:20:03Z</dcterms:modified>
  <cp:revision>149</cp:revision>
  <dc:subject/>
  <dc:title>Slide 1</dc:title>
</cp:coreProperties>
</file>