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CBD5-DEC8-44F8-B7C0-D7A67A3BC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7B73-11AF-4A14-9B75-2D3F875F4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561A-E2CA-4640-9804-5537D0BBB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pata  26.5  67.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ete   14.1  60.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dazi 18.4  22.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52BEF-136D-4758-A4DB-323567A52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ABF9-6D8E-4D65-AAC1-3058558CD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FF4D-86A3-4214-A29A-B85F73646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BFD7-CA35-4263-AF86-F5DB0C96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57C2-3E5C-4FBC-ADD7-1790C609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D86A-9A40-48E2-B599-1793A5EB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360E-CC61-4368-9A85-22192CBC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1F79-6C2B-46AA-90B4-864D81245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A70E-1E95-483F-BA2B-E4EF3147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113C-DBE7-49F5-9A31-ABB457AE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D13C-F9F8-4FD9-8CE9-7A92CB1B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B567-6B82-43CF-B268-2982119E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D04A-02BB-4E96-9A62-BFCAE10A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0BD8-9FA6-4A42-9F9F-9A0F4204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9186840" cy="142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9186840" cy="14256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5392-9715-4FED-9B73-99E2AFD2015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14440" y="762120"/>
            <a:ext cx="4846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Lucida San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8195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  <a:ea typeface="Calibri"/>
              </a:rPr>
              <a:t>SIMLEZA SITE CHARACTERISATION AND MONITORING &amp; EVALUATION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609480" y="5562720"/>
            <a:ext cx="3762360" cy="1039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6049440" y="5715000"/>
            <a:ext cx="13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ZAR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and Evalu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10663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IR 2.1  Smallholder Agricultural Productivity Incre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905120"/>
          <a:ext cx="8610480" cy="4495680"/>
        </p:xfrm>
        <a:graphic>
          <a:graphicData uri="http://schemas.openxmlformats.org/drawingml/2006/table">
            <a:tbl>
              <a:tblPr/>
              <a:tblGrid>
                <a:gridCol w="3789360"/>
                <a:gridCol w="2409840"/>
                <a:gridCol w="2411280"/>
              </a:tblGrid>
              <a:tr h="93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R indic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Prevalence of stunted children under five years of 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 FTF Indicator Name: Prevalence of underweight children under 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3 : Prevalence of underweight wom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R 2.1  Smallholder Agricultural Productivity Incre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981080"/>
          <a:ext cx="8153280" cy="4554720"/>
        </p:xfrm>
        <a:graphic>
          <a:graphicData uri="http://schemas.openxmlformats.org/drawingml/2006/table">
            <a:tbl>
              <a:tblPr/>
              <a:tblGrid>
                <a:gridCol w="3581280"/>
                <a:gridCol w="1981440"/>
                <a:gridCol w="2590560"/>
              </a:tblGrid>
              <a:tr h="47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ic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valence of wasted children under five years of ag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r capita expenditures of USG targeted beneficiarie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immyt &amp;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Rural households benefiting directly from USG interven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 2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ll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28600" y="1066680"/>
          <a:ext cx="8763120" cy="5607000"/>
        </p:xfrm>
        <a:graphic>
          <a:graphicData uri="http://schemas.openxmlformats.org/drawingml/2006/table">
            <a:tbl>
              <a:tblPr/>
              <a:tblGrid>
                <a:gridCol w="4724280"/>
                <a:gridCol w="2133720"/>
                <a:gridCol w="1905120"/>
              </a:tblGrid>
              <a:tr h="292320"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icat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si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8460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 (total production per hectare) for targeted commod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1. 2 &amp;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immyt &amp; I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new technologies or management practices in one of the following phases of development as a result of USG assistanc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ase 1: under resear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ase 2: under field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ase 3: made available for trans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2,3 &amp;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immyt &amp; I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farmers or others who have applied new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 1,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individuals who have received USG supported short-term agricultural sector productivity or food security training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6601-E4F1-4DEF-A2C3-615721FE1AF6}" type="slidenum">
              <a:rPr b="0" lang="en-US" sz="18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Thank you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read basket of the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main crops contributes a significant share to national production – maize (22%); G/nut (30%): cotton (69%);  sunflower (73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ct spatial differences based on bio physical conditions (agro-ecological; topography ) and economic develop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b0f0"/>
                </a:solidFill>
                <a:latin typeface="Calibri"/>
                <a:ea typeface="Calibri"/>
              </a:rPr>
              <a:t>Basic Household Characteristic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2057400"/>
          <a:ext cx="8208720" cy="3559320"/>
        </p:xfrm>
        <a:graphic>
          <a:graphicData uri="http://schemas.openxmlformats.org/drawingml/2006/table">
            <a:tbl>
              <a:tblPr/>
              <a:tblGrid>
                <a:gridCol w="3255840"/>
                <a:gridCol w="1219320"/>
                <a:gridCol w="1152360"/>
                <a:gridCol w="1219320"/>
                <a:gridCol w="1361880"/>
              </a:tblGrid>
              <a:tr h="892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ge (year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usehold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ducation (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verage Farm size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5 (2.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08 (2.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7 (4.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8 (3.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vestock Ownership (TL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rming as occupation 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pulation Density in  SIMLEZA survey districts in eastern Zambi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229600" cy="381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G:\CIMMYT\SIMLEZA\Maps revised\Poplation_eastern province ZAM.jpg"/>
          <p:cNvPicPr/>
          <p:nvPr/>
        </p:nvPicPr>
        <p:blipFill>
          <a:blip r:embed="rId2"/>
          <a:stretch/>
        </p:blipFill>
        <p:spPr>
          <a:xfrm>
            <a:off x="1849320" y="1143000"/>
            <a:ext cx="577080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oil Types in SIMLEZA Distri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Munyaradzi\Documents\Planning meeting Malawi 2012\Cimmyt\Simleza\ZAMBIA MAP\Zambia_soils.jpg"/>
          <p:cNvPicPr/>
          <p:nvPr/>
        </p:nvPicPr>
        <p:blipFill>
          <a:blip r:embed="rId1"/>
          <a:stretch/>
        </p:blipFill>
        <p:spPr>
          <a:xfrm>
            <a:off x="3733920" y="1828800"/>
            <a:ext cx="4800600" cy="4876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295200" y="1676520"/>
            <a:ext cx="343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hysically Ferralsols are good soils, well drained and with a good structure and deep profile.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Low capacity to retain and supply nutrients to pla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erralsols have low pHs (&lt; 5.2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eficient in bases (Ca, Mg, K) which requires lime applic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term mean annual rainfall distribution of Zambia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LE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stri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440" y="165744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1992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G:\CIMMYT\SIMLEZA\Maps revised\Zamb_rainfall-2.jpg"/>
          <p:cNvPicPr/>
          <p:nvPr/>
        </p:nvPicPr>
        <p:blipFill>
          <a:blip r:embed="rId2"/>
          <a:stretch/>
        </p:blipFill>
        <p:spPr>
          <a:xfrm>
            <a:off x="533520" y="1523880"/>
            <a:ext cx="61894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0000"/>
                </a:solidFill>
                <a:latin typeface="Calibri"/>
                <a:ea typeface="Calibri"/>
              </a:rPr>
              <a:t>Maize &amp; Legume Production in Simleza Distri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1752480"/>
          <a:ext cx="8208720" cy="5440320"/>
        </p:xfrm>
        <a:graphic>
          <a:graphicData uri="http://schemas.openxmlformats.org/drawingml/2006/table">
            <a:tbl>
              <a:tblPr/>
              <a:tblGrid>
                <a:gridCol w="3200400"/>
                <a:gridCol w="1274760"/>
                <a:gridCol w="1152360"/>
                <a:gridCol w="1219320"/>
                <a:gridCol w="1361880"/>
              </a:tblGrid>
              <a:tr h="9028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  (kgs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ize                hyb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79.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021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48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88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87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4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5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08.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5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62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69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3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mon Beans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5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6.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9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4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8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2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bean         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1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.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2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9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5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4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1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ndnuts 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4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1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8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1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5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7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pea      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1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8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7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4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3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21896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b0f0"/>
                </a:solidFill>
                <a:latin typeface="Calibri"/>
                <a:ea typeface="Calibri"/>
              </a:rPr>
              <a:t>Type of market for maize and legume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981080"/>
          <a:ext cx="7772400" cy="4540320"/>
        </p:xfrm>
        <a:graphic>
          <a:graphicData uri="http://schemas.openxmlformats.org/drawingml/2006/table">
            <a:tbl>
              <a:tblPr/>
              <a:tblGrid>
                <a:gridCol w="1447920"/>
                <a:gridCol w="1928520"/>
                <a:gridCol w="1036800"/>
                <a:gridCol w="1122480"/>
                <a:gridCol w="1055520"/>
                <a:gridCol w="1181160"/>
              </a:tblGrid>
              <a:tr h="5493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o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ke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z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3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5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2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Calibri"/>
                          <a:ea typeface="Calibri"/>
                        </a:rPr>
                        <a:t>4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on be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a be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6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1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3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3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3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5800" y="2209680"/>
          <a:ext cx="7772400" cy="3154320"/>
        </p:xfrm>
        <a:graphic>
          <a:graphicData uri="http://schemas.openxmlformats.org/drawingml/2006/table">
            <a:tbl>
              <a:tblPr/>
              <a:tblGrid>
                <a:gridCol w="1371600"/>
                <a:gridCol w="2004840"/>
                <a:gridCol w="1036800"/>
                <a:gridCol w="1122480"/>
                <a:gridCol w="1055520"/>
                <a:gridCol w="1181160"/>
              </a:tblGrid>
              <a:tr h="7779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ke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ndn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5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7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4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5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 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121896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b0f0"/>
                </a:solidFill>
                <a:latin typeface="Calibri"/>
                <a:ea typeface="Calibri"/>
              </a:rPr>
              <a:t>Type of market for maize and legume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08:23:30Z</dcterms:created>
  <dc:creator>Mwangi</dc:creator>
  <dc:description/>
  <dc:language>en-US</dc:language>
  <cp:lastModifiedBy>Bekunda</cp:lastModifiedBy>
  <dcterms:modified xsi:type="dcterms:W3CDTF">2013-05-28T12:25:38Z</dcterms:modified>
  <cp:revision>216</cp:revision>
  <dc:subject/>
  <dc:title>The Drought Tolerant Maize for Africa Project</dc:title>
</cp:coreProperties>
</file>