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E284-026B-43F6-9707-73770D675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6F61-1D70-4497-8132-25276E6B9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4E02-2A81-4294-9D2E-33904B8E5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EAD9-9A97-48B4-A551-0DDFE1458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DF73-B08F-43D3-BB61-F925E5C08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7D76-1668-4985-9658-E8455EC25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0BB4-2125-4604-B937-8C85B50B1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5FDB2-1717-45E4-8B17-D536E3CC27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65147-0C59-4370-BEA3-DDEEDDD090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C3F5D-460F-4F1E-8D5B-C32A35093C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57B8-D95E-463C-B570-B8AC1AC23B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FE60D-C172-4845-A06D-0A403B1FA1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2A31-7187-45AC-AF2A-4CB629EDD9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D287C-10C3-455B-A574-E64EF5110E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9E07-4A71-49DF-9B78-097900C44F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55C64-C61F-458C-B995-C6B4A65700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09B8F-CC61-4BFE-88AE-CAE5157036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3587A-E171-4112-B934-74103E692E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1A442-2272-43A5-8A35-0CBB92CA20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3D53-B21F-4964-A203-85B5B7AFD0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CC0B-5BAC-484A-9A5D-ECC52123E5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5D38-26EC-4A40-BD18-3ECEB9EB08E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F447-F114-4D5D-A311-22E264FF979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2ECE3-977E-4DF2-82E3-655A0BA2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7B5BD-C6F2-4F77-816B-BA008628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75E32-CAFF-4838-8F39-4F2647C4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EBEDC-A4CD-4971-A8AD-1D6C8F51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5C091-5AB0-4E2B-8A6D-ABCA848D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C158C-69E7-48D4-B2F4-7F420290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E51D9-793E-4F97-AB2D-3A4DCDD3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7DC47-B77F-4EB6-99DF-EF1E6185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93F86-E0DB-4B13-BDD1-738BA533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E090-6C17-4E45-83BB-B5669AAD4DA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918AD-7E4D-4AEB-9905-F0570988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5565A-3B3B-4705-9AEE-190925E1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D757E-9CFE-4DF7-BC08-1B85F572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326C-63DE-4559-ADE9-F79974F7F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5AC2-569C-495A-9DE7-6BD11C8F6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691F-F76F-432B-A9A5-4DF1DEDD56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6378-2D7F-4FD4-A751-F72BBCAC5E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1C89-9B77-444B-9162-2824AC2182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371240" y="1752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1 group work repo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52120" y="3581280"/>
            <a:ext cx="5410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hirou, Sibiry, Gatien, Joseph, Naomie, Jerome, Anni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1 Construction of development domains within and across the project mega-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development domains developed so far by IFPRI require more granular data to become relevant within the GS megasite, including: ethnic/linguistic layers, livestock density, LGP, landscape physiography / elev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dure already applied for Ghana can be replicated in Mali and improved with feedback to Gha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PRI (Chris) will continue to lead that activity until complete, including field visits to be organized in conjunction with activity 1.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CRISAT (Sibiry) will provide supplementary granular data to IFPRI (Chris) for stratification and domain delineation within the GS megas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CRISAT (Eva) will help organize Mali field visits by IFPRI (Chris) before end of Dece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2 Identification of action research sites within the development domains of each mega-site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 statement in project document on consultation with local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ed to identify Mali units of analysis similar to Ghana districts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rc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rrondisseme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ecteur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mmun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y can be executed concurrently with 1.1 (development domai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participants should include: Carlo, Chris, Sibiry, Larbi, Tahir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idging the scale gap in site selection should not only be through partners / expert opinion but also informed by more granular GIS data (cf. 1.1 abo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 felt that there is flexibility still possible in action and/o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contro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ites finalization in UER and N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3 Establishment of R4D platform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ilar to Tanzania, Malawi and Ghana, need to review and inventory current FtF investments in Mali – where are they made, who was contracted for platform establishment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portunity to expand existing innovations platforms into R4D platforms (more dynamic, proacti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treatment site where there is no R4D platform (control sites will be selected outside the intervention domain of R4D platform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Mali, potential scale mismatch between administrative divisions and critical mass of villages for R4D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4 Collect baseline information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HH survey instrument for the BL? What level of customization for AR objectives / approach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sue of subcontracting for BL survey administration: IPA or likes? Level of subcontracting? Training onl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 data will not be used to revise action / control site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 data may be used to guide deployment of technology-based interventions (agronomy/farm-level) but likely not process-based interventions (community/landscape-leve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5 Construction of farm household typologi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PRI (Naomie) will lead with IITA (Bernard) inputs for CRP1.2 areas and ICRISAT (Gatien) inputs for CRP1.1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6 Inventorize innovation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7 Identification and prioritization of innovations addressing major constraint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modeling?? -&gt; participatory scenario analysis (to avoid over-commitmen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23232"/>
                </a:solidFill>
                <a:latin typeface="Calibri"/>
              </a:rPr>
              <a:t>Sequencing, responsibility, funding of O1 activities</a:t>
            </a:r>
            <a:endParaRPr b="0" lang="en-US" sz="29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981000"/>
          <a:ext cx="8218440" cy="5770800"/>
        </p:xfrm>
        <a:graphic>
          <a:graphicData uri="http://schemas.openxmlformats.org/drawingml/2006/table">
            <a:tbl>
              <a:tblPr/>
              <a:tblGrid>
                <a:gridCol w="3319560"/>
                <a:gridCol w="650880"/>
                <a:gridCol w="576000"/>
                <a:gridCol w="576360"/>
                <a:gridCol w="576360"/>
                <a:gridCol w="719280"/>
                <a:gridCol w="649080"/>
                <a:gridCol w="11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 Domains: IFPRI-Chris (L), ICRISAT-Sibi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Sites: IFPRI-Carlo (L), IFPRI-Chris, IITA-Larbi, ICRISAT-Sibi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IITA/ICRISAT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Platforms: IITA-Larbi (L), ICRISAT-Eva (co-L), ICRAF-Joach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/ICRISAT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 Baselines: IFPRI-Carlo (L), IFPRI-M&amp;E officer, IITA-Tahirou, ICRAF-Joachim, ICRISAT-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Typologies: IFPRI-Naomie (L), IITA-Bernard, ICRISAT-Gat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CRP1.1/1.2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Innovations: IITA-Larbi (L), ICRISAT-Eva (co-L), M&amp;E offi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IITA/ICRISAT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 Prioritizations: IITA-Larbi (L), ICRISAT-Eva (co-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/ICRISAT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 Sy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59:44Z</dcterms:created>
  <dc:creator>IZeledon</dc:creator>
  <dc:description/>
  <dc:language>en-US</dc:language>
  <cp:lastModifiedBy>LeBorgne, Ewen (ILRI)</cp:lastModifiedBy>
  <cp:lastPrinted>2011-10-06T11:45:23Z</cp:lastPrinted>
  <dcterms:modified xsi:type="dcterms:W3CDTF">2012-10-30T10:21:02Z</dcterms:modified>
  <cp:revision>20</cp:revision>
  <dc:subject/>
  <dc:title>Slide 1</dc:title>
</cp:coreProperties>
</file>