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CF88-155E-432F-87D1-D6166FD53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BE88-A16E-448B-9EA8-98EA09E45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C375-74A6-42A3-A293-24B12349FD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7D33-19FD-49CD-8A59-74CA298F12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CDDFC-A661-4616-B24F-AA55FD755A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CE4D-F918-4E1F-9864-4665A768FD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A4D35-B058-4042-80DD-FCE2160CBB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F627-0260-483B-9685-8837D6D0716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99AED-4E8F-4BA6-9D5F-65483D1975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DDAD2-681B-4A95-A67A-3AB4E93428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E9C92-5D05-441D-B03C-B7CE8A4EC4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C45DA-9858-4587-8CC5-ACC8591DBC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D1AA-253B-43D7-ACD7-38521550A2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57439-EF19-4939-B80B-D65AD846E6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F450A-68B9-4633-84D3-27BFBBEFB8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C77EF-8F0A-4C13-BB06-9AD2BC645B9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4F090-C921-4BDF-88E5-20E34F9B60D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03F7-D8E8-48CA-853D-F46E85EF75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B58B1-0767-4542-B657-A8D9D36DD5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56EE3-134E-44CC-AD71-8D3FDFAD1FF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1FF6-25F4-4407-BCD2-29484F38F3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617C0-E442-4B23-A84A-90526D2EAB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9921-2A4D-4A95-A891-5B83F1A0DE0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8F7D9-D75B-4720-8749-6B32293F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145FC-3677-48EF-B6AF-2D13B53B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CD4AA-5CAF-4037-9CD0-F8D9DCBD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AB9F50-850E-4C9B-BB21-3C4BFF1B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5CB595-633E-46F3-BAF4-CBA2BB75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820CB-83CD-495B-8984-92408B6A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0CB76-AB90-4E25-9155-2FE99BC1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D2AF0-8E71-44C0-903B-AA28FB62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0C4C4-F839-4EF4-AAE8-34E41E75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9701-80D4-435C-9757-27159385156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7D53A-5D51-4B59-8EC2-7C5AB09A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955676-0B2E-4B20-85F1-B528605F1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98EFF-9D3D-45D9-BFE0-C860DB8B5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49BE-DF70-4E6D-863F-ADF9F9CB5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5A52A-4E2D-49B6-86BC-BA0F5DE72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EF7D-BC97-41ED-A199-E21F48BEA4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0E10-784F-44DD-80B0-F6735C8CB4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8E43-60A6-4550-9285-65A12D45035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1 group work re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120" y="35812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hirou, Sibiry, Gatien, Joseph, Naomie, Jerome, Anni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1 Construction of development domains within and across the project mega-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development domains developed so far by IFPRI require more granular data to become relevant within the GS megasite, including: ethnic/linguistic layers, livestock density, LGP, landscape physiography / ele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dure already applied for Ghana can be replicated in Mali and improved with feedback to Gh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Chris) will continue to lead that activity until complete, including field visits to be organized in conjunction with activity 1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Sibiry) will provide supplementary granular data to IFPRI (Chris) for stratification and domain delineation within the GS mega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Eva) will help organize Mali field visits by IFPRI (Chris) before end of Dec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2 Identification of action research sites within the development domains of each mega-site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statement in project document on consultation with local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 to identify Mali units of analysis similar to Ghana district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rc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rrondisseme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ecteur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mmu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y can be executed concurrently with 1.1 (development domai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participants should include: Carlo, Chris, Sibiry, Larbi, Tahir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idging the scale gap in site selection should not only be through partners / expert opinion but also informed by more granular GIS data (cf. 1.1 abo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felt that there is flexibility still possible in action and/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contro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ites finalization in UER and N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3 Establishment of R4D platform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Tanzania, Malawi and Ghana, need to review and inventory current FtF investments in Mali – where are they made, who was contracted for platform establishment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portunity to expand existing innovations platforms into R4D platforms (more dynamic, proac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treatment site where there is no R4D platform (control sites will be selected outside the intervention domain of R4D platform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ali, potential scale mismatch between administrative divisions and critical mass of villages for R4D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4 Collect baseline information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HH survey instrument for the BL? What level of customization for AR objectives / approach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sue of subcontracting for BL survey administration: IPA or likes? Level of subcontracting? Training onl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will not be used to revise action / control site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may be used to guide deployment of technology-based interventions (agronomy/farm-level) but likely not process-based interventions (community/landscape-lev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5 Construction of farm household typologi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Naomie) will lead with IITA (Bernard) inputs for CRP1.2 areas and ICRISAT (Gatien) inputs for CRP1.1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6 Inventorize innovation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7 Identification and prioritization of innovations addressing major constrain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modeling?? -&gt; participatory scenario analysis (to avoid over-commitmen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23232"/>
                </a:solidFill>
                <a:latin typeface="Calibri"/>
              </a:rPr>
              <a:t>Sequencing, responsibility, funding of O1 activities</a:t>
            </a:r>
            <a:endParaRPr b="0" lang="en-US" sz="29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981000"/>
          <a:ext cx="8218440" cy="5770800"/>
        </p:xfrm>
        <a:graphic>
          <a:graphicData uri="http://schemas.openxmlformats.org/drawingml/2006/table">
            <a:tbl>
              <a:tblPr/>
              <a:tblGrid>
                <a:gridCol w="3319560"/>
                <a:gridCol w="650880"/>
                <a:gridCol w="576000"/>
                <a:gridCol w="576360"/>
                <a:gridCol w="576360"/>
                <a:gridCol w="719280"/>
                <a:gridCol w="649080"/>
                <a:gridCol w="11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 Domains: IFPRI-Chris (L)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Sites: IFPRI-Carlo (L), IFPRI-Chris, IITA-Larbi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Platforms: IITA-Larbi (L), ICRISAT-Eva (co-L), ICRAF-Joach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Baselines: IFPRI-Carlo (L), IFPRI-M&amp;E officer, IITA-Tahirou, ICRAF-Joachim, ICRISAT-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Typologies: IFPRI-Naomie (L), IITA-Bernard, ICRISAT-Gat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CRP1.1/1.2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Innovations: IITA-Larbi (L), ICRISAT-Eva (co-L), M&amp;E offi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 Prioritizations: IITA-Larbi (L), ICRISAT-Eva (co-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 Sy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0T10:21:02Z</dcterms:modified>
  <cp:revision>20</cp:revision>
  <dc:subject/>
  <dc:title>Slide 1</dc:title>
</cp:coreProperties>
</file>