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DC29-9DBF-4B30-9465-67E51427C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3602-3224-449D-9170-E9A743457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7D4-98DE-4E7B-8785-57541FE9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1F3-B9C7-403B-BD33-9E7B8826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EC2-DBCE-4683-8814-ED434A21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8C7-19FC-4CF2-A487-B82CA8ED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FDED-4E4B-4E40-BA80-66E7FCAA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613D-6F65-48A2-8F1B-D088346C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C038-3B6B-4385-AEFA-A559CB5D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48AF-6C0C-4D3A-910A-2A648CB5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3B0B-0326-43E0-8163-2A2F2F98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83E5-3299-45D7-82D9-B426C2DC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9DF4-D98C-40E4-AFCF-8DB5961B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F0D-4BB9-42F6-AFBF-0EC80C94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DAD7-68BC-4E30-9B4A-B9496678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28BA-A4BC-43F9-B67C-1A662E32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3A20-4879-4731-A263-32E2797E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20BA-BC8E-4A3A-A293-4496289F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4375-47E1-49E4-A387-6222E41C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804-C7E2-45B6-8852-E326FF0C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408-F49E-4E7F-A5E1-D85C7869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F37-B65D-4113-9F67-4EA81A2C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4CC-03FA-42A6-A872-098954E9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5EF-A5D3-47DD-9256-52FEEEBE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B55-4EDD-4CEB-B914-568C1B1E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DF4-9F1C-4F5D-B451-CEAC235E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DDE0-BFEC-4591-9FCE-F45BDACAC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F30B-4E54-4F71-800A-40896BBA5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336666"/>
                </a:solidFill>
                <a:latin typeface="Arial Black"/>
              </a:rPr>
              <a:t>DISTRICT     AGRICULTURE DEVELOPMENT OFFICES IN MALAWI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580920"/>
            <a:ext cx="5410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300" spc="-1" strike="noStrike">
                <a:solidFill>
                  <a:srgbClr val="000000"/>
                </a:solidFill>
                <a:latin typeface="Arial"/>
              </a:rPr>
              <a:t>CHALLENGES IN INTENSIFICATION OF AGRICULTURAL ACTIVITI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CHALLENG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nadequate staff at field lev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rratic rainfal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Dwindling soil fert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nadequate financial resources to implement field activ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WAY FORWAR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lead farme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drought tolerant intervention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cropping systems that help to increase soil fert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ncourage harmonization of programmes and resources to best implement  agric. Activ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ZIKOM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taffing Posi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7620120" cy="1993680"/>
        </p:xfrm>
        <a:graphic>
          <a:graphicData uri="http://schemas.openxmlformats.org/drawingml/2006/table">
            <a:tbl>
              <a:tblPr/>
              <a:tblGrid>
                <a:gridCol w="1447920"/>
                <a:gridCol w="1295280"/>
                <a:gridCol w="1636560"/>
                <a:gridCol w="1621080"/>
                <a:gridCol w="1619280"/>
              </a:tblGrid>
              <a:tr h="42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AC.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CH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Object 27"/>
          <p:cNvGraphicFramePr/>
          <p:nvPr/>
        </p:nvGraphicFramePr>
        <p:xfrm>
          <a:off x="3352680" y="7162920"/>
          <a:ext cx="5186520" cy="7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7162920"/>
                    <a:ext cx="5186520" cy="7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336666"/>
                </a:solidFill>
                <a:latin typeface="Arial Black"/>
              </a:rPr>
              <a:t>RAINFALL VARIABILITY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fall pattern is erratic in some parts of the distri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the mean rainfall for the districts in 2011/12 w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ny days compar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ny days last year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rly planted crops (mainly maize and legumes), face great damage and full recovery is almost im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Rainfall cont’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4" name="Content Placeholder 5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19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Effects of Weather (rainfall) on Crop, Livestock   &amp; Fish Development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rop germination and emergence causing continued replanting/gap fil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rop/pasture establishment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fertilizer utilization and very difficult to achieve timely fertiliz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big differences in crop stages within or among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difficult to achieve timely planting/transplanting and herbicide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rying up of p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ood Situatio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, the food situation for the districts is at around 9% (farm families without own food) compared to almost 1% same time last year (fig.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od is available in most mar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ood Situation co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0" name="Content Placeholder 5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19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66"/>
                </a:solidFill>
                <a:latin typeface="Arial Black"/>
              </a:rPr>
              <a:t>Coping Mechanisms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nsecure households are surviving through the following me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 casual labour in exchange for food or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ing charcoal and fire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of other commodities like mats, vegetable and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ots and baskets with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duction figur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16761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ize production has decreased by 12% from 175,000MT in 2010/11 season to 153,000MT in 2011/12 seas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ry spells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w soil fertility as a result of low input uptake.( FISP+ other soil fertility interventions to sustain soil productivi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1:02:08Z</dcterms:created>
  <dc:creator>Malon</dc:creator>
  <dc:description/>
  <dc:language>en-US</dc:language>
  <cp:lastModifiedBy>Admin</cp:lastModifiedBy>
  <dcterms:modified xsi:type="dcterms:W3CDTF">2012-10-02T16:40:55Z</dcterms:modified>
  <cp:revision>147</cp:revision>
  <dc:subject/>
  <dc:title>NTCHEU DISTRICT     AGRICULTURE DEVELOPMENT OFFICE</dc:title>
</cp:coreProperties>
</file>