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7EEF1-09C7-46A7-BBEE-AB5914C3B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C89D2-F717-4CE6-AAE7-047089AC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278C-DE76-4D7B-B7FE-9F2FA135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CB324-6498-4590-A5B0-2A87F27F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AF58D-81E3-4F7E-A811-C16CACB4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8AA11-2A44-4053-A49B-E06EDC49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CDD2F-93B4-4646-A24D-5A29FC94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2B57-7CE7-4990-B81D-BE9A0761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BABA3-4301-4D35-ACC5-6DC20AB4A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E0A95-4E5E-4318-A8E4-91FC7120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5436B-DBD5-43F9-9AB1-F536D58B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0CE9B-190B-4022-A209-9BE782A5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7AFFE-C83D-4205-A3BC-70066684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7A3E7-35A4-4EE6-8B02-8C3C7C956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BF5DD-6AEB-4E14-94CC-37D129E0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E9ECA-50D6-45D2-B19E-F6BECC91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62E12-DA67-420E-B313-5FD1E9D3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2888B-8271-4CEE-8EB0-5A744673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6DE8B-03FD-4F74-9B65-525FECED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EAF4F-B8C3-4339-97E1-336C5A2B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BBF9-467A-41FD-9B04-12663DCD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1D1-AF19-422A-90BB-D8E07579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5D69-AF62-4318-8072-BB93F961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2F25-BA2B-4487-8480-D1F64E0E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6DB4-70BD-4D27-A459-A7885DFA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BF7-0555-4507-9D1F-B4212040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9AD2-A5BF-4230-A71A-DBA8693C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6605-CB33-4587-A11E-976906F0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40CC-DBF6-4C34-BD58-2F7D7A64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920C-9A05-4B74-B6B6-EF040216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A2D-BAB7-4C05-AA2D-8B4E4A81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CDC-03F2-4B58-AD44-3486FDF9C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FD5-3452-4F13-834B-4820EBB2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2C8C-DEFD-4ABA-A6DB-B1E53F3D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F7F3-6C7C-452D-9CBD-14A8EEE0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42AD-4C74-4376-9BC4-A8EB80C3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10C8A-21EF-4E0F-95A0-FAC6AF7D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A678-F621-469A-935E-7F1D97CF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1DBE3-B596-4EBB-88E2-6E5E6054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B82D-057C-4271-A088-0B01249A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FD7C-A11D-444C-A7C8-82AD3968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7102-BC93-4473-BF8D-31ABAD26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FEBA6-F327-4ACE-8353-FD3ED8C8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AC7E-5BD6-4B39-87F3-EBC2949C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63BD-F44C-4E9E-85EE-05DEA016A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E2DAF-23F1-410A-8B97-F427C5800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3608-9F17-4C33-9C70-07D4A58C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49879-B8B1-4BC6-80E2-D2834C38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E103-3EE2-43FF-AAA8-BC941EB6C9D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45A1-1EDB-40DB-802C-D250C6ACFDF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95DE-C530-4472-9D89-D0A6D0D97FD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9DAF-D9FA-446B-8E2E-EB36986FC43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-14400" y="1944720"/>
            <a:ext cx="91058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ralling, planting density and N fertilizer rate effect on soil, weed and maize yie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54000" y="4653000"/>
            <a:ext cx="9090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, Larbi Asam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oku Andrews, Francis Marthy Tetteh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eschle-Zeledon Irm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DDD9-91BF-49C9-9EDC-8AAEB7B57CE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74EF-6287-4CCE-A1E9-881D028622A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12600" y="-7452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924600" y="-111240"/>
            <a:ext cx="2237040" cy="64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A0F8-79E0-4EB3-B9F3-1F9BDAFC79E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tle 1"/>
          <p:cNvSpPr/>
          <p:nvPr/>
        </p:nvSpPr>
        <p:spPr>
          <a:xfrm>
            <a:off x="12600" y="2412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properties as affected by SDSG in northern Ghana, 2014 and 2015 cropping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45400" y="32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2225-D811-473C-B725-3CAA8E67A35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2600" y="1125360"/>
          <a:ext cx="9097920" cy="5480280"/>
        </p:xfrm>
        <a:graphic>
          <a:graphicData uri="http://schemas.openxmlformats.org/drawingml/2006/table">
            <a:tbl>
              <a:tblPr/>
              <a:tblGrid>
                <a:gridCol w="3097440"/>
                <a:gridCol w="596880"/>
                <a:gridCol w="720720"/>
                <a:gridCol w="720720"/>
                <a:gridCol w="644400"/>
                <a:gridCol w="809640"/>
                <a:gridCol w="1433520"/>
                <a:gridCol w="1074600"/>
              </a:tblGrid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4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33A3F-B528-4E6E-BEBA-A940CEC1543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93A5-4BDA-4FA5-B986-FC92A03E78B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6CC9-3D92-47FB-8A0D-C99115C89C9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itle 1"/>
          <p:cNvSpPr/>
          <p:nvPr/>
        </p:nvSpPr>
        <p:spPr>
          <a:xfrm>
            <a:off x="57240" y="1496880"/>
            <a:ext cx="51894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22320" y="234936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B852-0A73-434B-A66D-357DDE875E8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4435-B94F-46F0-85CF-09CAF1394B4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127080" y="1936800"/>
            <a:ext cx="892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8CE0-64B5-4F34-9DE8-A76E47E1602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59DD-C244-4402-89D6-C358037E8A5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4CD9-6816-4640-983B-AB26122BC702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F5E9-B67F-49E6-BA51-5447940A51A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46080" y="765000"/>
            <a:ext cx="91314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3887-0236-44E0-ABE5-6C50BE33235E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3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27EA-65DF-42F4-B523-D6BC370982D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99D7-C936-4F02-9AD6-646C8E0B29A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C3EA-E708-4DDE-B8EE-6F31C7CF6F9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, Jonathan (IITA)</cp:lastModifiedBy>
  <cp:lastPrinted>2015-09-01T11:16:39Z</cp:lastPrinted>
  <dcterms:modified xsi:type="dcterms:W3CDTF">2016-12-14T07:39:46Z</dcterms:modified>
  <cp:revision>979</cp:revision>
  <dc:subject/>
  <dc:title>Diapositiva 1</dc:title>
</cp:coreProperties>
</file>