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695C1-F512-4171-A708-BEC7C756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EC46-76EB-4CCB-B3FB-7351DE3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A282-3F56-4BEE-8A40-59EEB7A0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22E31-410B-4227-9E47-D66760F3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7504-5C96-4D1B-A39C-026705D3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E915-89ED-495B-B587-B83B2775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B211-F518-496B-9A73-06E1851B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D04A-6FE7-437D-B8CC-54899F06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80B3-5E7F-401E-8B69-0012C0F9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E63E3-4191-4B00-8C5A-CA5E5F0C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1081-D173-44C4-8E5D-D9505E2F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9DE6-E404-47D7-BA34-87D4F956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0559-C406-4944-AC99-B86D9796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87D37-F770-4F26-8E91-14C890C1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03BCD-AAA6-4AF6-BF73-D59167D9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D6FB-BAE4-407D-8E16-E8E3EFBF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CD89F-A136-4851-978D-09907880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03EAB-A97F-4646-9DF6-AF54EE3D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48C55-EA6D-448D-BCFC-B7A5DAF6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EC80-6682-437E-B14E-0369FF96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979E-2B02-45E3-8BFD-FCBA5256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4AC-0AE2-48A3-BBFE-F18178E9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D7A-53C6-4ADD-B29D-7DD38A29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DFB-507D-4278-9BA1-EC0D74F4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7C9-85E3-4EA6-BE08-92BDAE0A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C5E-52AF-4CF5-A2FB-7D7A5844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04C-8250-4D95-86EB-8F855B7D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45A-322E-45D5-889B-3C9155E6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5DE-8CA1-4EDC-87F9-FE323614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2F6-2159-4840-BA4E-77186FBB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7D5-65F9-4E89-ABC0-2572C812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DFD-B6D5-4BD6-AA24-A676C0FA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DB2-1D67-4978-9106-C02E392F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920A-709B-476E-A3CE-4D848444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59FB-9828-4750-9C7B-712DE4A2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F387-7110-45EC-8EDE-C243B4B0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1BAE-E84F-486A-86D7-3BF2B0F6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56FB-3E8E-4BAC-9346-50318F65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FC0C-33E5-47F0-9680-E3C39117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5390-9347-487B-A3B8-0E1571B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9973-7D64-47AF-B017-267AA95F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D267-E874-40C7-AE16-C75198EB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3DA8-1AA5-4836-9675-DA519E89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699C-AA83-4258-B52D-56EDCC69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39AE-B21C-4EBF-9642-817B72CD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C4D2-F976-4B5B-8A71-2B840A8D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533F4-C734-4AD3-8714-78585084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13F5-8264-446A-8BC7-0009FB98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64D7-0E46-4CCB-9FD7-2F117D7D803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2FAA-52A7-473F-AD05-3BC5289B208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FBB5-A949-48DE-9A36-E5081B9A30B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79CE-E216-4C14-AC18-2830E04B889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-14400" y="1944720"/>
            <a:ext cx="91058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ralling, planting density and N fertilizer rate effect on soil, weed and maize yie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54000" y="4653000"/>
            <a:ext cx="9090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, Larbi Asam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oku Andrews, Francis Marthy Tetteh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eschle-Zeledon Irm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8D6C-D42B-4034-8232-E018B4CCA2F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4D8C-3CBD-459B-982F-37A2FFBB4E7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12600" y="-7452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924600" y="-111240"/>
            <a:ext cx="2237040" cy="64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DE4B-5CF1-47A2-98BF-45201D83058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tle 1"/>
          <p:cNvSpPr/>
          <p:nvPr/>
        </p:nvSpPr>
        <p:spPr>
          <a:xfrm>
            <a:off x="12600" y="2412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properties as affected by SDSG in northern Ghana, 2014 and 2015 cropping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45400" y="32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624-9E0B-4F09-AA61-1CB43BD85C0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2600" y="1125360"/>
          <a:ext cx="9097920" cy="5480280"/>
        </p:xfrm>
        <a:graphic>
          <a:graphicData uri="http://schemas.openxmlformats.org/drawingml/2006/table">
            <a:tbl>
              <a:tblPr/>
              <a:tblGrid>
                <a:gridCol w="3097440"/>
                <a:gridCol w="596880"/>
                <a:gridCol w="720720"/>
                <a:gridCol w="720720"/>
                <a:gridCol w="644400"/>
                <a:gridCol w="809640"/>
                <a:gridCol w="1433520"/>
                <a:gridCol w="1074600"/>
              </a:tblGrid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4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A65E-72B0-41FF-BA52-1973DD5A134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FCE1-FF56-4E93-972B-064B8C72CD9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5A79-BD4D-4681-A26E-A0872C0EBC9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itle 1"/>
          <p:cNvSpPr/>
          <p:nvPr/>
        </p:nvSpPr>
        <p:spPr>
          <a:xfrm>
            <a:off x="57240" y="1496880"/>
            <a:ext cx="51894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22320" y="234936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D2EA-C3CC-41C2-8F5B-86FD0D0F0C5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E831-2FD8-4A13-BBD6-6E42D25FD98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127080" y="1936800"/>
            <a:ext cx="892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1CEA-3854-430F-B566-77C3B62776B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BFE4-EB16-4551-8ED2-F9C3F7A57CD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5595-AC8E-40A3-BD5F-76D2D87621D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2958-748E-4B17-9774-31D70DD48A4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46080" y="765000"/>
            <a:ext cx="91314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5789-E878-4721-9301-E7E62863BA58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3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FC59-307E-4606-AE6E-7E516D0B19D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014F-7235-403D-B0D8-17FA7E66A0E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9D75-5B2F-4660-A935-EAFA97AF864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, Jonathan (IITA)</cp:lastModifiedBy>
  <cp:lastPrinted>2015-09-01T11:16:39Z</cp:lastPrinted>
  <dcterms:modified xsi:type="dcterms:W3CDTF">2016-12-14T07:39:46Z</dcterms:modified>
  <cp:revision>979</cp:revision>
  <dc:subject/>
  <dc:title>Diapositiva 1</dc:title>
</cp:coreProperties>
</file>