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21A1-2B6C-421F-B323-897023888F6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E571-F78A-48BD-B06D-11B93CA3BE6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11C1-8247-4F26-8C84-C3E4DA7E9BB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3D28-7155-4033-8505-C1558D4917E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0072-2AEC-4D60-8FFF-27E4EB230A8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918C-9077-4305-8136-FE006BC5FDE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23BA-E09E-46AC-B47F-3D310CF677B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1798-0A4A-4A12-9CB7-0BDCD0705F0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BEBF-EF22-446D-86A1-BF21945A0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7720-0E9C-4C55-9150-D1EF78F0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9879-6E9B-483C-A9CC-B27145C00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3228-B42A-44FD-B30F-007AD5022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F220-071A-4608-9C1E-8E9D31B2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45FE-6D6E-40C4-A7C6-D67E1B7D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5217-3079-4387-947D-F3461EAA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3AA9-DF96-48A8-B7FA-EE11EFFA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6328-A788-4269-9CE7-9B2C4157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FDFA-3AB9-4C3C-8C6A-52F18077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445E-A1DA-46ED-9861-39A2FF76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AB49-099F-4966-B3F7-4E0E27BC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5464-0464-46F8-AEF9-406884B6D1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ICE-BASED SYSTEMS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E TINDWA, DANNY COYNE, VICTOR AFARI-SEFA, BAKARI KAONEKA, GEORGE MHINA, SILVEST SAMALI, JONNE RODENBU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Group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22856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Vegetable production constrai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2906640"/>
            <a:ext cx="4039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 access (e.g. quality seed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sts &amp; dise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a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t harv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1640" y="22856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Rice production constra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1640" y="290664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eds (incl. wild ri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sts (incl. birds) &amp; dise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il fert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rvest &amp; post harvest lo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itle 3"/>
          <p:cNvSpPr/>
          <p:nvPr/>
        </p:nvSpPr>
        <p:spPr>
          <a:xfrm>
            <a:off x="457200" y="1600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he big five production constrai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-20520" y="1371600"/>
            <a:ext cx="9067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Community-based seed and seedling syste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roved cv’s, good quality and clean seeds, healthy seedlings, promotion of good planting methods (e.g. timing, land preparation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Integrated crop manageme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iming of operations, cropping sequences (rotations), labour-saving technologies,  small-mech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Water-manag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UE-enhancing technologies (e.g. drip irrigation, AWD/aerobic rice systems), water harvesting/ water conservation (e.g. bunding, ridg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Harvest and post-harvest hand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mall mechanization (e.g. harvesters, threshers), improved packaging, grading and standard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Marke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arehouse receipt systems, farmer organizations to improve market access, farmer access to dedicated markets (avoiding trader’s and elevated prices), food quality and safety standar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itle 3"/>
          <p:cNvSpPr/>
          <p:nvPr/>
        </p:nvSpPr>
        <p:spPr>
          <a:xfrm>
            <a:off x="-76320" y="7621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echnologies addressing major constraints using G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0" y="349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hat combination of technologies would potentially fit in this system (bearing constraints in mind)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00" y="-36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NOW?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9144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ess current situation –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ex-ant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mpact study, incl. biophysical constraint assessment: yield gap, diagnostic and base-line surveys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fricaRice already developed surveys for thi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tablish 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Multi-Stakeholder Platform (MSP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’s for stakeholder/farmer meetings to assess resources, constraints, needs and opportunities in terms of intensification &amp; diversification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… along the value chain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unity sensitization and training/awareness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monstrations and evaluation of seed and seedling systems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unity-based demonstration trials on rice-vegetable(-livestock) integrated systems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ater management demo trials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chanization: introduction, evaluation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(and adaptation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ticipatory variety evaluation (rice and vegetables)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oducing and evaluating improved post harvest handling practices (e.g. packaging, processing)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conomic analyses and farmer evaluation exercises (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tablish farmer groups and dedicated markets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 should be par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f the research team?</a:t>
            </a:r>
            <a:br>
              <a:rPr sz="4000"/>
            </a:br>
            <a:r>
              <a:rPr b="0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PARTN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094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er organiz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I’s: IITA, AfricaRice, AVRDC, IL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LDO’s of Kilombero and Mvome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RTI-Tenger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P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TRIN and Dakawa - 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 could we partner with?</a:t>
            </a:r>
            <a:br>
              <a:rPr sz="4000"/>
            </a:br>
            <a:r>
              <a:rPr b="0" i="1" lang="en-US" sz="4000" spc="-1" strike="noStrike">
                <a:solidFill>
                  <a:srgbClr val="ff0000"/>
                </a:solidFill>
                <a:latin typeface="Calibri"/>
              </a:rPr>
              <a:t>COLLABOR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AFAK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gro deal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ed suppliers/compan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KAT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termech Engineering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MARTE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AF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D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GO’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S universities (…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2"/>
          <p:cNvSpPr/>
          <p:nvPr/>
        </p:nvSpPr>
        <p:spPr>
          <a:xfrm>
            <a:off x="1258920" y="1844640"/>
            <a:ext cx="3600360" cy="28083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3"/>
          <p:cNvSpPr/>
          <p:nvPr/>
        </p:nvSpPr>
        <p:spPr>
          <a:xfrm>
            <a:off x="179280" y="3357720"/>
            <a:ext cx="3600720" cy="280800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4"/>
          <p:cNvSpPr/>
          <p:nvPr/>
        </p:nvSpPr>
        <p:spPr>
          <a:xfrm>
            <a:off x="2340000" y="3357720"/>
            <a:ext cx="3600360" cy="28080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676520" y="249552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1. Crop/Shrubs/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922560" y="49338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3.Livest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50920" y="501336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504d"/>
                </a:solidFill>
                <a:latin typeface="Comic Sans MS"/>
                <a:ea typeface="Arial"/>
              </a:rPr>
              <a:t>2.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/W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5410080" y="1066680"/>
            <a:ext cx="37339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1906560" y="3716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3851280" y="37101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2916360" y="49338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2987640" y="4005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Line 13"/>
          <p:cNvSpPr/>
          <p:nvPr/>
        </p:nvSpPr>
        <p:spPr>
          <a:xfrm>
            <a:off x="3059280" y="3716280"/>
            <a:ext cx="0" cy="936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Line 14"/>
          <p:cNvSpPr/>
          <p:nvPr/>
        </p:nvSpPr>
        <p:spPr>
          <a:xfrm>
            <a:off x="2843280" y="3860640"/>
            <a:ext cx="0" cy="7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Line 15"/>
          <p:cNvSpPr/>
          <p:nvPr/>
        </p:nvSpPr>
        <p:spPr>
          <a:xfrm>
            <a:off x="3276720" y="378936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Line 16"/>
          <p:cNvSpPr/>
          <p:nvPr/>
        </p:nvSpPr>
        <p:spPr>
          <a:xfrm>
            <a:off x="2627280" y="4076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Line 17"/>
          <p:cNvSpPr/>
          <p:nvPr/>
        </p:nvSpPr>
        <p:spPr>
          <a:xfrm>
            <a:off x="3492360" y="400536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18"/>
          <p:cNvSpPr/>
          <p:nvPr/>
        </p:nvSpPr>
        <p:spPr>
          <a:xfrm>
            <a:off x="0" y="0"/>
            <a:ext cx="9144000" cy="1081080"/>
          </a:xfrm>
          <a:prstGeom prst="downArrowCallout">
            <a:avLst>
              <a:gd name="adj1" fmla="val -146115"/>
              <a:gd name="adj2" fmla="val 211455"/>
              <a:gd name="adj3" fmla="val 16667"/>
              <a:gd name="adj4" fmla="val 6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19"/>
          <p:cNvSpPr/>
          <p:nvPr/>
        </p:nvSpPr>
        <p:spPr>
          <a:xfrm>
            <a:off x="0" y="30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frica RISING’s Niche-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Integrated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22"/>
          <p:cNvSpPr/>
          <p:nvPr/>
        </p:nvSpPr>
        <p:spPr>
          <a:xfrm>
            <a:off x="6324480" y="25146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23"/>
          <p:cNvSpPr/>
          <p:nvPr/>
        </p:nvSpPr>
        <p:spPr>
          <a:xfrm>
            <a:off x="6324480" y="37339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24"/>
          <p:cNvSpPr/>
          <p:nvPr/>
        </p:nvSpPr>
        <p:spPr>
          <a:xfrm>
            <a:off x="6324480" y="28954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25"/>
          <p:cNvSpPr/>
          <p:nvPr/>
        </p:nvSpPr>
        <p:spPr>
          <a:xfrm>
            <a:off x="6248520" y="335268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Line 25"/>
          <p:cNvSpPr/>
          <p:nvPr/>
        </p:nvSpPr>
        <p:spPr>
          <a:xfrm>
            <a:off x="7162920" y="373392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ight Brace 27"/>
          <p:cNvSpPr/>
          <p:nvPr/>
        </p:nvSpPr>
        <p:spPr>
          <a:xfrm>
            <a:off x="8686800" y="2286000"/>
            <a:ext cx="380880" cy="152388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1523880"/>
              <a:gd name="textAreaBottom" fmla="*/ 15141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19:02:04Z</dcterms:created>
  <dc:creator>LeBorgne, Ewen (ILRI)</dc:creator>
  <dc:description/>
  <dc:language>en-US</dc:language>
  <cp:lastModifiedBy>LeBorgne, Ewen (ILRI)</cp:lastModifiedBy>
  <dcterms:modified xsi:type="dcterms:W3CDTF">2012-10-09T12:14:27Z</dcterms:modified>
  <cp:revision>32</cp:revision>
  <dc:subject/>
  <dc:title>What component technologies  would fit in this system?</dc:title>
</cp:coreProperties>
</file>