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0A90-E713-440F-B09D-75397D2A2FB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DE77-1780-4390-93E5-4DD4BFE0BB3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C5609-919A-4E6F-A165-42245F2D64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AF5EC-6D69-4739-87C5-02648D8731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270D-5393-4325-B648-CA264F85A85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98B1D-95CE-4B27-A693-F132E76B256E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570C-ABBD-4DA2-A95E-BFAFC97300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B644-519E-493F-83C2-F2B1BADFFF3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4E3-7152-4025-86B8-9A72DCF2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8FD-16C0-4516-BBE3-7756158B8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789-87ED-4E55-A722-1E1A9C77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1A03-6796-481C-B4DB-25827A93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1D4F-F2E1-49D4-B501-2B261297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85D-0BDC-44FC-A0C5-A9301EC4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6D3-4F90-4878-86B1-8A1CED39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EF5A-D834-44DF-9067-5F01851A8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FAF7-A07B-4D71-996F-1F64456E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342-A258-405D-A2AF-53B4E05D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AF1D-5031-4E98-A789-2E4680E5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047D-A505-4E8C-8C01-09C600A0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999B-C1A3-408D-94D5-EB4A2D2FC8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ICE-BASED SYSTEMS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E TINDWA, DANNY COYNE, VICTOR AFARI-SEFA, BAKARI KAONEKA, GEORGE MHINA, SILVEST SAMALI, JONNE RODENBU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1920" y="2285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Vegetable production constrai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920" y="2906640"/>
            <a:ext cx="4039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access (e.g. quality seed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ac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 harv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ice production constra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1640" y="290664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eds (incl. wild ric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sts (incl. birds) &amp; disea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fert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t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rvest &amp; post harvest lo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le 3"/>
          <p:cNvSpPr/>
          <p:nvPr/>
        </p:nvSpPr>
        <p:spPr>
          <a:xfrm>
            <a:off x="457200" y="1600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 big five production constrai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20520" y="1371600"/>
            <a:ext cx="9067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ommunity-based seed and seedling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d cv’s, good quality and clean seeds, healthy seedlings, promotion of good planting methods (e.g. timing, land prepar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Integrated crop manageme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iming of operations, cropping sequences (rotations), labour-saving technologies,  small-mechan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Water-manag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UE-enhancing technologies (e.g. drip irrigation, AWD/aerobic rice systems), water harvesting/ water conservation (e.g. bunding, ridging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Harvest and post-harvest hand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mall mechanization (e.g. harvesters, threshers), improved packaging, grading and standardiz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arke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rehouse receipt systems, farmer organizations to improve market access, farmer access to dedicated markets (avoiding trader’s and elevated prices), food quality and safety standar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3"/>
          <p:cNvSpPr/>
          <p:nvPr/>
        </p:nvSpPr>
        <p:spPr>
          <a:xfrm>
            <a:off x="-76320" y="7621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echnologies addressing major constraints using G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0" y="349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What combination of technologies would potentially fit in this system (bearing constraints in mind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00" y="-36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91440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ssess current situation –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ex-an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mpact study, incl. biophysical constraint assessment: yield gap, diagnostic and base-line survey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fricaRice already developed surveys for th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Multi-Stakeholder Platform (MSP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’s for stakeholder/farmer meetings to assess resources, constraints, needs and opportunities in terms of intensification &amp; diversific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… along the value chain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sensitization and training/awarenes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monstrations and evaluation of seed and seedling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-based demonstration trials on rice-vegetable(-livestock) integrated system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ater management demo trial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chanization: introduction, evaluation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(and adaptation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rticipatory variety evaluation (rice and vegetables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troducing and evaluating improved post harvest handling practices (e.g. packaging, processing)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conomic analyses and farmer evaluation exercises (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8080" indent="-478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ablish farmer groups and dedicated markets (</a:t>
            </a:r>
            <a:r>
              <a:rPr b="0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NOW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should be part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f the research team?</a:t>
            </a:r>
            <a:br>
              <a:rPr sz="4000"/>
            </a:br>
            <a:r>
              <a:rPr b="0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PARTN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rmer organiz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I’s: IITA, AfricaRice, AVRDC, IL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LDO’s of Kilombero and Mvome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TI-Tenger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P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TRIN and Dakawa - 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o could we partner with?</a:t>
            </a:r>
            <a:br>
              <a:rPr sz="4000"/>
            </a:br>
            <a:r>
              <a:rPr b="0" i="1" lang="en-US" sz="4000" spc="-1" strike="noStrike">
                <a:solidFill>
                  <a:srgbClr val="ff0000"/>
                </a:solidFill>
                <a:latin typeface="Calibri"/>
              </a:rPr>
              <a:t>COLLABORATO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FAK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gro dealer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eed suppliers/compan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KAT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termech Engineering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AMARTE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FC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ID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GO’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 universities (…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4:27Z</dcterms:modified>
  <cp:revision>32</cp:revision>
  <dc:subject/>
  <dc:title>What component technologies  would fit in this system?</dc:title>
</cp:coreProperties>
</file>