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FBB-DB18-4E5E-8030-30D5172D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A8B-362C-49A5-9646-F86F69D0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3F7-07C8-49AC-A936-F581EB53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7BE-3909-4A58-87E6-7EEED3F4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601D-DEBC-4C24-9AC2-CFABA528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1CA1-973A-41C0-84E6-82680FC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E9D4-27E7-470D-BD04-EC1A89F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69B-0DF0-40CB-9591-EC3332F1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D728-0321-4228-8D75-8F184A24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88A8-3624-4E23-9BE5-B0D1DBF3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9F6-16B6-4D57-861F-6ADA1C82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1C5-D256-49FB-A322-6B0DA09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BB68-B61F-43A4-B9D1-696A2E7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DF5C-D22E-4936-95BD-5581BB4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E74D-5E11-40EF-B5B1-C9E201A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3A5D-70CC-436D-A201-A3748F33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9074-736E-4BE4-9E24-F8397589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A8FE-EE11-4125-BDCF-B831FBB7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029C-7F65-49AE-A2B7-BB34B47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CBF3-AB0A-4363-835D-67DCA59E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3EDE-BFDC-4F90-98C7-E5E4A6E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930D-0526-4577-B375-E694444D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A50-5256-42C8-BF6E-D818A131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EDAE-C199-43BA-A806-55F900E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ACA1-DEE3-4A96-A2DB-941F9B3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3465-437E-4020-A45F-F8E08D8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D0B0-1378-4D44-AB8C-D81223F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35C0-4A11-4281-AE53-D8A3A57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C5B4-3EAF-4081-B7E1-C83DD5B4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1B7E-0C77-4807-91B6-C02C5F66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6F446-1AF1-48A1-809D-81B15CB4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41283-FEEC-4E1F-A90A-07F11586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2A9E7-B06A-4B04-97AF-2088CD58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3B6-E0A7-4572-B1D1-31B94CFA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21A8-0525-4600-9637-3E7ABA5C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3F72-D076-4AF2-B0E3-B9EC94AE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6A5ED-74BE-450E-83D3-56427F1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37A3-78C6-401C-A885-13EEF45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9F4D-33DC-4CA3-B774-8C771C8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0E14-29FF-41EA-B422-4A9E8BA4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D44CB-A6F9-4B6B-AEFF-4791CF86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A882-0A30-4425-9098-65EEA6FE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650B-D31E-4036-B962-605D3F6C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0E097-4361-46DC-B8EF-2D90D6A3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611-7834-49B6-88B2-46B6676C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073A-A323-49DD-BAE4-AA150ED4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7B23-F4E9-4C83-A3CE-1C81F50D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C53E1-6B41-49B2-868B-6F50D3D2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0CD7-387A-4D1F-9BCE-8A0454C3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C17DE-136A-4968-85E6-13352FD6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EAB3-9EC4-478C-8A90-2491486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CD75-1844-4249-AEAC-3ECA3A2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E30D-DBA9-4E84-A1E0-D33AAA8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424C-BDC6-4887-BC42-A33D6938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654F-A6EB-4BD1-99C2-C5C96A6A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48B-6F6E-4921-BDC7-F3C9A02F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71CCC-6CC2-4969-A58A-E31399BC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0664-1C18-46A3-8A4B-EA2506A0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5D55-4B79-403D-BD27-4B63883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0DFD-6EFB-44E0-AA4E-20392DD8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D88C-6334-43FE-AC99-C695C6F7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EE7A-1500-4D80-B059-AB8B6BD5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B6E3-1344-4E6C-8FD8-FCA4728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0E25E-6146-4D9D-B5C3-FCEA2B2C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976E3-CEE5-4738-887E-25A5A90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06B5-4D41-40C5-89C6-44BE3E0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1B8-A111-4B98-9684-87ADEED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73EAB-BA3C-4056-8793-CEE31A0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F29A6-7305-4962-8580-7AA03B22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3F237-A8E9-41A5-8A32-79A12512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3EC6-B9CF-4ED3-BA5F-BDD6897B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3B5D-A36D-424E-AC89-50C46429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6F8EA-248A-4960-A494-1EABBA3D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3083-889B-4B87-9309-D9F6492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952C-D7ED-4684-B777-11A81FE4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8BDBB-A3E5-4476-A37D-0CE6B11F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B6B0D-E3C7-4C54-8F43-2A239762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44C-3486-4C26-BBA7-E810D4E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FE17C-25DE-4C00-B54C-2C5B9F9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A0A3-6CFD-4570-B572-541C47E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6BD1-C0B5-4E6B-87AB-5F2EF04A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356C9-5A14-44C5-B1D3-CDE23271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9B4D-5D9D-40AE-A898-666C54B8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5FA8-F023-48D3-A0D8-C6F15DBE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5C6A5-A232-45D2-8BFC-EFED26CF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F3C37-833B-4D20-A422-6D604A1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B2202-85E9-4DF6-B8A7-8C43B0EE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19C5-69CC-4CF3-850B-1897EF97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AEA-4DC1-4024-A777-C6C6A25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B4ADA-95C1-4E19-8F7F-1069AE93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7DF8A-7A2A-451A-9768-AB751AB2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8D0F-354C-4832-B552-C31EB17D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B8822-7BD8-461E-B5AA-3E8CCDB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29FDE-7899-4C84-9C49-8D5A75DF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7572E-EDCB-4815-8FE6-BB79EB45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C6531-2240-433B-9947-4E2CB0E2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F9B1-670C-4290-B21D-3B908FD4C0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B97C-F53C-462D-8837-806AC2F76F9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4F02-C57C-47CD-8E87-ACCD7D24D61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FDD7-9EA3-4DCA-B634-03544C3D30D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5ABA-CDC7-4F7B-9C7E-BF2EFAA016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7B47-1914-4145-8A33-EF4156D13B4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5117-29CD-48F1-9535-E74160580B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FD89-2E35-482A-A387-BC0F712D10B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KEY CHALLENGES IN THE DISTRIC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TANZ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USER\Desktop\9-27-2012(1) IITA BABATI\DSC01887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co-operative societ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market link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market inform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transportation.eg feeder roa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adequate managements skills on how to operate the societ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farm management planning and too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imited financial institutions in rural area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ACT 05\Pictures\Matukio\DSC01119.JPG"/>
          <p:cNvPicPr/>
          <p:nvPr/>
        </p:nvPicPr>
        <p:blipFill>
          <a:blip r:embed="rId2"/>
          <a:stretch/>
        </p:blipFill>
        <p:spPr>
          <a:xfrm>
            <a:off x="838080" y="1481040"/>
            <a:ext cx="7162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re than 80% Depend on agriculture and Livestock for Livelihood majority are agro-pastoralis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rest earn living on small business and on employ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or soil fertility due to continuous cropping without soil nutrient replenish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availability/access of improved seed to fa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ices of improved s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ought/Moisture stress/erratic rainfa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ect pest infestation and disease infest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 linkage between research – extension – farm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farmers networ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extension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mechanization tools and equip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non tradition crop seeds esp spicies eg; gar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knowledge/information on nutrition asp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ACT 05\Pictures\9-27-2012(1) IITA BABATI\DSC01942.JPG"/>
          <p:cNvPicPr/>
          <p:nvPr/>
        </p:nvPicPr>
        <p:blipFill>
          <a:blip r:embed="rId2"/>
          <a:stretch/>
        </p:blipFill>
        <p:spPr>
          <a:xfrm>
            <a:off x="885960" y="148104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CT 05\Pictures\9-27-2012(1) IITA BABATI\DSC01938.JPG"/>
          <p:cNvPicPr/>
          <p:nvPr/>
        </p:nvPicPr>
        <p:blipFill>
          <a:blip r:embed="rId2"/>
          <a:stretch/>
        </p:blipFill>
        <p:spPr>
          <a:xfrm>
            <a:off x="1084320" y="1481040"/>
            <a:ext cx="697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availability of improved br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verstock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improved pasture s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st and dise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calating conflict between livestock keepers and farmers.(land use plan/destock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livestock infrastructure: e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al Di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stock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water for livesto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5:16:15Z</dcterms:created>
  <dc:creator>ACT 05</dc:creator>
  <dc:description/>
  <dc:language>en-US</dc:language>
  <cp:lastModifiedBy>ACT 05</cp:lastModifiedBy>
  <dcterms:modified xsi:type="dcterms:W3CDTF">2012-10-02T09:06:23Z</dcterms:modified>
  <cp:revision>19</cp:revision>
  <dc:subject/>
  <dc:title>KEY DEVELOPING A DEMAND-DRIVEN RESEARCH AGENDA</dc:title>
</cp:coreProperties>
</file>