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8.png" ContentType="image/png"/>
  <Override PartName="/ppt/media/image5.jpeg" ContentType="image/jpeg"/>
  <Override PartName="/ppt/media/image13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79F-A040-46E6-AB45-6E263B6A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08F-E4D6-4CF7-99D0-9046C378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833D-78B4-4F05-A559-6589FB03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F0E-CFFA-4B00-8840-5FA8D146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3699-7519-48FA-A8B4-39E738E1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A440-7550-4E1F-9E9D-7AF6AF81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C3C2-2917-483F-865B-4B3C1A300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7449-EF84-4A65-A305-A2A47985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B40AE-99DD-4AB8-B0ED-D582FA271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8B60-5937-4260-8020-933855C2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2499-F9A2-4401-A4FB-413AACA2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199-E87A-42B9-8AFF-C4C1BDD6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6A12-F87D-4DD5-B1E6-144BE832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32AA-6B3E-46D3-BFED-0185D455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80BD3-3590-45D1-AB07-5CA6E78D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C598-98EE-4F94-AA16-022B3C1D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0465-E0E0-412E-B148-52E79844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A745D-BF65-4AB2-BBD3-6BC0F93D6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2951E-55CF-4871-B468-AB4B1556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075A8-B8FF-4CB5-AAB3-B28E21E81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AAD7D-C730-4F27-BDA1-3CBC10DE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793C4-466E-4DF2-9986-AFDBCA8E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0D4D-3D20-4CB8-88E6-85E491D7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4266B-EE7F-4103-A00B-D023FB67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6C11B-6728-46CF-BC3E-38A3BBD4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32F5E-7393-4B4F-80DE-8D5982BEC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977A3-3044-4CF2-BD0A-04F03F5B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4F07F-C2B5-4A4C-956B-25D8D59E9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265E7-CC8C-4A59-8D8D-59B2286B1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83DBE-77A8-44DE-8A79-18EB24E4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42BEA-05E5-4194-94F0-3548A9B51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DD05D-7B9B-47CD-9041-9C776F1F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0F31B-A9D7-48D4-ADEA-C0707F83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FA50-E367-4E48-90C5-A990E8DC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ED213-1529-4D5F-B703-FE88FAAB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FCF1B-F68D-497B-B210-28733CEC6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49C20-30B9-4BE4-848D-2CBF2B24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08B3D-DDAF-4601-852F-3A9D6C3F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D4EDE-DC3E-464F-9EBB-0876E1B7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300EB-F3E1-485D-8F93-5CFC9FC1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D74BE-C257-4F46-9F79-C4F9A055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4AFBE-078F-4493-A29A-800622D6A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E9149-F58E-4DCC-B671-F524753DB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E405A-8521-44BB-BAC9-FA65DAFC0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1A1-3A77-441E-A0EE-4074E039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A0F90-6363-46C9-98C8-13AB40AA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1246A-4648-41D7-9F77-555C69C7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39D68-F57A-4FCC-B17F-67ABEFE85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142C2-DAA3-402A-B508-9D7520C2A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8BF6D-BED0-45A0-83E1-0E4BD804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9C27E-723A-4E86-BF42-AD9EC256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43CE5-9CBD-489F-A860-ED0E9663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52E6C-D81A-40CA-A2FF-18E34AF23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97718-92C3-4912-A562-62840CC1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E9306-49CA-46CD-9620-55B3BE98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727-E6F9-420C-89CF-BF3160AD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A1399-600B-483E-BAD3-0C3324AF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1E620-FB97-4F16-BBD0-8BA086DA6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28832-7004-4DB4-B6A8-A7A5480A6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3DD95-217E-4A4F-BDEC-90E50FC3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04F38-4B67-4965-A215-BEA1A229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81563-04AF-4290-AC84-5F037952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B8ABA-A53D-46D4-9360-F389C222D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E5BA1-565A-490C-AA4E-26597E7C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B277B-D860-4705-B432-BB78FC69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D0338-D2B1-4112-B202-A825CCCE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8170-F50B-4BF1-9F3D-E7A370C3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E36DF-777A-4ABE-BBB9-25E0C792C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0D405D-F4C9-4A85-BCD4-F74517E46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0DF49-6AFA-4380-8D8D-5534FE7C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71364-F00D-4813-98E7-964DC6817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13737-CF9B-4407-9829-1C2B8F2B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F365C-8B8E-4E5F-84A2-76BE3AB6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8374D-F422-4B59-9515-3041B3DA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BF9DD-07C6-4764-B8FA-6F40DFE5C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6C1A4-A056-4AE0-B82E-09DACF38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1C38A-32CF-4747-8045-531AD318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E013-BC23-4518-9972-F10903DD7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61CB4-9E92-4A78-9B00-B2AA993F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A680A-8105-4D5B-9E5F-9370E310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EB761F-90C4-45DB-8567-3E16EE81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7A62D-73FB-404B-B9E1-30E0A70A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DAFFA-03EB-4A77-A4D9-4D5D3FA47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3033D-87F9-445A-81A1-9F9B0F80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C2F76-1B08-4EDD-A25B-2D918497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DFDA9-9230-4442-857F-45455E4E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087C3-995C-41C4-B053-E9513A166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EBF4D-C899-4816-8136-BDAAF579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A0CB-EA32-4F62-B88D-24841EB7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BF55D-9022-4B55-9E56-27D4A215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6D21C-C58D-4E31-8AF8-E024F160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C1787-9D0D-46F7-A000-01E9284C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C46C6-44A9-4D66-912F-C890BD7C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7FD12-A901-4B57-BA52-23182A77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325E3-6BA5-4167-A863-74C8495B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B1303E-5960-41D6-B6A1-B55CB687D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4EF5-8C59-451E-B020-112A17C7DB1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2D91-550B-49B4-A4E1-2AC6091ADD0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92A0-DE16-4255-958C-02B82FCE456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7EA39-44CD-449D-9D0D-BD9B130AD8AD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4EF0-3824-4C33-9403-4E24DB52B9A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AC09A-C672-43DA-9DE5-3CAE54C1C31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3548-B4F4-4D71-9B3B-5955CC7D54F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F0FA-6597-4B3C-8E2D-9A2FE9DDAF2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Lucida Sans Unicode"/>
              </a:rPr>
              <a:t>KEY CHALLENGES IN THE DISTRIC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Lucida Sans Unicode"/>
              </a:rPr>
              <a:t>TANZANI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2" descr="C:\Users\USER\Desktop\9-27-2012(1) IITA BABATI\DSC01887.JPG"/>
          <p:cNvPicPr/>
          <p:nvPr/>
        </p:nvPicPr>
        <p:blipFill>
          <a:blip r:embed="rId2"/>
          <a:stretch/>
        </p:blipFill>
        <p:spPr>
          <a:xfrm>
            <a:off x="950760" y="1481040"/>
            <a:ext cx="7242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ak co-operative societi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oor market linkag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ak market information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oor transportation.eg feeder road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Inadequate managements skills on how to operate the societi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ck of farm management planning and tool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imited financial institutions in rural area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C:\Users\ACT 05\Pictures\Matukio\DSC01119.JPG"/>
          <p:cNvPicPr/>
          <p:nvPr/>
        </p:nvPicPr>
        <p:blipFill>
          <a:blip r:embed="rId2"/>
          <a:stretch/>
        </p:blipFill>
        <p:spPr>
          <a:xfrm>
            <a:off x="838080" y="1481040"/>
            <a:ext cx="716292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re than 80% Depend on agriculture and Livestock for Livelihood majority are agro-pastoralist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e rest earn living on small business and on employment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oor soil fertility due to continuous cropping without soil nutrient replenishment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2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adequate availability/access of improved seed to famers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prices of improved seed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rought/Moisture stress/erratic rainfall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nsect pest infestation and disease infestation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ak linkage between research – extension – farmer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farmers networking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eak extension servic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processing indust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mechanization tools and equip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ack of non tradition crop seeds esp spicies eg; garli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knowledge/information on nutrition aspe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C:\Users\ACT 05\Pictures\9-27-2012(1) IITA BABATI\DSC01942.JPG"/>
          <p:cNvPicPr/>
          <p:nvPr/>
        </p:nvPicPr>
        <p:blipFill>
          <a:blip r:embed="rId2"/>
          <a:stretch/>
        </p:blipFill>
        <p:spPr>
          <a:xfrm>
            <a:off x="885960" y="1481040"/>
            <a:ext cx="7372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C:\Users\ACT 05\Pictures\9-27-2012(1) IITA BABATI\DSC01938.JPG"/>
          <p:cNvPicPr/>
          <p:nvPr/>
        </p:nvPicPr>
        <p:blipFill>
          <a:blip r:embed="rId2"/>
          <a:stretch/>
        </p:blipFill>
        <p:spPr>
          <a:xfrm>
            <a:off x="1084320" y="1481040"/>
            <a:ext cx="6975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Unavailability of improved breed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Overstock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ack of improved pasture seed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Pest and diseases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calating conflict between livestock keepers and farmers.(land use plan/destock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adequate livestock infrastructure: eg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t cent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imal Dip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ivestock mark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adequate water for livesto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nadequate agro processing industry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2" descr=""/>
          <p:cNvPicPr/>
          <p:nvPr/>
        </p:nvPicPr>
        <p:blipFill>
          <a:blip r:embed="rId1"/>
          <a:stretch/>
        </p:blipFill>
        <p:spPr>
          <a:xfrm>
            <a:off x="171360" y="268200"/>
            <a:ext cx="8521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1T15:16:15Z</dcterms:created>
  <dc:creator>ACT 05</dc:creator>
  <dc:description/>
  <dc:language>en-US</dc:language>
  <cp:lastModifiedBy>ACT 05</cp:lastModifiedBy>
  <dcterms:modified xsi:type="dcterms:W3CDTF">2012-10-02T09:06:23Z</dcterms:modified>
  <cp:revision>19</cp:revision>
  <dc:subject/>
  <dc:title>KEY DEVELOPING A DEMAND-DRIVEN RESEARCH AGENDA</dc:title>
</cp:coreProperties>
</file>