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6.jpeg" ContentType="image/jpeg"/>
  <Override PartName="/ppt/media/image15.wmf" ContentType="image/x-wmf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8B09-C9F9-48DB-9686-8A2869ECD7DF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4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74A5-0D55-4352-BA05-439D51B94BC3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5B97-B772-4629-B8ED-AA9EA97B62AA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30BA-B658-4E37-BD34-6674CD86B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FC4C0-B169-45CC-AD04-20DF109ED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75AD-0E7C-4440-AB3B-E299DCB57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1CC39-5412-4574-9BFC-3FA4ECF02D9C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20AF-7969-46B8-95AF-6C1E5B238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7B2-0704-434F-9B3D-63E809739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28BA-FA33-4B92-B323-3572B5245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5F29-346F-4F9D-A918-1A75D6147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83A-96F4-4EDF-998A-2C4DF6FA0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E1C4-C7EE-4456-8C28-754AAED8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522B-E974-45C5-BFE4-D417D1C46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0320-EDE7-4867-94B7-ED973F2DF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1AD7-DB96-4061-A4E1-8224C83F5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DFF-88A5-41AC-8376-D2909AD523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4CD3-C034-4308-81F8-0C1E0C772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CDC7-0F2D-4CB1-BEAF-CB7CAACA5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9682-0207-4385-90D7-B671D819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CE4C-8C56-4D52-84F6-D87444D96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9757-FA71-4CE9-9B46-AD3ADCF03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B5BE-58A9-414C-B444-AEC0B245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AF7E-38F0-4C53-B1F8-9B767D4E0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A01F4-5FC3-4AC0-ACED-7C5ADCB6B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39A4-7FC9-4DE8-94CB-A04CF173E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F47D-F673-4A8F-AF4A-5156C3961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C782-1DF5-421C-A34C-855DEF77B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9B2F8-C605-412E-88C5-19B3ECD25DEE}" type="slidenum"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B2E7-D271-4967-AD8C-4DF3F4379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7519-31E7-425D-90D9-597D34664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37ED-7F0F-4A43-9189-75844E2E5F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82F5-C239-4D61-823A-BDEBC7CF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1516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49440" y="99036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8088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1516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49440" y="3672720"/>
            <a:ext cx="26989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0" y="45720"/>
            <a:ext cx="91440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67272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612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990360"/>
            <a:ext cx="40903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672720"/>
            <a:ext cx="838224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earch Days 2010, 29 Nov-2 Dec 2010, Cotonou, Ben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11 AfricaRice Science Week and GRiSP-Africa Science Fo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-16 September 2011, Cotonou, Be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www"/>
          <p:cNvPicPr/>
          <p:nvPr/>
        </p:nvPicPr>
        <p:blipFill>
          <a:blip r:embed="rId2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africarice-logo-with-circle-tiff-format-by Raman"/>
          <p:cNvPicPr/>
          <p:nvPr/>
        </p:nvPicPr>
        <p:blipFill>
          <a:blip r:embed="rId3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www"/>
          <p:cNvPicPr/>
          <p:nvPr/>
        </p:nvPicPr>
        <p:blipFill>
          <a:blip r:embed="rId4"/>
          <a:stretch/>
        </p:blipFill>
        <p:spPr>
          <a:xfrm>
            <a:off x="7467480" y="6477120"/>
            <a:ext cx="1676520" cy="2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africarice-logo-with-circle-tiff-format-by Raman"/>
          <p:cNvPicPr/>
          <p:nvPr/>
        </p:nvPicPr>
        <p:blipFill>
          <a:blip r:embed="rId5"/>
          <a:stretch/>
        </p:blipFill>
        <p:spPr>
          <a:xfrm>
            <a:off x="0" y="6222960"/>
            <a:ext cx="2043000" cy="635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8224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3"/>
          </p:nvPr>
        </p:nvSpPr>
        <p:spPr>
          <a:xfrm>
            <a:off x="2209680" y="6244920"/>
            <a:ext cx="5029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3"/>
          <p:cNvSpPr/>
          <p:nvPr/>
        </p:nvSpPr>
        <p:spPr>
          <a:xfrm>
            <a:off x="0" y="23760"/>
            <a:ext cx="9144000" cy="67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ustainable Intensification &amp; Diversification of Rice-based Inland Valley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ul Kie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gional Representative for East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rica Rice Center (Africa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tainable Intensification of Cereal-based Farm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-9 February 2012, Dar es Salaam, Tanz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C:\Users\PKiepe\Pictures\Presentations\inland valley 3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3279600"/>
          </a:xfrm>
          <a:prstGeom prst="rect">
            <a:avLst/>
          </a:prstGeom>
          <a:ln w="0">
            <a:noFill/>
          </a:ln>
        </p:spPr>
      </p:pic>
      <p:sp>
        <p:nvSpPr>
          <p:cNvPr id="1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60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ain-fed Lowl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IMG_0241"/>
          <p:cNvPicPr/>
          <p:nvPr/>
        </p:nvPicPr>
        <p:blipFill>
          <a:blip r:embed="rId1"/>
          <a:stretch/>
        </p:blipFill>
        <p:spPr>
          <a:xfrm>
            <a:off x="782640" y="914400"/>
            <a:ext cx="7523280" cy="52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Yield Potential of Rice Ecologies</a:t>
            </a:r>
            <a:r>
              <a:rPr b="0" lang="en-GB" sz="3600" spc="-1" strike="noStrike">
                <a:solidFill>
                  <a:srgbClr val="008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876240" y="1447920"/>
          <a:ext cx="7391520" cy="4267080"/>
        </p:xfrm>
        <a:graphic>
          <a:graphicData uri="http://schemas.openxmlformats.org/drawingml/2006/table">
            <a:tbl>
              <a:tblPr/>
              <a:tblGrid>
                <a:gridCol w="3730680"/>
                <a:gridCol w="1527120"/>
                <a:gridCol w="2133720"/>
              </a:tblGrid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ice Ecologi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u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ain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rove sw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6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ep water / flo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3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gated syst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 - 8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low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 - 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infed up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 - 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3" descr=""/>
          <p:cNvPicPr/>
          <p:nvPr/>
        </p:nvPicPr>
        <p:blipFill>
          <a:blip r:embed="rId1"/>
          <a:stretch/>
        </p:blipFill>
        <p:spPr>
          <a:xfrm>
            <a:off x="760320" y="803160"/>
            <a:ext cx="3570480" cy="254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1" descr="image15"/>
          <p:cNvPicPr/>
          <p:nvPr/>
        </p:nvPicPr>
        <p:blipFill>
          <a:blip r:embed="rId2"/>
          <a:stretch/>
        </p:blipFill>
        <p:spPr>
          <a:xfrm>
            <a:off x="716040" y="3586320"/>
            <a:ext cx="3657600" cy="259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3" descr="irrigation field 3"/>
          <p:cNvPicPr/>
          <p:nvPr/>
        </p:nvPicPr>
        <p:blipFill>
          <a:blip r:embed="rId3"/>
          <a:stretch/>
        </p:blipFill>
        <p:spPr>
          <a:xfrm>
            <a:off x="4724280" y="3543480"/>
            <a:ext cx="3657600" cy="26208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Mega Environ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76032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Up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724280" y="5715000"/>
            <a:ext cx="32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rrigate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" descr=""/>
          <p:cNvPicPr/>
          <p:nvPr/>
        </p:nvPicPr>
        <p:blipFill>
          <a:blip r:embed="rId4"/>
          <a:stretch/>
        </p:blipFill>
        <p:spPr>
          <a:xfrm>
            <a:off x="4724280" y="803160"/>
            <a:ext cx="3657600" cy="25434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10"/>
          <p:cNvSpPr/>
          <p:nvPr/>
        </p:nvSpPr>
        <p:spPr>
          <a:xfrm>
            <a:off x="4711680" y="288288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land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716040" y="57150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n-fed Low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Not All Lowlands Are Suit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685800" y="1371600"/>
            <a:ext cx="82296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ile wetlands should be saved and not developed for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uses like cultural ceremonies should continu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biodiversity can be utilized but not destr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services need to be taken into ac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5" descr="TG0610 no go area"/>
          <p:cNvPicPr/>
          <p:nvPr/>
        </p:nvPicPr>
        <p:blipFill>
          <a:blip r:embed="rId1"/>
          <a:stretch/>
        </p:blipFill>
        <p:spPr>
          <a:xfrm>
            <a:off x="1447920" y="1295280"/>
            <a:ext cx="6248160" cy="46864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Cultural Ceremonies Should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7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Importance of Lowlands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23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vs traditional ow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owner vs ten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ve vs immigr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stream vs downstr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Effect of Climate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frica crop failure due to drought occurs already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ce and severity of drought expected to worsen with climate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ecologies are most vulner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rigated lowlands face increased water com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92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ow Labou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labour lea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ivating small p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plant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ate harves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ow y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d level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even maturity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harvest and post-harvest lo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d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Land Tenure Conflic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Stakeholder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stakeho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users (gender!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ow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y mak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otiate long-term lease of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for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roved Water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13716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d water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conser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nded pad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our b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harv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rvo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-cat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ater Productiv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water produ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low water-us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water productivity of shared water bo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125-2585_IMG"/>
          <p:cNvPicPr/>
          <p:nvPr/>
        </p:nvPicPr>
        <p:blipFill>
          <a:blip r:embed="rId1"/>
          <a:stretch/>
        </p:blipFill>
        <p:spPr>
          <a:xfrm>
            <a:off x="5029200" y="2743200"/>
            <a:ext cx="3770280" cy="3124080"/>
          </a:xfrm>
          <a:prstGeom prst="rect">
            <a:avLst/>
          </a:prstGeom>
          <a:ln w="0">
            <a:noFill/>
          </a:ln>
        </p:spPr>
      </p:pic>
      <p:sp>
        <p:nvSpPr>
          <p:cNvPr id="206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Small-Scale Mech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6960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d preparation (one power tiller plows the equivalent of 90 able m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ield to f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farm to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4572000" y="2654280"/>
            <a:ext cx="4411800" cy="3308400"/>
          </a:xfrm>
          <a:prstGeom prst="rect">
            <a:avLst/>
          </a:prstGeom>
          <a:ln w="0">
            <a:noFill/>
          </a:ln>
        </p:spPr>
      </p:pic>
      <p:sp>
        <p:nvSpPr>
          <p:cNvPr id="210" name="Straight Connector 4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108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Importance for Tanz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761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second most important crop in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% of rice is produced in rain-fed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ivity of rice is generally 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ing vegetables will decrease undernourish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getables will increase farm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urpose of Propos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457200" y="12193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99960"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hance the productivity and competitiveness of inland valley lowlands through sustainable intensification and diversification of agricultural productivity and product value chain development while conserving land and water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Work In Rice Development Hu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39625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ice sector employs 20 million farm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of them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s livelihood of 100M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4800600" y="3513240"/>
            <a:ext cx="3505320" cy="2652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4800600" y="914400"/>
            <a:ext cx="3505320" cy="23432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3048480" y="54100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produc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7"/>
          <p:cNvSpPr/>
          <p:nvPr/>
        </p:nvSpPr>
        <p:spPr>
          <a:xfrm>
            <a:off x="5106960" y="54864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5031720" y="2666880"/>
            <a:ext cx="16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"/>
          <p:cNvPicPr/>
          <p:nvPr/>
        </p:nvPicPr>
        <p:blipFill>
          <a:blip r:embed="rId3"/>
          <a:stretch/>
        </p:blipFill>
        <p:spPr>
          <a:xfrm>
            <a:off x="896760" y="3510000"/>
            <a:ext cx="3581640" cy="26496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0"/>
          <p:cNvSpPr/>
          <p:nvPr/>
        </p:nvSpPr>
        <p:spPr>
          <a:xfrm>
            <a:off x="2746080" y="548640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0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Four Main Pill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457200" y="1219320"/>
            <a:ext cx="8153280" cy="272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ulti-Stakeholder Plat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nvironmental Systems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ntensification &amp; Diver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ork in Rice Development Hu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457200" y="1219320"/>
            <a:ext cx="868680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brant inland valley communities that resolve constraints and 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atial model applicable at national scale to determine agricultural potential and ecosystem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novations that enhance productivity and resourc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cessful adaption by private sector and development part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. Rice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826920" y="1371600"/>
            <a:ext cx="8012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nzania has to step up rice production because the world market runs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n-fed lowlands can largely supply enough rice for Tanzania and bey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lowland area will remain intact for traditional and environmental 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zation of sound water management can make rain-fed lowlands climate pro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533520" y="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6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3"/>
          <p:cNvSpPr/>
          <p:nvPr/>
        </p:nvSpPr>
        <p:spPr>
          <a:xfrm>
            <a:off x="3505320" y="420516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Center of Excellence for Rice Re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709560" y="685800"/>
            <a:ext cx="7745400" cy="53960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1295280" y="1447920"/>
            <a:ext cx="449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santeni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45720"/>
            <a:ext cx="91440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18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the World’s most important stap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of more than 3 billion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d in more than 130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is usually grown for the domestic market (only 6% is grown for ex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ut 12 countries export rice while only 5 of them dominate world ex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Content Placeholder 4" descr=""/>
          <p:cNvPicPr/>
          <p:nvPr/>
        </p:nvPicPr>
        <p:blipFill>
          <a:blip r:embed="rId1"/>
          <a:stretch/>
        </p:blipFill>
        <p:spPr>
          <a:xfrm>
            <a:off x="938160" y="228600"/>
            <a:ext cx="7367760" cy="5715000"/>
          </a:xfrm>
          <a:prstGeom prst="rect">
            <a:avLst/>
          </a:prstGeom>
          <a:ln w="0">
            <a:noFill/>
          </a:ln>
        </p:spPr>
      </p:pic>
      <p:sp>
        <p:nvSpPr>
          <p:cNvPr id="149" name="Straight Connector 5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066680" y="1295280"/>
          <a:ext cx="7140600" cy="4389480"/>
        </p:xfrm>
        <a:graphic>
          <a:graphicData uri="http://schemas.openxmlformats.org/drawingml/2006/table">
            <a:tbl>
              <a:tblPr/>
              <a:tblGrid>
                <a:gridCol w="2362320"/>
                <a:gridCol w="2819520"/>
                <a:gridCol w="1958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(M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 (%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agas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ge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.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uin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nza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2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Demand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ple food for many Afric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75 demand in Africa higher than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frica imported 9.3 Mt in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/3 of the world mar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0% of its ow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 demand in Africa is growing fastest in the world (6% per y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Rice Production Constraints in 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production leads to low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dependence on rain-f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al use of external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dated varieties &amp; poor seed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or grain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ufficient polic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research and extension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457200" y="1219320"/>
            <a:ext cx="8686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6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1. Rice Production in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. Importance of Lowlands for Crop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3. Production Constraint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4. Production Opportunities in Low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5.</a:t>
            </a:r>
            <a:r>
              <a:rPr b="1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Relevance of Proposal for 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3b3b3"/>
                </a:solidFill>
                <a:latin typeface="Arial"/>
                <a:ea typeface="Arial"/>
              </a:rPr>
              <a:t>6.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3"/>
          <p:cNvSpPr/>
          <p:nvPr/>
        </p:nvSpPr>
        <p:spPr>
          <a:xfrm>
            <a:off x="0" y="6170760"/>
            <a:ext cx="9144000" cy="0"/>
          </a:xfrm>
          <a:prstGeom prst="line">
            <a:avLst/>
          </a:prstGeom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1:27:07Z</dcterms:created>
  <dc:creator>Raman, R (AfricaRice)</dc:creator>
  <dc:description/>
  <dc:language>en-US</dc:language>
  <cp:lastModifiedBy>PBallantyne</cp:lastModifiedBy>
  <dcterms:modified xsi:type="dcterms:W3CDTF">2012-02-07T05:35:49Z</dcterms:modified>
  <cp:revision>178</cp:revision>
  <dc:subject/>
  <dc:title>Slide 1</dc:title>
</cp:coreProperties>
</file>