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media/image2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wmf" ContentType="image/x-wmf"/>
  <Override PartName="/ppt/media/image14.png" ContentType="image/png"/>
  <Override PartName="/ppt/media/image24.png" ContentType="image/png"/>
  <Override PartName="/ppt/media/image20.png" ContentType="image/png"/>
  <Override PartName="/ppt/media/image18.png" ContentType="image/png"/>
  <Override PartName="/ppt/media/image11.png" ContentType="image/png"/>
  <Override PartName="/ppt/media/image38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3.png" ContentType="image/png"/>
  <Override PartName="/ppt/media/image12.png" ContentType="image/png"/>
  <Override PartName="/ppt/media/image35.wmf" ContentType="image/x-wmf"/>
  <Override PartName="/ppt/media/image3.jpeg" ContentType="image/jpeg"/>
  <Override PartName="/ppt/media/image15.png" ContentType="image/png"/>
  <Override PartName="/ppt/media/image39.png" ContentType="image/png"/>
  <Override PartName="/ppt/media/image9.png" ContentType="image/png"/>
  <Override PartName="/ppt/media/image37.wmf" ContentType="image/x-wmf"/>
  <Override PartName="/ppt/media/image36.png" ContentType="image/png"/>
  <Override PartName="/ppt/media/image6.png" ContentType="image/png"/>
  <Override PartName="/ppt/media/image1.png" ContentType="image/png"/>
  <Override PartName="/ppt/media/image29.wmf" ContentType="image/x-wmf"/>
  <Override PartName="/ppt/media/image31.png" ContentType="image/png"/>
  <Override PartName="/ppt/media/image1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</p:sldMasterIdLst>
  <p:notesMasterIdLst>
    <p:notesMasterId r:id="rId41"/>
  </p:notesMasterIdLst>
  <p:sldIdLst>
    <p:sldId id="256" r:id="rId42"/>
    <p:sldId id="257" r:id="rId43"/>
    <p:sldId id="258" r:id="rId44"/>
    <p:sldId id="259" r:id="rId45"/>
    <p:sldId id="260" r:id="rId46"/>
    <p:sldId id="261" r:id="rId47"/>
    <p:sldId id="262" r:id="rId48"/>
    <p:sldId id="263" r:id="rId49"/>
    <p:sldId id="264" r:id="rId50"/>
    <p:sldId id="265" r:id="rId51"/>
    <p:sldId id="266" r:id="rId52"/>
    <p:sldId id="267" r:id="rId53"/>
    <p:sldId id="268" r:id="rId54"/>
    <p:sldId id="269" r:id="rId55"/>
    <p:sldId id="270" r:id="rId56"/>
    <p:sldId id="271" r:id="rId57"/>
    <p:sldId id="272" r:id="rId58"/>
    <p:sldId id="273" r:id="rId59"/>
    <p:sldId id="274" r:id="rId60"/>
    <p:sldId id="275" r:id="rId61"/>
    <p:sldId id="276" r:id="rId62"/>
    <p:sldId id="277" r:id="rId63"/>
    <p:sldId id="278" r:id="rId64"/>
    <p:sldId id="279" r:id="rId65"/>
    <p:sldId id="280" r:id="rId66"/>
    <p:sldId id="281" r:id="rId67"/>
    <p:sldId id="282" r:id="rId68"/>
    <p:sldId id="283" r:id="rId69"/>
    <p:sldId id="284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notesMaster" Target="notesMasters/notesMaster1.xml"/><Relationship Id="rId42" Type="http://schemas.openxmlformats.org/officeDocument/2006/relationships/slide" Target="slides/slide1.xml"/><Relationship Id="rId43" Type="http://schemas.openxmlformats.org/officeDocument/2006/relationships/slide" Target="slides/slide2.xml"/><Relationship Id="rId44" Type="http://schemas.openxmlformats.org/officeDocument/2006/relationships/slide" Target="slides/slide3.xml"/><Relationship Id="rId45" Type="http://schemas.openxmlformats.org/officeDocument/2006/relationships/slide" Target="slides/slide4.xml"/><Relationship Id="rId46" Type="http://schemas.openxmlformats.org/officeDocument/2006/relationships/slide" Target="slides/slide5.xml"/><Relationship Id="rId47" Type="http://schemas.openxmlformats.org/officeDocument/2006/relationships/slide" Target="slides/slide6.xml"/><Relationship Id="rId48" Type="http://schemas.openxmlformats.org/officeDocument/2006/relationships/slide" Target="slides/slide7.xml"/><Relationship Id="rId49" Type="http://schemas.openxmlformats.org/officeDocument/2006/relationships/slide" Target="slides/slide8.xml"/><Relationship Id="rId50" Type="http://schemas.openxmlformats.org/officeDocument/2006/relationships/slide" Target="slides/slide9.xml"/><Relationship Id="rId51" Type="http://schemas.openxmlformats.org/officeDocument/2006/relationships/slide" Target="slides/slide10.xml"/><Relationship Id="rId52" Type="http://schemas.openxmlformats.org/officeDocument/2006/relationships/slide" Target="slides/slide11.xml"/><Relationship Id="rId53" Type="http://schemas.openxmlformats.org/officeDocument/2006/relationships/slide" Target="slides/slide12.xml"/><Relationship Id="rId54" Type="http://schemas.openxmlformats.org/officeDocument/2006/relationships/slide" Target="slides/slide13.xml"/><Relationship Id="rId55" Type="http://schemas.openxmlformats.org/officeDocument/2006/relationships/slide" Target="slides/slide14.xml"/><Relationship Id="rId56" Type="http://schemas.openxmlformats.org/officeDocument/2006/relationships/slide" Target="slides/slide15.xml"/><Relationship Id="rId57" Type="http://schemas.openxmlformats.org/officeDocument/2006/relationships/slide" Target="slides/slide16.xml"/><Relationship Id="rId58" Type="http://schemas.openxmlformats.org/officeDocument/2006/relationships/slide" Target="slides/slide17.xml"/><Relationship Id="rId59" Type="http://schemas.openxmlformats.org/officeDocument/2006/relationships/slide" Target="slides/slide18.xml"/><Relationship Id="rId60" Type="http://schemas.openxmlformats.org/officeDocument/2006/relationships/slide" Target="slides/slide19.xml"/><Relationship Id="rId61" Type="http://schemas.openxmlformats.org/officeDocument/2006/relationships/slide" Target="slides/slide20.xml"/><Relationship Id="rId62" Type="http://schemas.openxmlformats.org/officeDocument/2006/relationships/slide" Target="slides/slide21.xml"/><Relationship Id="rId63" Type="http://schemas.openxmlformats.org/officeDocument/2006/relationships/slide" Target="slides/slide22.xml"/><Relationship Id="rId64" Type="http://schemas.openxmlformats.org/officeDocument/2006/relationships/slide" Target="slides/slide23.xml"/><Relationship Id="rId65" Type="http://schemas.openxmlformats.org/officeDocument/2006/relationships/slide" Target="slides/slide24.xml"/><Relationship Id="rId66" Type="http://schemas.openxmlformats.org/officeDocument/2006/relationships/slide" Target="slides/slide25.xml"/><Relationship Id="rId67" Type="http://schemas.openxmlformats.org/officeDocument/2006/relationships/slide" Target="slides/slide26.xml"/><Relationship Id="rId68" Type="http://schemas.openxmlformats.org/officeDocument/2006/relationships/slide" Target="slides/slide27.xml"/><Relationship Id="rId69" Type="http://schemas.openxmlformats.org/officeDocument/2006/relationships/slide" Target="slides/slide28.xml"/><Relationship Id="rId70" Type="http://schemas.openxmlformats.org/officeDocument/2006/relationships/slide" Target="slides/slide29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 type="dt" idx="10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 type="ftr" idx="10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6"/>
          <p:cNvSpPr>
            <a:spLocks noGrp="1"/>
          </p:cNvSpPr>
          <p:nvPr>
            <p:ph type="sldNum" idx="10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C14C-8D26-467D-B0A9-D38DCDD874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FF45-9F29-4D06-AA64-7FA6B10651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2DE59-F8B2-4BF6-B9F5-827100B598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601E-259A-4720-B87E-032FC33163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4692-E9A8-4C8D-A539-1414BF4F0C79}" type="slidenum">
              <a:rPr b="0" lang="ko-KR" sz="1200" spc="-1" strike="noStrike">
                <a:solidFill>
                  <a:srgbClr val="000000"/>
                </a:solidFill>
                <a:latin typeface="Arial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307C-5F42-408D-9271-8860A899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2A18-28E0-4522-9756-33FAA9BB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55E730-A94C-4F86-A133-1EEECFB7C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4E2D-1805-4F08-A970-38149B62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B0ED296-E094-4A30-B735-B4EF4C47D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5D0C13-A70A-485F-895B-8D63E4219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7B37FF-1310-4219-BF05-130D017B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2585C9-2FBB-43D1-A158-F06309CF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BB6E16-6643-45D4-B042-951F22F94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FB13C2-8D36-4B40-9010-05F36F6C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ECE1AA-BE1F-4C65-BEC1-541C7CFD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BD94DB-8358-45D5-93D0-A7D624BD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41A6FB-22E9-428E-9FE7-8139E51F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A048C5-D3B4-49F1-BA70-16F038D43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373C-652C-4902-AD4D-A554D4C8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6D28B43-5FAC-4278-9495-0EF4FE99D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A2159F-9229-4732-881F-5E5B9EB38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BCB3D1-914B-40FF-BB03-8A4E7F6B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836FD4-B363-4C92-B32C-17639ACE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6C6887-375C-4476-90BD-3B3D92D9A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3C62CC-43EC-4864-8083-B8356C48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3F0BB6-071B-4110-A7D0-5D28C953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5E480A-DC06-4457-80BC-D7F5705B1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7B30B5-0C80-4349-97D1-583DB20E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B60392-AD5D-4A96-B1D4-4DB8AAEC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F1E27-C1EE-49DE-8D19-F97064D1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41C282-A9CD-4715-BF7F-65BA6614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6051A7-3D72-43B7-A703-A84E0E464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ABF81A-02D7-4185-AE88-38C8B1AEF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222637-7FD1-4AD6-A8DE-4BD9E7C7C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166555-B421-4C6C-969E-F4D0DB92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FB5AFA-EC31-4D0D-9FBC-096E654D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A1449A-F11D-4821-BE48-27945980E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3A2E39-A712-4565-8A01-4ABB0A43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8981E8-A788-4816-AC84-1DDFFDB91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3FD998-E10A-415D-ADAA-414EB752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3EE3D-465D-4B6C-8B4A-0BBFE0DD3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A79E10-F306-4248-9599-9B556A125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887DFB-3E81-4E23-B8DB-F7B21C08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C7C71C-E83F-4BEE-A2EB-BFCCD9079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137676-DFF4-4393-A3A0-44319FEB2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DBC041-723E-4E5D-9BAE-1D8253013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78320EC-D3A2-4133-8882-94C454115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F12B221-39AB-4114-9DD0-E254BF3B3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2CEE953-05F3-48B3-90EA-6115E664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589A703-F713-4E9E-8347-77F7CB59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2FE2405-2A31-4C68-B2B8-AAC8A106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5AEA-BD89-416A-8C02-02D30807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15E81E-8C1A-482E-8F32-3096AE351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EFE59F6-D428-4F0B-940A-EC0709D1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FF7B918-7DA5-4BA8-AB41-00C2C161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8F857A1-B094-4D4A-A4CF-7389A1E5F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BAA7375-764A-42B4-9691-1C94B4E5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186EE7E-457F-4C8D-8354-F59F2AC91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419368-7EAA-41B8-BD9B-E61D87162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B63A-9C58-4166-B15F-F3C9C82F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8AC95-A432-4F11-A5A0-A4550F7F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DB6D5-0943-4F60-9082-EBF19322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3310E8-18ED-431D-AECF-6280809E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94443-740F-486F-A449-1F5B8B4C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DD1233-3011-4337-95A8-7DE61F44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85E99A-E975-4A64-8391-0F3503534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1FC3A3-C207-4D86-B808-E000663EA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71D59E-CBF9-4B17-A986-5319917C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F27EC4-2657-49BA-B373-D3A83114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BEF4D9-B1DF-454A-881D-2226825E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E5A0E-D160-4085-8D2C-57A4B55E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DDB1-574C-428D-BD3F-27514EB8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0326CD-74AC-4271-AE53-D680744A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1CDED-0ACE-40A2-AB56-F6769420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378F40-EA08-48AA-8208-44FB8636F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69AEE2-38CC-4C11-991A-90A619FCA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3DE173-FD66-40AA-B4DD-65146DD74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42F09C-2FAD-44CB-90D0-A3FDF6694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25F8C0-2781-4DB9-815D-74CB9085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6D6783-1A3B-4A90-99C6-2D06BBE0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17E6B9-C7A8-4D1A-9198-6759D046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3914C3-B063-4A79-9FD3-AD27720E0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DE5B-B037-430F-90B5-D9FD75ED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23B7-D8BE-48B6-B69D-3BB9C303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EDE6E5-2670-41BC-B050-A2213D8D8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A5D8D1-CC5C-4D1F-88A6-8C9CCFD5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9DC23E-3F52-43F2-9C09-B820A70E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2ABF85-43B0-4E3C-8BC3-6244AADF3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703716-710D-4EE7-8E12-D0CCD6DE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9D07A5-C942-4CE0-AA3B-613C7961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A4BC85-4DEB-4C74-8FF0-7463C40F4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4E0AC4-9D01-4F0E-B540-D0540CE6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BABB8A-37E9-4A2F-AAE0-3870A448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224F0A-C1FA-415A-BCC5-DAD6983F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71CA-2BDE-45F0-B029-2137CB7DA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AA58FE-FDD1-440F-A78F-EC6690E27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0F1CFF-8906-497A-8BE3-C87AB820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2A10CE-3B1B-4AE2-8008-646D7EC84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C40B8B-9FAC-4B7E-B5E0-4F16BE39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85F99F-5BD7-4163-92B1-6595D34E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8AC603-5A89-40F9-9C05-E00B1B388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975D78-F153-43D9-B5A5-5A989FA2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CEE4B3-F3B3-4A91-941D-B17355B0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3F6B05-FE51-4BFC-ADEA-265A1431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9E4BD8-1F9E-4B4D-8151-8F32FD30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4706-5CFA-444B-AADA-14DF9F3C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E8BE41-E62C-4E6D-A73E-671C3167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8E90D3-F880-4E2D-8AE7-C51A085C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41B5ED-C940-4856-82FA-E16B30A2D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E5769D-8D3C-42B6-B092-83C67BF5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42E7E0-592C-4024-AD0B-E1D82BE3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58A9B6-C77F-4454-9877-3C4E4F3C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20F7F3-A34E-48D6-85CA-1FB6A1CD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3FB3B7-99F6-4762-8BA6-EFB1998A4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C943F1-D68B-4927-8545-05D41E508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402440-3375-4558-AFCE-D7FA39BA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9729-42AF-4EED-91C5-28F1C1DCB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580F4A-9844-4ABD-ADD8-F3CDB4ED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558D88-EA4E-4108-8B7B-EFED1A44B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198E98-2584-4756-823C-560680D4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801009-F95D-4F3E-B277-217866DE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C7E8CD-1C65-4586-B9CB-9FF95EFC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E6A70B-5082-41C8-BB3F-7A4326AC1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FF622A-712B-4C78-85DF-B2AD94F8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BA7FB4-BF2F-4D08-81FC-50D6F4D0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35F608-0357-46ED-9600-9A052B55D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C5D76E-9785-4280-AB74-98EBF7C9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12C0-3EAB-4312-AA57-6600E7F85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A5EF9B-C4BA-40F3-9237-3053B1255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DAD3B5-1283-452D-875D-B47CB7FE7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92624F-22BC-47F0-A1A7-0A96F4DD3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59119E-5912-453B-9978-BB9FC9382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87668C-C14B-4999-AD20-0AA8E6BA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C23ABB-4511-4D57-BD26-C1C9D97D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15850B-FFF6-4638-95F2-2C66413D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F991B7-8E74-416D-9CF6-ACE76E14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373117-7C92-4A2F-8FF2-ECAA97F4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9B0672-1F96-49B4-A326-5318DF7D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A9A57-446D-4352-8DCF-AC9F0F0C6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84FBDB8-D8E8-4039-B556-EEBD72B1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A53564-0285-4129-B979-EF3207829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7D9360-5841-4F59-BC2A-1E56770BD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8F52A7-E929-44B8-A333-5E9BA2D7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43C003-7559-49A7-BA4A-B1322794B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9AC3875-1D31-4DC2-B173-F2F0743C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3D61BF-2ECD-49A5-A938-343DC575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9955AE-6E7E-4C7C-B0EF-6E69B164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C6DCAD-931E-4224-BEC1-9F946845B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53178A-74B9-4731-888E-9751F771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7443C-0311-44CC-B2B8-C4945BA8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03D2CD-4178-4AF1-941A-01AF9D611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96F114-ECB0-491C-B3B4-018E4DC1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0A2FDF-BC51-4012-BAA6-04EFE549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B40DD4-0109-43B2-B80A-AF4FCF1C5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42E4F2-F0B5-41F6-B862-F8B480B40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9CBC94-1A9C-4490-A262-B1728FB96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217667-A8FD-44D2-AB38-F1A6FE49F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454DB8-FC32-4E2F-8DE6-E5348156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99659B-C5F9-46D8-8BF3-344B3221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E647B5-959C-4975-B6F8-AE2953BD4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9B50B-2DAB-4DDE-BD2F-36040F54B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3F1680A-14A6-4F93-A77B-FBA4DA04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86BE4C-D5D3-4C7B-A2E9-37159793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4C1AFD-36FB-48B0-B81D-90782B51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9FAF37-A215-4F10-A339-60DE0768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963FAE-8BDA-44CD-8D8E-D7A8DD26B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F96AF9-8A04-46FE-BDD1-C5DD2BCAA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39C33E-6C05-4D70-BDAD-F3BB818F4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B584A0-2BCF-42CD-BA2E-298E7D8F7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E419CE-0C89-47ED-98D6-18CDEF3E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8CA7AF-C561-43A5-B81C-3CC7B9C2B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38B1F-2621-4A1B-85D8-EF85D5AC8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4B52B3-B3AE-4A98-AD30-6F8975E7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D7AFE5-0443-429E-97CE-ABE5025F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94700F-9DEA-477C-8ADE-7E8CFCCE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E1312D-7FC8-47B7-A0BD-D19EACAE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DC5217-ECE6-4E90-8685-4D687667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FD0CB9-F3A0-4603-8DBB-68A77EFC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2E02AE-A5A4-43EB-A7C5-8137B0BE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955253-772D-47C7-B34F-DA138D3CE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57A86A-A614-4B9B-8D95-EE7B3A30B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82BEE1-C05A-4556-894A-9A4AF6854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C1FD9-DC83-4FC9-AED9-CEDFFC53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894D0B-DF58-4086-BF13-9E0D64DAC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B4A7F0-448D-4A73-897B-0AD5EBF4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4F0C93-FDBA-4786-89CD-33A9C45C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077759-913D-422B-AA0C-5EBF0741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85A3BE-72DC-4908-B425-540D32781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4AD12A-A580-4F6C-A536-E5669A57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83DE0C-6432-4718-88E3-810AC7F4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35EE7B-7580-4980-BE28-3E99CEBF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8DF92F-4538-4F77-90AC-1D040E935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937C59-87E4-472C-95AF-5CC1B9ACC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69A5-A0DA-4E45-ADA8-0F1BAC7E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EBF02-F3BD-4481-865A-A8BD20BE3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331CB5-11FB-4D07-920B-571D3690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AE6D20-1D79-4FC6-935A-02D636229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42A4B5-6604-417D-BAC7-DDE33524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BAEDFA-5D25-4C4E-B836-C7303A62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45D4EB-5037-43F7-9425-B7AFDAB8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41604A-5731-44C6-8BE1-51F0707B1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5C3CA5-FC9E-472C-8584-FABE7BE3C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EF2778-9922-43F1-9E4B-1A3BA1FD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6E496C-A8A9-4E73-9D37-11DA36317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E2958EE-DBCB-469C-84F0-1B08C70F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15DE9-8FB3-47BC-8FA9-2D2350EB1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5CE15B-1991-44F3-B194-587FCB86D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64F6B72-36EB-46C0-936A-6D6E0322B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FB8D20-006F-4AF6-B2A4-D0D9FE620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ABE908-6469-4E7E-B089-294171B86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770FDB-DDAD-4EA9-BADA-A9D06B63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46491F-1315-4509-9A12-12CEEDA0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844BCA-DADE-40DD-81EE-7601BA71A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764B64-B5F2-4A37-86E9-30ADA8B6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6E8B50-9705-4DE6-9F36-0ED5EAE9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D02394-86DB-4B48-838C-83023FD3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463D76-C3A1-4033-8ED3-7894E422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0BD5E2-40A4-4C10-874B-81267C4F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3BC788-1D5B-4368-9A61-E8B45953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E5D6E9-E040-4456-AA88-ACF54D85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8980A6-85A6-4F6A-9245-87CB6C614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F076B3-5350-4E7F-B4B2-3E789FD13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3D984E9-C472-4D91-9CAA-DC5027705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518044-978A-46AF-A7AF-711BFBAE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DECC18-A9A8-48D6-A8E0-7F43658B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D1EB38-0864-4326-8281-7C75DDC3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17A599D-F9B8-4AB8-9C84-0A6933C0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2EA46-37CA-4C39-8F95-1B80B65A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7BA0ED-B6D2-422E-B57C-106BC4EB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867BBF-16B1-4348-9389-38ABD050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A2594E-7A11-4C6D-B437-9438875A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E3B2CBF-73B6-4C74-A63E-6044F38B5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C9A2E5-B305-4D51-A1EF-5E205FAB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F62CBD-78F9-407A-8796-96770B532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0D1D212-7B20-4289-82B4-33DC34059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76B4E02-A6D9-4955-8183-EB0B56FEC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56C647-BB3C-48F8-B788-C038E38AD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4AD142-931B-4467-ADBC-C9AC3FED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FC96B-771D-4E33-992B-DC81CF15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DC7DF7-F67B-485D-B77B-782711E12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CF851EC-401F-4219-88DF-E7098960E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EC569F-D9AB-4FD6-AB81-599AD46D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162C089-FFCB-40FA-BCB6-FAFBB32E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1CFFE43-5909-4A76-B9EF-1AF7EB0D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56B142-44DA-4D05-BAF5-D0BEFE2C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012FE05-32EC-4E68-B904-BEE8D11E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1D86D7-894D-4298-8977-E63A5A835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5C7F836-622E-48E7-9608-E4EE51EE8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26AB8F-62FD-40FA-A8C2-47CBE635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C2432-3848-41C6-9D6D-502A679A6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EFB59B-220D-4F80-9F2B-69CBCD92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716D0A-1D5A-4EEE-9C09-F7161C3B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BF69A4-7AAB-4204-91AE-A29679A0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C6DFE2-5717-46AC-86E0-58D9B033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DCDF5A-454A-4BA5-AB9E-D6D9F47D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2DE8AD-3274-4146-9851-EE8EFCB1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ABAB4E-EE02-4E9E-A48E-D7AB54F3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B38900F-0ADE-4484-81EE-A45212E1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55854A4-7A11-4A1F-BE90-A2E6812F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0726B6-DC9C-4ED2-BCA1-B1A3FE61E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8F4AB-7DA9-423C-8A72-EEA47E14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C0AB8E9-045F-4F38-8D4A-10B8A2F73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4F60C42-76BF-4A93-A6E8-9604811D4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A9EA7D-A85C-40C4-8ABC-75EE50AD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19AEE46-761C-43ED-9145-57A40B38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1665C1-CDA7-4078-81B1-041D7CBD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5A15C5-5494-4E23-A728-942F8BE2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DF7242-0AB7-47CC-94F7-98BC191F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2D4370F-50FB-4E0B-BC1A-71A28F2B1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934116F-AEED-4E28-8BF7-BE697CF7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9B0E4B5-AB70-44D8-98A4-535E7C74B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D85450-24EF-4769-A957-56768DAF961D}" type="slidenum">
              <a:t>&lt;#&gt;</a:t>
            </a:fld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C21A9A-A04E-4F95-AF27-04574541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2B574F-01EF-4CC6-ACB6-9FCBDAC30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EA631D-1E9F-4B7A-8F74-AAEB1281C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4978AA4-D677-418E-AF03-65BDF5AA1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1743A5D-35A5-4697-8421-25CA7250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CFFF14F-40B7-4D66-8733-BEE1F83D5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8B64F1-2560-4849-B038-C964D334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AA27A9F-206B-4623-9667-F90B6C62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5C3E2E-5D18-495F-AEDF-FE49DCF6D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6E6EFAA-6EA4-47B6-B0F7-8C700A21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C3B162-C860-41DC-845D-9C2A671DF473}" type="slidenum">
              <a:t>&lt;#&gt;</a:t>
            </a:fld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CA26EE-7F4F-4FD9-ACA0-3D97CCD3A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C73987-B87B-402E-9FEC-1BC0896D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7056EF6-CD8C-41EB-96DA-4490C1FF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98DDDE8-75D7-4E48-A9AB-0D82B81E2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D039B7-2E40-4FA1-8CFC-10FB864CA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CA4DA5C-4CE5-467F-BEB5-9FF62638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78AAD17-FEC1-4D06-BCAB-56132BF6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647187B-3B3E-474E-9D89-DA821DBA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42DCE0D-F700-4243-9718-B289837FB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B11273D-CFE1-4239-B7A3-19387E69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582C41-B795-4CC1-9B88-3A95F32FEEE3}" type="slidenum">
              <a:t>&lt;#&gt;</a:t>
            </a:fld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A430BF2-B508-4780-B444-BB948B30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1B0E979-4399-414B-A403-5D766877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B9E3C7D-CF18-43F8-945F-7BDF8CF3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5B478AC-CEE0-4F24-90FE-FCD067F3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F1A1D22-105F-4905-BC51-CB91E12A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EC1BD5C-BFD8-416A-8C7C-E4F129EAF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44CBB49-E9F0-4253-A3EE-25346180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AD59A2B-0469-4E9E-8B7B-E2E1BE55C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080B9C6-5DF1-4AED-B46E-A42AE278B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333CE9-462E-4B0E-B9ED-C3C49F6AD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D087-D382-4D2A-939B-ECA7AE0E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010091-3A67-480D-8EDB-F94569F8A7CB}" type="slidenum">
              <a:t>&lt;#&gt;</a:t>
            </a:fld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539F77B-E8C8-49F6-952A-1A122E8D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40F496D-8800-4813-9B5E-C7AB0484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7398DE4-66C6-430E-99D9-05C49027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5725EC-0EF3-49B1-9F32-E27C1E5C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96DBF16-322D-4F9B-BE91-D977F87F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5C92CEF-ADFD-4CA2-A30F-8B7E0AEC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61AE6EB-4FA8-492F-B353-EF874C33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CCCE0B9-AF43-45DC-9F08-F6699121B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EFD4669-9046-4A6E-A3E5-E2E309AA3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3FAE91-4062-4855-9D3F-B56FD55EF043}" type="slidenum">
              <a:t>&lt;#&gt;</a:t>
            </a:fld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EB052A-AE80-46D7-9B27-1484E4788781}" type="slidenum">
              <a:t>&lt;#&gt;</a:t>
            </a:fld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C4F05640-2EB1-44BC-907E-F0535531D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35C63EA-04B5-4928-AAA7-D82C5EAC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1283D2F-1F40-4348-94C4-6BE1269F6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68EF8B6-91FD-4894-AF80-FE0E9E5BE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4121834-A826-4D15-9A16-1E17F090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7E355D6-5763-4701-8A7D-9FDC93DF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17B0F98-66DB-4629-8936-9F4ECAEC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80329182-CD8B-4465-AE64-1DF35DEB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D8F1472F-1C8B-469C-939D-323A3DA2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F74406-A6E7-4DFC-85D7-8F6755CB8AC2}" type="slidenum">
              <a:t>&lt;#&gt;</a:t>
            </a:fld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1C15E343-34B3-4F9A-9786-B32982FA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12C2F52-CD83-46A7-A607-41F5AAF18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265277D9-F279-4722-B015-D768FE8A5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052F34C-A085-4FDB-BE6A-68E9D1F5D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618CB03-C5E4-4146-BB27-0CDC4ED6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F1FC34B-9F10-414E-9DFF-A6DF2321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69E38A1-859E-4FA0-88D6-1EA567E6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77BE75E-EB87-4BCF-AE4D-B1FA7876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8A21690-06B6-45DE-AA73-889CB073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CEAF354-183B-472F-A7C2-99D4C204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D840E3-9A94-4B37-A62A-0D28B9309CC1}" type="slidenum">
              <a:t>&lt;#&gt;</a:t>
            </a:fld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370A013-673C-469B-A10D-2B986446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816FC98D-9AEB-4D53-9BA7-0E46257C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1CD2B1CA-5B58-443B-ABB1-86E0EAEE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AE29227F-0228-4610-8FC4-263C209C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097068A2-53E7-462C-9948-DC47A503D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060518D-A434-4054-A04D-C7D1B668C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4E067744-72FF-4310-83E7-43448597F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4D1E542-D7AD-4967-B500-982DB79E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17A2A176-EC03-43B4-AA07-66B92DCD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8D495B59-57E2-4142-A58E-658040EF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2CBF8A-097F-443B-9008-5452613C7D64}" type="slidenum">
              <a:t>&lt;#&gt;</a:t>
            </a:fld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0E1DE12-3513-497A-8404-3D33B387B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3BF4D195-5E14-495C-BBB1-09D75AAE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98C2B68-ACE6-48CD-ACB5-7C6637BA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EE2C9980-A8F1-4BD4-B2E1-7C6663F0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7C3F54B-1141-427C-A27F-8ECE03E5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EBFAE80-D226-477E-B4FB-48035D18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66512B6E-6B18-4E6B-A98E-0337E978D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0089C645-BE77-49C0-89F1-DC678ABB6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07792C9-1A1C-4DF7-8E83-BFD1157C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979D6A88-A647-4286-B4EF-7F19367C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51EBF0-4630-4B1F-AEBD-41E7DA99F800}" type="slidenum">
              <a:t>&lt;#&gt;</a:t>
            </a:fld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68CD9B74-B9D7-4C8B-847B-D058E453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1A1303BD-B8DA-4409-86E4-B58C00B3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8E6C7BC-789C-40F1-9513-F2E1D5FCB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94006724-9FDD-422C-AA19-0322912B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1542B85C-1CE0-457B-A7CA-9ED0BEBE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7C99D6C7-3F24-4877-A5F0-9F0BF0923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D86DF4A5-B790-4298-A91F-B322F5415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52FB992-B0CE-4D5E-B9C1-DE9C9C29D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691491B-C607-4A3F-B9C2-87DAD321F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809A21-B9EA-453D-9B1C-05DB786A239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D95FBD-AD1A-4556-B08C-97DD0A1DB34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9B448E-97AC-420C-84AC-622E94F52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1DC4-21B8-4206-86CE-50F2689A9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5E9E4F-1AFF-49BF-B375-055D75607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BED2AF-C364-4634-ABB5-B93923FD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1C60AE-12C9-4EFE-BEA3-6D1A6AE4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93EEAA-62D6-4F94-B7EB-5C190DE3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7CBBFA-9A71-455F-A4A1-241567C3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37B4B1-B23E-4710-B3A7-7F7BD34E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061402-A8A4-4D30-A982-9385A423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CC31DC-C129-4845-86A5-4E95F8FB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7CFDAB-4500-4D13-8903-57FBD50A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CB59B3-DC4D-4195-A2DA-7D432ACDB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DFBC-DED7-479A-9F31-99299C90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52DCA7-863B-4DD1-9602-AFA1AFDA5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471EC2-C540-403B-AB1B-1BB405E0D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20E4D8-C883-4900-87CE-A44F6D90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72C74C-7BB6-40CD-9C97-DDB6260F9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A34D3A-B261-40D9-9591-04C53B6DC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27706D-21E5-4A1A-8E59-F0236DBD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E1FC6FB-3912-40EF-A729-2754DD81E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62E986-33A1-4DD3-AAEF-A4B25824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2AFFD0-6232-40DC-BB8E-048DC1DD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30CC74-C282-450C-BB3E-766D40BC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A853-21E9-4034-9758-F17ED5BD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203E1D-F5F6-43BD-830D-C5A48F1B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3A0C3B-9BCE-4978-BD05-BFDAA424C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EF4F6A-CB4B-4AD4-9E15-3EA3763F8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75D4-3628-46E7-834B-C6A6FABD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21D1-53EE-4D1F-B6F5-44F73210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2F5F0-A967-495C-A273-4134E42DD6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37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388C-1423-4C53-86E9-0AFB0D2BEDBD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1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22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DFBBD-3859-4780-988D-8078ACE2CE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BE3D-D612-48A7-9071-9DFF1C57F162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4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5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3696-AC63-4B26-999F-AD1E686B74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6BEA-2BF8-4FC1-8A45-646F4A08EE08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7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28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751B4-0DFA-47F1-AD8D-C257952576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499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D7B7-FDE2-4169-B88B-558AC68CE9DF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30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 type="sldNum" idx="31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B8E21-CBE5-4E8A-9FE6-3BF8FB2A2D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C2A1-0427-46A3-80C9-516D7297DCDB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33"/>
          </p:nvPr>
        </p:nvSpPr>
        <p:spPr>
          <a:xfrm>
            <a:off x="6019560" y="6324120"/>
            <a:ext cx="2895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622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5262-9B19-4BE0-BB3C-6D5BA6E22954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35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36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27AA-3426-4335-8A72-6BDEA53740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17BB8-12FD-4AA6-98AF-D6EB83B5B7C2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 type="ftr" idx="38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 type="sldNum" idx="39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CE50-3449-4083-9502-370A51DCC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708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76A2-82DD-4A72-948E-792B0C8CAA8E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41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42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639C-633B-447C-997A-DEE9D1F432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751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DDA0-1855-49AD-A8E6-CE9E7A9211E0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 type="ftr" idx="44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 type="sldNum" idx="45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A57A5-4C73-46FD-A14C-4A4713FB20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AEB6-AED9-489E-A4DF-6C73C36856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794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454A6-46D1-4CE3-9C03-4B8BA8AFEA62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47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48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35385-1E38-4E1F-97FE-23EA3EC3F3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837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C5549-CAEE-4481-8163-5BC4DBE8A88C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 type="ftr" idx="50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 type="sldNum" idx="51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B2DA-9320-4CFC-9F8C-A303A66AAB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88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32F3-34FC-48B4-956A-478425A59B67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53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54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7520-5987-4C38-ACA2-8703CB6C4B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92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Box 7"/>
          <p:cNvSpPr/>
          <p:nvPr/>
        </p:nvSpPr>
        <p:spPr>
          <a:xfrm>
            <a:off x="454680" y="1687680"/>
            <a:ext cx="146088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ound Same Side Corner Rectangle 8"/>
          <p:cNvSpPr/>
          <p:nvPr/>
        </p:nvSpPr>
        <p:spPr>
          <a:xfrm>
            <a:off x="3726000" y="847800"/>
            <a:ext cx="2057400" cy="447480"/>
          </a:xfrm>
          <a:prstGeom prst="pie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2060"/>
                </a:solidFill>
                <a:uFillTx/>
                <a:latin typeface="Calibri"/>
              </a:rPr>
              <a:t>WHAT WE 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Calibri"/>
              </a:rPr>
              <a:t>H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8010D-C428-423A-B77B-B074EA92AD44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 type="ftr" idx="56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 type="sldNum" idx="57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E0E7-A9AD-41E1-9C0F-7FBC49D587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968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2852-6581-4A66-A2FD-9D725946D609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 type="ftr" idx="59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 type="sldNum" idx="60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919D5-4968-456A-8874-A677B8C61E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012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83E9-3FCB-46D8-A1A2-347EF69B102A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 type="ftr" idx="62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 type="sldNum" idx="63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D7C2-F151-4750-9345-D69CA07BE3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bf1d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056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TextBox 7"/>
          <p:cNvSpPr/>
          <p:nvPr/>
        </p:nvSpPr>
        <p:spPr>
          <a:xfrm>
            <a:off x="454320" y="1687680"/>
            <a:ext cx="1404720" cy="3682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SSAT</a:t>
            </a:r>
            <a:r>
              <a:rPr b="0" lang="en-US" sz="1800" spc="-1" strike="noStrike">
                <a:solidFill>
                  <a:srgbClr val="7f7f7f"/>
                </a:solidFill>
                <a:latin typeface="Calibri"/>
              </a:rPr>
              <a:t>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79E8-95C4-4036-8738-9C001C8F1AC4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ftr" idx="65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sldNum" idx="66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10E36-3392-4C9B-BBD1-4BBF5B07C9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100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7C257-4A12-4FD1-95B8-466641DA6042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ftr" idx="68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sldNum" idx="69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05E8-7163-4533-8772-5CDB86A440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2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143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F1205-1208-4FAE-B699-63C86EB42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7B909-B844-48A9-AF6B-E2B987B911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 type="ftr" idx="7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 type="sldNum" idx="7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FDEF-9F09-4A6C-8581-D920F5B6CE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DDEC3-FF9C-4AB8-B49D-27AB21D1A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 type="dt" idx="7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8FE48-13D8-47DD-8F58-D39FD934A4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 type="ftr" idx="7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 type="sldNum" idx="7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4F51C-74A9-489E-A1CD-363BD01C0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 type="dt" idx="7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50ABC-3481-49A4-ACAC-BC7F38ECD9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 type="ftr" idx="8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PlaceHolder 5"/>
          <p:cNvSpPr>
            <a:spLocks noGrp="1"/>
          </p:cNvSpPr>
          <p:nvPr>
            <p:ph type="sldNum" idx="8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04F5A-C2A2-4CE1-BF49-EC65840418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 type="dt" idx="8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55BF-2281-4EDD-A729-01B61B74CF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 type="ftr" idx="8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PlaceHolder 5"/>
          <p:cNvSpPr>
            <a:spLocks noGrp="1"/>
          </p:cNvSpPr>
          <p:nvPr>
            <p:ph type="sldNum" idx="8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320D-4CB0-4F21-897D-61EDC9D3DE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 type="dt" idx="8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94968-5459-431F-B1B3-BF8AE726FA2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 type="ftr" idx="8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 type="sldNum" idx="8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C771-8DB5-4601-9A65-C86549A7D8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 type="dt" idx="8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71A0F-F649-46C8-8AEF-4ED6AD624F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 type="ftr" idx="8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5"/>
          <p:cNvSpPr>
            <a:spLocks noGrp="1"/>
          </p:cNvSpPr>
          <p:nvPr>
            <p:ph type="sldNum" idx="9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01E1-A984-4F3D-AB3B-9D23C9A687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 type="dt" idx="9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5D17-33C4-4A2A-9B1C-4B8F40BC8A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 type="dt" idx="9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D0E0-656B-40B4-8CB3-0DE4C77EC5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 type="ftr" idx="9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PlaceHolder 5"/>
          <p:cNvSpPr>
            <a:spLocks noGrp="1"/>
          </p:cNvSpPr>
          <p:nvPr>
            <p:ph type="sldNum" idx="9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6C81E-8295-477F-B2A7-5BFCAFC95C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 type="dt" idx="9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8E745-97CD-492B-93F9-58FF899886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 type="ftr" idx="9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PlaceHolder 5"/>
          <p:cNvSpPr>
            <a:spLocks noGrp="1"/>
          </p:cNvSpPr>
          <p:nvPr>
            <p:ph type="sldNum" idx="9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982E-5B8A-4E21-8814-261F556A34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 type="dt" idx="9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E232-85BF-4818-B099-7F9A09D00C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 type="ftr" idx="9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PlaceHolder 5"/>
          <p:cNvSpPr>
            <a:spLocks noGrp="1"/>
          </p:cNvSpPr>
          <p:nvPr>
            <p:ph type="sldNum" idx="10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8B52-3797-45A9-ADFB-3442004ED6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 type="dt" idx="10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1F76-75E3-4E43-85BC-00B3FD2376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 type="ftr" idx="10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 type="sldNum" idx="10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B5B9-F436-4DDF-84AA-BC28C7E23F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0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4842-AA0B-4316-9E75-9F36275130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92A9-236D-42BB-8289-D6CC05E884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C0825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47E4-FB84-47C9-844C-E9EBD416A3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8005-8019-44AD-A0FA-18A39B6CE9DF}" type="datetime">
              <a:rPr b="0" lang="en-US" sz="24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6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7"/>
          </p:nvPr>
        </p:nvSpPr>
        <p:spPr>
          <a:xfrm>
            <a:off x="453600" y="63216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469E-C05A-4B9C-BC23-65C3F777E9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18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9" descr="IFPRI_Logo.jpg"/>
          <p:cNvPicPr/>
          <p:nvPr/>
        </p:nvPicPr>
        <p:blipFill>
          <a:blip r:embed="rId2"/>
          <a:stretch/>
        </p:blipFill>
        <p:spPr>
          <a:xfrm>
            <a:off x="8667720" y="6143760"/>
            <a:ext cx="380880" cy="600120"/>
          </a:xfrm>
          <a:prstGeom prst="rect">
            <a:avLst/>
          </a:prstGeom>
          <a:ln w="0">
            <a:noFill/>
          </a:ln>
        </p:spPr>
      </p:pic>
      <p:sp>
        <p:nvSpPr>
          <p:cNvPr id="329" name="Rectangle 10"/>
          <p:cNvSpPr/>
          <p:nvPr/>
        </p:nvSpPr>
        <p:spPr>
          <a:xfrm>
            <a:off x="442800" y="6583320"/>
            <a:ext cx="82584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c000"/>
                </a:solidFill>
                <a:latin typeface="Calibri"/>
              </a:rPr>
              <a:t>NAS Workshop</a:t>
            </a:r>
            <a:r>
              <a:rPr b="0" lang="en-US" sz="700" spc="-1" strike="noStrike">
                <a:solidFill>
                  <a:srgbClr val="7f7f7f"/>
                </a:solidFill>
                <a:latin typeface="Calibri"/>
              </a:rPr>
              <a:t>| 16 Feb 201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19"/>
          </p:nvPr>
        </p:nvSpPr>
        <p:spPr>
          <a:xfrm>
            <a:off x="2604960" y="6323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wmf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wmf"/><Relationship Id="rId6" Type="http://schemas.openxmlformats.org/officeDocument/2006/relationships/image" Target="../media/image36.png"/><Relationship Id="rId7" Type="http://schemas.openxmlformats.org/officeDocument/2006/relationships/image" Target="../media/image37.wmf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409.xml"/><Relationship Id="rId10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1" name="Subtitle 2" descr=""/>
          <p:cNvPicPr/>
          <p:nvPr/>
        </p:nvPicPr>
        <p:blipFill>
          <a:blip r:embed="rId1"/>
          <a:stretch/>
        </p:blipFill>
        <p:spPr>
          <a:xfrm>
            <a:off x="1670040" y="3389400"/>
            <a:ext cx="5578560" cy="146376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" descr="D:\temp\wz5023\CGIAR-CSI Logo 2011\cgiar-csi_new_logo_2011_final.jpg"/>
          <p:cNvPicPr/>
          <p:nvPr/>
        </p:nvPicPr>
        <p:blipFill>
          <a:blip r:embed="rId2"/>
          <a:stretch/>
        </p:blipFill>
        <p:spPr>
          <a:xfrm>
            <a:off x="2057400" y="5975280"/>
            <a:ext cx="2286000" cy="513000"/>
          </a:xfrm>
          <a:prstGeom prst="rect">
            <a:avLst/>
          </a:prstGeom>
          <a:ln w="0">
            <a:noFill/>
          </a:ln>
        </p:spPr>
      </p:pic>
      <p:pic>
        <p:nvPicPr>
          <p:cNvPr id="1643" name="Rectangle 8" descr=""/>
          <p:cNvPicPr/>
          <p:nvPr/>
        </p:nvPicPr>
        <p:blipFill>
          <a:blip r:embed="rId3"/>
          <a:stretch/>
        </p:blipFill>
        <p:spPr>
          <a:xfrm>
            <a:off x="378000" y="1719360"/>
            <a:ext cx="8619840" cy="167004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3" descr="sm-ifpri"/>
          <p:cNvPicPr/>
          <p:nvPr/>
        </p:nvPicPr>
        <p:blipFill>
          <a:blip r:embed="rId4"/>
          <a:stretch/>
        </p:blipFill>
        <p:spPr>
          <a:xfrm>
            <a:off x="7821720" y="5637240"/>
            <a:ext cx="1066680" cy="94284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3" descr=""/>
          <p:cNvPicPr/>
          <p:nvPr/>
        </p:nvPicPr>
        <p:blipFill>
          <a:blip r:embed="rId5"/>
          <a:stretch/>
        </p:blipFill>
        <p:spPr>
          <a:xfrm>
            <a:off x="5029200" y="5943600"/>
            <a:ext cx="2033640" cy="51264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" descr=""/>
          <p:cNvPicPr/>
          <p:nvPr/>
        </p:nvPicPr>
        <p:blipFill>
          <a:blip r:embed="rId6"/>
          <a:stretch/>
        </p:blipFill>
        <p:spPr>
          <a:xfrm>
            <a:off x="380880" y="5742000"/>
            <a:ext cx="1143000" cy="914400"/>
          </a:xfrm>
          <a:prstGeom prst="rect">
            <a:avLst/>
          </a:prstGeom>
          <a:ln w="0">
            <a:noFill/>
          </a:ln>
        </p:spPr>
      </p:pic>
      <p:sp>
        <p:nvSpPr>
          <p:cNvPr id="1647" name="Rectangle 9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stainable Intensification of Cereal-based Farming Systems in the Sudano-Sahelian Zone of West Africa: Project Design Workshop, Tamale, Ghana, 9-12 January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8" name="Picture 2" descr=""/>
          <p:cNvPicPr/>
          <p:nvPr/>
        </p:nvPicPr>
        <p:blipFill>
          <a:blip r:embed="rId1"/>
          <a:stretch/>
        </p:blipFill>
        <p:spPr>
          <a:xfrm>
            <a:off x="120600" y="1757520"/>
            <a:ext cx="8866080" cy="4497120"/>
          </a:xfrm>
          <a:prstGeom prst="rect">
            <a:avLst/>
          </a:prstGeom>
          <a:ln w="0">
            <a:noFill/>
          </a:ln>
        </p:spPr>
      </p:pic>
      <p:sp>
        <p:nvSpPr>
          <p:cNvPr id="1989" name="TextBox 3"/>
          <p:cNvSpPr/>
          <p:nvPr/>
        </p:nvSpPr>
        <p:spPr>
          <a:xfrm>
            <a:off x="157680" y="533520"/>
            <a:ext cx="8926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ole of Farming Systems in Bridging CAADP-CGIAR Agen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Dublin Process Activ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TextBox 4"/>
          <p:cNvSpPr/>
          <p:nvPr/>
        </p:nvSpPr>
        <p:spPr>
          <a:xfrm>
            <a:off x="242280" y="6256440"/>
            <a:ext cx="460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raft  Conceptual Framework, November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1" name="Group 52"/>
          <p:cNvGrpSpPr/>
          <p:nvPr/>
        </p:nvGrpSpPr>
        <p:grpSpPr>
          <a:xfrm>
            <a:off x="341280" y="1079640"/>
            <a:ext cx="5129280" cy="5194080"/>
            <a:chOff x="341280" y="1079640"/>
            <a:chExt cx="5129280" cy="5194080"/>
          </a:xfrm>
        </p:grpSpPr>
        <p:sp>
          <p:nvSpPr>
            <p:cNvPr id="1992" name="Rectangle 49"/>
            <p:cNvSpPr/>
            <p:nvPr/>
          </p:nvSpPr>
          <p:spPr>
            <a:xfrm>
              <a:off x="595080" y="1079640"/>
              <a:ext cx="4875480" cy="4842000"/>
            </a:xfrm>
            <a:prstGeom prst="rect">
              <a:avLst/>
            </a:prstGeom>
            <a:solidFill>
              <a:srgbClr val="dbeef4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Eastern &amp; Southern Africa Maize-based Syste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Rectangle 48"/>
            <p:cNvSpPr/>
            <p:nvPr/>
          </p:nvSpPr>
          <p:spPr>
            <a:xfrm>
              <a:off x="341280" y="1431720"/>
              <a:ext cx="4875480" cy="4842000"/>
            </a:xfrm>
            <a:prstGeom prst="rect">
              <a:avLst/>
            </a:prstGeom>
            <a:solidFill>
              <a:srgbClr val="dbeef4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Ethiopian Highlan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4" name="Rectangle 45"/>
          <p:cNvSpPr/>
          <p:nvPr/>
        </p:nvSpPr>
        <p:spPr>
          <a:xfrm>
            <a:off x="111240" y="1765440"/>
            <a:ext cx="4876560" cy="4840200"/>
          </a:xfrm>
          <a:prstGeom prst="rect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Sudano-Sahelian Z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5" name="Group 59"/>
          <p:cNvGrpSpPr/>
          <p:nvPr/>
        </p:nvGrpSpPr>
        <p:grpSpPr>
          <a:xfrm>
            <a:off x="276120" y="2540160"/>
            <a:ext cx="4492800" cy="3993840"/>
            <a:chOff x="276120" y="2540160"/>
            <a:chExt cx="4492800" cy="3993840"/>
          </a:xfrm>
        </p:grpSpPr>
        <p:sp>
          <p:nvSpPr>
            <p:cNvPr id="1996" name="TextBox 44"/>
            <p:cNvSpPr/>
            <p:nvPr/>
          </p:nvSpPr>
          <p:spPr>
            <a:xfrm>
              <a:off x="276120" y="499140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</a:rPr>
                <a:t>System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7" name="Group 51"/>
            <p:cNvGrpSpPr/>
            <p:nvPr/>
          </p:nvGrpSpPr>
          <p:grpSpPr>
            <a:xfrm>
              <a:off x="329400" y="2540160"/>
              <a:ext cx="4439520" cy="3993840"/>
              <a:chOff x="329400" y="2540160"/>
              <a:chExt cx="4439520" cy="3993840"/>
            </a:xfrm>
          </p:grpSpPr>
          <p:sp>
            <p:nvSpPr>
              <p:cNvPr id="1998" name="Freeform 17"/>
              <p:cNvSpPr/>
              <p:nvPr/>
            </p:nvSpPr>
            <p:spPr>
              <a:xfrm>
                <a:off x="1148760" y="2540160"/>
                <a:ext cx="3620160" cy="3887640"/>
              </a:xfrm>
              <a:custGeom>
                <a:avLst/>
                <a:gdLst/>
                <a:ahLst/>
                <a:rect l="l" t="t" r="r" b="b"/>
                <a:pathLst>
                  <a:path w="846312" h="590559">
                    <a:moveTo>
                      <a:pt x="139145" y="62327"/>
                    </a:moveTo>
                    <a:cubicBezTo>
                      <a:pt x="215345" y="36811"/>
                      <a:pt x="365568" y="-5859"/>
                      <a:pt x="478779" y="672"/>
                    </a:cubicBezTo>
                    <a:cubicBezTo>
                      <a:pt x="591990" y="7203"/>
                      <a:pt x="766162" y="36811"/>
                      <a:pt x="818413" y="101515"/>
                    </a:cubicBezTo>
                    <a:cubicBezTo>
                      <a:pt x="870665" y="166219"/>
                      <a:pt x="842362" y="308344"/>
                      <a:pt x="792288" y="388898"/>
                    </a:cubicBezTo>
                    <a:cubicBezTo>
                      <a:pt x="742214" y="469452"/>
                      <a:pt x="583282" y="560893"/>
                      <a:pt x="517968" y="584841"/>
                    </a:cubicBezTo>
                    <a:cubicBezTo>
                      <a:pt x="452654" y="608789"/>
                      <a:pt x="441950" y="550924"/>
                      <a:pt x="400402" y="532589"/>
                    </a:cubicBezTo>
                    <a:cubicBezTo>
                      <a:pt x="358854" y="514254"/>
                      <a:pt x="333717" y="495498"/>
                      <a:pt x="268679" y="474832"/>
                    </a:cubicBezTo>
                    <a:cubicBezTo>
                      <a:pt x="203641" y="454166"/>
                      <a:pt x="49180" y="440334"/>
                      <a:pt x="10174" y="408595"/>
                    </a:cubicBezTo>
                    <a:cubicBezTo>
                      <a:pt x="-28832" y="376856"/>
                      <a:pt x="58591" y="319229"/>
                      <a:pt x="34642" y="284395"/>
                    </a:cubicBezTo>
                    <a:cubicBezTo>
                      <a:pt x="10693" y="249561"/>
                      <a:pt x="6339" y="192956"/>
                      <a:pt x="21579" y="153767"/>
                    </a:cubicBezTo>
                    <a:cubicBezTo>
                      <a:pt x="36819" y="114579"/>
                      <a:pt x="62945" y="87843"/>
                      <a:pt x="139145" y="62327"/>
                    </a:cubicBezTo>
                    <a:close/>
                  </a:path>
                </a:pathLst>
              </a:custGeom>
              <a:solidFill>
                <a:srgbClr val="c3d69b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Freeform 46"/>
              <p:cNvSpPr/>
              <p:nvPr/>
            </p:nvSpPr>
            <p:spPr>
              <a:xfrm>
                <a:off x="329400" y="5389560"/>
                <a:ext cx="1497240" cy="1144440"/>
              </a:xfrm>
              <a:custGeom>
                <a:avLst/>
                <a:gdLst/>
                <a:ahLst/>
                <a:rect l="l" t="t" r="r" b="b"/>
                <a:pathLst>
                  <a:path w="700442" h="450127">
                    <a:moveTo>
                      <a:pt x="47680" y="152"/>
                    </a:moveTo>
                    <a:cubicBezTo>
                      <a:pt x="150531" y="4734"/>
                      <a:pt x="595121" y="86424"/>
                      <a:pt x="677852" y="158270"/>
                    </a:cubicBezTo>
                    <a:cubicBezTo>
                      <a:pt x="760583" y="230116"/>
                      <a:pt x="593089" y="386741"/>
                      <a:pt x="544069" y="431226"/>
                    </a:cubicBezTo>
                    <a:cubicBezTo>
                      <a:pt x="495049" y="475711"/>
                      <a:pt x="458886" y="428114"/>
                      <a:pt x="383731" y="425182"/>
                    </a:cubicBezTo>
                    <a:cubicBezTo>
                      <a:pt x="308576" y="422250"/>
                      <a:pt x="151050" y="442000"/>
                      <a:pt x="93141" y="413633"/>
                    </a:cubicBezTo>
                    <a:cubicBezTo>
                      <a:pt x="35232" y="385266"/>
                      <a:pt x="41675" y="302122"/>
                      <a:pt x="36275" y="254980"/>
                    </a:cubicBezTo>
                    <a:cubicBezTo>
                      <a:pt x="30875" y="207838"/>
                      <a:pt x="84692" y="165614"/>
                      <a:pt x="60743" y="130780"/>
                    </a:cubicBezTo>
                    <a:cubicBezTo>
                      <a:pt x="36794" y="95946"/>
                      <a:pt x="-55171" y="-4430"/>
                      <a:pt x="47680" y="152"/>
                    </a:cubicBezTo>
                    <a:close/>
                  </a:path>
                </a:pathLst>
              </a:custGeom>
              <a:solidFill>
                <a:srgbClr val="99ff33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0" name="Group 56"/>
          <p:cNvGrpSpPr/>
          <p:nvPr/>
        </p:nvGrpSpPr>
        <p:grpSpPr>
          <a:xfrm>
            <a:off x="452520" y="2608200"/>
            <a:ext cx="4048200" cy="3156120"/>
            <a:chOff x="452520" y="2608200"/>
            <a:chExt cx="4048200" cy="3156120"/>
          </a:xfrm>
        </p:grpSpPr>
        <p:grpSp>
          <p:nvGrpSpPr>
            <p:cNvPr id="2001" name="Group 54"/>
            <p:cNvGrpSpPr/>
            <p:nvPr/>
          </p:nvGrpSpPr>
          <p:grpSpPr>
            <a:xfrm>
              <a:off x="452520" y="2608200"/>
              <a:ext cx="4048200" cy="3156120"/>
              <a:chOff x="452520" y="2608200"/>
              <a:chExt cx="4048200" cy="3156120"/>
            </a:xfrm>
          </p:grpSpPr>
          <p:grpSp>
            <p:nvGrpSpPr>
              <p:cNvPr id="2002" name="Group 20"/>
              <p:cNvGrpSpPr/>
              <p:nvPr/>
            </p:nvGrpSpPr>
            <p:grpSpPr>
              <a:xfrm>
                <a:off x="1794960" y="2947680"/>
                <a:ext cx="2705760" cy="2816640"/>
                <a:chOff x="1794960" y="2947680"/>
                <a:chExt cx="2705760" cy="2816640"/>
              </a:xfrm>
            </p:grpSpPr>
            <p:sp>
              <p:nvSpPr>
                <p:cNvPr id="2003" name="Freeform 10"/>
                <p:cNvSpPr/>
                <p:nvPr/>
              </p:nvSpPr>
              <p:spPr>
                <a:xfrm>
                  <a:off x="2812680" y="3455640"/>
                  <a:ext cx="808200" cy="677880"/>
                </a:xfrm>
                <a:custGeom>
                  <a:avLst/>
                  <a:gdLst/>
                  <a:ahLst/>
                  <a:rect l="l" t="t" r="r" b="b"/>
                  <a:pathLst>
                    <a:path w="808354" h="677527">
                      <a:moveTo>
                        <a:pt x="126456" y="149047"/>
                      </a:moveTo>
                      <a:cubicBezTo>
                        <a:pt x="202656" y="118567"/>
                        <a:pt x="385536" y="81556"/>
                        <a:pt x="466090" y="57607"/>
                      </a:cubicBezTo>
                      <a:cubicBezTo>
                        <a:pt x="546644" y="33658"/>
                        <a:pt x="553175" y="-16416"/>
                        <a:pt x="609781" y="5355"/>
                      </a:cubicBezTo>
                      <a:cubicBezTo>
                        <a:pt x="666387" y="27126"/>
                        <a:pt x="788307" y="146869"/>
                        <a:pt x="805724" y="188235"/>
                      </a:cubicBezTo>
                      <a:cubicBezTo>
                        <a:pt x="823141" y="229601"/>
                        <a:pt x="716461" y="223069"/>
                        <a:pt x="714284" y="253549"/>
                      </a:cubicBezTo>
                      <a:cubicBezTo>
                        <a:pt x="712107" y="284029"/>
                        <a:pt x="781775" y="334104"/>
                        <a:pt x="792661" y="371115"/>
                      </a:cubicBezTo>
                      <a:cubicBezTo>
                        <a:pt x="803547" y="408126"/>
                        <a:pt x="827496" y="425544"/>
                        <a:pt x="779599" y="475618"/>
                      </a:cubicBezTo>
                      <a:cubicBezTo>
                        <a:pt x="731702" y="525692"/>
                        <a:pt x="570593" y="647613"/>
                        <a:pt x="505279" y="671561"/>
                      </a:cubicBezTo>
                      <a:cubicBezTo>
                        <a:pt x="439965" y="695509"/>
                        <a:pt x="411662" y="641080"/>
                        <a:pt x="387713" y="619309"/>
                      </a:cubicBezTo>
                      <a:cubicBezTo>
                        <a:pt x="363764" y="597538"/>
                        <a:pt x="405130" y="543109"/>
                        <a:pt x="361587" y="540932"/>
                      </a:cubicBezTo>
                      <a:cubicBezTo>
                        <a:pt x="318044" y="538755"/>
                        <a:pt x="161290" y="621487"/>
                        <a:pt x="126456" y="606247"/>
                      </a:cubicBezTo>
                      <a:cubicBezTo>
                        <a:pt x="91622" y="591007"/>
                        <a:pt x="169998" y="488681"/>
                        <a:pt x="152581" y="449492"/>
                      </a:cubicBezTo>
                      <a:cubicBezTo>
                        <a:pt x="135164" y="410303"/>
                        <a:pt x="45902" y="405949"/>
                        <a:pt x="21953" y="371115"/>
                      </a:cubicBezTo>
                      <a:cubicBezTo>
                        <a:pt x="-1996" y="336281"/>
                        <a:pt x="-6350" y="279676"/>
                        <a:pt x="8890" y="240487"/>
                      </a:cubicBezTo>
                      <a:cubicBezTo>
                        <a:pt x="24130" y="201299"/>
                        <a:pt x="50256" y="179527"/>
                        <a:pt x="126456" y="149047"/>
                      </a:cubicBezTo>
                      <a:close/>
                    </a:path>
                  </a:pathLst>
                </a:custGeom>
                <a:solidFill>
                  <a:srgbClr val="92d05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4" name="Freeform 13"/>
                <p:cNvSpPr/>
                <p:nvPr/>
              </p:nvSpPr>
              <p:spPr>
                <a:xfrm>
                  <a:off x="3851280" y="3266640"/>
                  <a:ext cx="649440" cy="868320"/>
                </a:xfrm>
                <a:custGeom>
                  <a:avLst/>
                  <a:gdLst/>
                  <a:ahLst/>
                  <a:rect l="l" t="t" r="r" b="b"/>
                  <a:pathLst>
                    <a:path w="649272" h="867634">
                      <a:moveTo>
                        <a:pt x="105001" y="127848"/>
                      </a:moveTo>
                      <a:cubicBezTo>
                        <a:pt x="157252" y="108254"/>
                        <a:pt x="224744" y="-39792"/>
                        <a:pt x="314007" y="10282"/>
                      </a:cubicBezTo>
                      <a:cubicBezTo>
                        <a:pt x="403270" y="60356"/>
                        <a:pt x="601390" y="360803"/>
                        <a:pt x="640579" y="428294"/>
                      </a:cubicBezTo>
                      <a:cubicBezTo>
                        <a:pt x="679768" y="495786"/>
                        <a:pt x="575265" y="345563"/>
                        <a:pt x="549139" y="415231"/>
                      </a:cubicBezTo>
                      <a:cubicBezTo>
                        <a:pt x="523013" y="484900"/>
                        <a:pt x="518658" y="785345"/>
                        <a:pt x="483824" y="846305"/>
                      </a:cubicBezTo>
                      <a:cubicBezTo>
                        <a:pt x="448990" y="907265"/>
                        <a:pt x="411979" y="822357"/>
                        <a:pt x="340133" y="780991"/>
                      </a:cubicBezTo>
                      <a:cubicBezTo>
                        <a:pt x="268287" y="739625"/>
                        <a:pt x="105001" y="641654"/>
                        <a:pt x="52750" y="598111"/>
                      </a:cubicBezTo>
                      <a:cubicBezTo>
                        <a:pt x="499" y="554568"/>
                        <a:pt x="9207" y="561100"/>
                        <a:pt x="26624" y="519734"/>
                      </a:cubicBezTo>
                      <a:cubicBezTo>
                        <a:pt x="44041" y="478368"/>
                        <a:pt x="161607" y="415231"/>
                        <a:pt x="157253" y="349917"/>
                      </a:cubicBezTo>
                      <a:cubicBezTo>
                        <a:pt x="152899" y="284603"/>
                        <a:pt x="7031" y="169214"/>
                        <a:pt x="499" y="127848"/>
                      </a:cubicBezTo>
                      <a:cubicBezTo>
                        <a:pt x="-6033" y="86482"/>
                        <a:pt x="52750" y="147442"/>
                        <a:pt x="105001" y="127848"/>
                      </a:cubicBezTo>
                      <a:close/>
                    </a:path>
                  </a:pathLst>
                </a:custGeom>
                <a:solidFill>
                  <a:srgbClr val="fac09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5" name="Freeform 14"/>
                <p:cNvSpPr/>
                <p:nvPr/>
              </p:nvSpPr>
              <p:spPr>
                <a:xfrm>
                  <a:off x="1794960" y="4128840"/>
                  <a:ext cx="843120" cy="1014480"/>
                </a:xfrm>
                <a:custGeom>
                  <a:avLst/>
                  <a:gdLst/>
                  <a:ahLst/>
                  <a:rect l="l" t="t" r="r" b="b"/>
                  <a:pathLst>
                    <a:path w="843315" h="1014208">
                      <a:moveTo>
                        <a:pt x="368999" y="470328"/>
                      </a:moveTo>
                      <a:cubicBezTo>
                        <a:pt x="338519" y="498631"/>
                        <a:pt x="382062" y="439848"/>
                        <a:pt x="460439" y="431140"/>
                      </a:cubicBezTo>
                      <a:cubicBezTo>
                        <a:pt x="538816" y="422432"/>
                        <a:pt x="806605" y="372357"/>
                        <a:pt x="839262" y="418077"/>
                      </a:cubicBezTo>
                      <a:cubicBezTo>
                        <a:pt x="871919" y="463797"/>
                        <a:pt x="697748" y="607489"/>
                        <a:pt x="656382" y="705460"/>
                      </a:cubicBezTo>
                      <a:cubicBezTo>
                        <a:pt x="615016" y="803431"/>
                        <a:pt x="667268" y="973248"/>
                        <a:pt x="591068" y="1005905"/>
                      </a:cubicBezTo>
                      <a:cubicBezTo>
                        <a:pt x="514868" y="1038562"/>
                        <a:pt x="290622" y="968893"/>
                        <a:pt x="199182" y="901402"/>
                      </a:cubicBezTo>
                      <a:cubicBezTo>
                        <a:pt x="107742" y="833911"/>
                        <a:pt x="75085" y="690220"/>
                        <a:pt x="42428" y="600957"/>
                      </a:cubicBezTo>
                      <a:cubicBezTo>
                        <a:pt x="9771" y="511694"/>
                        <a:pt x="-7647" y="424608"/>
                        <a:pt x="3239" y="365825"/>
                      </a:cubicBezTo>
                      <a:cubicBezTo>
                        <a:pt x="14125" y="307042"/>
                        <a:pt x="64199" y="293980"/>
                        <a:pt x="107742" y="248260"/>
                      </a:cubicBezTo>
                      <a:cubicBezTo>
                        <a:pt x="151285" y="202540"/>
                        <a:pt x="199182" y="132871"/>
                        <a:pt x="264496" y="91505"/>
                      </a:cubicBezTo>
                      <a:cubicBezTo>
                        <a:pt x="329810" y="50139"/>
                        <a:pt x="436491" y="-2112"/>
                        <a:pt x="499628" y="65"/>
                      </a:cubicBezTo>
                      <a:cubicBezTo>
                        <a:pt x="562765" y="2242"/>
                        <a:pt x="619371" y="61025"/>
                        <a:pt x="643319" y="104568"/>
                      </a:cubicBezTo>
                      <a:cubicBezTo>
                        <a:pt x="667267" y="148111"/>
                        <a:pt x="682507" y="200362"/>
                        <a:pt x="643319" y="261322"/>
                      </a:cubicBezTo>
                      <a:cubicBezTo>
                        <a:pt x="604131" y="322282"/>
                        <a:pt x="399479" y="442025"/>
                        <a:pt x="368999" y="470328"/>
                      </a:cubicBezTo>
                      <a:close/>
                    </a:path>
                  </a:pathLst>
                </a:custGeom>
                <a:solidFill>
                  <a:srgbClr val="92d05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6" name="Freeform 15"/>
                <p:cNvSpPr/>
                <p:nvPr/>
              </p:nvSpPr>
              <p:spPr>
                <a:xfrm>
                  <a:off x="3454200" y="4259160"/>
                  <a:ext cx="817560" cy="677880"/>
                </a:xfrm>
                <a:custGeom>
                  <a:avLst/>
                  <a:gdLst/>
                  <a:ahLst/>
                  <a:rect l="l" t="t" r="r" b="b"/>
                  <a:pathLst>
                    <a:path w="817237" h="677527">
                      <a:moveTo>
                        <a:pt x="126456" y="149047"/>
                      </a:moveTo>
                      <a:cubicBezTo>
                        <a:pt x="202656" y="118567"/>
                        <a:pt x="385536" y="81556"/>
                        <a:pt x="466090" y="57607"/>
                      </a:cubicBezTo>
                      <a:cubicBezTo>
                        <a:pt x="546644" y="33658"/>
                        <a:pt x="553175" y="-16416"/>
                        <a:pt x="609781" y="5355"/>
                      </a:cubicBezTo>
                      <a:cubicBezTo>
                        <a:pt x="666387" y="27126"/>
                        <a:pt x="775244" y="127275"/>
                        <a:pt x="805724" y="188235"/>
                      </a:cubicBezTo>
                      <a:cubicBezTo>
                        <a:pt x="836204" y="249195"/>
                        <a:pt x="797015" y="323218"/>
                        <a:pt x="792661" y="371115"/>
                      </a:cubicBezTo>
                      <a:cubicBezTo>
                        <a:pt x="788307" y="419012"/>
                        <a:pt x="827496" y="425544"/>
                        <a:pt x="779599" y="475618"/>
                      </a:cubicBezTo>
                      <a:cubicBezTo>
                        <a:pt x="731702" y="525692"/>
                        <a:pt x="570593" y="647613"/>
                        <a:pt x="505279" y="671561"/>
                      </a:cubicBezTo>
                      <a:cubicBezTo>
                        <a:pt x="439965" y="695509"/>
                        <a:pt x="411662" y="641080"/>
                        <a:pt x="387713" y="619309"/>
                      </a:cubicBezTo>
                      <a:cubicBezTo>
                        <a:pt x="363764" y="597538"/>
                        <a:pt x="400776" y="569235"/>
                        <a:pt x="361587" y="540932"/>
                      </a:cubicBezTo>
                      <a:cubicBezTo>
                        <a:pt x="322398" y="512629"/>
                        <a:pt x="209187" y="477795"/>
                        <a:pt x="152581" y="449492"/>
                      </a:cubicBezTo>
                      <a:cubicBezTo>
                        <a:pt x="135164" y="410303"/>
                        <a:pt x="45902" y="405949"/>
                        <a:pt x="21953" y="371115"/>
                      </a:cubicBezTo>
                      <a:cubicBezTo>
                        <a:pt x="-1996" y="336281"/>
                        <a:pt x="-6350" y="279676"/>
                        <a:pt x="8890" y="240487"/>
                      </a:cubicBezTo>
                      <a:cubicBezTo>
                        <a:pt x="24130" y="201299"/>
                        <a:pt x="50256" y="179527"/>
                        <a:pt x="126456" y="149047"/>
                      </a:cubicBezTo>
                      <a:close/>
                    </a:path>
                  </a:pathLst>
                </a:custGeom>
                <a:solidFill>
                  <a:srgbClr val="92d05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7" name="Freeform 11"/>
                <p:cNvSpPr/>
                <p:nvPr/>
              </p:nvSpPr>
              <p:spPr>
                <a:xfrm>
                  <a:off x="3098520" y="4861080"/>
                  <a:ext cx="760680" cy="903240"/>
                </a:xfrm>
                <a:custGeom>
                  <a:avLst/>
                  <a:gdLst/>
                  <a:ahLst/>
                  <a:rect l="l" t="t" r="r" b="b"/>
                  <a:pathLst>
                    <a:path w="759599" h="903484">
                      <a:moveTo>
                        <a:pt x="275055" y="223207"/>
                      </a:moveTo>
                      <a:cubicBezTo>
                        <a:pt x="284852" y="188373"/>
                        <a:pt x="294650" y="153539"/>
                        <a:pt x="327307" y="144830"/>
                      </a:cubicBezTo>
                      <a:cubicBezTo>
                        <a:pt x="359964" y="136121"/>
                        <a:pt x="442695" y="142652"/>
                        <a:pt x="470998" y="170955"/>
                      </a:cubicBezTo>
                      <a:cubicBezTo>
                        <a:pt x="499301" y="199258"/>
                        <a:pt x="470998" y="290698"/>
                        <a:pt x="497124" y="314647"/>
                      </a:cubicBezTo>
                      <a:cubicBezTo>
                        <a:pt x="523250" y="338596"/>
                        <a:pt x="584210" y="288521"/>
                        <a:pt x="627753" y="314647"/>
                      </a:cubicBezTo>
                      <a:cubicBezTo>
                        <a:pt x="671296" y="340773"/>
                        <a:pt x="747495" y="416973"/>
                        <a:pt x="758381" y="471401"/>
                      </a:cubicBezTo>
                      <a:cubicBezTo>
                        <a:pt x="769267" y="525829"/>
                        <a:pt x="703953" y="591144"/>
                        <a:pt x="693067" y="641218"/>
                      </a:cubicBezTo>
                      <a:cubicBezTo>
                        <a:pt x="682181" y="691292"/>
                        <a:pt x="706130" y="754430"/>
                        <a:pt x="693067" y="771847"/>
                      </a:cubicBezTo>
                      <a:cubicBezTo>
                        <a:pt x="680004" y="789264"/>
                        <a:pt x="662587" y="745721"/>
                        <a:pt x="614690" y="745721"/>
                      </a:cubicBezTo>
                      <a:cubicBezTo>
                        <a:pt x="566793" y="745721"/>
                        <a:pt x="470998" y="745721"/>
                        <a:pt x="405684" y="771847"/>
                      </a:cubicBezTo>
                      <a:cubicBezTo>
                        <a:pt x="340370" y="797973"/>
                        <a:pt x="277232" y="915538"/>
                        <a:pt x="222804" y="902475"/>
                      </a:cubicBezTo>
                      <a:cubicBezTo>
                        <a:pt x="168376" y="889412"/>
                        <a:pt x="113947" y="760961"/>
                        <a:pt x="79113" y="693470"/>
                      </a:cubicBezTo>
                      <a:cubicBezTo>
                        <a:pt x="44279" y="625979"/>
                        <a:pt x="26861" y="573727"/>
                        <a:pt x="13798" y="497527"/>
                      </a:cubicBezTo>
                      <a:cubicBezTo>
                        <a:pt x="735" y="421327"/>
                        <a:pt x="-1442" y="319001"/>
                        <a:pt x="735" y="236270"/>
                      </a:cubicBezTo>
                      <a:cubicBezTo>
                        <a:pt x="2912" y="153539"/>
                        <a:pt x="2912" y="14201"/>
                        <a:pt x="26861" y="1138"/>
                      </a:cubicBezTo>
                      <a:cubicBezTo>
                        <a:pt x="50810" y="-11925"/>
                        <a:pt x="127010" y="90401"/>
                        <a:pt x="144427" y="157893"/>
                      </a:cubicBezTo>
                      <a:cubicBezTo>
                        <a:pt x="161844" y="225385"/>
                        <a:pt x="116124" y="369076"/>
                        <a:pt x="131364" y="406087"/>
                      </a:cubicBezTo>
                      <a:cubicBezTo>
                        <a:pt x="146604" y="443098"/>
                        <a:pt x="205387" y="421327"/>
                        <a:pt x="235867" y="379961"/>
                      </a:cubicBezTo>
                      <a:cubicBezTo>
                        <a:pt x="266347" y="338595"/>
                        <a:pt x="303358" y="192727"/>
                        <a:pt x="314244" y="157893"/>
                      </a:cubicBezTo>
                    </a:path>
                  </a:pathLst>
                </a:custGeom>
                <a:solidFill>
                  <a:srgbClr val="fac09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8" name="Freeform 16"/>
                <p:cNvSpPr/>
                <p:nvPr/>
              </p:nvSpPr>
              <p:spPr>
                <a:xfrm>
                  <a:off x="1794960" y="2947680"/>
                  <a:ext cx="642960" cy="831960"/>
                </a:xfrm>
                <a:custGeom>
                  <a:avLst/>
                  <a:gdLst/>
                  <a:ahLst/>
                  <a:rect l="l" t="t" r="r" b="b"/>
                  <a:pathLst>
                    <a:path w="827729" h="620363">
                      <a:moveTo>
                        <a:pt x="126456" y="91883"/>
                      </a:moveTo>
                      <a:cubicBezTo>
                        <a:pt x="202656" y="61403"/>
                        <a:pt x="352879" y="-6088"/>
                        <a:pt x="466090" y="443"/>
                      </a:cubicBezTo>
                      <a:cubicBezTo>
                        <a:pt x="579301" y="6974"/>
                        <a:pt x="751295" y="78820"/>
                        <a:pt x="805724" y="131071"/>
                      </a:cubicBezTo>
                      <a:cubicBezTo>
                        <a:pt x="860153" y="183322"/>
                        <a:pt x="797015" y="266054"/>
                        <a:pt x="792661" y="313951"/>
                      </a:cubicBezTo>
                      <a:cubicBezTo>
                        <a:pt x="788307" y="361848"/>
                        <a:pt x="827496" y="368380"/>
                        <a:pt x="779599" y="418454"/>
                      </a:cubicBezTo>
                      <a:cubicBezTo>
                        <a:pt x="731702" y="468528"/>
                        <a:pt x="570593" y="590449"/>
                        <a:pt x="505279" y="614397"/>
                      </a:cubicBezTo>
                      <a:cubicBezTo>
                        <a:pt x="439965" y="638345"/>
                        <a:pt x="411662" y="583916"/>
                        <a:pt x="387713" y="562145"/>
                      </a:cubicBezTo>
                      <a:cubicBezTo>
                        <a:pt x="363764" y="540374"/>
                        <a:pt x="400776" y="512071"/>
                        <a:pt x="361587" y="483768"/>
                      </a:cubicBezTo>
                      <a:cubicBezTo>
                        <a:pt x="322398" y="455465"/>
                        <a:pt x="209187" y="420631"/>
                        <a:pt x="152581" y="392328"/>
                      </a:cubicBezTo>
                      <a:cubicBezTo>
                        <a:pt x="135164" y="353139"/>
                        <a:pt x="45902" y="348785"/>
                        <a:pt x="21953" y="313951"/>
                      </a:cubicBezTo>
                      <a:cubicBezTo>
                        <a:pt x="-1996" y="279117"/>
                        <a:pt x="-6350" y="222512"/>
                        <a:pt x="8890" y="183323"/>
                      </a:cubicBezTo>
                      <a:cubicBezTo>
                        <a:pt x="24130" y="144135"/>
                        <a:pt x="50256" y="122363"/>
                        <a:pt x="126456" y="91883"/>
                      </a:cubicBezTo>
                      <a:close/>
                    </a:path>
                  </a:pathLst>
                </a:custGeom>
                <a:solidFill>
                  <a:srgbClr val="fac090"/>
                </a:solidFill>
                <a:ln w="25560">
                  <a:solidFill>
                    <a:srgbClr val="385d8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9" name="TextBox 38"/>
              <p:cNvSpPr/>
              <p:nvPr/>
            </p:nvSpPr>
            <p:spPr>
              <a:xfrm>
                <a:off x="452520" y="2608200"/>
                <a:ext cx="7887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Sub-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System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10" name="Straight Arrow Connector 41"/>
              <p:cNvCxnSpPr>
                <a:endCxn id="2005" idx="7"/>
              </p:cNvCxnSpPr>
              <p:nvPr/>
            </p:nvCxnSpPr>
            <p:spPr>
              <a:xfrm>
                <a:off x="838080" y="3160080"/>
                <a:ext cx="961200" cy="1335960"/>
              </a:xfrm>
              <a:prstGeom prst="straightConnector1">
                <a:avLst/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  <p:cxnSp>
          <p:nvCxnSpPr>
            <p:cNvPr id="2011" name="Straight Arrow Connector 40"/>
            <p:cNvCxnSpPr>
              <a:endCxn id="2008" idx="10"/>
            </p:cNvCxnSpPr>
            <p:nvPr/>
          </p:nvCxnSpPr>
          <p:spPr>
            <a:xfrm>
              <a:off x="1257120" y="2918880"/>
              <a:ext cx="545040" cy="2754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2012" name="Group 57"/>
          <p:cNvGrpSpPr/>
          <p:nvPr/>
        </p:nvGrpSpPr>
        <p:grpSpPr>
          <a:xfrm>
            <a:off x="1985760" y="1984320"/>
            <a:ext cx="2266920" cy="4521960"/>
            <a:chOff x="1985760" y="1984320"/>
            <a:chExt cx="2266920" cy="4521960"/>
          </a:xfrm>
        </p:grpSpPr>
        <p:sp>
          <p:nvSpPr>
            <p:cNvPr id="2013" name="TextBox 25"/>
            <p:cNvSpPr/>
            <p:nvPr/>
          </p:nvSpPr>
          <p:spPr>
            <a:xfrm>
              <a:off x="2977200" y="1984320"/>
              <a:ext cx="1127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ountry 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TextBox 26"/>
            <p:cNvSpPr/>
            <p:nvPr/>
          </p:nvSpPr>
          <p:spPr>
            <a:xfrm>
              <a:off x="1993320" y="6138000"/>
              <a:ext cx="111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ountry 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Straight Connector 22"/>
            <p:cNvSpPr/>
            <p:nvPr/>
          </p:nvSpPr>
          <p:spPr>
            <a:xfrm flipH="1">
              <a:off x="1985760" y="2033280"/>
              <a:ext cx="2266920" cy="4275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6" name="Group 58"/>
          <p:cNvGrpSpPr/>
          <p:nvPr/>
        </p:nvGrpSpPr>
        <p:grpSpPr>
          <a:xfrm>
            <a:off x="1908000" y="1742760"/>
            <a:ext cx="2683440" cy="3800880"/>
            <a:chOff x="1908000" y="1742760"/>
            <a:chExt cx="2683440" cy="3800880"/>
          </a:xfrm>
        </p:grpSpPr>
        <p:cxnSp>
          <p:nvCxnSpPr>
            <p:cNvPr id="2017" name="Straight Arrow Connector 37"/>
            <p:cNvCxnSpPr/>
            <p:nvPr/>
          </p:nvCxnSpPr>
          <p:spPr>
            <a:xfrm>
              <a:off x="4590720" y="1742760"/>
              <a:ext cx="1080" cy="1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grpSp>
          <p:nvGrpSpPr>
            <p:cNvPr id="2018" name="Group 53"/>
            <p:cNvGrpSpPr/>
            <p:nvPr/>
          </p:nvGrpSpPr>
          <p:grpSpPr>
            <a:xfrm>
              <a:off x="1908000" y="2108160"/>
              <a:ext cx="2536920" cy="3435480"/>
              <a:chOff x="1908000" y="2108160"/>
              <a:chExt cx="2536920" cy="3435480"/>
            </a:xfrm>
          </p:grpSpPr>
          <p:grpSp>
            <p:nvGrpSpPr>
              <p:cNvPr id="2019" name="Group 50"/>
              <p:cNvGrpSpPr/>
              <p:nvPr/>
            </p:nvGrpSpPr>
            <p:grpSpPr>
              <a:xfrm>
                <a:off x="2045520" y="3287880"/>
                <a:ext cx="2399400" cy="2255760"/>
                <a:chOff x="2045520" y="3287880"/>
                <a:chExt cx="2399400" cy="2255760"/>
              </a:xfrm>
            </p:grpSpPr>
            <p:sp>
              <p:nvSpPr>
                <p:cNvPr id="2020" name="TextBox 7"/>
                <p:cNvSpPr/>
                <p:nvPr/>
              </p:nvSpPr>
              <p:spPr>
                <a:xfrm>
                  <a:off x="3289680" y="4962240"/>
                  <a:ext cx="38340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000000"/>
                      </a:solidFill>
                      <a:latin typeface="Calibri"/>
                    </a:rPr>
                    <a:t>+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21" name="Group 19"/>
                <p:cNvGrpSpPr/>
                <p:nvPr/>
              </p:nvGrpSpPr>
              <p:grpSpPr>
                <a:xfrm>
                  <a:off x="2045520" y="3287880"/>
                  <a:ext cx="2399400" cy="1285200"/>
                  <a:chOff x="2045520" y="3287880"/>
                  <a:chExt cx="2399400" cy="1285200"/>
                </a:xfrm>
              </p:grpSpPr>
              <p:sp>
                <p:nvSpPr>
                  <p:cNvPr id="2022" name="TextBox 4"/>
                  <p:cNvSpPr/>
                  <p:nvPr/>
                </p:nvSpPr>
                <p:spPr>
                  <a:xfrm>
                    <a:off x="3094560" y="3362040"/>
                    <a:ext cx="3834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Calibri"/>
                      </a:rPr>
                      <a:t>+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3" name="TextBox 8"/>
                  <p:cNvSpPr/>
                  <p:nvPr/>
                </p:nvSpPr>
                <p:spPr>
                  <a:xfrm>
                    <a:off x="3922200" y="3374280"/>
                    <a:ext cx="383400" cy="5814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3200" spc="-1" strike="noStrike">
                        <a:solidFill>
                          <a:srgbClr val="000000"/>
                        </a:solidFill>
                        <a:latin typeface="Calibri"/>
                      </a:rPr>
                      <a:t>+</a:t>
                    </a:r>
                    <a:endParaRPr b="0" lang="en-US" sz="3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24" name="Group 18"/>
                  <p:cNvGrpSpPr/>
                  <p:nvPr/>
                </p:nvGrpSpPr>
                <p:grpSpPr>
                  <a:xfrm>
                    <a:off x="2045520" y="3287880"/>
                    <a:ext cx="2399400" cy="1285200"/>
                    <a:chOff x="2045520" y="3287880"/>
                    <a:chExt cx="2399400" cy="1285200"/>
                  </a:xfrm>
                </p:grpSpPr>
                <p:sp>
                  <p:nvSpPr>
                    <p:cNvPr id="2025" name="TextBox 5"/>
                    <p:cNvSpPr/>
                    <p:nvPr/>
                  </p:nvSpPr>
                  <p:spPr>
                    <a:xfrm>
                      <a:off x="3264480" y="3567600"/>
                      <a:ext cx="38340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6" name="TextBox 6"/>
                    <p:cNvSpPr/>
                    <p:nvPr/>
                  </p:nvSpPr>
                  <p:spPr>
                    <a:xfrm>
                      <a:off x="2045520" y="3991680"/>
                      <a:ext cx="38340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27" name="TextBox 9"/>
                    <p:cNvSpPr/>
                    <p:nvPr/>
                  </p:nvSpPr>
                  <p:spPr>
                    <a:xfrm>
                      <a:off x="4061520" y="3287880"/>
                      <a:ext cx="383400" cy="5814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028" name="Straight Connector 30"/>
              <p:cNvSpPr/>
              <p:nvPr/>
            </p:nvSpPr>
            <p:spPr>
              <a:xfrm>
                <a:off x="2431800" y="2552760"/>
                <a:ext cx="760320" cy="105264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Straight Connector 31"/>
              <p:cNvSpPr/>
              <p:nvPr/>
            </p:nvSpPr>
            <p:spPr>
              <a:xfrm>
                <a:off x="2549520" y="2378160"/>
                <a:ext cx="1563840" cy="1150920"/>
              </a:xfrm>
              <a:prstGeom prst="line">
                <a:avLst/>
              </a:prstGeom>
              <a:ln w="19080">
                <a:solidFill>
                  <a:srgbClr val="4a7ebb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TextBox 27"/>
              <p:cNvSpPr/>
              <p:nvPr/>
            </p:nvSpPr>
            <p:spPr>
              <a:xfrm>
                <a:off x="1908000" y="2108160"/>
                <a:ext cx="6591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A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alibri"/>
                  </a:rPr>
                  <a:t>Site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1" name="Group 73"/>
          <p:cNvGrpSpPr/>
          <p:nvPr/>
        </p:nvGrpSpPr>
        <p:grpSpPr>
          <a:xfrm>
            <a:off x="4932360" y="2490840"/>
            <a:ext cx="950760" cy="3103560"/>
            <a:chOff x="4932360" y="2490840"/>
            <a:chExt cx="950760" cy="3103560"/>
          </a:xfrm>
        </p:grpSpPr>
        <p:sp>
          <p:nvSpPr>
            <p:cNvPr id="2032" name="Freeform 66"/>
            <p:cNvSpPr/>
            <p:nvPr/>
          </p:nvSpPr>
          <p:spPr>
            <a:xfrm>
              <a:off x="5208480" y="2490840"/>
              <a:ext cx="674640" cy="631800"/>
            </a:xfrm>
            <a:custGeom>
              <a:avLst/>
              <a:gdLst/>
              <a:ahLst/>
              <a:rect l="l" t="t" r="r" b="b"/>
              <a:pathLst>
                <a:path w="674375" h="631912">
                  <a:moveTo>
                    <a:pt x="287382" y="0"/>
                  </a:moveTo>
                  <a:cubicBezTo>
                    <a:pt x="701039" y="101237"/>
                    <a:pt x="701039" y="326569"/>
                    <a:pt x="653142" y="431072"/>
                  </a:cubicBezTo>
                  <a:cubicBezTo>
                    <a:pt x="605245" y="535575"/>
                    <a:pt x="419643" y="658040"/>
                    <a:pt x="0" y="627016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  <a:headEnd len="med" type="triangle" w="med"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Freeform 67"/>
            <p:cNvSpPr/>
            <p:nvPr/>
          </p:nvSpPr>
          <p:spPr>
            <a:xfrm>
              <a:off x="4932360" y="3702240"/>
              <a:ext cx="674640" cy="631800"/>
            </a:xfrm>
            <a:custGeom>
              <a:avLst/>
              <a:gdLst/>
              <a:ahLst/>
              <a:rect l="l" t="t" r="r" b="b"/>
              <a:pathLst>
                <a:path w="674375" h="631912">
                  <a:moveTo>
                    <a:pt x="287382" y="0"/>
                  </a:moveTo>
                  <a:cubicBezTo>
                    <a:pt x="701039" y="101237"/>
                    <a:pt x="701039" y="326569"/>
                    <a:pt x="653142" y="431072"/>
                  </a:cubicBezTo>
                  <a:cubicBezTo>
                    <a:pt x="605245" y="535575"/>
                    <a:pt x="419643" y="658040"/>
                    <a:pt x="0" y="627016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  <a:headEnd len="med" type="triangle" w="med"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Freeform 68"/>
            <p:cNvSpPr/>
            <p:nvPr/>
          </p:nvSpPr>
          <p:spPr>
            <a:xfrm>
              <a:off x="4960800" y="4843440"/>
              <a:ext cx="725400" cy="750960"/>
            </a:xfrm>
            <a:custGeom>
              <a:avLst/>
              <a:gdLst/>
              <a:ahLst/>
              <a:rect l="l" t="t" r="r" b="b"/>
              <a:pathLst>
                <a:path w="725646" h="750162">
                  <a:moveTo>
                    <a:pt x="509450" y="0"/>
                  </a:moveTo>
                  <a:cubicBezTo>
                    <a:pt x="805542" y="375557"/>
                    <a:pt x="738050" y="424541"/>
                    <a:pt x="653142" y="548638"/>
                  </a:cubicBezTo>
                  <a:cubicBezTo>
                    <a:pt x="568234" y="672735"/>
                    <a:pt x="419643" y="775606"/>
                    <a:pt x="0" y="744582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  <a:headEnd len="med" type="triangle" w="med"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5" name="Freeform 69"/>
          <p:cNvSpPr/>
          <p:nvPr/>
        </p:nvSpPr>
        <p:spPr>
          <a:xfrm>
            <a:off x="3556080" y="3952800"/>
            <a:ext cx="587160" cy="679680"/>
          </a:xfrm>
          <a:custGeom>
            <a:avLst/>
            <a:gdLst/>
            <a:ahLst/>
            <a:rect l="l" t="t" r="r" b="b"/>
            <a:pathLst>
              <a:path w="586994" h="679268">
                <a:moveTo>
                  <a:pt x="0" y="0"/>
                </a:moveTo>
                <a:cubicBezTo>
                  <a:pt x="413657" y="101237"/>
                  <a:pt x="533400" y="174169"/>
                  <a:pt x="574766" y="287380"/>
                </a:cubicBezTo>
                <a:cubicBezTo>
                  <a:pt x="616132" y="400591"/>
                  <a:pt x="563335" y="514350"/>
                  <a:pt x="248195" y="679268"/>
                </a:cubicBezTo>
              </a:path>
            </a:pathLst>
          </a:custGeom>
          <a:noFill/>
          <a:ln w="50760">
            <a:solidFill>
              <a:srgbClr val="ffff00"/>
            </a:solidFill>
            <a:round/>
            <a:headEnd len="med" type="triangle" w="med"/>
            <a:tailEnd len="med" type="triangle" w="med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6" name="Group 76"/>
          <p:cNvGrpSpPr/>
          <p:nvPr/>
        </p:nvGrpSpPr>
        <p:grpSpPr>
          <a:xfrm>
            <a:off x="1455480" y="3567240"/>
            <a:ext cx="780840" cy="1709640"/>
            <a:chOff x="1455480" y="3567240"/>
            <a:chExt cx="780840" cy="1709640"/>
          </a:xfrm>
        </p:grpSpPr>
        <p:sp>
          <p:nvSpPr>
            <p:cNvPr id="2037" name="Freeform 70"/>
            <p:cNvSpPr/>
            <p:nvPr/>
          </p:nvSpPr>
          <p:spPr>
            <a:xfrm flipH="1">
              <a:off x="1455120" y="4597560"/>
              <a:ext cx="585720" cy="679320"/>
            </a:xfrm>
            <a:custGeom>
              <a:avLst/>
              <a:gdLst/>
              <a:ahLst/>
              <a:rect l="l" t="t" r="r" b="b"/>
              <a:pathLst>
                <a:path w="586994" h="679268">
                  <a:moveTo>
                    <a:pt x="0" y="0"/>
                  </a:moveTo>
                  <a:cubicBezTo>
                    <a:pt x="413657" y="101237"/>
                    <a:pt x="533400" y="174169"/>
                    <a:pt x="574766" y="287380"/>
                  </a:cubicBezTo>
                  <a:cubicBezTo>
                    <a:pt x="616132" y="400591"/>
                    <a:pt x="563335" y="514350"/>
                    <a:pt x="248195" y="679268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  <a:headEnd len="med" type="triangle" w="med"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Freeform 71"/>
            <p:cNvSpPr/>
            <p:nvPr/>
          </p:nvSpPr>
          <p:spPr>
            <a:xfrm flipH="1">
              <a:off x="1650240" y="3567240"/>
              <a:ext cx="585720" cy="679320"/>
            </a:xfrm>
            <a:custGeom>
              <a:avLst/>
              <a:gdLst/>
              <a:ahLst/>
              <a:rect l="l" t="t" r="r" b="b"/>
              <a:pathLst>
                <a:path w="586994" h="679268">
                  <a:moveTo>
                    <a:pt x="0" y="0"/>
                  </a:moveTo>
                  <a:cubicBezTo>
                    <a:pt x="413657" y="101237"/>
                    <a:pt x="533400" y="174169"/>
                    <a:pt x="574766" y="287380"/>
                  </a:cubicBezTo>
                  <a:cubicBezTo>
                    <a:pt x="616132" y="400591"/>
                    <a:pt x="563335" y="514350"/>
                    <a:pt x="248195" y="679268"/>
                  </a:cubicBezTo>
                </a:path>
              </a:pathLst>
            </a:custGeom>
            <a:noFill/>
            <a:ln w="50760">
              <a:solidFill>
                <a:srgbClr val="ffff00"/>
              </a:solidFill>
              <a:round/>
              <a:headEnd len="med" type="arrow" w="med"/>
              <a:tailEnd len="med" type="arrow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9" name="Freeform 72"/>
          <p:cNvSpPr/>
          <p:nvPr/>
        </p:nvSpPr>
        <p:spPr>
          <a:xfrm flipH="1">
            <a:off x="771480" y="5156280"/>
            <a:ext cx="587520" cy="679320"/>
          </a:xfrm>
          <a:custGeom>
            <a:avLst/>
            <a:gdLst/>
            <a:ahLst/>
            <a:rect l="l" t="t" r="r" b="b"/>
            <a:pathLst>
              <a:path w="586994" h="679268">
                <a:moveTo>
                  <a:pt x="0" y="0"/>
                </a:moveTo>
                <a:cubicBezTo>
                  <a:pt x="413657" y="101237"/>
                  <a:pt x="533400" y="174169"/>
                  <a:pt x="574766" y="287380"/>
                </a:cubicBezTo>
                <a:cubicBezTo>
                  <a:pt x="616132" y="400591"/>
                  <a:pt x="563335" y="514350"/>
                  <a:pt x="248195" y="679268"/>
                </a:cubicBezTo>
              </a:path>
            </a:pathLst>
          </a:custGeom>
          <a:noFill/>
          <a:ln w="50760">
            <a:solidFill>
              <a:srgbClr val="ffff00"/>
            </a:solidFill>
            <a:round/>
            <a:headEnd len="med" type="arrow" w="med"/>
            <a:tailEnd len="med" type="arrow" w="med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0" name="Group 80"/>
          <p:cNvGrpSpPr/>
          <p:nvPr/>
        </p:nvGrpSpPr>
        <p:grpSpPr>
          <a:xfrm>
            <a:off x="3498120" y="1967760"/>
            <a:ext cx="5112360" cy="3350160"/>
            <a:chOff x="3498120" y="1967760"/>
            <a:chExt cx="5112360" cy="3350160"/>
          </a:xfrm>
        </p:grpSpPr>
        <p:sp>
          <p:nvSpPr>
            <p:cNvPr id="2041" name="Freeform 78"/>
            <p:cNvSpPr/>
            <p:nvPr/>
          </p:nvSpPr>
          <p:spPr>
            <a:xfrm rot="19320000">
              <a:off x="3644640" y="2076120"/>
              <a:ext cx="587160" cy="679320"/>
            </a:xfrm>
            <a:custGeom>
              <a:avLst/>
              <a:gdLst/>
              <a:ahLst/>
              <a:rect l="l" t="t" r="r" b="b"/>
              <a:pathLst>
                <a:path w="586994" h="679268">
                  <a:moveTo>
                    <a:pt x="0" y="0"/>
                  </a:moveTo>
                  <a:cubicBezTo>
                    <a:pt x="413657" y="101237"/>
                    <a:pt x="533400" y="174169"/>
                    <a:pt x="574766" y="287380"/>
                  </a:cubicBezTo>
                  <a:cubicBezTo>
                    <a:pt x="616132" y="400591"/>
                    <a:pt x="563335" y="514350"/>
                    <a:pt x="248195" y="679268"/>
                  </a:cubicBezTo>
                </a:path>
              </a:pathLst>
            </a:custGeom>
            <a:noFill/>
            <a:ln w="63360">
              <a:solidFill>
                <a:srgbClr val="ffc000"/>
              </a:solidFill>
              <a:round/>
              <a:headEnd len="med" type="triangle" w="med"/>
              <a:tailEnd len="med" type="triangle" w="med"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TextBox 79"/>
            <p:cNvSpPr/>
            <p:nvPr/>
          </p:nvSpPr>
          <p:spPr>
            <a:xfrm>
              <a:off x="6172200" y="46753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e46c0a"/>
                </a:buClr>
                <a:buFont typeface="Calibri"/>
                <a:buAutoNum type="arabicPeriod" startAt="6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46c0a"/>
                  </a:solidFill>
                  <a:latin typeface="Calibri"/>
                </a:rPr>
                <a:t>Country to coun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e46c0a"/>
                  </a:solidFill>
                  <a:latin typeface="Calibri"/>
                </a:rPr>
                <a:t>      </a:t>
              </a:r>
              <a:r>
                <a:rPr b="1" lang="en-US" sz="1800" spc="-1" strike="noStrike">
                  <a:solidFill>
                    <a:srgbClr val="e46c0a"/>
                  </a:solidFill>
                  <a:latin typeface="Calibri"/>
                </a:rPr>
                <a:t>barriers to spillo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3" name="TextBox 81"/>
          <p:cNvSpPr/>
          <p:nvPr/>
        </p:nvSpPr>
        <p:spPr>
          <a:xfrm>
            <a:off x="338400" y="282600"/>
            <a:ext cx="541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I Monitoring and Reporting Sc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4" name="Group 83"/>
          <p:cNvGrpSpPr/>
          <p:nvPr/>
        </p:nvGrpSpPr>
        <p:grpSpPr>
          <a:xfrm>
            <a:off x="5529240" y="287280"/>
            <a:ext cx="3538440" cy="4443480"/>
            <a:chOff x="5529240" y="287280"/>
            <a:chExt cx="3538440" cy="4443480"/>
          </a:xfrm>
        </p:grpSpPr>
        <p:grpSp>
          <p:nvGrpSpPr>
            <p:cNvPr id="2045" name="Group 77"/>
            <p:cNvGrpSpPr/>
            <p:nvPr/>
          </p:nvGrpSpPr>
          <p:grpSpPr>
            <a:xfrm>
              <a:off x="6019200" y="1742760"/>
              <a:ext cx="3048480" cy="2988000"/>
              <a:chOff x="6019200" y="1742760"/>
              <a:chExt cx="3048480" cy="2988000"/>
            </a:xfrm>
          </p:grpSpPr>
          <p:sp>
            <p:nvSpPr>
              <p:cNvPr id="2046" name="TextBox 74"/>
              <p:cNvSpPr/>
              <p:nvPr/>
            </p:nvSpPr>
            <p:spPr>
              <a:xfrm>
                <a:off x="6019200" y="1742760"/>
                <a:ext cx="2896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Fostering Spillover by Desig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7" name="TextBox 75"/>
              <p:cNvSpPr/>
              <p:nvPr/>
            </p:nvSpPr>
            <p:spPr>
              <a:xfrm>
                <a:off x="6171480" y="2167920"/>
                <a:ext cx="2896200" cy="256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Implementation sites to local sub-syste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Implementation to non-implementation sub-syste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Sub-systems to (sub-) syste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Systems to system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Sites to sit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8" name="TextBox 82"/>
            <p:cNvSpPr/>
            <p:nvPr/>
          </p:nvSpPr>
          <p:spPr>
            <a:xfrm>
              <a:off x="5529240" y="287280"/>
              <a:ext cx="279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Calibri"/>
                </a:rPr>
                <a:t>&amp; Spillover Need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valuation Approach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0" name=""/>
          <p:cNvSpPr txBox="1"/>
          <p:nvPr/>
        </p:nvSpPr>
        <p:spPr>
          <a:xfrm>
            <a:off x="380520" y="121932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lineation and characterization (typologies?) of target farming systems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Relies on the fusion of spatially-explicit agricultural production, environmental, and farm/household data, and a conceptual model of impact pathways/goa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Maintain Technology/Intervention Inventory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characterized inventory of the nature of the individual and integrated farming system components whose adoption and impacts is being evaluated. Includes characterization of spillover potent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cursive Modeling of Projected Change (with and w/o interventions)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.g., productivity and income change, land, labour (sex differentiated) and water 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ttribution assessment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itional to the ability to measure and model change in indicators is the need (with additional information/assumptions) to assess attribution of changes to an agreed level of specific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1" name="Group 71"/>
          <p:cNvGrpSpPr/>
          <p:nvPr/>
        </p:nvGrpSpPr>
        <p:grpSpPr>
          <a:xfrm>
            <a:off x="492840" y="4594320"/>
            <a:ext cx="7230960" cy="2165400"/>
            <a:chOff x="492840" y="4594320"/>
            <a:chExt cx="7230960" cy="2165400"/>
          </a:xfrm>
        </p:grpSpPr>
        <p:grpSp>
          <p:nvGrpSpPr>
            <p:cNvPr id="2052" name="Group 63"/>
            <p:cNvGrpSpPr/>
            <p:nvPr/>
          </p:nvGrpSpPr>
          <p:grpSpPr>
            <a:xfrm>
              <a:off x="833760" y="4594320"/>
              <a:ext cx="6814440" cy="2143800"/>
              <a:chOff x="833760" y="4594320"/>
              <a:chExt cx="6814440" cy="2143800"/>
            </a:xfrm>
          </p:grpSpPr>
          <p:grpSp>
            <p:nvGrpSpPr>
              <p:cNvPr id="2053" name="Group 57"/>
              <p:cNvGrpSpPr/>
              <p:nvPr/>
            </p:nvGrpSpPr>
            <p:grpSpPr>
              <a:xfrm>
                <a:off x="833760" y="4594320"/>
                <a:ext cx="6814440" cy="2143800"/>
                <a:chOff x="833760" y="4594320"/>
                <a:chExt cx="6814440" cy="2143800"/>
              </a:xfrm>
            </p:grpSpPr>
            <p:grpSp>
              <p:nvGrpSpPr>
                <p:cNvPr id="2054" name="Group 43"/>
                <p:cNvGrpSpPr/>
                <p:nvPr/>
              </p:nvGrpSpPr>
              <p:grpSpPr>
                <a:xfrm>
                  <a:off x="1612440" y="4877280"/>
                  <a:ext cx="6035760" cy="1434960"/>
                  <a:chOff x="1612440" y="4877280"/>
                  <a:chExt cx="6035760" cy="1434960"/>
                </a:xfrm>
              </p:grpSpPr>
              <p:sp>
                <p:nvSpPr>
                  <p:cNvPr id="2055" name="Freeform 33"/>
                  <p:cNvSpPr/>
                  <p:nvPr/>
                </p:nvSpPr>
                <p:spPr>
                  <a:xfrm>
                    <a:off x="1652040" y="4958280"/>
                    <a:ext cx="5794560" cy="1317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95682" h="1317812">
                        <a:moveTo>
                          <a:pt x="0" y="1317812"/>
                        </a:moveTo>
                        <a:cubicBezTo>
                          <a:pt x="254373" y="1285315"/>
                          <a:pt x="580593" y="1141784"/>
                          <a:pt x="817581" y="1025435"/>
                        </a:cubicBezTo>
                        <a:cubicBezTo>
                          <a:pt x="1054569" y="909086"/>
                          <a:pt x="1198072" y="731868"/>
                          <a:pt x="1421930" y="619717"/>
                        </a:cubicBezTo>
                        <a:cubicBezTo>
                          <a:pt x="1645788" y="507566"/>
                          <a:pt x="1919610" y="404673"/>
                          <a:pt x="2160728" y="352531"/>
                        </a:cubicBezTo>
                        <a:cubicBezTo>
                          <a:pt x="2401846" y="300389"/>
                          <a:pt x="2594590" y="348455"/>
                          <a:pt x="2868637" y="306868"/>
                        </a:cubicBezTo>
                        <a:cubicBezTo>
                          <a:pt x="3142684" y="265281"/>
                          <a:pt x="3317168" y="154154"/>
                          <a:pt x="3805009" y="103009"/>
                        </a:cubicBezTo>
                        <a:cubicBezTo>
                          <a:pt x="4292850" y="51864"/>
                          <a:pt x="5132124" y="34336"/>
                          <a:pt x="5795682" y="0"/>
                        </a:cubicBezTo>
                      </a:path>
                    </a:pathLst>
                  </a:custGeom>
                  <a:solidFill>
                    <a:srgbClr val="ffff00"/>
                  </a:solidFill>
                  <a:ln w="25560">
                    <a:solidFill>
                      <a:srgbClr val="385d8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6" name="Straight Connector 34"/>
                  <p:cNvSpPr/>
                  <p:nvPr/>
                </p:nvSpPr>
                <p:spPr>
                  <a:xfrm>
                    <a:off x="5456520" y="5061600"/>
                    <a:ext cx="1990080" cy="123336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7" name="Isosceles Triangle 35"/>
                  <p:cNvSpPr/>
                  <p:nvPr/>
                </p:nvSpPr>
                <p:spPr>
                  <a:xfrm>
                    <a:off x="1612440" y="4988520"/>
                    <a:ext cx="5727960" cy="1317600"/>
                  </a:xfrm>
                  <a:prstGeom prst="triangle">
                    <a:avLst>
                      <a:gd name="adj" fmla="val 100000"/>
                    </a:avLst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8" name="Rectangle 36"/>
                  <p:cNvSpPr/>
                  <p:nvPr/>
                </p:nvSpPr>
                <p:spPr>
                  <a:xfrm>
                    <a:off x="4724640" y="4877280"/>
                    <a:ext cx="2923560" cy="14349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9" name="Freeform 37"/>
                  <p:cNvSpPr/>
                  <p:nvPr/>
                </p:nvSpPr>
                <p:spPr>
                  <a:xfrm>
                    <a:off x="4712040" y="5123520"/>
                    <a:ext cx="2672640" cy="10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673658" h="108777">
                        <a:moveTo>
                          <a:pt x="0" y="107240"/>
                        </a:moveTo>
                        <a:cubicBezTo>
                          <a:pt x="297410" y="63706"/>
                          <a:pt x="688771" y="14516"/>
                          <a:pt x="996494" y="2780"/>
                        </a:cubicBezTo>
                        <a:cubicBezTo>
                          <a:pt x="1304217" y="-8956"/>
                          <a:pt x="1566811" y="19155"/>
                          <a:pt x="1846338" y="36821"/>
                        </a:cubicBezTo>
                        <a:lnTo>
                          <a:pt x="2673658" y="108777"/>
                        </a:ln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0" name="Straight Connector 38"/>
                  <p:cNvSpPr/>
                  <p:nvPr/>
                </p:nvSpPr>
                <p:spPr>
                  <a:xfrm>
                    <a:off x="1652040" y="6304320"/>
                    <a:ext cx="5794560" cy="0"/>
                  </a:xfrm>
                  <a:prstGeom prst="line">
                    <a:avLst/>
                  </a:prstGeom>
                  <a:ln w="2232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61" name="Straight Connector 47"/>
                <p:cNvSpPr/>
                <p:nvPr/>
              </p:nvSpPr>
              <p:spPr>
                <a:xfrm>
                  <a:off x="833760" y="6314400"/>
                  <a:ext cx="2895480" cy="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2" name="TextBox 52"/>
                <p:cNvSpPr/>
                <p:nvPr/>
              </p:nvSpPr>
              <p:spPr>
                <a:xfrm>
                  <a:off x="4419000" y="6369840"/>
                  <a:ext cx="644040" cy="368280"/>
                </a:xfrm>
                <a:prstGeom prst="rect">
                  <a:avLst/>
                </a:prstGeom>
                <a:solidFill>
                  <a:srgbClr val="ebf1de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201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3" name="Straight Connector 55"/>
                <p:cNvSpPr/>
                <p:nvPr/>
              </p:nvSpPr>
              <p:spPr>
                <a:xfrm>
                  <a:off x="851040" y="4594320"/>
                  <a:ext cx="4680" cy="174564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4" name="Straight Connector 62"/>
              <p:cNvSpPr/>
              <p:nvPr/>
            </p:nvSpPr>
            <p:spPr>
              <a:xfrm>
                <a:off x="4741920" y="5005440"/>
                <a:ext cx="0" cy="12877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5" name="TextBox 66"/>
            <p:cNvSpPr/>
            <p:nvPr/>
          </p:nvSpPr>
          <p:spPr>
            <a:xfrm>
              <a:off x="7079760" y="639144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TextBox 68"/>
            <p:cNvSpPr/>
            <p:nvPr/>
          </p:nvSpPr>
          <p:spPr>
            <a:xfrm>
              <a:off x="492840" y="639144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7" name="Group 69"/>
          <p:cNvGrpSpPr/>
          <p:nvPr/>
        </p:nvGrpSpPr>
        <p:grpSpPr>
          <a:xfrm>
            <a:off x="542160" y="1036800"/>
            <a:ext cx="7181640" cy="2254320"/>
            <a:chOff x="542160" y="1036800"/>
            <a:chExt cx="7181640" cy="2254320"/>
          </a:xfrm>
        </p:grpSpPr>
        <p:grpSp>
          <p:nvGrpSpPr>
            <p:cNvPr id="2068" name="Group 39"/>
            <p:cNvGrpSpPr/>
            <p:nvPr/>
          </p:nvGrpSpPr>
          <p:grpSpPr>
            <a:xfrm>
              <a:off x="1626840" y="1353960"/>
              <a:ext cx="6036480" cy="1434240"/>
              <a:chOff x="1626840" y="1353960"/>
              <a:chExt cx="6036480" cy="1434240"/>
            </a:xfrm>
          </p:grpSpPr>
          <p:sp>
            <p:nvSpPr>
              <p:cNvPr id="2069" name="Freeform 3"/>
              <p:cNvSpPr/>
              <p:nvPr/>
            </p:nvSpPr>
            <p:spPr>
              <a:xfrm>
                <a:off x="1666440" y="1434960"/>
                <a:ext cx="5795280" cy="1316880"/>
              </a:xfrm>
              <a:custGeom>
                <a:avLst/>
                <a:gdLst/>
                <a:ahLst/>
                <a:rect l="l" t="t" r="r" b="b"/>
                <a:pathLst>
                  <a:path w="5795682" h="1317812">
                    <a:moveTo>
                      <a:pt x="0" y="1317812"/>
                    </a:moveTo>
                    <a:cubicBezTo>
                      <a:pt x="254373" y="1285315"/>
                      <a:pt x="443433" y="1252818"/>
                      <a:pt x="660827" y="1143000"/>
                    </a:cubicBezTo>
                    <a:cubicBezTo>
                      <a:pt x="878221" y="1033182"/>
                      <a:pt x="1015192" y="797182"/>
                      <a:pt x="1304364" y="658906"/>
                    </a:cubicBezTo>
                    <a:cubicBezTo>
                      <a:pt x="1593536" y="520630"/>
                      <a:pt x="1979086" y="405991"/>
                      <a:pt x="2395860" y="313342"/>
                    </a:cubicBezTo>
                    <a:cubicBezTo>
                      <a:pt x="2812634" y="220693"/>
                      <a:pt x="3238372" y="155233"/>
                      <a:pt x="3805009" y="103009"/>
                    </a:cubicBezTo>
                    <a:cubicBezTo>
                      <a:pt x="4371646" y="50785"/>
                      <a:pt x="5132124" y="34336"/>
                      <a:pt x="5795682" y="0"/>
                    </a:cubicBezTo>
                  </a:path>
                </a:pathLst>
              </a:custGeom>
              <a:solidFill>
                <a:srgbClr val="ffff00"/>
              </a:solidFill>
              <a:ln w="25560">
                <a:solidFill>
                  <a:srgbClr val="385d8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Straight Connector 9"/>
              <p:cNvSpPr/>
              <p:nvPr/>
            </p:nvSpPr>
            <p:spPr>
              <a:xfrm>
                <a:off x="7461720" y="1434960"/>
                <a:ext cx="0" cy="13359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Isosceles Triangle 10"/>
              <p:cNvSpPr/>
              <p:nvPr/>
            </p:nvSpPr>
            <p:spPr>
              <a:xfrm>
                <a:off x="1626840" y="1464840"/>
                <a:ext cx="5728680" cy="1316880"/>
              </a:xfrm>
              <a:prstGeom prst="triangle">
                <a:avLst>
                  <a:gd name="adj" fmla="val 100000"/>
                </a:avLst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Rectangle 25"/>
              <p:cNvSpPr/>
              <p:nvPr/>
            </p:nvSpPr>
            <p:spPr>
              <a:xfrm>
                <a:off x="3395520" y="1353960"/>
                <a:ext cx="4267800" cy="1434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Freeform 20"/>
              <p:cNvSpPr/>
              <p:nvPr/>
            </p:nvSpPr>
            <p:spPr>
              <a:xfrm>
                <a:off x="3381120" y="1434960"/>
                <a:ext cx="4031280" cy="493920"/>
              </a:xfrm>
              <a:custGeom>
                <a:avLst/>
                <a:gdLst/>
                <a:ahLst/>
                <a:rect l="l" t="t" r="r" b="b"/>
                <a:pathLst>
                  <a:path w="4032196" h="494852">
                    <a:moveTo>
                      <a:pt x="0" y="494852"/>
                    </a:moveTo>
                    <a:cubicBezTo>
                      <a:pt x="31536" y="477483"/>
                      <a:pt x="354169" y="388491"/>
                      <a:pt x="386506" y="372291"/>
                    </a:cubicBezTo>
                    <a:cubicBezTo>
                      <a:pt x="418843" y="356091"/>
                      <a:pt x="153042" y="407475"/>
                      <a:pt x="194020" y="397650"/>
                    </a:cubicBezTo>
                    <a:cubicBezTo>
                      <a:pt x="234998" y="387825"/>
                      <a:pt x="324457" y="362449"/>
                      <a:pt x="632374" y="313342"/>
                    </a:cubicBezTo>
                    <a:cubicBezTo>
                      <a:pt x="940291" y="264235"/>
                      <a:pt x="1474886" y="155233"/>
                      <a:pt x="2041523" y="103009"/>
                    </a:cubicBezTo>
                    <a:cubicBezTo>
                      <a:pt x="2608160" y="50785"/>
                      <a:pt x="3368638" y="34336"/>
                      <a:pt x="4032196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Straight Connector 26"/>
              <p:cNvSpPr/>
              <p:nvPr/>
            </p:nvSpPr>
            <p:spPr>
              <a:xfrm>
                <a:off x="1666440" y="2780280"/>
                <a:ext cx="5795280" cy="0"/>
              </a:xfrm>
              <a:prstGeom prst="line">
                <a:avLst/>
              </a:prstGeom>
              <a:ln w="2232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75" name="Straight Connector 41"/>
            <p:cNvSpPr/>
            <p:nvPr/>
          </p:nvSpPr>
          <p:spPr>
            <a:xfrm>
              <a:off x="833400" y="1036800"/>
              <a:ext cx="4680" cy="1746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Straight Connector 45"/>
            <p:cNvSpPr/>
            <p:nvPr/>
          </p:nvSpPr>
          <p:spPr>
            <a:xfrm>
              <a:off x="838080" y="2789280"/>
              <a:ext cx="28954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TextBox 48"/>
            <p:cNvSpPr/>
            <p:nvPr/>
          </p:nvSpPr>
          <p:spPr>
            <a:xfrm>
              <a:off x="542160" y="289584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TextBox 49"/>
            <p:cNvSpPr/>
            <p:nvPr/>
          </p:nvSpPr>
          <p:spPr>
            <a:xfrm>
              <a:off x="3085200" y="292284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1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Straight Connector 59"/>
            <p:cNvSpPr/>
            <p:nvPr/>
          </p:nvSpPr>
          <p:spPr>
            <a:xfrm>
              <a:off x="3378240" y="1465200"/>
              <a:ext cx="0" cy="1287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TextBox 64"/>
            <p:cNvSpPr/>
            <p:nvPr/>
          </p:nvSpPr>
          <p:spPr>
            <a:xfrm>
              <a:off x="7079760" y="290232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1" name="Group 70"/>
          <p:cNvGrpSpPr/>
          <p:nvPr/>
        </p:nvGrpSpPr>
        <p:grpSpPr>
          <a:xfrm>
            <a:off x="511920" y="2814480"/>
            <a:ext cx="7211880" cy="2246760"/>
            <a:chOff x="511920" y="2814480"/>
            <a:chExt cx="7211880" cy="2246760"/>
          </a:xfrm>
        </p:grpSpPr>
        <p:grpSp>
          <p:nvGrpSpPr>
            <p:cNvPr id="2082" name="Group 61"/>
            <p:cNvGrpSpPr/>
            <p:nvPr/>
          </p:nvGrpSpPr>
          <p:grpSpPr>
            <a:xfrm>
              <a:off x="834120" y="2814480"/>
              <a:ext cx="6821640" cy="2245320"/>
              <a:chOff x="834120" y="2814480"/>
              <a:chExt cx="6821640" cy="2245320"/>
            </a:xfrm>
          </p:grpSpPr>
          <p:grpSp>
            <p:nvGrpSpPr>
              <p:cNvPr id="2083" name="Group 56"/>
              <p:cNvGrpSpPr/>
              <p:nvPr/>
            </p:nvGrpSpPr>
            <p:grpSpPr>
              <a:xfrm>
                <a:off x="834120" y="2814480"/>
                <a:ext cx="6821640" cy="2245320"/>
                <a:chOff x="834120" y="2814480"/>
                <a:chExt cx="6821640" cy="2245320"/>
              </a:xfrm>
            </p:grpSpPr>
            <p:sp>
              <p:nvSpPr>
                <p:cNvPr id="2084" name="Straight Connector 54"/>
                <p:cNvSpPr/>
                <p:nvPr/>
              </p:nvSpPr>
              <p:spPr>
                <a:xfrm>
                  <a:off x="842040" y="2814480"/>
                  <a:ext cx="4680" cy="174672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85" name="Group 42"/>
                <p:cNvGrpSpPr/>
                <p:nvPr/>
              </p:nvGrpSpPr>
              <p:grpSpPr>
                <a:xfrm>
                  <a:off x="1619280" y="3154320"/>
                  <a:ext cx="6036480" cy="1435680"/>
                  <a:chOff x="1619280" y="3154320"/>
                  <a:chExt cx="6036480" cy="1435680"/>
                </a:xfrm>
              </p:grpSpPr>
              <p:sp>
                <p:nvSpPr>
                  <p:cNvPr id="2086" name="Freeform 27"/>
                  <p:cNvSpPr/>
                  <p:nvPr/>
                </p:nvSpPr>
                <p:spPr>
                  <a:xfrm>
                    <a:off x="1658880" y="3235320"/>
                    <a:ext cx="5795280" cy="1318320"/>
                  </a:xfrm>
                  <a:custGeom>
                    <a:avLst/>
                    <a:gdLst/>
                    <a:ahLst/>
                    <a:rect l="l" t="t" r="r" b="b"/>
                    <a:pathLst>
                      <a:path w="5795682" h="1317812">
                        <a:moveTo>
                          <a:pt x="0" y="1317812"/>
                        </a:moveTo>
                        <a:cubicBezTo>
                          <a:pt x="254373" y="1285315"/>
                          <a:pt x="421662" y="1235400"/>
                          <a:pt x="660827" y="1143000"/>
                        </a:cubicBezTo>
                        <a:cubicBezTo>
                          <a:pt x="899992" y="1050600"/>
                          <a:pt x="1145821" y="901685"/>
                          <a:pt x="1434993" y="763409"/>
                        </a:cubicBezTo>
                        <a:cubicBezTo>
                          <a:pt x="1724165" y="625133"/>
                          <a:pt x="2000857" y="423409"/>
                          <a:pt x="2395860" y="313342"/>
                        </a:cubicBezTo>
                        <a:cubicBezTo>
                          <a:pt x="2790863" y="203275"/>
                          <a:pt x="3238372" y="155233"/>
                          <a:pt x="3805009" y="103009"/>
                        </a:cubicBezTo>
                        <a:cubicBezTo>
                          <a:pt x="4371646" y="50785"/>
                          <a:pt x="5132124" y="34336"/>
                          <a:pt x="5795682" y="0"/>
                        </a:cubicBezTo>
                      </a:path>
                    </a:pathLst>
                  </a:custGeom>
                  <a:solidFill>
                    <a:srgbClr val="ffff00"/>
                  </a:solidFill>
                  <a:ln w="25560">
                    <a:solidFill>
                      <a:srgbClr val="385d8a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7" name="Straight Connector 28"/>
                  <p:cNvSpPr/>
                  <p:nvPr/>
                </p:nvSpPr>
                <p:spPr>
                  <a:xfrm>
                    <a:off x="7454160" y="3235320"/>
                    <a:ext cx="0" cy="1337400"/>
                  </a:xfrm>
                  <a:prstGeom prst="line">
                    <a:avLst/>
                  </a:prstGeom>
                  <a:ln w="936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8" name="Isosceles Triangle 29"/>
                  <p:cNvSpPr/>
                  <p:nvPr/>
                </p:nvSpPr>
                <p:spPr>
                  <a:xfrm>
                    <a:off x="1619280" y="3265200"/>
                    <a:ext cx="5728680" cy="1318320"/>
                  </a:xfrm>
                  <a:prstGeom prst="triangle">
                    <a:avLst>
                      <a:gd name="adj" fmla="val 100000"/>
                    </a:avLst>
                  </a:pr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9" name="Rectangle 30"/>
                  <p:cNvSpPr/>
                  <p:nvPr/>
                </p:nvSpPr>
                <p:spPr>
                  <a:xfrm>
                    <a:off x="3936240" y="3154320"/>
                    <a:ext cx="3719520" cy="143568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0" name="Freeform 31"/>
                  <p:cNvSpPr/>
                  <p:nvPr/>
                </p:nvSpPr>
                <p:spPr>
                  <a:xfrm>
                    <a:off x="3987000" y="3235320"/>
                    <a:ext cx="3660840" cy="311040"/>
                  </a:xfrm>
                  <a:custGeom>
                    <a:avLst/>
                    <a:gdLst/>
                    <a:ahLst/>
                    <a:rect l="l" t="t" r="r" b="b"/>
                    <a:pathLst>
                      <a:path w="3418241" h="311972">
                        <a:moveTo>
                          <a:pt x="0" y="311972"/>
                        </a:moveTo>
                        <a:cubicBezTo>
                          <a:pt x="40421" y="291722"/>
                          <a:pt x="321852" y="236534"/>
                          <a:pt x="559780" y="201707"/>
                        </a:cubicBezTo>
                        <a:cubicBezTo>
                          <a:pt x="797708" y="166880"/>
                          <a:pt x="951158" y="136627"/>
                          <a:pt x="1427568" y="103009"/>
                        </a:cubicBezTo>
                        <a:cubicBezTo>
                          <a:pt x="1903978" y="69391"/>
                          <a:pt x="2754683" y="34336"/>
                          <a:pt x="3418241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ff00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1" name="Straight Connector 32"/>
                  <p:cNvSpPr/>
                  <p:nvPr/>
                </p:nvSpPr>
                <p:spPr>
                  <a:xfrm>
                    <a:off x="1658880" y="4582080"/>
                    <a:ext cx="5795280" cy="0"/>
                  </a:xfrm>
                  <a:prstGeom prst="line">
                    <a:avLst/>
                  </a:prstGeom>
                  <a:ln w="22320">
                    <a:solidFill>
                      <a:srgbClr val="4a7ebb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092" name="Straight Connector 46"/>
                <p:cNvSpPr/>
                <p:nvPr/>
              </p:nvSpPr>
              <p:spPr>
                <a:xfrm>
                  <a:off x="834120" y="4589640"/>
                  <a:ext cx="2894400" cy="0"/>
                </a:xfrm>
                <a:prstGeom prst="line">
                  <a:avLst/>
                </a:prstGeom>
                <a:ln w="9360">
                  <a:solidFill>
                    <a:srgbClr val="4a7eb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3" name="TextBox 51"/>
                <p:cNvSpPr/>
                <p:nvPr/>
              </p:nvSpPr>
              <p:spPr>
                <a:xfrm>
                  <a:off x="3564360" y="4691520"/>
                  <a:ext cx="644040" cy="368280"/>
                </a:xfrm>
                <a:prstGeom prst="rect">
                  <a:avLst/>
                </a:prstGeom>
                <a:solidFill>
                  <a:srgbClr val="ebf1de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2014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4" name="Straight Connector 60"/>
              <p:cNvSpPr/>
              <p:nvPr/>
            </p:nvSpPr>
            <p:spPr>
              <a:xfrm>
                <a:off x="3949560" y="3292200"/>
                <a:ext cx="0" cy="1289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5" name="TextBox 67"/>
            <p:cNvSpPr/>
            <p:nvPr/>
          </p:nvSpPr>
          <p:spPr>
            <a:xfrm>
              <a:off x="511920" y="468324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TextBox 65"/>
            <p:cNvSpPr/>
            <p:nvPr/>
          </p:nvSpPr>
          <p:spPr>
            <a:xfrm>
              <a:off x="7079760" y="4692960"/>
              <a:ext cx="644040" cy="368280"/>
            </a:xfrm>
            <a:prstGeom prst="rect">
              <a:avLst/>
            </a:prstGeom>
            <a:solidFill>
              <a:srgbClr val="ebf1d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03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7" name="TextBox 72"/>
          <p:cNvSpPr/>
          <p:nvPr/>
        </p:nvSpPr>
        <p:spPr>
          <a:xfrm>
            <a:off x="1102680" y="343080"/>
            <a:ext cx="734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nual Evaluation of Past and Projected Impa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TextBox 73"/>
          <p:cNvSpPr/>
          <p:nvPr/>
        </p:nvSpPr>
        <p:spPr>
          <a:xfrm>
            <a:off x="838080" y="1036800"/>
            <a:ext cx="17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crease in productivity or reven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v. Daily Temperature</a:t>
            </a:r>
            <a:br>
              <a:rPr sz="44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mean 1960-200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0" name="Content Placeholder 8" descr="temperature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01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02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03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04" name="Straight Connector 6"/>
              <p:cNvCxnSpPr>
                <a:stCxn id="2103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05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6" name="TextBox 9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TextBox 10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TextBox 2"/>
          <p:cNvSpPr/>
          <p:nvPr/>
        </p:nvSpPr>
        <p:spPr>
          <a:xfrm>
            <a:off x="321840" y="647712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ldClim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ainfall</a:t>
            </a:r>
            <a:br>
              <a:rPr sz="44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(mean 1960-2000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0" name="Content Placeholder 8" descr="prep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11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12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13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14" name="Straight Connector 6"/>
              <p:cNvCxnSpPr>
                <a:stCxn id="2113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15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6" name="TextBox 9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TextBox 10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TextBox 11"/>
          <p:cNvSpPr/>
          <p:nvPr/>
        </p:nvSpPr>
        <p:spPr>
          <a:xfrm>
            <a:off x="321840" y="6477120"/>
            <a:ext cx="16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orldClim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DVI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mean 2001-2010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0" name="Content Placeholder 8" descr="NDVI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21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22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23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24" name="Straight Connector 6"/>
              <p:cNvCxnSpPr>
                <a:stCxn id="2123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25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6" name="TextBox 9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TextBox 10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DVI Vari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9" name="Content Placeholder 8" descr="NDVI_std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30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31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32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33" name="Straight Connector 6"/>
              <p:cNvCxnSpPr>
                <a:stCxn id="2132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34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5" name="TextBox 9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TextBox 10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pulation Density (200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8" name="Content Placeholder 8" descr="popden_africover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39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40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41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42" name="Straight Connector 6"/>
              <p:cNvCxnSpPr>
                <a:stCxn id="2141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43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4" name="TextBox 9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TextBox 10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TextBox 2"/>
          <p:cNvSpPr/>
          <p:nvPr/>
        </p:nvSpPr>
        <p:spPr>
          <a:xfrm>
            <a:off x="464040" y="6440400"/>
            <a:ext cx="138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friPop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vel Time to Towns &gt;50K Popul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8" name="Content Placeholder 13" descr="traveltime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49" name="Group 3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50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51" name="TextBox 6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52" name="Straight Connector 6"/>
              <p:cNvCxnSpPr>
                <a:stCxn id="2151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53" name="Straight Connector 5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4" name="TextBox 8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TextBox 9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TextBox 2"/>
          <p:cNvSpPr/>
          <p:nvPr/>
        </p:nvSpPr>
        <p:spPr>
          <a:xfrm>
            <a:off x="302760" y="647532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arvestChoice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"/>
          <p:cNvSpPr txBox="1"/>
          <p:nvPr/>
        </p:nvSpPr>
        <p:spPr>
          <a:xfrm>
            <a:off x="761760" y="1371600"/>
            <a:ext cx="8359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ad M&amp;E Guiding Princi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ap on SI Program Targe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and Reporting Sca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valuation Approach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te Sel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&amp;E Data and Analysis Platfor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sues/Ques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opland Intensity (2005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8" name="Content Placeholder 14" descr="Cropland density.png"/>
          <p:cNvPicPr/>
          <p:nvPr/>
        </p:nvPicPr>
        <p:blipFill>
          <a:blip r:embed="rId1"/>
          <a:stretch/>
        </p:blipFill>
        <p:spPr>
          <a:xfrm>
            <a:off x="743040" y="1600200"/>
            <a:ext cx="7657920" cy="4525920"/>
          </a:xfrm>
          <a:prstGeom prst="rect">
            <a:avLst/>
          </a:prstGeom>
          <a:ln w="0">
            <a:noFill/>
          </a:ln>
        </p:spPr>
      </p:pic>
      <p:grpSp>
        <p:nvGrpSpPr>
          <p:cNvPr id="2159" name="Group 12"/>
          <p:cNvGrpSpPr/>
          <p:nvPr/>
        </p:nvGrpSpPr>
        <p:grpSpPr>
          <a:xfrm>
            <a:off x="304920" y="1600200"/>
            <a:ext cx="8305560" cy="4800600"/>
            <a:chOff x="304920" y="1600200"/>
            <a:chExt cx="8305560" cy="4800600"/>
          </a:xfrm>
        </p:grpSpPr>
        <p:grpSp>
          <p:nvGrpSpPr>
            <p:cNvPr id="2160" name="Group 11"/>
            <p:cNvGrpSpPr/>
            <p:nvPr/>
          </p:nvGrpSpPr>
          <p:grpSpPr>
            <a:xfrm>
              <a:off x="304920" y="1600200"/>
              <a:ext cx="8305560" cy="4757400"/>
              <a:chOff x="304920" y="1600200"/>
              <a:chExt cx="8305560" cy="4757400"/>
            </a:xfrm>
          </p:grpSpPr>
          <p:sp>
            <p:nvSpPr>
              <p:cNvPr id="2161" name="TextBox 4"/>
              <p:cNvSpPr/>
              <p:nvPr/>
            </p:nvSpPr>
            <p:spPr>
              <a:xfrm>
                <a:off x="304920" y="1600200"/>
                <a:ext cx="8305560" cy="4757400"/>
              </a:xfrm>
              <a:prstGeom prst="rect">
                <a:avLst/>
              </a:prstGeom>
              <a:noFill/>
              <a:ln w="9360">
                <a:solidFill>
                  <a:srgbClr val="0d0d0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62" name="Straight Connector 6"/>
              <p:cNvCxnSpPr>
                <a:stCxn id="2161" idx="0"/>
              </p:cNvCxnSpPr>
              <p:nvPr/>
            </p:nvCxnSpPr>
            <p:spPr>
              <a:xfrm>
                <a:off x="4456800" y="1600200"/>
                <a:ext cx="495720" cy="3201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163" name="Straight Connector 10"/>
            <p:cNvSpPr/>
            <p:nvPr/>
          </p:nvSpPr>
          <p:spPr>
            <a:xfrm flipH="1">
              <a:off x="4457520" y="4800600"/>
              <a:ext cx="495000" cy="1600200"/>
            </a:xfrm>
            <a:prstGeom prst="line">
              <a:avLst/>
            </a:prstGeom>
            <a:ln w="93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4" name="TextBox 2"/>
          <p:cNvSpPr/>
          <p:nvPr/>
        </p:nvSpPr>
        <p:spPr>
          <a:xfrm>
            <a:off x="5613840" y="1674720"/>
            <a:ext cx="169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thern Gh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TextBox 9"/>
          <p:cNvSpPr/>
          <p:nvPr/>
        </p:nvSpPr>
        <p:spPr>
          <a:xfrm>
            <a:off x="1456920" y="166212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thern M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TextBox 3"/>
          <p:cNvSpPr/>
          <p:nvPr/>
        </p:nvSpPr>
        <p:spPr>
          <a:xfrm>
            <a:off x="334080" y="6456240"/>
            <a:ext cx="227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amankutty et al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usehold Enterprise Cho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8" name="Picture 4" descr="maize.png"/>
          <p:cNvPicPr/>
          <p:nvPr/>
        </p:nvPicPr>
        <p:blipFill>
          <a:blip r:embed="rId1"/>
          <a:stretch/>
        </p:blipFill>
        <p:spPr>
          <a:xfrm>
            <a:off x="1231920" y="1676520"/>
            <a:ext cx="2825640" cy="3657600"/>
          </a:xfrm>
          <a:prstGeom prst="rect">
            <a:avLst/>
          </a:prstGeom>
          <a:ln w="0">
            <a:noFill/>
          </a:ln>
        </p:spPr>
      </p:pic>
      <p:pic>
        <p:nvPicPr>
          <p:cNvPr id="2169" name="Picture 5" descr="rice.png"/>
          <p:cNvPicPr/>
          <p:nvPr/>
        </p:nvPicPr>
        <p:blipFill>
          <a:blip r:embed="rId2"/>
          <a:stretch/>
        </p:blipFill>
        <p:spPr>
          <a:xfrm>
            <a:off x="3998880" y="1676520"/>
            <a:ext cx="2616120" cy="3657600"/>
          </a:xfrm>
          <a:prstGeom prst="rect">
            <a:avLst/>
          </a:prstGeom>
          <a:ln w="0">
            <a:noFill/>
          </a:ln>
        </p:spPr>
      </p:pic>
      <p:pic>
        <p:nvPicPr>
          <p:cNvPr id="2170" name="Picture 2" descr=""/>
          <p:cNvPicPr/>
          <p:nvPr/>
        </p:nvPicPr>
        <p:blipFill>
          <a:blip r:embed="rId3"/>
          <a:srcRect l="0" t="8532" r="0" b="0"/>
          <a:stretch/>
        </p:blipFill>
        <p:spPr>
          <a:xfrm>
            <a:off x="-457200" y="2362320"/>
            <a:ext cx="2400480" cy="2361960"/>
          </a:xfrm>
          <a:prstGeom prst="rect">
            <a:avLst/>
          </a:prstGeom>
          <a:ln w="0">
            <a:noFill/>
          </a:ln>
        </p:spPr>
      </p:pic>
      <p:pic>
        <p:nvPicPr>
          <p:cNvPr id="2171" name="Picture 3" descr="sorghum.png"/>
          <p:cNvPicPr/>
          <p:nvPr/>
        </p:nvPicPr>
        <p:blipFill>
          <a:blip r:embed="rId4"/>
          <a:stretch/>
        </p:blipFill>
        <p:spPr>
          <a:xfrm>
            <a:off x="6602400" y="1676520"/>
            <a:ext cx="2541600" cy="3657600"/>
          </a:xfrm>
          <a:prstGeom prst="rect">
            <a:avLst/>
          </a:prstGeom>
          <a:ln w="0">
            <a:noFill/>
          </a:ln>
        </p:spPr>
      </p:pic>
      <p:sp>
        <p:nvSpPr>
          <p:cNvPr id="2172" name="TextBox 7"/>
          <p:cNvSpPr/>
          <p:nvPr/>
        </p:nvSpPr>
        <p:spPr>
          <a:xfrm>
            <a:off x="1646280" y="54100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aize Producing 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TextBox 8"/>
          <p:cNvSpPr/>
          <p:nvPr/>
        </p:nvSpPr>
        <p:spPr>
          <a:xfrm>
            <a:off x="4273560" y="542124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ice Producing 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TextBox 9"/>
          <p:cNvSpPr/>
          <p:nvPr/>
        </p:nvSpPr>
        <p:spPr>
          <a:xfrm>
            <a:off x="6602400" y="5410080"/>
            <a:ext cx="223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rghum Producing Househo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TextBox 2"/>
          <p:cNvSpPr/>
          <p:nvPr/>
        </p:nvSpPr>
        <p:spPr>
          <a:xfrm>
            <a:off x="205920" y="1859040"/>
            <a:ext cx="117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roportion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Househol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6" name="TextBox 6"/>
          <p:cNvSpPr/>
          <p:nvPr/>
        </p:nvSpPr>
        <p:spPr>
          <a:xfrm>
            <a:off x="196200" y="6488280"/>
            <a:ext cx="71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:  HarvestChoice 2011 based on Ghana Living Standards Surve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7" name="Content Placeholder 3" descr="cattlepng.png"/>
          <p:cNvPicPr/>
          <p:nvPr/>
        </p:nvPicPr>
        <p:blipFill>
          <a:blip r:embed="rId1"/>
          <a:stretch/>
        </p:blipFill>
        <p:spPr>
          <a:xfrm>
            <a:off x="3124080" y="2057400"/>
            <a:ext cx="2826000" cy="3657600"/>
          </a:xfrm>
          <a:prstGeom prst="rect">
            <a:avLst/>
          </a:prstGeom>
          <a:ln w="0">
            <a:noFill/>
          </a:ln>
        </p:spPr>
      </p:pic>
      <p:pic>
        <p:nvPicPr>
          <p:cNvPr id="2178" name="Picture 2" descr=""/>
          <p:cNvPicPr/>
          <p:nvPr/>
        </p:nvPicPr>
        <p:blipFill>
          <a:blip r:embed="rId2"/>
          <a:srcRect l="20613" t="14233" r="20409" b="0"/>
          <a:stretch/>
        </p:blipFill>
        <p:spPr>
          <a:xfrm>
            <a:off x="380880" y="2819520"/>
            <a:ext cx="2311560" cy="1569960"/>
          </a:xfrm>
          <a:prstGeom prst="rect">
            <a:avLst/>
          </a:prstGeom>
          <a:ln w="0">
            <a:noFill/>
          </a:ln>
        </p:spPr>
      </p:pic>
      <p:sp>
        <p:nvSpPr>
          <p:cNvPr id="2179" name="TextBox 5"/>
          <p:cNvSpPr/>
          <p:nvPr/>
        </p:nvSpPr>
        <p:spPr>
          <a:xfrm>
            <a:off x="3135240" y="571500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ouseholds Owning Cat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0" name="Title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Household Enterprise Choices (cont.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TextBox 7"/>
          <p:cNvSpPr/>
          <p:nvPr/>
        </p:nvSpPr>
        <p:spPr>
          <a:xfrm>
            <a:off x="695160" y="2322360"/>
            <a:ext cx="131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roportion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House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TextBox 8"/>
          <p:cNvSpPr/>
          <p:nvPr/>
        </p:nvSpPr>
        <p:spPr>
          <a:xfrm>
            <a:off x="196200" y="6488280"/>
            <a:ext cx="715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:  HarvestChoice 2011 based on Ghana Living Standards Surve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3" name=""/>
          <p:cNvGraphicFramePr/>
          <p:nvPr/>
        </p:nvGraphicFramePr>
        <p:xfrm>
          <a:off x="152280" y="1905120"/>
          <a:ext cx="8686800" cy="3124080"/>
        </p:xfrm>
        <a:graphic>
          <a:graphicData uri="http://schemas.openxmlformats.org/drawingml/2006/table">
            <a:tbl>
              <a:tblPr/>
              <a:tblGrid>
                <a:gridCol w="513000"/>
                <a:gridCol w="2090520"/>
                <a:gridCol w="577800"/>
                <a:gridCol w="73080"/>
                <a:gridCol w="2081160"/>
                <a:gridCol w="586080"/>
                <a:gridCol w="61920"/>
                <a:gridCol w="2079360"/>
                <a:gridCol w="623880"/>
              </a:tblGrid>
              <a:tr h="363240"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ional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thern Regio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66"/>
                    </a:solidFill>
                  </a:tcPr>
                </a:tc>
                <a:tc gridSpan="2"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Focus District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08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k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Crop Enterpri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Sh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Crop Enterpri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Sh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Crop Enterpris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H Sh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4604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rice,millet,sorghum,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rice,mille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008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coco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rice,millet,sorghum,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co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 millet,sorghum,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sorgh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 sorghum, 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rice,millet,sorghum,bean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 millet, sorgh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ze, millet, sorgh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640" rIns="8640" tIns="86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anking of HH Crop Enterprises: Ghan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85" name=""/>
          <p:cNvGraphicFramePr/>
          <p:nvPr/>
        </p:nvGraphicFramePr>
        <p:xfrm>
          <a:off x="380880" y="5257800"/>
          <a:ext cx="7772400" cy="838080"/>
        </p:xfrm>
        <a:graphic>
          <a:graphicData uri="http://schemas.openxmlformats.org/drawingml/2006/table">
            <a:tbl>
              <a:tblPr/>
              <a:tblGrid>
                <a:gridCol w="747720"/>
                <a:gridCol w="3044880"/>
                <a:gridCol w="841320"/>
                <a:gridCol w="106560"/>
                <a:gridCol w="3031920"/>
              </a:tblGrid>
              <a:tr h="279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r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ived from GLSS 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t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ops considered are maize, rice, millet, cassava, cocoa, cocoyam, beans, eggplant, sorghum, yam,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4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ilpalm, okra, oranges, pawpaw, pepper, pineapples, plantain, tomatoes, vegetab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6" name="Picture 3" descr=""/>
          <p:cNvPicPr/>
          <p:nvPr/>
        </p:nvPicPr>
        <p:blipFill>
          <a:blip r:embed="rId1"/>
          <a:stretch/>
        </p:blipFill>
        <p:spPr>
          <a:xfrm>
            <a:off x="406440" y="380880"/>
            <a:ext cx="8356680" cy="61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7" name="Diagram 10" descr=""/>
          <p:cNvPicPr/>
          <p:nvPr/>
        </p:nvPicPr>
        <p:blipFill>
          <a:blip r:embed="rId1"/>
          <a:stretch/>
        </p:blipFill>
        <p:spPr>
          <a:xfrm>
            <a:off x="12600" y="920880"/>
            <a:ext cx="3522600" cy="2535120"/>
          </a:xfrm>
          <a:prstGeom prst="rect">
            <a:avLst/>
          </a:prstGeom>
          <a:ln w="0">
            <a:noFill/>
          </a:ln>
        </p:spPr>
      </p:pic>
      <p:pic>
        <p:nvPicPr>
          <p:cNvPr id="2188" name="Diagram 8" descr=""/>
          <p:cNvPicPr/>
          <p:nvPr/>
        </p:nvPicPr>
        <p:blipFill>
          <a:blip r:embed="rId2"/>
          <a:stretch/>
        </p:blipFill>
        <p:spPr>
          <a:xfrm>
            <a:off x="285840" y="3925800"/>
            <a:ext cx="2963880" cy="1865520"/>
          </a:xfrm>
          <a:prstGeom prst="rect">
            <a:avLst/>
          </a:prstGeom>
          <a:ln w="0">
            <a:noFill/>
          </a:ln>
        </p:spPr>
      </p:pic>
      <p:pic>
        <p:nvPicPr>
          <p:cNvPr id="2189" name="Picture 2" descr="D:\Documents and Settings\JKOO\Desktop\Downloads\iStock\iStock_000005155468Illustra\thumbnail.jpg"/>
          <p:cNvPicPr/>
          <p:nvPr/>
        </p:nvPicPr>
        <p:blipFill>
          <a:blip r:embed="rId3"/>
          <a:stretch/>
        </p:blipFill>
        <p:spPr>
          <a:xfrm>
            <a:off x="2857680" y="1219320"/>
            <a:ext cx="2008080" cy="3805200"/>
          </a:xfrm>
          <a:prstGeom prst="rect">
            <a:avLst/>
          </a:prstGeom>
          <a:ln w="0">
            <a:noFill/>
          </a:ln>
        </p:spPr>
      </p:pic>
      <p:grpSp>
        <p:nvGrpSpPr>
          <p:cNvPr id="2190" name="Group 38"/>
          <p:cNvGrpSpPr/>
          <p:nvPr/>
        </p:nvGrpSpPr>
        <p:grpSpPr>
          <a:xfrm>
            <a:off x="4644720" y="2959200"/>
            <a:ext cx="2202120" cy="3927240"/>
            <a:chOff x="4644720" y="2959200"/>
            <a:chExt cx="2202120" cy="3927240"/>
          </a:xfrm>
        </p:grpSpPr>
        <p:pic>
          <p:nvPicPr>
            <p:cNvPr id="2191" name="Diagram 6" descr=""/>
            <p:cNvPicPr/>
            <p:nvPr/>
          </p:nvPicPr>
          <p:blipFill>
            <a:blip r:embed="rId4"/>
            <a:stretch/>
          </p:blipFill>
          <p:spPr>
            <a:xfrm>
              <a:off x="4734360" y="4471200"/>
              <a:ext cx="2112480" cy="241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2" name="Picture 5" descr="D:\Documents and Settings\JKOO\Local Settings\Temporary Internet Files\Content.IE5\VAIP9G55\MCj02802970000[1].wmf"/>
            <p:cNvPicPr/>
            <p:nvPr/>
          </p:nvPicPr>
          <p:blipFill>
            <a:blip r:embed="rId5">
              <a:lum bright="10000"/>
            </a:blip>
            <a:stretch/>
          </p:blipFill>
          <p:spPr>
            <a:xfrm flipH="1">
              <a:off x="4644720" y="2959200"/>
              <a:ext cx="1168200" cy="1575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93" name="Diagram 7" descr=""/>
          <p:cNvPicPr/>
          <p:nvPr/>
        </p:nvPicPr>
        <p:blipFill>
          <a:blip r:embed="rId6"/>
          <a:stretch/>
        </p:blipFill>
        <p:spPr>
          <a:xfrm>
            <a:off x="2846520" y="5048280"/>
            <a:ext cx="1950840" cy="1809720"/>
          </a:xfrm>
          <a:prstGeom prst="rect">
            <a:avLst/>
          </a:prstGeom>
          <a:ln w="0">
            <a:noFill/>
          </a:ln>
        </p:spPr>
      </p:pic>
      <p:sp>
        <p:nvSpPr>
          <p:cNvPr id="2194" name="Rectangle 29"/>
          <p:cNvSpPr/>
          <p:nvPr/>
        </p:nvSpPr>
        <p:spPr>
          <a:xfrm>
            <a:off x="6199200" y="210960"/>
            <a:ext cx="2489040" cy="373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DSSAT Cropping System Model Ver. 4.0.2.000               May 21, 2009; 16:32:3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RUN   1     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ODEL          : MZCER040 - MAIZE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XPERIMENT     : UFGA8201 MZ NIT X IRR, GAINESVILLE 2N*3I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REATMENT  1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          : MAIZE          CULTIVAR : McCurdy 84aa     ECOTYPE :IB0002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TARTING DATE  : FEB 25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LANTING DATE  : FEB 26 1982    PLANTS/m2 :  7.2     ROW SPACING :  61.cm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EATHER        : UFGA  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          : IBMZ910014     TEXTURE :       - Millhopper Fine Sand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INITIAL C : DEPTH:180cm EXTR. H2O:160.9mm  NO3:  2.5kg/ha  NH4: 12.9kg/ha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ATER BALANCE  : IRRIGATE ON REPORTED DATE(S)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IRRIGATION     :       13 mm IN     1 APPLICATIONS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ITROGEN BAL.  : SOIL-N &amp; N-UPTAKE SIMULATION; NO N-FIXATION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-FERTILIZER   :      116 kg/ha IN     3 APPLICATIONS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ESIDUE/MANURE : INITIAL :  1000 kg/ha ;       0 kg/ha IN     0 APPLICATIONS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NVIRONM. OPT. : DAYL=    0.00  SRAD=    0.00  TMAX=    0.00  TMIN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AIN=    0.00  CO2 = R330.00  DEW =    0.00  WIND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IMULATION OPT : WATER   :Y  NITROGEN:Y  N-FIX:N  PHOSPH :N  PESTS  :N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HOTO   :C  ET      :R  INFIL:S  HYDROL :R  SOM    :G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NAGEMENT OPT : PLANTING:R  IRRIG   :R  FERT :R  RESIDUE:N  HARVEST:M  WTH:M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UMMARY OF SOIL AND GENETIC INPUT PARAMETERS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LOWER UPPER   SAT  EXTR  INIT   ROOT   BULK     pH    NO3    NH4    ORG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EPTH LIMIT LIMIT    SW    SW    SW   DIST   DENS                          C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m   cm3/cm3    cm3/cm3    cm3/cm3         g/cm3         ugN/g  ugN/g     %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-------------------------------------------------------------------------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0-  5 0.026 0.096 0.230 0.070 0.086   1.00   1.30   7.00   0.10   0.50   2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5- 15 0.025 0.086 0.230 0.061 0.086   1.00   1.3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- 30 0.025 0.086 0.230 0.061 0.086   0.70   1.4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30- 45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45- 60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60- 90 0.028 0.090 0.230 0.062 0.076   0.05   1.45   7.00   0.10   0.6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0-120 0.028 0.090 0.230 0.062 0.076   0.03   1.45   7.00   0.10   0.5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20-150 0.029 0.130 0.230 0.101 0.130   0.00   1.45   7.00   0.10   0.50   0.0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0-180 0.070 0.258 0.360 0.188 0.258   0.00   1.20   7.00   0.10   0.50   0.2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OT-180   6.2  22.2  45.3  16.1  21.4  &lt;--cm   -  kg/ha--&gt;    2.5   12.9  870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ALBEDO    : 0.18      EVAPORATION LIMIT : 2.00         MIN. FACTOR  :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OFF CURVE # :60.00      DRAINAGE RATE     : 0.65         FERT. FACTOR : 0.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IZE      CULTIVAR :IB0035-McCurdy 84aa       ECOTYPE :IB0002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1     : 265.00  P2     : 0.3000  P5     : 920.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G2     : 990.00  G3     :  8.500  PHINT  : 39.0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IMULATED CROP AND SOIL STATUS AT MAIN DEVELOPMENT STAGE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 NO.     1     RAINFED LOW NITROGEN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GROWTH   BIOMASS         CROP N     STRESS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ATE  AGE STAGE      kg/ha    LAI  kg/ha  %   H2O    N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  --- ---------- -----  -----  ---  ---  ----  ----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5 FEB    0 Start Sim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6 FEB    0 Sowing   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FEB    1 Germinate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 MAR   11 Emergence     29   0.00    1  4.4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MAR   29 End Juveni   251   0.43    4  1.6  0.00  0.0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 APR   34 Floral Ini   304   0.44    4  1.5  0.00  0.5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Rectangle 30"/>
          <p:cNvSpPr/>
          <p:nvPr/>
        </p:nvSpPr>
        <p:spPr>
          <a:xfrm>
            <a:off x="6351480" y="363600"/>
            <a:ext cx="2489400" cy="3736800"/>
          </a:xfrm>
          <a:prstGeom prst="rect">
            <a:avLst/>
          </a:prstGeom>
          <a:solidFill>
            <a:srgbClr val="ffffff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DSSAT Cropping System Model Ver. 4.0.2.000               May 21, 2009; 16:32:3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RUN   1     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ODEL          : MZCER040 - MAIZE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XPERIMENT     : UFGA8201 MZ NIT X IRR, GAINESVILLE 2N*3I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REATMENT  1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          : MAIZE          CULTIVAR : McCurdy 84aa     ECOTYPE :IB0002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TARTING DATE  : FEB 25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LANTING DATE  : FEB 26 1982    PLANTS/m2 :  7.2     ROW SPACING :  61.cm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EATHER        : UFGA  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          : IBMZ910014     TEXTURE :       - Millhopper Fine Sand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INITIAL C : DEPTH:180cm EXTR. H2O:160.9mm  NO3:  2.5kg/ha  NH4: 12.9kg/ha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ATER BALANCE  : IRRIGATE ON REPORTED DATE(S)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IRRIGATION     :       13 mm IN     1 APPLICATIONS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ITROGEN BAL.  : SOIL-N &amp; N-UPTAKE SIMULATION; NO N-FIXATION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-FERTILIZER   :      116 kg/ha IN     3 APPLICATIONS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ESIDUE/MANURE : INITIAL :  1000 kg/ha ;       0 kg/ha IN     0 APPLICATIONS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NVIRONM. OPT. : DAYL=    0.00  SRAD=    0.00  TMAX=    0.00  TMIN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AIN=    0.00  CO2 = R330.00  DEW =    0.00  WIND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IMULATION OPT : WATER   :Y  NITROGEN:Y  N-FIX:N  PHOSPH :N  PESTS  :N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HOTO   :C  ET      :R  INFIL:S  HYDROL :R  SOM    :G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NAGEMENT OPT : PLANTING:R  IRRIG   :R  FERT :R  RESIDUE:N  HARVEST:M  WTH:M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UMMARY OF SOIL AND GENETIC INPUT PARAMETERS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LOWER UPPER   SAT  EXTR  INIT   ROOT   BULK     pH    NO3    NH4    ORG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EPTH LIMIT LIMIT    SW    SW    SW   DIST   DENS                          C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m   cm3/cm3    cm3/cm3    cm3/cm3         g/cm3         ugN/g  ugN/g     %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-------------------------------------------------------------------------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0-  5 0.026 0.096 0.230 0.070 0.086   1.00   1.30   7.00   0.10   0.50   2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5- 15 0.025 0.086 0.230 0.061 0.086   1.00   1.3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- 30 0.025 0.086 0.230 0.061 0.086   0.70   1.4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30- 45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45- 60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60- 90 0.028 0.090 0.230 0.062 0.076   0.05   1.45   7.00   0.10   0.6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0-120 0.028 0.090 0.230 0.062 0.076   0.03   1.45   7.00   0.10   0.5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20-150 0.029 0.130 0.230 0.101 0.130   0.00   1.45   7.00   0.10   0.50   0.0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0-180 0.070 0.258 0.360 0.188 0.258   0.00   1.20   7.00   0.10   0.50   0.2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OT-180   6.2  22.2  45.3  16.1  21.4  &lt;--cm   -  kg/ha--&gt;    2.5   12.9  870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ALBEDO    : 0.18      EVAPORATION LIMIT : 2.00         MIN. FACTOR  :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OFF CURVE # :60.00      DRAINAGE RATE     : 0.65         FERT. FACTOR : 0.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IZE      CULTIVAR :IB0035-McCurdy 84aa       ECOTYPE :IB0002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1     : 265.00  P2     : 0.3000  P5     : 920.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G2     : 990.00  G3     :  8.500  PHINT  : 39.0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IMULATED CROP AND SOIL STATUS AT MAIN DEVELOPMENT STAGE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 NO.     1     RAINFED LOW NITROGEN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GROWTH   BIOMASS         CROP N     STRESS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ATE  AGE STAGE      kg/ha    LAI  kg/ha  %   H2O    N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  --- ---------- -----  -----  ---  ---  ----  ----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5 FEB    0 Start Sim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6 FEB    0 Sowing   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FEB    1 Germinate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 MAR   11 Emergence     29   0.00    1  4.4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MAR   29 End Juveni   251   0.43    4  1.6  0.00  0.0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 APR   34 Floral Ini   304   0.44    4  1.5  0.00  0.5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Rectangle 31"/>
          <p:cNvSpPr/>
          <p:nvPr/>
        </p:nvSpPr>
        <p:spPr>
          <a:xfrm>
            <a:off x="6504120" y="515880"/>
            <a:ext cx="2489040" cy="3827520"/>
          </a:xfrm>
          <a:prstGeom prst="rect">
            <a:avLst/>
          </a:prstGeom>
          <a:solidFill>
            <a:srgbClr val="ffffff"/>
          </a:solidFill>
          <a:ln w="25560">
            <a:solidFill>
              <a:srgbClr val="948a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DSSAT Cropping System Model Ver. 4.0.2.000               May 21, 2009; 16:32:3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RUN   1     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ODEL          : MZCER040 - MAIZE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XPERIMENT     : UFGA8201 MZ NIT X IRR, GAINESVILLE 2N*3I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REATMENT  1   : RAINFED LOW NITROGEN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          : MAIZE          CULTIVAR : McCurdy 84aa     ECOTYPE :IB0002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TARTING DATE  : FEB 25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LANTING DATE  : FEB 26 1982    PLANTS/m2 :  7.2     ROW SPACING :  61.cm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EATHER        : UFGA   1982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          : IBMZ910014     TEXTURE :       - Millhopper Fine Sand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INITIAL C : DEPTH:180cm EXTR. H2O:160.9mm  NO3:  2.5kg/ha  NH4: 12.9kg/ha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WATER BALANCE  : IRRIGATE ON REPORTED DATE(S)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IRRIGATION     :       13 mm IN     1 APPLICATIONS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ITROGEN BAL.  : SOIL-N &amp; N-UPTAKE SIMULATION; NO N-FIXATION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N-FERTILIZER   :      116 kg/ha IN     3 APPLICATIONS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ESIDUE/MANURE : INITIAL :  1000 kg/ha ;       0 kg/ha IN     0 APPLICATIONS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ENVIRONM. OPT. : DAYL=    0.00  SRAD=    0.00  TMAX=    0.00  TMIN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AIN=    0.00  CO2 = R330.00  DEW =    0.00  WIND=    0.00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IMULATION OPT : WATER   :Y  NITROGEN:Y  N-FIX:N  PHOSPH :N  PESTS  :N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HOTO   :C  ET      :R  INFIL:S  HYDROL :R  SOM    :G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NAGEMENT OPT : PLANTING:R  IRRIG   :R  FERT :R  RESIDUE:N  HARVEST:M  WTH:M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UMMARY OF SOIL AND GENETIC INPUT PARAMETERS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LOWER UPPER   SAT  EXTR  INIT   ROOT   BULK     pH    NO3    NH4    ORG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EPTH LIMIT LIMIT    SW    SW    SW   DIST   DENS                          C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m   cm3/cm3    cm3/cm3    cm3/cm3         g/cm3         ugN/g  ugN/g     %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-------------------------------------------------------------------------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0-  5 0.026 0.096 0.230 0.070 0.086   1.00   1.30   7.00   0.10   0.50   2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5- 15 0.025 0.086 0.230 0.061 0.086   1.00   1.3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- 30 0.025 0.086 0.230 0.061 0.086   0.70   1.40   7.00   0.10   0.50  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30- 45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45- 60 0.025 0.086 0.230 0.061 0.086   0.30   1.40   7.00   0.10   0.50   0.5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60- 90 0.028 0.090 0.230 0.062 0.076   0.05   1.45   7.00   0.10   0.6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0-120 0.028 0.090 0.230 0.062 0.076   0.03   1.45   7.00   0.10   0.50   0.1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20-150 0.029 0.130 0.230 0.101 0.130   0.00   1.45   7.00   0.10   0.50   0.0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50-180 0.070 0.258 0.360 0.188 0.258   0.00   1.20   7.00   0.10   0.50   0.24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TOT-180   6.2  22.2  45.3  16.1  21.4  &lt;--cm   -  kg/ha--&gt;    2.5   12.9  870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SOIL ALBEDO    : 0.18      EVAPORATION LIMIT : 2.00         MIN. FACTOR  : 1.0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OFF CURVE # :60.00      DRAINAGE RATE     : 0.65         FERT. FACTOR : 0.80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MAIZE      CULTIVAR :IB0035-McCurdy 84aa       ECOTYPE :IB0002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P1     : 265.00  P2     : 0.3000  P5     : 920.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G2     : 990.00  G3     :  8.500  PHINT  : 39.000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                                                             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*SIMULATED CROP AND SOIL STATUS AT MAIN DEVELOPMENT STAGE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RUN NO.     1     RAINFED LOW NITROGEN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  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CROP GROWTH   BIOMASS         CROP N     STRESS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DATE  AGE STAGE      kg/ha    LAI  kg/ha  %   H2O    N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------  --- ---------- -----  -----  ---  ---  ----  ----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5 FEB    0 Start Sim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6 FEB    0 Sowing   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FEB    1 Germinate      0   0.00    0  0.0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9 MAR   11 Emergence     29   0.00    1  4.4  0.00  0.0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27 MAR   29 End Juveni   251   0.43    4  1.6  0.00  0.09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  </a:t>
            </a:r>
            <a:r>
              <a:rPr b="0" lang="en-US" sz="400" spc="-1" strike="noStrike">
                <a:solidFill>
                  <a:srgbClr val="7f7f7f"/>
                </a:solidFill>
                <a:latin typeface="Consolas"/>
              </a:rPr>
              <a:t>1 APR   34 Floral Ini   304   0.44    4  1.5  0.00  0.5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7" name=""/>
          <p:cNvGraphicFramePr/>
          <p:nvPr/>
        </p:nvGraphicFramePr>
        <p:xfrm>
          <a:off x="6593040" y="1409760"/>
          <a:ext cx="2361960" cy="2857320"/>
        </p:xfrm>
        <a:graphic>
          <a:graphicData uri="http://schemas.openxmlformats.org/drawingml/2006/table">
            <a:tbl>
              <a:tblPr/>
              <a:tblGrid>
                <a:gridCol w="23619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UTPUTS/INDICAT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enolo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lowering dat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/seed/tuber maturity da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85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ield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/seed/tuber yiel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idues/stover yiel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biomass yie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w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ain/seed/tuber, biomass, L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, C and H</a:t>
                      </a:r>
                      <a:r>
                        <a:rPr b="1" lang="en-US" sz="12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 balan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2198" name="Group 18"/>
          <p:cNvGrpSpPr/>
          <p:nvPr/>
        </p:nvGrpSpPr>
        <p:grpSpPr>
          <a:xfrm>
            <a:off x="6613560" y="609480"/>
            <a:ext cx="2260440" cy="825480"/>
            <a:chOff x="6613560" y="609480"/>
            <a:chExt cx="2260440" cy="825480"/>
          </a:xfrm>
        </p:grpSpPr>
        <p:pic>
          <p:nvPicPr>
            <p:cNvPr id="2199" name="Picture 3" descr=""/>
            <p:cNvPicPr/>
            <p:nvPr/>
          </p:nvPicPr>
          <p:blipFill>
            <a:blip r:embed="rId7"/>
            <a:stretch/>
          </p:blipFill>
          <p:spPr>
            <a:xfrm>
              <a:off x="6613560" y="615240"/>
              <a:ext cx="1133280" cy="81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0" name="Picture 49" descr="mz_2000.png"/>
            <p:cNvPicPr/>
            <p:nvPr/>
          </p:nvPicPr>
          <p:blipFill>
            <a:blip r:embed="rId8"/>
            <a:stretch/>
          </p:blipFill>
          <p:spPr>
            <a:xfrm>
              <a:off x="7731360" y="609480"/>
              <a:ext cx="1142640" cy="82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01" name="Rectangle 2"/>
          <p:cNvSpPr/>
          <p:nvPr/>
        </p:nvSpPr>
        <p:spPr>
          <a:xfrm>
            <a:off x="304920" y="328680"/>
            <a:ext cx="59846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굴림"/>
              </a:rPr>
              <a:t>Cropping System Models as Mean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굴림"/>
              </a:rPr>
              <a:t>  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굴림"/>
              </a:rPr>
              <a:t>Tracking &amp; Forecasting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굴림"/>
              </a:rPr>
              <a:t>                 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  <a:ea typeface="굴림"/>
              </a:rPr>
              <a:t>Indicators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TextBox 17"/>
          <p:cNvSpPr/>
          <p:nvPr/>
        </p:nvSpPr>
        <p:spPr>
          <a:xfrm>
            <a:off x="240120" y="655020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ource: Jawoo Koo (HarvestChoice 20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3" name="Picture 5" descr=""/>
          <p:cNvPicPr/>
          <p:nvPr/>
        </p:nvPicPr>
        <p:blipFill>
          <a:blip r:embed="rId1"/>
          <a:stretch/>
        </p:blipFill>
        <p:spPr>
          <a:xfrm>
            <a:off x="15840" y="1752480"/>
            <a:ext cx="8997840" cy="4648320"/>
          </a:xfrm>
          <a:prstGeom prst="rect">
            <a:avLst/>
          </a:prstGeom>
          <a:ln w="0">
            <a:noFill/>
          </a:ln>
        </p:spPr>
      </p:pic>
      <p:sp>
        <p:nvSpPr>
          <p:cNvPr id="2204" name="TextBox 1"/>
          <p:cNvSpPr/>
          <p:nvPr/>
        </p:nvSpPr>
        <p:spPr>
          <a:xfrm>
            <a:off x="457200" y="252360"/>
            <a:ext cx="8399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Productivity Gains in Maize in Northern Gha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ield Responses by Region, Soil Response Class &amp; Management Intervention for Representative OPV and Hybrid Varie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5" name="Picture 2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001000" cy="5721120"/>
          </a:xfrm>
          <a:prstGeom prst="rect">
            <a:avLst/>
          </a:prstGeom>
          <a:ln w="0">
            <a:noFill/>
          </a:ln>
        </p:spPr>
      </p:pic>
      <p:sp>
        <p:nvSpPr>
          <p:cNvPr id="2206" name="TextBox 3"/>
          <p:cNvSpPr/>
          <p:nvPr/>
        </p:nvSpPr>
        <p:spPr>
          <a:xfrm>
            <a:off x="457200" y="252360"/>
            <a:ext cx="839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tential Productivity Gains in Maize in Northern Gh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&amp;E Implementation Strategy (to dat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8" name=""/>
          <p:cNvSpPr txBox="1"/>
          <p:nvPr/>
        </p:nvSpPr>
        <p:spPr>
          <a:xfrm>
            <a:off x="456840" y="16765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stablish Core FtF Monitoring Obligations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imarily with USAID Washington (e.g., agree required core indicators and reporting timelin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enior M&amp;E Coordinator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FPRI to recruit SI M&amp;E Coordinator (Senior International Research position, likely based in Addis) with junior staff support in addition to DC-based team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M&amp;E Implementation Alliance: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 Establish M&amp;E community (esp. evaluation methods and tools) to finalize project M&amp;E design, as well as guide, participate in and review M&amp;E work plans and deliverables (composition, e.g., M&amp;E specialist/liaison from involved CG centers, donor and national and regional partners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M&amp;E Open-Access, Web-Based Platform: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</a:rPr>
              <a:t>To host and make accessible SI M&amp;E plans, documents, and annual reports, as well as background publications, underlying datasets and, wherever possible, analytical tools. Promote and apply standards for farming system, technology and impact characteriz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nual M&amp;E Technical Meeting: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kely aligned with proposed Project-wide Annual meeting (Need for cross-site planning and review meetings?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ssues/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at is appropriate split of M&amp;E resources between M &amp; 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cope of donor’s minimum indicator need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oject management versus strategic M&amp;E need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oles of implementation partners versus M&amp;E team in collecting/analysing indicator data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o we need to re-examine the rationale for specific focus sites and sub-system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o will join the M&amp;E Alliance/communit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ny likely candidates for M&amp;E Coordinato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&amp;E Guiding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"/>
          <p:cNvSpPr txBox="1"/>
          <p:nvPr/>
        </p:nvSpPr>
        <p:spPr>
          <a:xfrm>
            <a:off x="304560" y="106632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tF Compliance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Conform to the overall FtF core indicator guidel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pen-access platform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aintain a transparent, open-access M&amp;E data management and analysis platform to serve the needs of SI stakehold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ulti-scale, Multi-site reporting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Meet broad stakeholder needs and support multi-scale/multi-site M&amp;E through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ystem and sub-system report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e.g. rice, maize, sorghum-based for W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te-repor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for each of the three SI system si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untry report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Breakout of site reports to serve national stakeholder n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SA-report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cross-system reporting and SI-wide “roll-up” of indicators across the 3 “sites” (Sudano-Sahelian zone, Ethiopian Highlands, Eastern and Southern Afric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Backward &amp; forward assessment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Provide monitoring reports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ex ante evaluations (projections) of key M&amp;E indicators, updated annual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Scaling-up and out assessments (evaluate spillover potential/ options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Examine the potential productivity and sustainability consequences of a range of adoption and geographic/system spillover pathways beyond actual implementation sit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2" name=""/>
          <p:cNvGraphicFramePr/>
          <p:nvPr/>
        </p:nvGraphicFramePr>
        <p:xfrm>
          <a:off x="2685960" y="5719680"/>
          <a:ext cx="6181920" cy="768600"/>
        </p:xfrm>
        <a:graphic>
          <a:graphicData uri="http://schemas.openxmlformats.org/drawingml/2006/table">
            <a:tbl>
              <a:tblPr/>
              <a:tblGrid>
                <a:gridCol w="870120"/>
                <a:gridCol w="711000"/>
                <a:gridCol w="741600"/>
                <a:gridCol w="1101600"/>
                <a:gridCol w="1733400"/>
                <a:gridCol w="1024200"/>
              </a:tblGrid>
              <a:tr h="497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H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Attribu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Urban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Ru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Income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Ex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Consum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Pattern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Production Syste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Inputs, Tech Ado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Mark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46c0a"/>
                          </a:solidFill>
                          <a:latin typeface="Calibri"/>
                        </a:rPr>
                        <a:t>Particip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53" name="Group 50"/>
          <p:cNvGrpSpPr/>
          <p:nvPr/>
        </p:nvGrpSpPr>
        <p:grpSpPr>
          <a:xfrm>
            <a:off x="611640" y="739800"/>
            <a:ext cx="8150040" cy="2430720"/>
            <a:chOff x="611640" y="739800"/>
            <a:chExt cx="8150040" cy="2430720"/>
          </a:xfrm>
        </p:grpSpPr>
        <p:grpSp>
          <p:nvGrpSpPr>
            <p:cNvPr id="1654" name="Group 51"/>
            <p:cNvGrpSpPr/>
            <p:nvPr/>
          </p:nvGrpSpPr>
          <p:grpSpPr>
            <a:xfrm>
              <a:off x="611640" y="739800"/>
              <a:ext cx="8150040" cy="2430720"/>
              <a:chOff x="611640" y="739800"/>
              <a:chExt cx="8150040" cy="2430720"/>
            </a:xfrm>
          </p:grpSpPr>
          <p:sp>
            <p:nvSpPr>
              <p:cNvPr id="1655" name="Text Box 52"/>
              <p:cNvSpPr/>
              <p:nvPr/>
            </p:nvSpPr>
            <p:spPr>
              <a:xfrm>
                <a:off x="611640" y="1623960"/>
                <a:ext cx="3434400" cy="10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Policy/Market Context &amp; Impac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Usually geo-political/admin units (policies,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institutions) as the unifying concept and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object of analysis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ff0000"/>
                    </a:solidFill>
                    <a:latin typeface="Verdana"/>
                  </a:rPr>
                  <a:t>Commodity focu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6" name="Group 53"/>
              <p:cNvGrpSpPr/>
              <p:nvPr/>
            </p:nvGrpSpPr>
            <p:grpSpPr>
              <a:xfrm>
                <a:off x="4008600" y="739800"/>
                <a:ext cx="4753080" cy="2430720"/>
                <a:chOff x="4008600" y="739800"/>
                <a:chExt cx="4753080" cy="2430720"/>
              </a:xfrm>
            </p:grpSpPr>
            <p:grpSp>
              <p:nvGrpSpPr>
                <p:cNvPr id="1657" name="Group 54"/>
                <p:cNvGrpSpPr/>
                <p:nvPr/>
              </p:nvGrpSpPr>
              <p:grpSpPr>
                <a:xfrm>
                  <a:off x="4008600" y="739800"/>
                  <a:ext cx="2549880" cy="2430720"/>
                  <a:chOff x="4008600" y="739800"/>
                  <a:chExt cx="2549880" cy="2430720"/>
                </a:xfrm>
              </p:grpSpPr>
              <p:sp>
                <p:nvSpPr>
                  <p:cNvPr id="1658" name="Text Box 55"/>
                  <p:cNvSpPr/>
                  <p:nvPr/>
                </p:nvSpPr>
                <p:spPr>
                  <a:xfrm>
                    <a:off x="4332240" y="739800"/>
                    <a:ext cx="190440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Fixed 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Geographies of Analysi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pic>
                <p:nvPicPr>
                  <p:cNvPr id="1659" name="Picture 56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4008600" y="1108080"/>
                    <a:ext cx="254988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60" name="Text Box 57"/>
                  <p:cNvSpPr/>
                  <p:nvPr/>
                </p:nvSpPr>
                <p:spPr>
                  <a:xfrm>
                    <a:off x="4580640" y="2772000"/>
                    <a:ext cx="1425960" cy="398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</a:rPr>
                      <a:t>e.g., IMPACT/WATER,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Verdana"/>
                      </a:rPr>
                      <a:t>GTAP &amp; derivative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61" name="Text Box 58"/>
                <p:cNvSpPr/>
                <p:nvPr/>
              </p:nvSpPr>
              <p:spPr>
                <a:xfrm>
                  <a:off x="6535080" y="739800"/>
                  <a:ext cx="19044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Flexible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Geographies of Analysi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2" name="Text Box 59"/>
                <p:cNvSpPr/>
                <p:nvPr/>
              </p:nvSpPr>
              <p:spPr>
                <a:xfrm>
                  <a:off x="7029360" y="2771640"/>
                  <a:ext cx="93528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Verdana"/>
                    </a:rPr>
                    <a:t>e.g., DREAM,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Verdana"/>
                    </a:rPr>
                    <a:t>MM model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63" name="Group 60"/>
                <p:cNvGrpSpPr/>
                <p:nvPr/>
              </p:nvGrpSpPr>
              <p:grpSpPr>
                <a:xfrm>
                  <a:off x="6211800" y="1108080"/>
                  <a:ext cx="2549880" cy="1754280"/>
                  <a:chOff x="6211800" y="1108080"/>
                  <a:chExt cx="2549880" cy="1754280"/>
                </a:xfrm>
              </p:grpSpPr>
              <p:sp>
                <p:nvSpPr>
                  <p:cNvPr id="1664" name="AutoShape 61"/>
                  <p:cNvSpPr/>
                  <p:nvPr/>
                </p:nvSpPr>
                <p:spPr>
                  <a:xfrm>
                    <a:off x="6211800" y="1108080"/>
                    <a:ext cx="2549880" cy="1754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65" name="Group 62"/>
                  <p:cNvGrpSpPr/>
                  <p:nvPr/>
                </p:nvGrpSpPr>
                <p:grpSpPr>
                  <a:xfrm>
                    <a:off x="6683760" y="1266840"/>
                    <a:ext cx="1636200" cy="1400040"/>
                    <a:chOff x="6683760" y="1266840"/>
                    <a:chExt cx="1636200" cy="1400040"/>
                  </a:xfrm>
                </p:grpSpPr>
                <p:sp>
                  <p:nvSpPr>
                    <p:cNvPr id="1666" name="Freeform 63"/>
                    <p:cNvSpPr/>
                    <p:nvPr/>
                  </p:nvSpPr>
                  <p:spPr>
                    <a:xfrm>
                      <a:off x="6683760" y="1266840"/>
                      <a:ext cx="708120" cy="1101600"/>
                    </a:xfrm>
                    <a:custGeom>
                      <a:avLst/>
                      <a:gdLst>
                        <a:gd name="textAreaLeft" fmla="*/ 0 w 708120"/>
                        <a:gd name="textAreaRight" fmla="*/ 708480 w 708120"/>
                        <a:gd name="textAreaTop" fmla="*/ 0 h 1101600"/>
                        <a:gd name="textAreaBottom" fmla="*/ 1101960 h 1101600"/>
                      </a:gdLst>
                      <a:ahLst/>
                      <a:rect l="textAreaLeft" t="textAreaTop" r="textAreaRight" b="textAreaBottom"/>
                      <a:pathLst>
                        <a:path w="414" h="694">
                          <a:moveTo>
                            <a:pt x="414" y="175"/>
                          </a:moveTo>
                          <a:lnTo>
                            <a:pt x="345" y="214"/>
                          </a:lnTo>
                          <a:lnTo>
                            <a:pt x="351" y="313"/>
                          </a:lnTo>
                          <a:lnTo>
                            <a:pt x="351" y="322"/>
                          </a:lnTo>
                          <a:lnTo>
                            <a:pt x="344" y="335"/>
                          </a:lnTo>
                          <a:lnTo>
                            <a:pt x="340" y="340"/>
                          </a:lnTo>
                          <a:lnTo>
                            <a:pt x="334" y="335"/>
                          </a:lnTo>
                          <a:lnTo>
                            <a:pt x="328" y="335"/>
                          </a:lnTo>
                          <a:lnTo>
                            <a:pt x="322" y="340"/>
                          </a:lnTo>
                          <a:lnTo>
                            <a:pt x="320" y="355"/>
                          </a:lnTo>
                          <a:lnTo>
                            <a:pt x="317" y="368"/>
                          </a:lnTo>
                          <a:lnTo>
                            <a:pt x="311" y="387"/>
                          </a:lnTo>
                          <a:lnTo>
                            <a:pt x="310" y="392"/>
                          </a:lnTo>
                          <a:lnTo>
                            <a:pt x="305" y="407"/>
                          </a:lnTo>
                          <a:lnTo>
                            <a:pt x="301" y="416"/>
                          </a:lnTo>
                          <a:lnTo>
                            <a:pt x="289" y="423"/>
                          </a:lnTo>
                          <a:lnTo>
                            <a:pt x="283" y="435"/>
                          </a:lnTo>
                          <a:lnTo>
                            <a:pt x="280" y="455"/>
                          </a:lnTo>
                          <a:lnTo>
                            <a:pt x="278" y="473"/>
                          </a:lnTo>
                          <a:lnTo>
                            <a:pt x="284" y="500"/>
                          </a:lnTo>
                          <a:lnTo>
                            <a:pt x="286" y="516"/>
                          </a:lnTo>
                          <a:lnTo>
                            <a:pt x="278" y="538"/>
                          </a:lnTo>
                          <a:lnTo>
                            <a:pt x="268" y="555"/>
                          </a:lnTo>
                          <a:lnTo>
                            <a:pt x="253" y="570"/>
                          </a:lnTo>
                          <a:lnTo>
                            <a:pt x="242" y="582"/>
                          </a:lnTo>
                          <a:lnTo>
                            <a:pt x="238" y="609"/>
                          </a:lnTo>
                          <a:lnTo>
                            <a:pt x="236" y="630"/>
                          </a:lnTo>
                          <a:lnTo>
                            <a:pt x="239" y="646"/>
                          </a:lnTo>
                          <a:lnTo>
                            <a:pt x="242" y="661"/>
                          </a:lnTo>
                          <a:lnTo>
                            <a:pt x="244" y="673"/>
                          </a:lnTo>
                          <a:lnTo>
                            <a:pt x="244" y="679"/>
                          </a:lnTo>
                          <a:lnTo>
                            <a:pt x="233" y="688"/>
                          </a:lnTo>
                          <a:lnTo>
                            <a:pt x="224" y="694"/>
                          </a:lnTo>
                          <a:lnTo>
                            <a:pt x="221" y="684"/>
                          </a:lnTo>
                          <a:lnTo>
                            <a:pt x="214" y="673"/>
                          </a:lnTo>
                          <a:lnTo>
                            <a:pt x="204" y="667"/>
                          </a:lnTo>
                          <a:lnTo>
                            <a:pt x="195" y="663"/>
                          </a:lnTo>
                          <a:lnTo>
                            <a:pt x="187" y="667"/>
                          </a:lnTo>
                          <a:lnTo>
                            <a:pt x="174" y="669"/>
                          </a:lnTo>
                          <a:lnTo>
                            <a:pt x="168" y="664"/>
                          </a:lnTo>
                          <a:lnTo>
                            <a:pt x="163" y="651"/>
                          </a:lnTo>
                          <a:lnTo>
                            <a:pt x="162" y="640"/>
                          </a:lnTo>
                          <a:lnTo>
                            <a:pt x="153" y="633"/>
                          </a:lnTo>
                          <a:lnTo>
                            <a:pt x="145" y="624"/>
                          </a:lnTo>
                          <a:lnTo>
                            <a:pt x="138" y="613"/>
                          </a:lnTo>
                          <a:lnTo>
                            <a:pt x="129" y="607"/>
                          </a:lnTo>
                          <a:lnTo>
                            <a:pt x="118" y="604"/>
                          </a:lnTo>
                          <a:lnTo>
                            <a:pt x="106" y="594"/>
                          </a:lnTo>
                          <a:lnTo>
                            <a:pt x="95" y="592"/>
                          </a:lnTo>
                          <a:lnTo>
                            <a:pt x="81" y="594"/>
                          </a:lnTo>
                          <a:lnTo>
                            <a:pt x="69" y="594"/>
                          </a:lnTo>
                          <a:lnTo>
                            <a:pt x="56" y="595"/>
                          </a:lnTo>
                          <a:lnTo>
                            <a:pt x="41" y="591"/>
                          </a:lnTo>
                          <a:lnTo>
                            <a:pt x="30" y="585"/>
                          </a:lnTo>
                          <a:lnTo>
                            <a:pt x="15" y="577"/>
                          </a:lnTo>
                          <a:lnTo>
                            <a:pt x="8" y="574"/>
                          </a:lnTo>
                          <a:lnTo>
                            <a:pt x="0" y="570"/>
                          </a:lnTo>
                          <a:lnTo>
                            <a:pt x="5" y="562"/>
                          </a:lnTo>
                          <a:lnTo>
                            <a:pt x="63" y="488"/>
                          </a:lnTo>
                          <a:lnTo>
                            <a:pt x="62" y="370"/>
                          </a:lnTo>
                          <a:lnTo>
                            <a:pt x="75" y="353"/>
                          </a:lnTo>
                          <a:lnTo>
                            <a:pt x="120" y="346"/>
                          </a:lnTo>
                          <a:lnTo>
                            <a:pt x="139" y="233"/>
                          </a:lnTo>
                          <a:lnTo>
                            <a:pt x="148" y="227"/>
                          </a:lnTo>
                          <a:lnTo>
                            <a:pt x="144" y="112"/>
                          </a:lnTo>
                          <a:lnTo>
                            <a:pt x="114" y="70"/>
                          </a:lnTo>
                          <a:lnTo>
                            <a:pt x="142" y="36"/>
                          </a:lnTo>
                          <a:lnTo>
                            <a:pt x="147" y="0"/>
                          </a:lnTo>
                          <a:lnTo>
                            <a:pt x="184" y="38"/>
                          </a:lnTo>
                          <a:lnTo>
                            <a:pt x="210" y="61"/>
                          </a:lnTo>
                          <a:lnTo>
                            <a:pt x="224" y="78"/>
                          </a:lnTo>
                          <a:lnTo>
                            <a:pt x="245" y="88"/>
                          </a:lnTo>
                          <a:lnTo>
                            <a:pt x="265" y="100"/>
                          </a:lnTo>
                          <a:lnTo>
                            <a:pt x="275" y="112"/>
                          </a:lnTo>
                          <a:lnTo>
                            <a:pt x="316" y="163"/>
                          </a:lnTo>
                          <a:lnTo>
                            <a:pt x="363" y="160"/>
                          </a:lnTo>
                          <a:lnTo>
                            <a:pt x="414" y="175"/>
                          </a:lnTo>
                          <a:close/>
                        </a:path>
                      </a:pathLst>
                    </a:custGeom>
                    <a:solidFill>
                      <a:srgbClr val="e9ffb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7" name="Line 64"/>
                    <p:cNvSpPr/>
                    <p:nvPr/>
                  </p:nvSpPr>
                  <p:spPr>
                    <a:xfrm flipH="1">
                      <a:off x="7374240" y="1544760"/>
                      <a:ext cx="16920" cy="93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8" name="Line 65"/>
                    <p:cNvSpPr/>
                    <p:nvPr/>
                  </p:nvSpPr>
                  <p:spPr>
                    <a:xfrm flipH="1">
                      <a:off x="7338240" y="1563480"/>
                      <a:ext cx="16920" cy="9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9" name="Line 66"/>
                    <p:cNvSpPr/>
                    <p:nvPr/>
                  </p:nvSpPr>
                  <p:spPr>
                    <a:xfrm flipH="1">
                      <a:off x="7302600" y="1582560"/>
                      <a:ext cx="16920" cy="9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0" name="Freeform 67"/>
                    <p:cNvSpPr/>
                    <p:nvPr/>
                  </p:nvSpPr>
                  <p:spPr>
                    <a:xfrm>
                      <a:off x="7273800" y="1601640"/>
                      <a:ext cx="10080" cy="14400"/>
                    </a:xfrm>
                    <a:custGeom>
                      <a:avLst/>
                      <a:gdLst>
                        <a:gd name="textAreaLeft" fmla="*/ 0 w 10080"/>
                        <a:gd name="textAreaRight" fmla="*/ 10440 w 100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6" h="9">
                          <a:moveTo>
                            <a:pt x="6" y="0"/>
                          </a:moveTo>
                          <a:lnTo>
                            <a:pt x="0" y="3"/>
                          </a:lnTo>
                          <a:lnTo>
                            <a:pt x="2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1" name="Line 68"/>
                    <p:cNvSpPr/>
                    <p:nvPr/>
                  </p:nvSpPr>
                  <p:spPr>
                    <a:xfrm>
                      <a:off x="7277040" y="1635120"/>
                      <a:ext cx="180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Line 69"/>
                    <p:cNvSpPr/>
                    <p:nvPr/>
                  </p:nvSpPr>
                  <p:spPr>
                    <a:xfrm>
                      <a:off x="7278840" y="167328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3" name="Line 70"/>
                    <p:cNvSpPr/>
                    <p:nvPr/>
                  </p:nvSpPr>
                  <p:spPr>
                    <a:xfrm>
                      <a:off x="7282440" y="1711440"/>
                      <a:ext cx="1440" cy="18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4" name="Freeform 71"/>
                    <p:cNvSpPr/>
                    <p:nvPr/>
                  </p:nvSpPr>
                  <p:spPr>
                    <a:xfrm>
                      <a:off x="7283880" y="1749240"/>
                      <a:ext cx="36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0"/>
                          </a:moveTo>
                          <a:lnTo>
                            <a:pt x="0" y="9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5" name="Freeform 72"/>
                    <p:cNvSpPr/>
                    <p:nvPr/>
                  </p:nvSpPr>
                  <p:spPr>
                    <a:xfrm>
                      <a:off x="7270200" y="1787400"/>
                      <a:ext cx="8280" cy="1584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5" h="10">
                          <a:moveTo>
                            <a:pt x="5" y="0"/>
                          </a:moveTo>
                          <a:lnTo>
                            <a:pt x="1" y="7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6" name="Freeform 73"/>
                    <p:cNvSpPr/>
                    <p:nvPr/>
                  </p:nvSpPr>
                  <p:spPr>
                    <a:xfrm>
                      <a:off x="7234200" y="1798560"/>
                      <a:ext cx="16920" cy="792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0" h="5">
                          <a:moveTo>
                            <a:pt x="10" y="0"/>
                          </a:moveTo>
                          <a:lnTo>
                            <a:pt x="6" y="0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Freeform 74"/>
                    <p:cNvSpPr/>
                    <p:nvPr/>
                  </p:nvSpPr>
                  <p:spPr>
                    <a:xfrm>
                      <a:off x="7229160" y="1825560"/>
                      <a:ext cx="1440" cy="19080"/>
                    </a:xfrm>
                    <a:custGeom>
                      <a:avLst/>
                      <a:gdLst>
                        <a:gd name="textAreaLeft" fmla="*/ 0 w 1440"/>
                        <a:gd name="textAreaRight" fmla="*/ 1800 w 14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1" h="12">
                          <a:moveTo>
                            <a:pt x="1" y="0"/>
                          </a:moveTo>
                          <a:lnTo>
                            <a:pt x="1" y="3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Line 75"/>
                    <p:cNvSpPr/>
                    <p:nvPr/>
                  </p:nvSpPr>
                  <p:spPr>
                    <a:xfrm flipH="1">
                      <a:off x="7215120" y="1861920"/>
                      <a:ext cx="8280" cy="176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9" name="Freeform 76"/>
                    <p:cNvSpPr/>
                    <p:nvPr/>
                  </p:nvSpPr>
                  <p:spPr>
                    <a:xfrm>
                      <a:off x="7203600" y="1898640"/>
                      <a:ext cx="6480" cy="19080"/>
                    </a:xfrm>
                    <a:custGeom>
                      <a:avLst/>
                      <a:gdLst>
                        <a:gd name="textAreaLeft" fmla="*/ 0 w 6480"/>
                        <a:gd name="textAreaRight" fmla="*/ 6840 w 648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4" h="12">
                          <a:moveTo>
                            <a:pt x="4" y="0"/>
                          </a:moveTo>
                          <a:lnTo>
                            <a:pt x="1" y="9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0" name="Freeform 77"/>
                    <p:cNvSpPr/>
                    <p:nvPr/>
                  </p:nvSpPr>
                  <p:spPr>
                    <a:xfrm>
                      <a:off x="7174440" y="1931760"/>
                      <a:ext cx="15120" cy="1116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11160"/>
                        <a:gd name="textAreaBottom" fmla="*/ 11520 h 11160"/>
                      </a:gdLst>
                      <a:ahLst/>
                      <a:rect l="textAreaLeft" t="textAreaTop" r="textAreaRight" b="textAreaBottom"/>
                      <a:pathLst>
                        <a:path w="9" h="7">
                          <a:moveTo>
                            <a:pt x="9" y="0"/>
                          </a:moveTo>
                          <a:lnTo>
                            <a:pt x="2" y="4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1" name="Line 78"/>
                    <p:cNvSpPr/>
                    <p:nvPr/>
                  </p:nvSpPr>
                  <p:spPr>
                    <a:xfrm flipH="1">
                      <a:off x="7163640" y="196056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2" name="Line 79"/>
                    <p:cNvSpPr/>
                    <p:nvPr/>
                  </p:nvSpPr>
                  <p:spPr>
                    <a:xfrm flipH="1">
                      <a:off x="7158600" y="199872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3" name="Line 80"/>
                    <p:cNvSpPr/>
                    <p:nvPr/>
                  </p:nvSpPr>
                  <p:spPr>
                    <a:xfrm>
                      <a:off x="7164000" y="2036880"/>
                      <a:ext cx="540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4" name="Freeform 81"/>
                    <p:cNvSpPr/>
                    <p:nvPr/>
                  </p:nvSpPr>
                  <p:spPr>
                    <a:xfrm>
                      <a:off x="7172640" y="2071800"/>
                      <a:ext cx="360" cy="1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0"/>
                          </a:moveTo>
                          <a:lnTo>
                            <a:pt x="0" y="9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5" name="Freeform 82"/>
                    <p:cNvSpPr/>
                    <p:nvPr/>
                  </p:nvSpPr>
                  <p:spPr>
                    <a:xfrm>
                      <a:off x="7157520" y="2109600"/>
                      <a:ext cx="6480" cy="15840"/>
                    </a:xfrm>
                    <a:custGeom>
                      <a:avLst/>
                      <a:gdLst>
                        <a:gd name="textAreaLeft" fmla="*/ 0 w 6480"/>
                        <a:gd name="textAreaRight" fmla="*/ 6840 w 64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4" h="10">
                          <a:moveTo>
                            <a:pt x="4" y="0"/>
                          </a:moveTo>
                          <a:lnTo>
                            <a:pt x="1" y="7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6" name="Freeform 83"/>
                    <p:cNvSpPr/>
                    <p:nvPr/>
                  </p:nvSpPr>
                  <p:spPr>
                    <a:xfrm>
                      <a:off x="7131960" y="2143080"/>
                      <a:ext cx="15120" cy="1440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9" h="9">
                          <a:moveTo>
                            <a:pt x="9" y="0"/>
                          </a:moveTo>
                          <a:lnTo>
                            <a:pt x="6" y="3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7" name="Freeform 84"/>
                    <p:cNvSpPr/>
                    <p:nvPr/>
                  </p:nvSpPr>
                  <p:spPr>
                    <a:xfrm>
                      <a:off x="7102800" y="2171520"/>
                      <a:ext cx="15120" cy="1440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9" h="9">
                          <a:moveTo>
                            <a:pt x="9" y="0"/>
                          </a:moveTo>
                          <a:lnTo>
                            <a:pt x="8" y="0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8" name="Line 85"/>
                    <p:cNvSpPr/>
                    <p:nvPr/>
                  </p:nvSpPr>
                  <p:spPr>
                    <a:xfrm flipH="1">
                      <a:off x="7092000" y="220176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9" name="Line 86"/>
                    <p:cNvSpPr/>
                    <p:nvPr/>
                  </p:nvSpPr>
                  <p:spPr>
                    <a:xfrm flipH="1">
                      <a:off x="7086960" y="223992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0" name="Freeform 87"/>
                    <p:cNvSpPr/>
                    <p:nvPr/>
                  </p:nvSpPr>
                  <p:spPr>
                    <a:xfrm>
                      <a:off x="7090920" y="2278080"/>
                      <a:ext cx="1440" cy="17280"/>
                    </a:xfrm>
                    <a:custGeom>
                      <a:avLst/>
                      <a:gdLst>
                        <a:gd name="textAreaLeft" fmla="*/ 0 w 1440"/>
                        <a:gd name="textAreaRight" fmla="*/ 1800 w 1440"/>
                        <a:gd name="textAreaTop" fmla="*/ 0 h 17280"/>
                        <a:gd name="textAreaBottom" fmla="*/ 17280 h 17280"/>
                      </a:gdLst>
                      <a:ahLst/>
                      <a:rect l="textAreaLeft" t="textAreaTop" r="textAreaRight" b="textAreaBottom"/>
                      <a:pathLst>
                        <a:path w="1" h="11">
                          <a:moveTo>
                            <a:pt x="0" y="0"/>
                          </a:moveTo>
                          <a:lnTo>
                            <a:pt x="1" y="9"/>
                          </a:lnTo>
                          <a:lnTo>
                            <a:pt x="1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1" name="Freeform 88"/>
                    <p:cNvSpPr/>
                    <p:nvPr/>
                  </p:nvSpPr>
                  <p:spPr>
                    <a:xfrm>
                      <a:off x="7097400" y="2314440"/>
                      <a:ext cx="3240" cy="19080"/>
                    </a:xfrm>
                    <a:custGeom>
                      <a:avLst/>
                      <a:gdLst>
                        <a:gd name="textAreaLeft" fmla="*/ 0 w 3240"/>
                        <a:gd name="textAreaRight" fmla="*/ 3600 w 32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2" h="12">
                          <a:moveTo>
                            <a:pt x="0" y="0"/>
                          </a:moveTo>
                          <a:lnTo>
                            <a:pt x="0" y="1"/>
                          </a:lnTo>
                          <a:lnTo>
                            <a:pt x="2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2" name="Freeform 89"/>
                    <p:cNvSpPr/>
                    <p:nvPr/>
                  </p:nvSpPr>
                  <p:spPr>
                    <a:xfrm>
                      <a:off x="7076880" y="2349360"/>
                      <a:ext cx="15480" cy="11160"/>
                    </a:xfrm>
                    <a:custGeom>
                      <a:avLst/>
                      <a:gdLst>
                        <a:gd name="textAreaLeft" fmla="*/ 0 w 15480"/>
                        <a:gd name="textAreaRight" fmla="*/ 15840 w 15480"/>
                        <a:gd name="textAreaTop" fmla="*/ 0 h 11160"/>
                        <a:gd name="textAreaBottom" fmla="*/ 11520 h 11160"/>
                      </a:gdLst>
                      <a:ahLst/>
                      <a:rect l="textAreaLeft" t="textAreaTop" r="textAreaRight" b="textAreaBottom"/>
                      <a:pathLst>
                        <a:path w="9" h="7">
                          <a:moveTo>
                            <a:pt x="9" y="0"/>
                          </a:moveTo>
                          <a:lnTo>
                            <a:pt x="3" y="6"/>
                          </a:lnTo>
                          <a:lnTo>
                            <a:pt x="0" y="7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3" name="Freeform 90"/>
                    <p:cNvSpPr/>
                    <p:nvPr/>
                  </p:nvSpPr>
                  <p:spPr>
                    <a:xfrm>
                      <a:off x="7054560" y="2343240"/>
                      <a:ext cx="10440" cy="17280"/>
                    </a:xfrm>
                    <a:custGeom>
                      <a:avLst/>
                      <a:gdLst>
                        <a:gd name="textAreaLeft" fmla="*/ 0 w 10440"/>
                        <a:gd name="textAreaRight" fmla="*/ 10800 w 10440"/>
                        <a:gd name="textAreaTop" fmla="*/ 0 h 17280"/>
                        <a:gd name="textAreaBottom" fmla="*/ 17280 h 17280"/>
                      </a:gdLst>
                      <a:ahLst/>
                      <a:rect l="textAreaLeft" t="textAreaTop" r="textAreaRight" b="textAreaBottom"/>
                      <a:pathLst>
                        <a:path w="6" h="11">
                          <a:moveTo>
                            <a:pt x="6" y="11"/>
                          </a:moveTo>
                          <a:lnTo>
                            <a:pt x="4" y="6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Freeform 91"/>
                    <p:cNvSpPr/>
                    <p:nvPr/>
                  </p:nvSpPr>
                  <p:spPr>
                    <a:xfrm>
                      <a:off x="7023960" y="2320920"/>
                      <a:ext cx="18360" cy="936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9360"/>
                        <a:gd name="textAreaBottom" fmla="*/ 9720 h 9360"/>
                      </a:gdLst>
                      <a:ahLst/>
                      <a:rect l="textAreaLeft" t="textAreaTop" r="textAreaRight" b="textAreaBottom"/>
                      <a:pathLst>
                        <a:path w="11" h="6">
                          <a:moveTo>
                            <a:pt x="11" y="6"/>
                          </a:moveTo>
                          <a:lnTo>
                            <a:pt x="5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Freeform 92"/>
                    <p:cNvSpPr/>
                    <p:nvPr/>
                  </p:nvSpPr>
                  <p:spPr>
                    <a:xfrm>
                      <a:off x="6982920" y="2324160"/>
                      <a:ext cx="20520" cy="468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2" h="3">
                          <a:moveTo>
                            <a:pt x="12" y="0"/>
                          </a:moveTo>
                          <a:lnTo>
                            <a:pt x="12" y="1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6" name="Freeform 93"/>
                    <p:cNvSpPr/>
                    <p:nvPr/>
                  </p:nvSpPr>
                  <p:spPr>
                    <a:xfrm>
                      <a:off x="6962400" y="2300400"/>
                      <a:ext cx="5040" cy="15840"/>
                    </a:xfrm>
                    <a:custGeom>
                      <a:avLst/>
                      <a:gdLst>
                        <a:gd name="textAreaLeft" fmla="*/ 0 w 5040"/>
                        <a:gd name="textAreaRight" fmla="*/ 5400 w 504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3" h="10">
                          <a:moveTo>
                            <a:pt x="3" y="10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7" name="Freeform 94"/>
                    <p:cNvSpPr/>
                    <p:nvPr/>
                  </p:nvSpPr>
                  <p:spPr>
                    <a:xfrm>
                      <a:off x="6941880" y="2266920"/>
                      <a:ext cx="15480" cy="14400"/>
                    </a:xfrm>
                    <a:custGeom>
                      <a:avLst/>
                      <a:gdLst>
                        <a:gd name="textAreaLeft" fmla="*/ 0 w 15480"/>
                        <a:gd name="textAreaRight" fmla="*/ 15840 w 154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9" h="9">
                          <a:moveTo>
                            <a:pt x="9" y="9"/>
                          </a:moveTo>
                          <a:lnTo>
                            <a:pt x="2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8" name="Freeform 95"/>
                    <p:cNvSpPr/>
                    <p:nvPr/>
                  </p:nvSpPr>
                  <p:spPr>
                    <a:xfrm>
                      <a:off x="6916320" y="2238480"/>
                      <a:ext cx="13320" cy="14040"/>
                    </a:xfrm>
                    <a:custGeom>
                      <a:avLst/>
                      <a:gdLst>
                        <a:gd name="textAreaLeft" fmla="*/ 0 w 13320"/>
                        <a:gd name="textAreaRight" fmla="*/ 13680 w 13320"/>
                        <a:gd name="textAreaTop" fmla="*/ 0 h 14040"/>
                        <a:gd name="textAreaBottom" fmla="*/ 14400 h 14040"/>
                      </a:gdLst>
                      <a:ahLst/>
                      <a:rect l="textAreaLeft" t="textAreaTop" r="textAreaRight" b="textAreaBottom"/>
                      <a:pathLst>
                        <a:path w="8" h="9">
                          <a:moveTo>
                            <a:pt x="8" y="9"/>
                          </a:moveTo>
                          <a:lnTo>
                            <a:pt x="2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9" name="Freeform 96"/>
                    <p:cNvSpPr/>
                    <p:nvPr/>
                  </p:nvSpPr>
                  <p:spPr>
                    <a:xfrm>
                      <a:off x="6880320" y="2220840"/>
                      <a:ext cx="18720" cy="792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1" h="5">
                          <a:moveTo>
                            <a:pt x="11" y="5"/>
                          </a:moveTo>
                          <a:lnTo>
                            <a:pt x="3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0" name="Line 97"/>
                    <p:cNvSpPr/>
                    <p:nvPr/>
                  </p:nvSpPr>
                  <p:spPr>
                    <a:xfrm flipH="1" flipV="1">
                      <a:off x="6846120" y="2206080"/>
                      <a:ext cx="18720" cy="32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1" name="Freeform 98"/>
                    <p:cNvSpPr/>
                    <p:nvPr/>
                  </p:nvSpPr>
                  <p:spPr>
                    <a:xfrm>
                      <a:off x="6805080" y="2209680"/>
                      <a:ext cx="205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0">
                          <a:moveTo>
                            <a:pt x="12" y="0"/>
                          </a:moveTo>
                          <a:lnTo>
                            <a:pt x="10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2" name="Freeform 99"/>
                    <p:cNvSpPr/>
                    <p:nvPr/>
                  </p:nvSpPr>
                  <p:spPr>
                    <a:xfrm>
                      <a:off x="6763680" y="2206440"/>
                      <a:ext cx="20520" cy="504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12" h="3">
                          <a:moveTo>
                            <a:pt x="12" y="3"/>
                          </a:moveTo>
                          <a:lnTo>
                            <a:pt x="9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3" name="Freeform 100"/>
                    <p:cNvSpPr/>
                    <p:nvPr/>
                  </p:nvSpPr>
                  <p:spPr>
                    <a:xfrm>
                      <a:off x="6728040" y="2190600"/>
                      <a:ext cx="16920" cy="972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9720"/>
                        <a:gd name="textAreaBottom" fmla="*/ 10080 h 9720"/>
                      </a:gdLst>
                      <a:ahLst/>
                      <a:rect l="textAreaLeft" t="textAreaTop" r="textAreaRight" b="textAreaBottom"/>
                      <a:pathLst>
                        <a:path w="10" h="6">
                          <a:moveTo>
                            <a:pt x="10" y="6"/>
                          </a:moveTo>
                          <a:lnTo>
                            <a:pt x="4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4" name="Freeform 101"/>
                    <p:cNvSpPr/>
                    <p:nvPr/>
                  </p:nvSpPr>
                  <p:spPr>
                    <a:xfrm>
                      <a:off x="6688800" y="2173320"/>
                      <a:ext cx="20520" cy="936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9360"/>
                        <a:gd name="textAreaBottom" fmla="*/ 9720 h 9360"/>
                      </a:gdLst>
                      <a:ahLst/>
                      <a:rect l="textAreaLeft" t="textAreaTop" r="textAreaRight" b="textAreaBottom"/>
                      <a:pathLst>
                        <a:path w="12" h="6">
                          <a:moveTo>
                            <a:pt x="12" y="6"/>
                          </a:moveTo>
                          <a:lnTo>
                            <a:pt x="5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5" name="Freeform 102"/>
                    <p:cNvSpPr/>
                    <p:nvPr/>
                  </p:nvSpPr>
                  <p:spPr>
                    <a:xfrm>
                      <a:off x="6692040" y="2144520"/>
                      <a:ext cx="11880" cy="17640"/>
                    </a:xfrm>
                    <a:custGeom>
                      <a:avLst/>
                      <a:gdLst>
                        <a:gd name="textAreaLeft" fmla="*/ 0 w 11880"/>
                        <a:gd name="textAreaRight" fmla="*/ 12240 w 1188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7" h="11">
                          <a:moveTo>
                            <a:pt x="0" y="11"/>
                          </a:moveTo>
                          <a:lnTo>
                            <a:pt x="0" y="9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6" name="Line 103"/>
                    <p:cNvSpPr/>
                    <p:nvPr/>
                  </p:nvSpPr>
                  <p:spPr>
                    <a:xfrm flipV="1">
                      <a:off x="6717600" y="2114640"/>
                      <a:ext cx="118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7" name="Line 104"/>
                    <p:cNvSpPr/>
                    <p:nvPr/>
                  </p:nvSpPr>
                  <p:spPr>
                    <a:xfrm flipV="1">
                      <a:off x="6743520" y="2085840"/>
                      <a:ext cx="1152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8" name="Line 105"/>
                    <p:cNvSpPr/>
                    <p:nvPr/>
                  </p:nvSpPr>
                  <p:spPr>
                    <a:xfrm flipV="1">
                      <a:off x="6765840" y="2055600"/>
                      <a:ext cx="1332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9" name="Line 106"/>
                    <p:cNvSpPr/>
                    <p:nvPr/>
                  </p:nvSpPr>
                  <p:spPr>
                    <a:xfrm flipV="1">
                      <a:off x="6791400" y="20188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0" name="Line 107"/>
                    <p:cNvSpPr/>
                    <p:nvPr/>
                  </p:nvSpPr>
                  <p:spPr>
                    <a:xfrm flipV="1">
                      <a:off x="6791400" y="198072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1" name="Line 108"/>
                    <p:cNvSpPr/>
                    <p:nvPr/>
                  </p:nvSpPr>
                  <p:spPr>
                    <a:xfrm flipV="1">
                      <a:off x="6789960" y="194256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2" name="Line 109"/>
                    <p:cNvSpPr/>
                    <p:nvPr/>
                  </p:nvSpPr>
                  <p:spPr>
                    <a:xfrm flipV="1">
                      <a:off x="6789960" y="1905120"/>
                      <a:ext cx="0" cy="18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3" name="Line 110"/>
                    <p:cNvSpPr/>
                    <p:nvPr/>
                  </p:nvSpPr>
                  <p:spPr>
                    <a:xfrm flipV="1">
                      <a:off x="6789960" y="186660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4" name="Line 111"/>
                    <p:cNvSpPr/>
                    <p:nvPr/>
                  </p:nvSpPr>
                  <p:spPr>
                    <a:xfrm flipV="1">
                      <a:off x="6791400" y="1834920"/>
                      <a:ext cx="1548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5" name="Line 112"/>
                    <p:cNvSpPr/>
                    <p:nvPr/>
                  </p:nvSpPr>
                  <p:spPr>
                    <a:xfrm flipV="1">
                      <a:off x="6822000" y="182196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6" name="Line 113"/>
                    <p:cNvSpPr/>
                    <p:nvPr/>
                  </p:nvSpPr>
                  <p:spPr>
                    <a:xfrm flipV="1">
                      <a:off x="6863040" y="181584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7" name="Line 114"/>
                    <p:cNvSpPr/>
                    <p:nvPr/>
                  </p:nvSpPr>
                  <p:spPr>
                    <a:xfrm flipV="1">
                      <a:off x="6890760" y="178236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8" name="Line 115"/>
                    <p:cNvSpPr/>
                    <p:nvPr/>
                  </p:nvSpPr>
                  <p:spPr>
                    <a:xfrm flipV="1">
                      <a:off x="6895800" y="1744200"/>
                      <a:ext cx="50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9" name="Line 116"/>
                    <p:cNvSpPr/>
                    <p:nvPr/>
                  </p:nvSpPr>
                  <p:spPr>
                    <a:xfrm flipV="1">
                      <a:off x="6904080" y="1706040"/>
                      <a:ext cx="50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0" name="Line 117"/>
                    <p:cNvSpPr/>
                    <p:nvPr/>
                  </p:nvSpPr>
                  <p:spPr>
                    <a:xfrm flipV="1">
                      <a:off x="6911280" y="1670040"/>
                      <a:ext cx="2880" cy="172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1" name="Freeform 118"/>
                    <p:cNvSpPr/>
                    <p:nvPr/>
                  </p:nvSpPr>
                  <p:spPr>
                    <a:xfrm>
                      <a:off x="6919920" y="1635120"/>
                      <a:ext cx="6480" cy="15840"/>
                    </a:xfrm>
                    <a:custGeom>
                      <a:avLst/>
                      <a:gdLst>
                        <a:gd name="textAreaLeft" fmla="*/ 0 w 6480"/>
                        <a:gd name="textAreaRight" fmla="*/ 6840 w 64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4" h="10">
                          <a:moveTo>
                            <a:pt x="0" y="10"/>
                          </a:moveTo>
                          <a:lnTo>
                            <a:pt x="1" y="1"/>
                          </a:lnTo>
                          <a:lnTo>
                            <a:pt x="4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2" name="Line 119"/>
                    <p:cNvSpPr/>
                    <p:nvPr/>
                  </p:nvSpPr>
                  <p:spPr>
                    <a:xfrm flipV="1">
                      <a:off x="6936840" y="16012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3" name="Line 120"/>
                    <p:cNvSpPr/>
                    <p:nvPr/>
                  </p:nvSpPr>
                  <p:spPr>
                    <a:xfrm flipV="1">
                      <a:off x="6935040" y="156312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4" name="Line 121"/>
                    <p:cNvSpPr/>
                    <p:nvPr/>
                  </p:nvSpPr>
                  <p:spPr>
                    <a:xfrm flipV="1">
                      <a:off x="6935040" y="152532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5" name="Line 122"/>
                    <p:cNvSpPr/>
                    <p:nvPr/>
                  </p:nvSpPr>
                  <p:spPr>
                    <a:xfrm flipV="1">
                      <a:off x="6931800" y="1487520"/>
                      <a:ext cx="0" cy="172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6" name="Line 123"/>
                    <p:cNvSpPr/>
                    <p:nvPr/>
                  </p:nvSpPr>
                  <p:spPr>
                    <a:xfrm flipV="1">
                      <a:off x="6931800" y="1447560"/>
                      <a:ext cx="0" cy="205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6280" bIns="-26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7" name="Line 124"/>
                    <p:cNvSpPr/>
                    <p:nvPr/>
                  </p:nvSpPr>
                  <p:spPr>
                    <a:xfrm flipH="1" flipV="1">
                      <a:off x="6908760" y="1415520"/>
                      <a:ext cx="11880" cy="176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8" name="Line 125"/>
                    <p:cNvSpPr/>
                    <p:nvPr/>
                  </p:nvSpPr>
                  <p:spPr>
                    <a:xfrm flipH="1" flipV="1">
                      <a:off x="6885720" y="1386000"/>
                      <a:ext cx="100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9" name="Line 126"/>
                    <p:cNvSpPr/>
                    <p:nvPr/>
                  </p:nvSpPr>
                  <p:spPr>
                    <a:xfrm flipV="1">
                      <a:off x="6885720" y="1355760"/>
                      <a:ext cx="1332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0" name="Line 127"/>
                    <p:cNvSpPr/>
                    <p:nvPr/>
                  </p:nvSpPr>
                  <p:spPr>
                    <a:xfrm flipV="1">
                      <a:off x="6911280" y="1326960"/>
                      <a:ext cx="1332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1" name="Line 128"/>
                    <p:cNvSpPr/>
                    <p:nvPr/>
                  </p:nvSpPr>
                  <p:spPr>
                    <a:xfrm flipV="1">
                      <a:off x="6930000" y="1289160"/>
                      <a:ext cx="1800" cy="18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2" name="Freeform 129"/>
                    <p:cNvSpPr/>
                    <p:nvPr/>
                  </p:nvSpPr>
                  <p:spPr>
                    <a:xfrm>
                      <a:off x="6931800" y="1266840"/>
                      <a:ext cx="15120" cy="1260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12600"/>
                        <a:gd name="textAreaBottom" fmla="*/ 12960 h 12600"/>
                      </a:gdLst>
                      <a:ahLst/>
                      <a:rect l="textAreaLeft" t="textAreaTop" r="textAreaRight" b="textAreaBottom"/>
                      <a:pathLst>
                        <a:path w="9" h="8">
                          <a:moveTo>
                            <a:pt x="0" y="2"/>
                          </a:moveTo>
                          <a:lnTo>
                            <a:pt x="2" y="0"/>
                          </a:lnTo>
                          <a:lnTo>
                            <a:pt x="9" y="8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3" name="Line 130"/>
                    <p:cNvSpPr/>
                    <p:nvPr/>
                  </p:nvSpPr>
                  <p:spPr>
                    <a:xfrm>
                      <a:off x="6960960" y="1293840"/>
                      <a:ext cx="15120" cy="111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4" name="Freeform 131"/>
                    <p:cNvSpPr/>
                    <p:nvPr/>
                  </p:nvSpPr>
                  <p:spPr>
                    <a:xfrm>
                      <a:off x="6991560" y="1319040"/>
                      <a:ext cx="15480" cy="12960"/>
                    </a:xfrm>
                    <a:custGeom>
                      <a:avLst/>
                      <a:gdLst>
                        <a:gd name="textAreaLeft" fmla="*/ 0 w 15480"/>
                        <a:gd name="textAreaRight" fmla="*/ 15840 w 15480"/>
                        <a:gd name="textAreaTop" fmla="*/ 0 h 12960"/>
                        <a:gd name="textAreaBottom" fmla="*/ 13320 h 12960"/>
                      </a:gdLst>
                      <a:ahLst/>
                      <a:rect l="textAreaLeft" t="textAreaTop" r="textAreaRight" b="textAreaBottom"/>
                      <a:pathLst>
                        <a:path w="9" h="8">
                          <a:moveTo>
                            <a:pt x="0" y="0"/>
                          </a:moveTo>
                          <a:lnTo>
                            <a:pt x="4" y="5"/>
                          </a:lnTo>
                          <a:lnTo>
                            <a:pt x="9" y="8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5" name="Line 132"/>
                    <p:cNvSpPr/>
                    <p:nvPr/>
                  </p:nvSpPr>
                  <p:spPr>
                    <a:xfrm>
                      <a:off x="7022160" y="1346040"/>
                      <a:ext cx="15480" cy="111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6" name="Line 133"/>
                    <p:cNvSpPr/>
                    <p:nvPr/>
                  </p:nvSpPr>
                  <p:spPr>
                    <a:xfrm>
                      <a:off x="7049520" y="1371600"/>
                      <a:ext cx="1548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7" name="Line 134"/>
                    <p:cNvSpPr/>
                    <p:nvPr/>
                  </p:nvSpPr>
                  <p:spPr>
                    <a:xfrm>
                      <a:off x="7080480" y="1395360"/>
                      <a:ext cx="16920" cy="93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8" name="Line 135"/>
                    <p:cNvSpPr/>
                    <p:nvPr/>
                  </p:nvSpPr>
                  <p:spPr>
                    <a:xfrm>
                      <a:off x="7116480" y="1414440"/>
                      <a:ext cx="16920" cy="93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9" name="Freeform 136"/>
                    <p:cNvSpPr/>
                    <p:nvPr/>
                  </p:nvSpPr>
                  <p:spPr>
                    <a:xfrm>
                      <a:off x="7148880" y="1438200"/>
                      <a:ext cx="13320" cy="14400"/>
                    </a:xfrm>
                    <a:custGeom>
                      <a:avLst/>
                      <a:gdLst>
                        <a:gd name="textAreaLeft" fmla="*/ 0 w 13320"/>
                        <a:gd name="textAreaRight" fmla="*/ 13680 w 1332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8" h="9">
                          <a:moveTo>
                            <a:pt x="0" y="0"/>
                          </a:moveTo>
                          <a:lnTo>
                            <a:pt x="3" y="4"/>
                          </a:lnTo>
                          <a:lnTo>
                            <a:pt x="8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0" name="Line 137"/>
                    <p:cNvSpPr/>
                    <p:nvPr/>
                  </p:nvSpPr>
                  <p:spPr>
                    <a:xfrm>
                      <a:off x="7174440" y="1468440"/>
                      <a:ext cx="1332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1" name="Line 138"/>
                    <p:cNvSpPr/>
                    <p:nvPr/>
                  </p:nvSpPr>
                  <p:spPr>
                    <a:xfrm>
                      <a:off x="7200000" y="1496880"/>
                      <a:ext cx="13320" cy="176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2" name="Line 139"/>
                    <p:cNvSpPr/>
                    <p:nvPr/>
                  </p:nvSpPr>
                  <p:spPr>
                    <a:xfrm>
                      <a:off x="7225560" y="1525680"/>
                      <a:ext cx="20520" cy="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3" name="Line 140"/>
                    <p:cNvSpPr/>
                    <p:nvPr/>
                  </p:nvSpPr>
                  <p:spPr>
                    <a:xfrm>
                      <a:off x="7266960" y="1523880"/>
                      <a:ext cx="20520" cy="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4" name="Line 141"/>
                    <p:cNvSpPr/>
                    <p:nvPr/>
                  </p:nvSpPr>
                  <p:spPr>
                    <a:xfrm>
                      <a:off x="7308000" y="1520640"/>
                      <a:ext cx="20520" cy="79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5" name="Line 142"/>
                    <p:cNvSpPr/>
                    <p:nvPr/>
                  </p:nvSpPr>
                  <p:spPr>
                    <a:xfrm>
                      <a:off x="7345440" y="153360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6" name="Line 143"/>
                    <p:cNvSpPr/>
                    <p:nvPr/>
                  </p:nvSpPr>
                  <p:spPr>
                    <a:xfrm>
                      <a:off x="7386840" y="1544760"/>
                      <a:ext cx="5040" cy="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7" name="Freeform 144"/>
                    <p:cNvSpPr/>
                    <p:nvPr/>
                  </p:nvSpPr>
                  <p:spPr>
                    <a:xfrm>
                      <a:off x="7451280" y="1449360"/>
                      <a:ext cx="868680" cy="1217520"/>
                    </a:xfrm>
                    <a:custGeom>
                      <a:avLst/>
                      <a:gdLst>
                        <a:gd name="textAreaLeft" fmla="*/ 0 w 868680"/>
                        <a:gd name="textAreaRight" fmla="*/ 869040 w 868680"/>
                        <a:gd name="textAreaTop" fmla="*/ 0 h 1217520"/>
                        <a:gd name="textAreaBottom" fmla="*/ 1217880 h 1217520"/>
                      </a:gdLst>
                      <a:ahLst/>
                      <a:rect l="textAreaLeft" t="textAreaTop" r="textAreaRight" b="textAreaBottom"/>
                      <a:pathLst>
                        <a:path w="508" h="767">
                          <a:moveTo>
                            <a:pt x="260" y="33"/>
                          </a:moveTo>
                          <a:lnTo>
                            <a:pt x="261" y="41"/>
                          </a:lnTo>
                          <a:lnTo>
                            <a:pt x="264" y="51"/>
                          </a:lnTo>
                          <a:lnTo>
                            <a:pt x="267" y="66"/>
                          </a:lnTo>
                          <a:lnTo>
                            <a:pt x="269" y="77"/>
                          </a:lnTo>
                          <a:lnTo>
                            <a:pt x="270" y="81"/>
                          </a:lnTo>
                          <a:lnTo>
                            <a:pt x="273" y="95"/>
                          </a:lnTo>
                          <a:lnTo>
                            <a:pt x="279" y="108"/>
                          </a:lnTo>
                          <a:lnTo>
                            <a:pt x="291" y="117"/>
                          </a:lnTo>
                          <a:lnTo>
                            <a:pt x="297" y="123"/>
                          </a:lnTo>
                          <a:lnTo>
                            <a:pt x="301" y="132"/>
                          </a:lnTo>
                          <a:lnTo>
                            <a:pt x="306" y="138"/>
                          </a:lnTo>
                          <a:lnTo>
                            <a:pt x="309" y="141"/>
                          </a:lnTo>
                          <a:lnTo>
                            <a:pt x="319" y="148"/>
                          </a:lnTo>
                          <a:lnTo>
                            <a:pt x="330" y="157"/>
                          </a:lnTo>
                          <a:lnTo>
                            <a:pt x="325" y="280"/>
                          </a:lnTo>
                          <a:lnTo>
                            <a:pt x="333" y="284"/>
                          </a:lnTo>
                          <a:lnTo>
                            <a:pt x="340" y="289"/>
                          </a:lnTo>
                          <a:lnTo>
                            <a:pt x="343" y="293"/>
                          </a:lnTo>
                          <a:lnTo>
                            <a:pt x="348" y="304"/>
                          </a:lnTo>
                          <a:lnTo>
                            <a:pt x="349" y="310"/>
                          </a:lnTo>
                          <a:lnTo>
                            <a:pt x="357" y="308"/>
                          </a:lnTo>
                          <a:lnTo>
                            <a:pt x="366" y="310"/>
                          </a:lnTo>
                          <a:lnTo>
                            <a:pt x="376" y="308"/>
                          </a:lnTo>
                          <a:lnTo>
                            <a:pt x="388" y="307"/>
                          </a:lnTo>
                          <a:lnTo>
                            <a:pt x="395" y="311"/>
                          </a:lnTo>
                          <a:lnTo>
                            <a:pt x="400" y="319"/>
                          </a:lnTo>
                          <a:lnTo>
                            <a:pt x="407" y="328"/>
                          </a:lnTo>
                          <a:lnTo>
                            <a:pt x="416" y="329"/>
                          </a:lnTo>
                          <a:lnTo>
                            <a:pt x="427" y="326"/>
                          </a:lnTo>
                          <a:lnTo>
                            <a:pt x="434" y="322"/>
                          </a:lnTo>
                          <a:lnTo>
                            <a:pt x="442" y="319"/>
                          </a:lnTo>
                          <a:lnTo>
                            <a:pt x="451" y="320"/>
                          </a:lnTo>
                          <a:lnTo>
                            <a:pt x="455" y="325"/>
                          </a:lnTo>
                          <a:lnTo>
                            <a:pt x="458" y="329"/>
                          </a:lnTo>
                          <a:lnTo>
                            <a:pt x="460" y="340"/>
                          </a:lnTo>
                          <a:lnTo>
                            <a:pt x="461" y="352"/>
                          </a:lnTo>
                          <a:lnTo>
                            <a:pt x="454" y="361"/>
                          </a:lnTo>
                          <a:lnTo>
                            <a:pt x="443" y="368"/>
                          </a:lnTo>
                          <a:lnTo>
                            <a:pt x="437" y="377"/>
                          </a:lnTo>
                          <a:lnTo>
                            <a:pt x="437" y="386"/>
                          </a:lnTo>
                          <a:lnTo>
                            <a:pt x="436" y="403"/>
                          </a:lnTo>
                          <a:lnTo>
                            <a:pt x="436" y="410"/>
                          </a:lnTo>
                          <a:lnTo>
                            <a:pt x="439" y="416"/>
                          </a:lnTo>
                          <a:lnTo>
                            <a:pt x="443" y="429"/>
                          </a:lnTo>
                          <a:lnTo>
                            <a:pt x="449" y="438"/>
                          </a:lnTo>
                          <a:lnTo>
                            <a:pt x="458" y="441"/>
                          </a:lnTo>
                          <a:lnTo>
                            <a:pt x="467" y="438"/>
                          </a:lnTo>
                          <a:lnTo>
                            <a:pt x="476" y="443"/>
                          </a:lnTo>
                          <a:lnTo>
                            <a:pt x="487" y="444"/>
                          </a:lnTo>
                          <a:lnTo>
                            <a:pt x="499" y="446"/>
                          </a:lnTo>
                          <a:lnTo>
                            <a:pt x="505" y="446"/>
                          </a:lnTo>
                          <a:lnTo>
                            <a:pt x="508" y="447"/>
                          </a:lnTo>
                          <a:lnTo>
                            <a:pt x="508" y="452"/>
                          </a:lnTo>
                          <a:lnTo>
                            <a:pt x="505" y="458"/>
                          </a:lnTo>
                          <a:lnTo>
                            <a:pt x="502" y="467"/>
                          </a:lnTo>
                          <a:lnTo>
                            <a:pt x="494" y="476"/>
                          </a:lnTo>
                          <a:lnTo>
                            <a:pt x="491" y="485"/>
                          </a:lnTo>
                          <a:lnTo>
                            <a:pt x="485" y="497"/>
                          </a:lnTo>
                          <a:lnTo>
                            <a:pt x="473" y="497"/>
                          </a:lnTo>
                          <a:lnTo>
                            <a:pt x="460" y="498"/>
                          </a:lnTo>
                          <a:lnTo>
                            <a:pt x="449" y="512"/>
                          </a:lnTo>
                          <a:lnTo>
                            <a:pt x="449" y="527"/>
                          </a:lnTo>
                          <a:lnTo>
                            <a:pt x="449" y="539"/>
                          </a:lnTo>
                          <a:lnTo>
                            <a:pt x="451" y="545"/>
                          </a:lnTo>
                          <a:lnTo>
                            <a:pt x="454" y="564"/>
                          </a:lnTo>
                          <a:lnTo>
                            <a:pt x="454" y="588"/>
                          </a:lnTo>
                          <a:lnTo>
                            <a:pt x="454" y="613"/>
                          </a:lnTo>
                          <a:lnTo>
                            <a:pt x="455" y="637"/>
                          </a:lnTo>
                          <a:lnTo>
                            <a:pt x="452" y="645"/>
                          </a:lnTo>
                          <a:lnTo>
                            <a:pt x="440" y="654"/>
                          </a:lnTo>
                          <a:lnTo>
                            <a:pt x="421" y="649"/>
                          </a:lnTo>
                          <a:lnTo>
                            <a:pt x="388" y="649"/>
                          </a:lnTo>
                          <a:lnTo>
                            <a:pt x="369" y="645"/>
                          </a:lnTo>
                          <a:lnTo>
                            <a:pt x="364" y="642"/>
                          </a:lnTo>
                          <a:lnTo>
                            <a:pt x="339" y="630"/>
                          </a:lnTo>
                          <a:lnTo>
                            <a:pt x="316" y="621"/>
                          </a:lnTo>
                          <a:lnTo>
                            <a:pt x="289" y="633"/>
                          </a:lnTo>
                          <a:lnTo>
                            <a:pt x="285" y="636"/>
                          </a:lnTo>
                          <a:lnTo>
                            <a:pt x="270" y="657"/>
                          </a:lnTo>
                          <a:lnTo>
                            <a:pt x="267" y="682"/>
                          </a:lnTo>
                          <a:lnTo>
                            <a:pt x="267" y="690"/>
                          </a:lnTo>
                          <a:lnTo>
                            <a:pt x="273" y="715"/>
                          </a:lnTo>
                          <a:lnTo>
                            <a:pt x="279" y="739"/>
                          </a:lnTo>
                          <a:lnTo>
                            <a:pt x="271" y="752"/>
                          </a:lnTo>
                          <a:lnTo>
                            <a:pt x="267" y="767"/>
                          </a:lnTo>
                          <a:lnTo>
                            <a:pt x="254" y="758"/>
                          </a:lnTo>
                          <a:lnTo>
                            <a:pt x="243" y="751"/>
                          </a:lnTo>
                          <a:lnTo>
                            <a:pt x="231" y="752"/>
                          </a:lnTo>
                          <a:lnTo>
                            <a:pt x="212" y="757"/>
                          </a:lnTo>
                          <a:lnTo>
                            <a:pt x="200" y="748"/>
                          </a:lnTo>
                          <a:lnTo>
                            <a:pt x="195" y="752"/>
                          </a:lnTo>
                          <a:lnTo>
                            <a:pt x="188" y="754"/>
                          </a:lnTo>
                          <a:lnTo>
                            <a:pt x="177" y="751"/>
                          </a:lnTo>
                          <a:lnTo>
                            <a:pt x="162" y="746"/>
                          </a:lnTo>
                          <a:lnTo>
                            <a:pt x="146" y="739"/>
                          </a:lnTo>
                          <a:lnTo>
                            <a:pt x="134" y="737"/>
                          </a:lnTo>
                          <a:lnTo>
                            <a:pt x="130" y="737"/>
                          </a:lnTo>
                          <a:lnTo>
                            <a:pt x="109" y="743"/>
                          </a:lnTo>
                          <a:lnTo>
                            <a:pt x="89" y="739"/>
                          </a:lnTo>
                          <a:lnTo>
                            <a:pt x="79" y="739"/>
                          </a:lnTo>
                          <a:lnTo>
                            <a:pt x="61" y="743"/>
                          </a:lnTo>
                          <a:lnTo>
                            <a:pt x="46" y="742"/>
                          </a:lnTo>
                          <a:lnTo>
                            <a:pt x="25" y="742"/>
                          </a:lnTo>
                          <a:lnTo>
                            <a:pt x="1" y="737"/>
                          </a:lnTo>
                          <a:lnTo>
                            <a:pt x="0" y="730"/>
                          </a:lnTo>
                          <a:lnTo>
                            <a:pt x="3" y="724"/>
                          </a:lnTo>
                          <a:lnTo>
                            <a:pt x="94" y="618"/>
                          </a:lnTo>
                          <a:lnTo>
                            <a:pt x="94" y="536"/>
                          </a:lnTo>
                          <a:lnTo>
                            <a:pt x="71" y="518"/>
                          </a:lnTo>
                          <a:lnTo>
                            <a:pt x="44" y="497"/>
                          </a:lnTo>
                          <a:lnTo>
                            <a:pt x="40" y="479"/>
                          </a:lnTo>
                          <a:lnTo>
                            <a:pt x="40" y="461"/>
                          </a:lnTo>
                          <a:lnTo>
                            <a:pt x="44" y="438"/>
                          </a:lnTo>
                          <a:lnTo>
                            <a:pt x="62" y="413"/>
                          </a:lnTo>
                          <a:lnTo>
                            <a:pt x="82" y="386"/>
                          </a:lnTo>
                          <a:lnTo>
                            <a:pt x="79" y="364"/>
                          </a:lnTo>
                          <a:lnTo>
                            <a:pt x="88" y="350"/>
                          </a:lnTo>
                          <a:lnTo>
                            <a:pt x="103" y="332"/>
                          </a:lnTo>
                          <a:lnTo>
                            <a:pt x="116" y="316"/>
                          </a:lnTo>
                          <a:lnTo>
                            <a:pt x="121" y="301"/>
                          </a:lnTo>
                          <a:lnTo>
                            <a:pt x="128" y="284"/>
                          </a:lnTo>
                          <a:lnTo>
                            <a:pt x="125" y="271"/>
                          </a:lnTo>
                          <a:lnTo>
                            <a:pt x="136" y="253"/>
                          </a:lnTo>
                          <a:lnTo>
                            <a:pt x="159" y="231"/>
                          </a:lnTo>
                          <a:lnTo>
                            <a:pt x="124" y="205"/>
                          </a:lnTo>
                          <a:lnTo>
                            <a:pt x="104" y="207"/>
                          </a:lnTo>
                          <a:lnTo>
                            <a:pt x="89" y="184"/>
                          </a:lnTo>
                          <a:lnTo>
                            <a:pt x="122" y="115"/>
                          </a:lnTo>
                          <a:lnTo>
                            <a:pt x="109" y="81"/>
                          </a:lnTo>
                          <a:lnTo>
                            <a:pt x="103" y="60"/>
                          </a:lnTo>
                          <a:lnTo>
                            <a:pt x="106" y="59"/>
                          </a:lnTo>
                          <a:lnTo>
                            <a:pt x="119" y="56"/>
                          </a:lnTo>
                          <a:lnTo>
                            <a:pt x="121" y="51"/>
                          </a:lnTo>
                          <a:lnTo>
                            <a:pt x="127" y="3"/>
                          </a:lnTo>
                          <a:lnTo>
                            <a:pt x="133" y="2"/>
                          </a:lnTo>
                          <a:lnTo>
                            <a:pt x="146" y="0"/>
                          </a:lnTo>
                          <a:lnTo>
                            <a:pt x="159" y="5"/>
                          </a:lnTo>
                          <a:lnTo>
                            <a:pt x="165" y="8"/>
                          </a:lnTo>
                          <a:lnTo>
                            <a:pt x="180" y="15"/>
                          </a:lnTo>
                          <a:lnTo>
                            <a:pt x="194" y="23"/>
                          </a:lnTo>
                          <a:lnTo>
                            <a:pt x="210" y="23"/>
                          </a:lnTo>
                          <a:lnTo>
                            <a:pt x="224" y="21"/>
                          </a:lnTo>
                          <a:lnTo>
                            <a:pt x="233" y="26"/>
                          </a:lnTo>
                          <a:lnTo>
                            <a:pt x="237" y="29"/>
                          </a:lnTo>
                          <a:lnTo>
                            <a:pt x="246" y="35"/>
                          </a:lnTo>
                          <a:lnTo>
                            <a:pt x="254" y="33"/>
                          </a:lnTo>
                          <a:lnTo>
                            <a:pt x="260" y="33"/>
                          </a:lnTo>
                          <a:close/>
                        </a:path>
                      </a:pathLst>
                    </a:custGeom>
                    <a:solidFill>
                      <a:srgbClr val="e9ffb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8" name="Freeform 145"/>
                    <p:cNvSpPr/>
                    <p:nvPr/>
                  </p:nvSpPr>
                  <p:spPr>
                    <a:xfrm>
                      <a:off x="7896240" y="1501560"/>
                      <a:ext cx="5040" cy="17640"/>
                    </a:xfrm>
                    <a:custGeom>
                      <a:avLst/>
                      <a:gdLst>
                        <a:gd name="textAreaLeft" fmla="*/ 0 w 5040"/>
                        <a:gd name="textAreaRight" fmla="*/ 5400 w 504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3" h="11">
                          <a:moveTo>
                            <a:pt x="0" y="0"/>
                          </a:moveTo>
                          <a:lnTo>
                            <a:pt x="1" y="8"/>
                          </a:lnTo>
                          <a:lnTo>
                            <a:pt x="3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9" name="Freeform 146"/>
                    <p:cNvSpPr/>
                    <p:nvPr/>
                  </p:nvSpPr>
                  <p:spPr>
                    <a:xfrm>
                      <a:off x="7906320" y="1538280"/>
                      <a:ext cx="1800" cy="19080"/>
                    </a:xfrm>
                    <a:custGeom>
                      <a:avLst/>
                      <a:gdLst>
                        <a:gd name="textAreaLeft" fmla="*/ 0 w 1800"/>
                        <a:gd name="textAreaRight" fmla="*/ 2160 w 180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1" h="12">
                          <a:moveTo>
                            <a:pt x="0" y="0"/>
                          </a:moveTo>
                          <a:lnTo>
                            <a:pt x="1" y="10"/>
                          </a:lnTo>
                          <a:lnTo>
                            <a:pt x="1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0" name="Freeform 147"/>
                    <p:cNvSpPr/>
                    <p:nvPr/>
                  </p:nvSpPr>
                  <p:spPr>
                    <a:xfrm>
                      <a:off x="7911360" y="1576440"/>
                      <a:ext cx="6840" cy="19080"/>
                    </a:xfrm>
                    <a:custGeom>
                      <a:avLst/>
                      <a:gdLst>
                        <a:gd name="textAreaLeft" fmla="*/ 0 w 6840"/>
                        <a:gd name="textAreaRight" fmla="*/ 7200 w 68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4" h="12">
                          <a:moveTo>
                            <a:pt x="0" y="0"/>
                          </a:moveTo>
                          <a:lnTo>
                            <a:pt x="1" y="1"/>
                          </a:lnTo>
                          <a:lnTo>
                            <a:pt x="4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1" name="Freeform 148"/>
                    <p:cNvSpPr/>
                    <p:nvPr/>
                  </p:nvSpPr>
                  <p:spPr>
                    <a:xfrm>
                      <a:off x="7923240" y="1611360"/>
                      <a:ext cx="11880" cy="14040"/>
                    </a:xfrm>
                    <a:custGeom>
                      <a:avLst/>
                      <a:gdLst>
                        <a:gd name="textAreaLeft" fmla="*/ 0 w 11880"/>
                        <a:gd name="textAreaRight" fmla="*/ 12240 w 11880"/>
                        <a:gd name="textAreaTop" fmla="*/ 0 h 14040"/>
                        <a:gd name="textAreaBottom" fmla="*/ 14400 h 14040"/>
                      </a:gdLst>
                      <a:ahLst/>
                      <a:rect l="textAreaLeft" t="textAreaTop" r="textAreaRight" b="textAreaBottom"/>
                      <a:pathLst>
                        <a:path w="7" h="9">
                          <a:moveTo>
                            <a:pt x="0" y="0"/>
                          </a:moveTo>
                          <a:lnTo>
                            <a:pt x="3" y="6"/>
                          </a:lnTo>
                          <a:lnTo>
                            <a:pt x="7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2" name="Freeform 149"/>
                    <p:cNvSpPr/>
                    <p:nvPr/>
                  </p:nvSpPr>
                  <p:spPr>
                    <a:xfrm>
                      <a:off x="7950960" y="1636560"/>
                      <a:ext cx="13320" cy="17640"/>
                    </a:xfrm>
                    <a:custGeom>
                      <a:avLst/>
                      <a:gdLst>
                        <a:gd name="textAreaLeft" fmla="*/ 0 w 13320"/>
                        <a:gd name="textAreaRight" fmla="*/ 13680 w 1332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8" h="11">
                          <a:moveTo>
                            <a:pt x="0" y="0"/>
                          </a:moveTo>
                          <a:lnTo>
                            <a:pt x="5" y="5"/>
                          </a:lnTo>
                          <a:lnTo>
                            <a:pt x="8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3" name="Freeform 150"/>
                    <p:cNvSpPr/>
                    <p:nvPr/>
                  </p:nvSpPr>
                  <p:spPr>
                    <a:xfrm>
                      <a:off x="7975080" y="1670040"/>
                      <a:ext cx="16920" cy="936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9360"/>
                        <a:gd name="textAreaBottom" fmla="*/ 9720 h 9360"/>
                      </a:gdLst>
                      <a:ahLst/>
                      <a:rect l="textAreaLeft" t="textAreaTop" r="textAreaRight" b="textAreaBottom"/>
                      <a:pathLst>
                        <a:path w="10" h="6">
                          <a:moveTo>
                            <a:pt x="0" y="0"/>
                          </a:moveTo>
                          <a:lnTo>
                            <a:pt x="3" y="2"/>
                          </a:lnTo>
                          <a:lnTo>
                            <a:pt x="10" y="6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4" name="Freeform 151"/>
                    <p:cNvSpPr/>
                    <p:nvPr/>
                  </p:nvSpPr>
                  <p:spPr>
                    <a:xfrm>
                      <a:off x="8007120" y="1692360"/>
                      <a:ext cx="8280" cy="1584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5" h="10">
                          <a:moveTo>
                            <a:pt x="0" y="0"/>
                          </a:moveTo>
                          <a:lnTo>
                            <a:pt x="5" y="4"/>
                          </a:lnTo>
                          <a:lnTo>
                            <a:pt x="5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5" name="Line 152"/>
                    <p:cNvSpPr/>
                    <p:nvPr/>
                  </p:nvSpPr>
                  <p:spPr>
                    <a:xfrm>
                      <a:off x="8015760" y="17272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6" name="Line 153"/>
                    <p:cNvSpPr/>
                    <p:nvPr/>
                  </p:nvSpPr>
                  <p:spPr>
                    <a:xfrm>
                      <a:off x="8012520" y="17650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7" name="Line 154"/>
                    <p:cNvSpPr/>
                    <p:nvPr/>
                  </p:nvSpPr>
                  <p:spPr>
                    <a:xfrm flipH="1">
                      <a:off x="8010360" y="1803240"/>
                      <a:ext cx="180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8" name="Line 155"/>
                    <p:cNvSpPr/>
                    <p:nvPr/>
                  </p:nvSpPr>
                  <p:spPr>
                    <a:xfrm>
                      <a:off x="8010720" y="184140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9" name="Freeform 156"/>
                    <p:cNvSpPr/>
                    <p:nvPr/>
                  </p:nvSpPr>
                  <p:spPr>
                    <a:xfrm>
                      <a:off x="8007120" y="1879560"/>
                      <a:ext cx="5400" cy="15840"/>
                    </a:xfrm>
                    <a:custGeom>
                      <a:avLst/>
                      <a:gdLst>
                        <a:gd name="textAreaLeft" fmla="*/ 0 w 5400"/>
                        <a:gd name="textAreaRight" fmla="*/ 5760 w 540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3" h="10">
                          <a:moveTo>
                            <a:pt x="2" y="0"/>
                          </a:moveTo>
                          <a:lnTo>
                            <a:pt x="0" y="9"/>
                          </a:lnTo>
                          <a:lnTo>
                            <a:pt x="3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0" name="Freeform 157"/>
                    <p:cNvSpPr/>
                    <p:nvPr/>
                  </p:nvSpPr>
                  <p:spPr>
                    <a:xfrm>
                      <a:off x="8031240" y="1908000"/>
                      <a:ext cx="10440" cy="14400"/>
                    </a:xfrm>
                    <a:custGeom>
                      <a:avLst/>
                      <a:gdLst>
                        <a:gd name="textAreaLeft" fmla="*/ 0 w 10440"/>
                        <a:gd name="textAreaRight" fmla="*/ 10800 w 1044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6" h="9">
                          <a:moveTo>
                            <a:pt x="0" y="0"/>
                          </a:moveTo>
                          <a:lnTo>
                            <a:pt x="1" y="0"/>
                          </a:lnTo>
                          <a:lnTo>
                            <a:pt x="4" y="4"/>
                          </a:lnTo>
                          <a:lnTo>
                            <a:pt x="6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1" name="Freeform 158"/>
                    <p:cNvSpPr/>
                    <p:nvPr/>
                  </p:nvSpPr>
                  <p:spPr>
                    <a:xfrm>
                      <a:off x="8048160" y="1938240"/>
                      <a:ext cx="20520" cy="324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2" h="2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8" y="0"/>
                          </a:lnTo>
                          <a:lnTo>
                            <a:pt x="12" y="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2" name="Freeform 159"/>
                    <p:cNvSpPr/>
                    <p:nvPr/>
                  </p:nvSpPr>
                  <p:spPr>
                    <a:xfrm>
                      <a:off x="8089200" y="1938240"/>
                      <a:ext cx="205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0">
                          <a:moveTo>
                            <a:pt x="0" y="0"/>
                          </a:moveTo>
                          <a:lnTo>
                            <a:pt x="3" y="0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3" name="Freeform 160"/>
                    <p:cNvSpPr/>
                    <p:nvPr/>
                  </p:nvSpPr>
                  <p:spPr>
                    <a:xfrm>
                      <a:off x="8130600" y="1942920"/>
                      <a:ext cx="10080" cy="17640"/>
                    </a:xfrm>
                    <a:custGeom>
                      <a:avLst/>
                      <a:gdLst>
                        <a:gd name="textAreaLeft" fmla="*/ 0 w 10080"/>
                        <a:gd name="textAreaRight" fmla="*/ 10440 w 1008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6" h="11">
                          <a:moveTo>
                            <a:pt x="0" y="0"/>
                          </a:moveTo>
                          <a:lnTo>
                            <a:pt x="3" y="8"/>
                          </a:lnTo>
                          <a:lnTo>
                            <a:pt x="6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4" name="Freeform 161"/>
                    <p:cNvSpPr/>
                    <p:nvPr/>
                  </p:nvSpPr>
                  <p:spPr>
                    <a:xfrm>
                      <a:off x="8156160" y="1969920"/>
                      <a:ext cx="20520" cy="180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1800"/>
                        <a:gd name="textAreaBottom" fmla="*/ 2160 h 1800"/>
                      </a:gdLst>
                      <a:ahLst/>
                      <a:rect l="textAreaLeft" t="textAreaTop" r="textAreaRight" b="textAreaBottom"/>
                      <a:pathLst>
                        <a:path w="12" h="1">
                          <a:moveTo>
                            <a:pt x="0" y="0"/>
                          </a:moveTo>
                          <a:lnTo>
                            <a:pt x="4" y="1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5" name="Freeform 162"/>
                    <p:cNvSpPr/>
                    <p:nvPr/>
                  </p:nvSpPr>
                  <p:spPr>
                    <a:xfrm>
                      <a:off x="8193600" y="1955880"/>
                      <a:ext cx="20520" cy="468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2" h="3">
                          <a:moveTo>
                            <a:pt x="0" y="3"/>
                          </a:moveTo>
                          <a:lnTo>
                            <a:pt x="0" y="3"/>
                          </a:lnTo>
                          <a:lnTo>
                            <a:pt x="8" y="0"/>
                          </a:lnTo>
                          <a:lnTo>
                            <a:pt x="12" y="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6" name="Freeform 163"/>
                    <p:cNvSpPr/>
                    <p:nvPr/>
                  </p:nvSpPr>
                  <p:spPr>
                    <a:xfrm>
                      <a:off x="8232840" y="1965240"/>
                      <a:ext cx="5400" cy="19080"/>
                    </a:xfrm>
                    <a:custGeom>
                      <a:avLst/>
                      <a:gdLst>
                        <a:gd name="textAreaLeft" fmla="*/ 0 w 5400"/>
                        <a:gd name="textAreaRight" fmla="*/ 5760 w 540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3" h="12">
                          <a:moveTo>
                            <a:pt x="0" y="0"/>
                          </a:moveTo>
                          <a:lnTo>
                            <a:pt x="1" y="4"/>
                          </a:lnTo>
                          <a:lnTo>
                            <a:pt x="3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7" name="Freeform 164"/>
                    <p:cNvSpPr/>
                    <p:nvPr/>
                  </p:nvSpPr>
                  <p:spPr>
                    <a:xfrm>
                      <a:off x="8232840" y="2000160"/>
                      <a:ext cx="6840" cy="17640"/>
                    </a:xfrm>
                    <a:custGeom>
                      <a:avLst/>
                      <a:gdLst>
                        <a:gd name="textAreaLeft" fmla="*/ 0 w 6840"/>
                        <a:gd name="textAreaRight" fmla="*/ 7200 w 684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4" h="11">
                          <a:moveTo>
                            <a:pt x="4" y="0"/>
                          </a:moveTo>
                          <a:lnTo>
                            <a:pt x="4" y="5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8" name="Freeform 165"/>
                    <p:cNvSpPr/>
                    <p:nvPr/>
                  </p:nvSpPr>
                  <p:spPr>
                    <a:xfrm>
                      <a:off x="8202240" y="2028600"/>
                      <a:ext cx="11880" cy="14400"/>
                    </a:xfrm>
                    <a:custGeom>
                      <a:avLst/>
                      <a:gdLst>
                        <a:gd name="textAreaLeft" fmla="*/ 0 w 11880"/>
                        <a:gd name="textAreaRight" fmla="*/ 12240 w 118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7" h="9">
                          <a:moveTo>
                            <a:pt x="7" y="0"/>
                          </a:moveTo>
                          <a:lnTo>
                            <a:pt x="4" y="3"/>
                          </a:lnTo>
                          <a:lnTo>
                            <a:pt x="0" y="9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9" name="Freeform 166"/>
                    <p:cNvSpPr/>
                    <p:nvPr/>
                  </p:nvSpPr>
                  <p:spPr>
                    <a:xfrm>
                      <a:off x="8197200" y="2062080"/>
                      <a:ext cx="1440" cy="19080"/>
                    </a:xfrm>
                    <a:custGeom>
                      <a:avLst/>
                      <a:gdLst>
                        <a:gd name="textAreaLeft" fmla="*/ 0 w 1440"/>
                        <a:gd name="textAreaRight" fmla="*/ 1800 w 14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1" h="12">
                          <a:moveTo>
                            <a:pt x="1" y="0"/>
                          </a:moveTo>
                          <a:lnTo>
                            <a:pt x="1" y="0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0" name="Freeform 167"/>
                    <p:cNvSpPr/>
                    <p:nvPr/>
                  </p:nvSpPr>
                  <p:spPr>
                    <a:xfrm>
                      <a:off x="8197200" y="2100240"/>
                      <a:ext cx="6480" cy="15840"/>
                    </a:xfrm>
                    <a:custGeom>
                      <a:avLst/>
                      <a:gdLst>
                        <a:gd name="textAreaLeft" fmla="*/ 0 w 6480"/>
                        <a:gd name="textAreaRight" fmla="*/ 6840 w 64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4" h="10">
                          <a:moveTo>
                            <a:pt x="0" y="0"/>
                          </a:moveTo>
                          <a:lnTo>
                            <a:pt x="0" y="0"/>
                          </a:lnTo>
                          <a:lnTo>
                            <a:pt x="3" y="6"/>
                          </a:lnTo>
                          <a:lnTo>
                            <a:pt x="4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1" name="Freeform 168"/>
                    <p:cNvSpPr/>
                    <p:nvPr/>
                  </p:nvSpPr>
                  <p:spPr>
                    <a:xfrm>
                      <a:off x="8212320" y="2135160"/>
                      <a:ext cx="15480" cy="12600"/>
                    </a:xfrm>
                    <a:custGeom>
                      <a:avLst/>
                      <a:gdLst>
                        <a:gd name="textAreaLeft" fmla="*/ 0 w 15480"/>
                        <a:gd name="textAreaRight" fmla="*/ 15840 w 15480"/>
                        <a:gd name="textAreaTop" fmla="*/ 0 h 12600"/>
                        <a:gd name="textAreaBottom" fmla="*/ 12960 h 12600"/>
                      </a:gdLst>
                      <a:ahLst/>
                      <a:rect l="textAreaLeft" t="textAreaTop" r="textAreaRight" b="textAreaBottom"/>
                      <a:pathLst>
                        <a:path w="9" h="8">
                          <a:moveTo>
                            <a:pt x="0" y="0"/>
                          </a:moveTo>
                          <a:lnTo>
                            <a:pt x="4" y="6"/>
                          </a:lnTo>
                          <a:lnTo>
                            <a:pt x="9" y="8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2" name="Freeform 169"/>
                    <p:cNvSpPr/>
                    <p:nvPr/>
                  </p:nvSpPr>
                  <p:spPr>
                    <a:xfrm>
                      <a:off x="8244720" y="2144520"/>
                      <a:ext cx="20520" cy="792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2" h="5">
                          <a:moveTo>
                            <a:pt x="0" y="2"/>
                          </a:moveTo>
                          <a:lnTo>
                            <a:pt x="3" y="0"/>
                          </a:lnTo>
                          <a:lnTo>
                            <a:pt x="12" y="5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3" name="Freeform 170"/>
                    <p:cNvSpPr/>
                    <p:nvPr/>
                  </p:nvSpPr>
                  <p:spPr>
                    <a:xfrm>
                      <a:off x="8286120" y="2154240"/>
                      <a:ext cx="20520" cy="324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2" h="2">
                          <a:moveTo>
                            <a:pt x="0" y="0"/>
                          </a:moveTo>
                          <a:lnTo>
                            <a:pt x="11" y="2"/>
                          </a:lnTo>
                          <a:lnTo>
                            <a:pt x="12" y="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4" name="Freeform 171"/>
                    <p:cNvSpPr/>
                    <p:nvPr/>
                  </p:nvSpPr>
                  <p:spPr>
                    <a:xfrm>
                      <a:off x="8311680" y="2163600"/>
                      <a:ext cx="8280" cy="1908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5" h="12">
                          <a:moveTo>
                            <a:pt x="5" y="0"/>
                          </a:moveTo>
                          <a:lnTo>
                            <a:pt x="5" y="2"/>
                          </a:lnTo>
                          <a:lnTo>
                            <a:pt x="2" y="8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5" name="Freeform 172"/>
                    <p:cNvSpPr/>
                    <p:nvPr/>
                  </p:nvSpPr>
                  <p:spPr>
                    <a:xfrm>
                      <a:off x="8294400" y="2197080"/>
                      <a:ext cx="6840" cy="19080"/>
                    </a:xfrm>
                    <a:custGeom>
                      <a:avLst/>
                      <a:gdLst>
                        <a:gd name="textAreaLeft" fmla="*/ 0 w 6840"/>
                        <a:gd name="textAreaRight" fmla="*/ 7200 w 68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4" h="12">
                          <a:moveTo>
                            <a:pt x="4" y="0"/>
                          </a:moveTo>
                          <a:lnTo>
                            <a:pt x="1" y="5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6" name="Freeform 173"/>
                    <p:cNvSpPr/>
                    <p:nvPr/>
                  </p:nvSpPr>
                  <p:spPr>
                    <a:xfrm>
                      <a:off x="8265600" y="2233440"/>
                      <a:ext cx="18720" cy="504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11" y="0"/>
                          </a:moveTo>
                          <a:lnTo>
                            <a:pt x="9" y="3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7" name="Freeform 174"/>
                    <p:cNvSpPr/>
                    <p:nvPr/>
                  </p:nvSpPr>
                  <p:spPr>
                    <a:xfrm>
                      <a:off x="8229600" y="2239920"/>
                      <a:ext cx="15120" cy="936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9360"/>
                        <a:gd name="textAreaBottom" fmla="*/ 9720 h 9360"/>
                      </a:gdLst>
                      <a:ahLst/>
                      <a:rect l="textAreaLeft" t="textAreaTop" r="textAreaRight" b="textAreaBottom"/>
                      <a:pathLst>
                        <a:path w="9" h="6">
                          <a:moveTo>
                            <a:pt x="9" y="0"/>
                          </a:moveTo>
                          <a:lnTo>
                            <a:pt x="5" y="0"/>
                          </a:lnTo>
                          <a:lnTo>
                            <a:pt x="0" y="6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8" name="Line 175"/>
                    <p:cNvSpPr/>
                    <p:nvPr/>
                  </p:nvSpPr>
                  <p:spPr>
                    <a:xfrm>
                      <a:off x="8219160" y="22636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9" name="Freeform 176"/>
                    <p:cNvSpPr/>
                    <p:nvPr/>
                  </p:nvSpPr>
                  <p:spPr>
                    <a:xfrm>
                      <a:off x="8219160" y="2301840"/>
                      <a:ext cx="5040" cy="19080"/>
                    </a:xfrm>
                    <a:custGeom>
                      <a:avLst/>
                      <a:gdLst>
                        <a:gd name="textAreaLeft" fmla="*/ 0 w 5040"/>
                        <a:gd name="textAreaRight" fmla="*/ 5400 w 50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3" h="12">
                          <a:moveTo>
                            <a:pt x="0" y="0"/>
                          </a:moveTo>
                          <a:lnTo>
                            <a:pt x="0" y="2"/>
                          </a:lnTo>
                          <a:lnTo>
                            <a:pt x="2" y="8"/>
                          </a:lnTo>
                          <a:lnTo>
                            <a:pt x="3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0" name="Freeform 177"/>
                    <p:cNvSpPr/>
                    <p:nvPr/>
                  </p:nvSpPr>
                  <p:spPr>
                    <a:xfrm>
                      <a:off x="8227800" y="2340000"/>
                      <a:ext cx="36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0"/>
                          </a:moveTo>
                          <a:lnTo>
                            <a:pt x="0" y="3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1" name="Freeform 178"/>
                    <p:cNvSpPr/>
                    <p:nvPr/>
                  </p:nvSpPr>
                  <p:spPr>
                    <a:xfrm>
                      <a:off x="8227800" y="2378160"/>
                      <a:ext cx="36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0"/>
                          </a:moveTo>
                          <a:lnTo>
                            <a:pt x="0" y="3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2" name="Freeform 179"/>
                    <p:cNvSpPr/>
                    <p:nvPr/>
                  </p:nvSpPr>
                  <p:spPr>
                    <a:xfrm>
                      <a:off x="8227800" y="2415960"/>
                      <a:ext cx="36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0"/>
                          </a:moveTo>
                          <a:lnTo>
                            <a:pt x="0" y="4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3" name="Freeform 180"/>
                    <p:cNvSpPr/>
                    <p:nvPr/>
                  </p:nvSpPr>
                  <p:spPr>
                    <a:xfrm>
                      <a:off x="8224200" y="2454120"/>
                      <a:ext cx="5400" cy="19080"/>
                    </a:xfrm>
                    <a:custGeom>
                      <a:avLst/>
                      <a:gdLst>
                        <a:gd name="textAreaLeft" fmla="*/ 0 w 5400"/>
                        <a:gd name="textAreaRight" fmla="*/ 5760 w 540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3" h="12">
                          <a:moveTo>
                            <a:pt x="3" y="0"/>
                          </a:moveTo>
                          <a:lnTo>
                            <a:pt x="3" y="4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4" name="Freeform 181"/>
                    <p:cNvSpPr/>
                    <p:nvPr/>
                  </p:nvSpPr>
                  <p:spPr>
                    <a:xfrm>
                      <a:off x="8188560" y="2484360"/>
                      <a:ext cx="18360" cy="324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1" h="2">
                          <a:moveTo>
                            <a:pt x="11" y="0"/>
                          </a:moveTo>
                          <a:lnTo>
                            <a:pt x="9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5" name="Line 182"/>
                    <p:cNvSpPr/>
                    <p:nvPr/>
                  </p:nvSpPr>
                  <p:spPr>
                    <a:xfrm flipH="1">
                      <a:off x="8147160" y="2479680"/>
                      <a:ext cx="20520" cy="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6" name="Freeform 183"/>
                    <p:cNvSpPr/>
                    <p:nvPr/>
                  </p:nvSpPr>
                  <p:spPr>
                    <a:xfrm>
                      <a:off x="8107920" y="2477880"/>
                      <a:ext cx="18720" cy="180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1800"/>
                        <a:gd name="textAreaBottom" fmla="*/ 2160 h 1800"/>
                      </a:gdLst>
                      <a:ahLst/>
                      <a:rect l="textAreaLeft" t="textAreaTop" r="textAreaRight" b="textAreaBottom"/>
                      <a:pathLst>
                        <a:path w="11" h="1">
                          <a:moveTo>
                            <a:pt x="11" y="1"/>
                          </a:moveTo>
                          <a:lnTo>
                            <a:pt x="4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4640" bIns="-44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7" name="Freeform 184"/>
                    <p:cNvSpPr/>
                    <p:nvPr/>
                  </p:nvSpPr>
                  <p:spPr>
                    <a:xfrm>
                      <a:off x="8068680" y="2465280"/>
                      <a:ext cx="18720" cy="972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9720"/>
                        <a:gd name="textAreaBottom" fmla="*/ 10080 h 9720"/>
                      </a:gdLst>
                      <a:ahLst/>
                      <a:rect l="textAreaLeft" t="textAreaTop" r="textAreaRight" b="textAreaBottom"/>
                      <a:pathLst>
                        <a:path w="11" h="6">
                          <a:moveTo>
                            <a:pt x="11" y="6"/>
                          </a:moveTo>
                          <a:lnTo>
                            <a:pt x="8" y="5"/>
                          </a:lnTo>
                          <a:lnTo>
                            <a:pt x="3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8" name="Line 185"/>
                    <p:cNvSpPr/>
                    <p:nvPr/>
                  </p:nvSpPr>
                  <p:spPr>
                    <a:xfrm flipH="1" flipV="1">
                      <a:off x="8030880" y="2449080"/>
                      <a:ext cx="16920" cy="9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9" name="Line 186"/>
                    <p:cNvSpPr/>
                    <p:nvPr/>
                  </p:nvSpPr>
                  <p:spPr>
                    <a:xfrm flipH="1" flipV="1">
                      <a:off x="7991640" y="2435040"/>
                      <a:ext cx="20520" cy="64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0" name="Line 187"/>
                    <p:cNvSpPr/>
                    <p:nvPr/>
                  </p:nvSpPr>
                  <p:spPr>
                    <a:xfrm flipH="1">
                      <a:off x="7956000" y="2440080"/>
                      <a:ext cx="18720" cy="93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1" name="Freeform 188"/>
                    <p:cNvSpPr/>
                    <p:nvPr/>
                  </p:nvSpPr>
                  <p:spPr>
                    <a:xfrm>
                      <a:off x="7928280" y="2459160"/>
                      <a:ext cx="10440" cy="15840"/>
                    </a:xfrm>
                    <a:custGeom>
                      <a:avLst/>
                      <a:gdLst>
                        <a:gd name="textAreaLeft" fmla="*/ 0 w 10440"/>
                        <a:gd name="textAreaRight" fmla="*/ 10800 w 1044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6" h="10">
                          <a:moveTo>
                            <a:pt x="6" y="0"/>
                          </a:move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2" name="Freeform 189"/>
                    <p:cNvSpPr/>
                    <p:nvPr/>
                  </p:nvSpPr>
                  <p:spPr>
                    <a:xfrm>
                      <a:off x="7911360" y="2489040"/>
                      <a:ext cx="3240" cy="19080"/>
                    </a:xfrm>
                    <a:custGeom>
                      <a:avLst/>
                      <a:gdLst>
                        <a:gd name="textAreaLeft" fmla="*/ 0 w 3240"/>
                        <a:gd name="textAreaRight" fmla="*/ 3600 w 32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2" h="12">
                          <a:moveTo>
                            <a:pt x="2" y="0"/>
                          </a:moveTo>
                          <a:lnTo>
                            <a:pt x="1" y="2"/>
                          </a:lnTo>
                          <a:lnTo>
                            <a:pt x="0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3" name="Freeform 190"/>
                    <p:cNvSpPr/>
                    <p:nvPr/>
                  </p:nvSpPr>
                  <p:spPr>
                    <a:xfrm>
                      <a:off x="7908120" y="2527200"/>
                      <a:ext cx="2880" cy="19080"/>
                    </a:xfrm>
                    <a:custGeom>
                      <a:avLst/>
                      <a:gdLst>
                        <a:gd name="textAreaLeft" fmla="*/ 0 w 2880"/>
                        <a:gd name="textAreaRight" fmla="*/ 3240 w 288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2" h="12">
                          <a:moveTo>
                            <a:pt x="0" y="0"/>
                          </a:moveTo>
                          <a:lnTo>
                            <a:pt x="0" y="3"/>
                          </a:lnTo>
                          <a:lnTo>
                            <a:pt x="0" y="11"/>
                          </a:lnTo>
                          <a:lnTo>
                            <a:pt x="2" y="1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4" name="Line 191"/>
                    <p:cNvSpPr/>
                    <p:nvPr/>
                  </p:nvSpPr>
                  <p:spPr>
                    <a:xfrm>
                      <a:off x="7914960" y="2565360"/>
                      <a:ext cx="32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5" name="Line 192"/>
                    <p:cNvSpPr/>
                    <p:nvPr/>
                  </p:nvSpPr>
                  <p:spPr>
                    <a:xfrm>
                      <a:off x="7923240" y="2603520"/>
                      <a:ext cx="504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6" name="Freeform 193"/>
                    <p:cNvSpPr/>
                    <p:nvPr/>
                  </p:nvSpPr>
                  <p:spPr>
                    <a:xfrm>
                      <a:off x="7911360" y="2638440"/>
                      <a:ext cx="8280" cy="1728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7280"/>
                        <a:gd name="textAreaBottom" fmla="*/ 17280 h 17280"/>
                      </a:gdLst>
                      <a:ahLst/>
                      <a:rect l="textAreaLeft" t="textAreaTop" r="textAreaRight" b="textAreaBottom"/>
                      <a:pathLst>
                        <a:path w="5" h="11">
                          <a:moveTo>
                            <a:pt x="5" y="0"/>
                          </a:moveTo>
                          <a:lnTo>
                            <a:pt x="2" y="3"/>
                          </a:lnTo>
                          <a:lnTo>
                            <a:pt x="0" y="1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7" name="Freeform 194"/>
                    <p:cNvSpPr/>
                    <p:nvPr/>
                  </p:nvSpPr>
                  <p:spPr>
                    <a:xfrm>
                      <a:off x="7882200" y="2651040"/>
                      <a:ext cx="18720" cy="1116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11160"/>
                        <a:gd name="textAreaBottom" fmla="*/ 11520 h 11160"/>
                      </a:gdLst>
                      <a:ahLst/>
                      <a:rect l="textAreaLeft" t="textAreaTop" r="textAreaRight" b="textAreaBottom"/>
                      <a:pathLst>
                        <a:path w="11" h="7">
                          <a:moveTo>
                            <a:pt x="11" y="7"/>
                          </a:moveTo>
                          <a:lnTo>
                            <a:pt x="2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280" bIns="-352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8" name="Freeform 195"/>
                    <p:cNvSpPr/>
                    <p:nvPr/>
                  </p:nvSpPr>
                  <p:spPr>
                    <a:xfrm>
                      <a:off x="7844760" y="2641680"/>
                      <a:ext cx="20520" cy="144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1440"/>
                        <a:gd name="textAreaBottom" fmla="*/ 1800 h 1440"/>
                      </a:gdLst>
                      <a:ahLst/>
                      <a:rect l="textAreaLeft" t="textAreaTop" r="textAreaRight" b="textAreaBottom"/>
                      <a:pathLst>
                        <a:path w="12" h="1">
                          <a:moveTo>
                            <a:pt x="12" y="0"/>
                          </a:moveTo>
                          <a:lnTo>
                            <a:pt x="1" y="1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9" name="Freeform 196"/>
                    <p:cNvSpPr/>
                    <p:nvPr/>
                  </p:nvSpPr>
                  <p:spPr>
                    <a:xfrm>
                      <a:off x="7805520" y="2646360"/>
                      <a:ext cx="18360" cy="468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11" y="1"/>
                          </a:moveTo>
                          <a:lnTo>
                            <a:pt x="5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0" name="Freeform 197"/>
                    <p:cNvSpPr/>
                    <p:nvPr/>
                  </p:nvSpPr>
                  <p:spPr>
                    <a:xfrm>
                      <a:off x="7769520" y="2641680"/>
                      <a:ext cx="18720" cy="468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11" y="0"/>
                          </a:moveTo>
                          <a:lnTo>
                            <a:pt x="9" y="1"/>
                          </a:lnTo>
                          <a:lnTo>
                            <a:pt x="2" y="3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1" name="Line 198"/>
                    <p:cNvSpPr/>
                    <p:nvPr/>
                  </p:nvSpPr>
                  <p:spPr>
                    <a:xfrm flipH="1" flipV="1">
                      <a:off x="7731360" y="263340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2" name="Freeform 199"/>
                    <p:cNvSpPr/>
                    <p:nvPr/>
                  </p:nvSpPr>
                  <p:spPr>
                    <a:xfrm>
                      <a:off x="7694280" y="2622600"/>
                      <a:ext cx="16920" cy="468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0" h="3">
                          <a:moveTo>
                            <a:pt x="10" y="3"/>
                          </a:moveTo>
                          <a:lnTo>
                            <a:pt x="4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3" name="Line 200"/>
                    <p:cNvSpPr/>
                    <p:nvPr/>
                  </p:nvSpPr>
                  <p:spPr>
                    <a:xfrm flipH="1">
                      <a:off x="7652880" y="261936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4" name="Line 201"/>
                    <p:cNvSpPr/>
                    <p:nvPr/>
                  </p:nvSpPr>
                  <p:spPr>
                    <a:xfrm flipH="1" flipV="1">
                      <a:off x="7611840" y="2622240"/>
                      <a:ext cx="20520" cy="46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5" name="Freeform 202"/>
                    <p:cNvSpPr/>
                    <p:nvPr/>
                  </p:nvSpPr>
                  <p:spPr>
                    <a:xfrm>
                      <a:off x="7572960" y="2622600"/>
                      <a:ext cx="18720" cy="468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11" y="0"/>
                          </a:moveTo>
                          <a:lnTo>
                            <a:pt x="8" y="0"/>
                          </a:lnTo>
                          <a:lnTo>
                            <a:pt x="0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6" name="Line 203"/>
                    <p:cNvSpPr/>
                    <p:nvPr/>
                  </p:nvSpPr>
                  <p:spPr>
                    <a:xfrm flipH="1" flipV="1">
                      <a:off x="7531200" y="2627280"/>
                      <a:ext cx="20520" cy="14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7" name="Freeform 204"/>
                    <p:cNvSpPr/>
                    <p:nvPr/>
                  </p:nvSpPr>
                  <p:spPr>
                    <a:xfrm>
                      <a:off x="7490880" y="2624040"/>
                      <a:ext cx="20160" cy="3240"/>
                    </a:xfrm>
                    <a:custGeom>
                      <a:avLst/>
                      <a:gdLst>
                        <a:gd name="textAreaLeft" fmla="*/ 0 w 20160"/>
                        <a:gd name="textAreaRight" fmla="*/ 20520 w 2016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2" h="2">
                          <a:moveTo>
                            <a:pt x="12" y="2"/>
                          </a:moveTo>
                          <a:lnTo>
                            <a:pt x="2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8" name="Freeform 205"/>
                    <p:cNvSpPr/>
                    <p:nvPr/>
                  </p:nvSpPr>
                  <p:spPr>
                    <a:xfrm>
                      <a:off x="7453440" y="2617560"/>
                      <a:ext cx="18360" cy="504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11" y="3"/>
                          </a:moveTo>
                          <a:lnTo>
                            <a:pt x="0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9" name="Freeform 206"/>
                    <p:cNvSpPr/>
                    <p:nvPr/>
                  </p:nvSpPr>
                  <p:spPr>
                    <a:xfrm>
                      <a:off x="7456320" y="2584440"/>
                      <a:ext cx="11880" cy="14400"/>
                    </a:xfrm>
                    <a:custGeom>
                      <a:avLst/>
                      <a:gdLst>
                        <a:gd name="textAreaLeft" fmla="*/ 0 w 11880"/>
                        <a:gd name="textAreaRight" fmla="*/ 12240 w 118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7" h="9">
                          <a:moveTo>
                            <a:pt x="0" y="9"/>
                          </a:moveTo>
                          <a:lnTo>
                            <a:pt x="0" y="9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0" name="Line 207"/>
                    <p:cNvSpPr/>
                    <p:nvPr/>
                  </p:nvSpPr>
                  <p:spPr>
                    <a:xfrm flipV="1">
                      <a:off x="7482600" y="2555640"/>
                      <a:ext cx="11520" cy="140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1" name="Line 208"/>
                    <p:cNvSpPr/>
                    <p:nvPr/>
                  </p:nvSpPr>
                  <p:spPr>
                    <a:xfrm flipV="1">
                      <a:off x="7506000" y="2527200"/>
                      <a:ext cx="1548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2" name="Line 209"/>
                    <p:cNvSpPr/>
                    <p:nvPr/>
                  </p:nvSpPr>
                  <p:spPr>
                    <a:xfrm flipV="1">
                      <a:off x="7535160" y="2498400"/>
                      <a:ext cx="11880" cy="140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3" name="Line 210"/>
                    <p:cNvSpPr/>
                    <p:nvPr/>
                  </p:nvSpPr>
                  <p:spPr>
                    <a:xfrm flipV="1">
                      <a:off x="7560720" y="2468520"/>
                      <a:ext cx="1548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4" name="Line 211"/>
                    <p:cNvSpPr/>
                    <p:nvPr/>
                  </p:nvSpPr>
                  <p:spPr>
                    <a:xfrm flipV="1">
                      <a:off x="7588440" y="2439720"/>
                      <a:ext cx="13320" cy="140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5" name="Line 212"/>
                    <p:cNvSpPr/>
                    <p:nvPr/>
                  </p:nvSpPr>
                  <p:spPr>
                    <a:xfrm flipV="1">
                      <a:off x="7612200" y="240300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6" name="Line 213"/>
                    <p:cNvSpPr/>
                    <p:nvPr/>
                  </p:nvSpPr>
                  <p:spPr>
                    <a:xfrm flipV="1">
                      <a:off x="7612200" y="236484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7" name="Line 214"/>
                    <p:cNvSpPr/>
                    <p:nvPr/>
                  </p:nvSpPr>
                  <p:spPr>
                    <a:xfrm flipV="1">
                      <a:off x="7612200" y="2328480"/>
                      <a:ext cx="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8" name="Freeform 215"/>
                    <p:cNvSpPr/>
                    <p:nvPr/>
                  </p:nvSpPr>
                  <p:spPr>
                    <a:xfrm>
                      <a:off x="7603920" y="2295360"/>
                      <a:ext cx="8280" cy="1440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5" h="9">
                          <a:moveTo>
                            <a:pt x="5" y="9"/>
                          </a:moveTo>
                          <a:lnTo>
                            <a:pt x="5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9" name="Line 216"/>
                    <p:cNvSpPr/>
                    <p:nvPr/>
                  </p:nvSpPr>
                  <p:spPr>
                    <a:xfrm flipH="1" flipV="1">
                      <a:off x="7572600" y="2271240"/>
                      <a:ext cx="15480" cy="111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0" name="Line 217"/>
                    <p:cNvSpPr/>
                    <p:nvPr/>
                  </p:nvSpPr>
                  <p:spPr>
                    <a:xfrm flipH="1" flipV="1">
                      <a:off x="7539840" y="2247480"/>
                      <a:ext cx="15480" cy="111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1" name="Line 218"/>
                    <p:cNvSpPr/>
                    <p:nvPr/>
                  </p:nvSpPr>
                  <p:spPr>
                    <a:xfrm flipH="1" flipV="1">
                      <a:off x="7520040" y="2215800"/>
                      <a:ext cx="50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2" name="Freeform 219"/>
                    <p:cNvSpPr/>
                    <p:nvPr/>
                  </p:nvSpPr>
                  <p:spPr>
                    <a:xfrm>
                      <a:off x="7520040" y="2178000"/>
                      <a:ext cx="360" cy="1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0" h="12">
                          <a:moveTo>
                            <a:pt x="0" y="12"/>
                          </a:moveTo>
                          <a:lnTo>
                            <a:pt x="0" y="2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3" name="Freeform 220"/>
                    <p:cNvSpPr/>
                    <p:nvPr/>
                  </p:nvSpPr>
                  <p:spPr>
                    <a:xfrm>
                      <a:off x="7525080" y="2139840"/>
                      <a:ext cx="5040" cy="19080"/>
                    </a:xfrm>
                    <a:custGeom>
                      <a:avLst/>
                      <a:gdLst>
                        <a:gd name="textAreaLeft" fmla="*/ 0 w 5040"/>
                        <a:gd name="textAreaRight" fmla="*/ 5400 w 504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3" h="12">
                          <a:moveTo>
                            <a:pt x="0" y="12"/>
                          </a:moveTo>
                          <a:lnTo>
                            <a:pt x="1" y="3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4" name="Line 221"/>
                    <p:cNvSpPr/>
                    <p:nvPr/>
                  </p:nvSpPr>
                  <p:spPr>
                    <a:xfrm flipV="1">
                      <a:off x="7542000" y="2109600"/>
                      <a:ext cx="100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5" name="Line 222"/>
                    <p:cNvSpPr/>
                    <p:nvPr/>
                  </p:nvSpPr>
                  <p:spPr>
                    <a:xfrm flipV="1">
                      <a:off x="7566120" y="2079720"/>
                      <a:ext cx="100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6" name="Freeform 223"/>
                    <p:cNvSpPr/>
                    <p:nvPr/>
                  </p:nvSpPr>
                  <p:spPr>
                    <a:xfrm>
                      <a:off x="7588440" y="2046240"/>
                      <a:ext cx="3240" cy="15840"/>
                    </a:xfrm>
                    <a:custGeom>
                      <a:avLst/>
                      <a:gdLst>
                        <a:gd name="textAreaLeft" fmla="*/ 0 w 3240"/>
                        <a:gd name="textAreaRight" fmla="*/ 3600 w 324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2" h="10">
                          <a:moveTo>
                            <a:pt x="0" y="10"/>
                          </a:moveTo>
                          <a:lnTo>
                            <a:pt x="2" y="1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7" name="Line 224"/>
                    <p:cNvSpPr/>
                    <p:nvPr/>
                  </p:nvSpPr>
                  <p:spPr>
                    <a:xfrm flipV="1">
                      <a:off x="7586640" y="2009880"/>
                      <a:ext cx="11520" cy="172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8" name="Line 225"/>
                    <p:cNvSpPr/>
                    <p:nvPr/>
                  </p:nvSpPr>
                  <p:spPr>
                    <a:xfrm flipV="1">
                      <a:off x="7612200" y="1981080"/>
                      <a:ext cx="11880" cy="144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9" name="Freeform 226"/>
                    <p:cNvSpPr/>
                    <p:nvPr/>
                  </p:nvSpPr>
                  <p:spPr>
                    <a:xfrm>
                      <a:off x="7638120" y="1950840"/>
                      <a:ext cx="11880" cy="14400"/>
                    </a:xfrm>
                    <a:custGeom>
                      <a:avLst/>
                      <a:gdLst>
                        <a:gd name="textAreaLeft" fmla="*/ 0 w 11880"/>
                        <a:gd name="textAreaRight" fmla="*/ 12240 w 1188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7" h="9">
                          <a:moveTo>
                            <a:pt x="0" y="9"/>
                          </a:moveTo>
                          <a:lnTo>
                            <a:pt x="7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0" name="Freeform 227"/>
                    <p:cNvSpPr/>
                    <p:nvPr/>
                  </p:nvSpPr>
                  <p:spPr>
                    <a:xfrm>
                      <a:off x="7655040" y="1914480"/>
                      <a:ext cx="8280" cy="1908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9080"/>
                        <a:gd name="textAreaBottom" fmla="*/ 19440 h 19080"/>
                      </a:gdLst>
                      <a:ahLst/>
                      <a:rect l="textAreaLeft" t="textAreaTop" r="textAreaRight" b="textAreaBottom"/>
                      <a:pathLst>
                        <a:path w="5" h="12">
                          <a:moveTo>
                            <a:pt x="0" y="12"/>
                          </a:moveTo>
                          <a:lnTo>
                            <a:pt x="2" y="8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1" name="Freeform 228"/>
                    <p:cNvSpPr/>
                    <p:nvPr/>
                  </p:nvSpPr>
                  <p:spPr>
                    <a:xfrm>
                      <a:off x="7665120" y="1879560"/>
                      <a:ext cx="5400" cy="15840"/>
                    </a:xfrm>
                    <a:custGeom>
                      <a:avLst/>
                      <a:gdLst>
                        <a:gd name="textAreaLeft" fmla="*/ 0 w 5400"/>
                        <a:gd name="textAreaRight" fmla="*/ 5760 w 540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3" h="10">
                          <a:moveTo>
                            <a:pt x="3" y="10"/>
                          </a:move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2" name="Freeform 229"/>
                    <p:cNvSpPr/>
                    <p:nvPr/>
                  </p:nvSpPr>
                  <p:spPr>
                    <a:xfrm>
                      <a:off x="7675560" y="1846080"/>
                      <a:ext cx="13320" cy="15840"/>
                    </a:xfrm>
                    <a:custGeom>
                      <a:avLst/>
                      <a:gdLst>
                        <a:gd name="textAreaLeft" fmla="*/ 0 w 13320"/>
                        <a:gd name="textAreaRight" fmla="*/ 13680 w 1332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8" h="10">
                          <a:moveTo>
                            <a:pt x="0" y="10"/>
                          </a:moveTo>
                          <a:lnTo>
                            <a:pt x="5" y="3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3" name="Line 230"/>
                    <p:cNvSpPr/>
                    <p:nvPr/>
                  </p:nvSpPr>
                  <p:spPr>
                    <a:xfrm flipV="1">
                      <a:off x="7701120" y="1820520"/>
                      <a:ext cx="15480" cy="140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4" name="Line 231"/>
                    <p:cNvSpPr/>
                    <p:nvPr/>
                  </p:nvSpPr>
                  <p:spPr>
                    <a:xfrm flipH="1" flipV="1">
                      <a:off x="7695720" y="1798200"/>
                      <a:ext cx="16920" cy="9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5" name="Line 232"/>
                    <p:cNvSpPr/>
                    <p:nvPr/>
                  </p:nvSpPr>
                  <p:spPr>
                    <a:xfrm flipH="1" flipV="1">
                      <a:off x="7663320" y="1774440"/>
                      <a:ext cx="16920" cy="1260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6" name="Freeform 233"/>
                    <p:cNvSpPr/>
                    <p:nvPr/>
                  </p:nvSpPr>
                  <p:spPr>
                    <a:xfrm>
                      <a:off x="7627320" y="1770120"/>
                      <a:ext cx="15480" cy="7920"/>
                    </a:xfrm>
                    <a:custGeom>
                      <a:avLst/>
                      <a:gdLst>
                        <a:gd name="textAreaLeft" fmla="*/ 0 w 15480"/>
                        <a:gd name="textAreaRight" fmla="*/ 15840 w 1548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9" h="5">
                          <a:moveTo>
                            <a:pt x="9" y="5"/>
                          </a:moveTo>
                          <a:lnTo>
                            <a:pt x="1" y="5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7" name="Freeform 234"/>
                    <p:cNvSpPr/>
                    <p:nvPr/>
                  </p:nvSpPr>
                  <p:spPr>
                    <a:xfrm>
                      <a:off x="7603920" y="1739880"/>
                      <a:ext cx="10080" cy="15840"/>
                    </a:xfrm>
                    <a:custGeom>
                      <a:avLst/>
                      <a:gdLst>
                        <a:gd name="textAreaLeft" fmla="*/ 0 w 10080"/>
                        <a:gd name="textAreaRight" fmla="*/ 10440 w 100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6" h="10">
                          <a:moveTo>
                            <a:pt x="6" y="10"/>
                          </a:moveTo>
                          <a:lnTo>
                            <a:pt x="0" y="1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8" name="Line 235"/>
                    <p:cNvSpPr/>
                    <p:nvPr/>
                  </p:nvSpPr>
                  <p:spPr>
                    <a:xfrm flipV="1">
                      <a:off x="7614000" y="1702800"/>
                      <a:ext cx="10440" cy="176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39" name="Line 236"/>
                    <p:cNvSpPr/>
                    <p:nvPr/>
                  </p:nvSpPr>
                  <p:spPr>
                    <a:xfrm flipV="1">
                      <a:off x="7633080" y="1670040"/>
                      <a:ext cx="6480" cy="172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0" name="Line 237"/>
                    <p:cNvSpPr/>
                    <p:nvPr/>
                  </p:nvSpPr>
                  <p:spPr>
                    <a:xfrm flipV="1">
                      <a:off x="7650000" y="1635120"/>
                      <a:ext cx="82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1" name="Line 238"/>
                    <p:cNvSpPr/>
                    <p:nvPr/>
                  </p:nvSpPr>
                  <p:spPr>
                    <a:xfrm flipH="1" flipV="1">
                      <a:off x="7644240" y="1600200"/>
                      <a:ext cx="8280" cy="1584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2" name="Freeform 239"/>
                    <p:cNvSpPr/>
                    <p:nvPr/>
                  </p:nvSpPr>
                  <p:spPr>
                    <a:xfrm>
                      <a:off x="7633080" y="1563480"/>
                      <a:ext cx="6480" cy="17640"/>
                    </a:xfrm>
                    <a:custGeom>
                      <a:avLst/>
                      <a:gdLst>
                        <a:gd name="textAreaLeft" fmla="*/ 0 w 6480"/>
                        <a:gd name="textAreaRight" fmla="*/ 6840 w 648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4" h="11">
                          <a:moveTo>
                            <a:pt x="4" y="11"/>
                          </a:moveTo>
                          <a:lnTo>
                            <a:pt x="3" y="9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3" name="Freeform 240"/>
                    <p:cNvSpPr/>
                    <p:nvPr/>
                  </p:nvSpPr>
                  <p:spPr>
                    <a:xfrm>
                      <a:off x="7627320" y="1539720"/>
                      <a:ext cx="16920" cy="504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5040"/>
                        <a:gd name="textAreaBottom" fmla="*/ 5400 h 5040"/>
                      </a:gdLst>
                      <a:ahLst/>
                      <a:rect l="textAreaLeft" t="textAreaTop" r="textAreaRight" b="textAreaBottom"/>
                      <a:pathLst>
                        <a:path w="10" h="3">
                          <a:moveTo>
                            <a:pt x="0" y="3"/>
                          </a:moveTo>
                          <a:lnTo>
                            <a:pt x="0" y="3"/>
                          </a:lnTo>
                          <a:lnTo>
                            <a:pt x="3" y="2"/>
                          </a:lnTo>
                          <a:lnTo>
                            <a:pt x="1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400" bIns="-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4" name="Line 241"/>
                    <p:cNvSpPr/>
                    <p:nvPr/>
                  </p:nvSpPr>
                  <p:spPr>
                    <a:xfrm flipV="1">
                      <a:off x="7658640" y="1509840"/>
                      <a:ext cx="1440" cy="1872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5" name="Line 242"/>
                    <p:cNvSpPr/>
                    <p:nvPr/>
                  </p:nvSpPr>
                  <p:spPr>
                    <a:xfrm flipV="1">
                      <a:off x="7663680" y="1471320"/>
                      <a:ext cx="144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6" name="Freeform 243"/>
                    <p:cNvSpPr/>
                    <p:nvPr/>
                  </p:nvSpPr>
                  <p:spPr>
                    <a:xfrm>
                      <a:off x="7670520" y="1449360"/>
                      <a:ext cx="20520" cy="468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2" h="3">
                          <a:moveTo>
                            <a:pt x="0" y="3"/>
                          </a:moveTo>
                          <a:lnTo>
                            <a:pt x="5" y="2"/>
                          </a:lnTo>
                          <a:lnTo>
                            <a:pt x="12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7" name="Freeform 244"/>
                    <p:cNvSpPr/>
                    <p:nvPr/>
                  </p:nvSpPr>
                  <p:spPr>
                    <a:xfrm>
                      <a:off x="7711200" y="1452600"/>
                      <a:ext cx="17280" cy="6120"/>
                    </a:xfrm>
                    <a:custGeom>
                      <a:avLst/>
                      <a:gdLst>
                        <a:gd name="textAreaLeft" fmla="*/ 0 w 17280"/>
                        <a:gd name="textAreaRight" fmla="*/ 17640 w 17280"/>
                        <a:gd name="textAreaTop" fmla="*/ 0 h 6120"/>
                        <a:gd name="textAreaBottom" fmla="*/ 6480 h 6120"/>
                      </a:gdLst>
                      <a:ahLst/>
                      <a:rect l="textAreaLeft" t="textAreaTop" r="textAreaRight" b="textAreaBottom"/>
                      <a:pathLst>
                        <a:path w="10" h="4">
                          <a:moveTo>
                            <a:pt x="0" y="0"/>
                          </a:moveTo>
                          <a:lnTo>
                            <a:pt x="7" y="3"/>
                          </a:lnTo>
                          <a:lnTo>
                            <a:pt x="10" y="4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8" name="Freeform 245"/>
                    <p:cNvSpPr/>
                    <p:nvPr/>
                  </p:nvSpPr>
                  <p:spPr>
                    <a:xfrm>
                      <a:off x="7747200" y="1468440"/>
                      <a:ext cx="16920" cy="792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0" h="5">
                          <a:moveTo>
                            <a:pt x="0" y="0"/>
                          </a:moveTo>
                          <a:lnTo>
                            <a:pt x="7" y="3"/>
                          </a:lnTo>
                          <a:lnTo>
                            <a:pt x="10" y="5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49" name="Line 246"/>
                    <p:cNvSpPr/>
                    <p:nvPr/>
                  </p:nvSpPr>
                  <p:spPr>
                    <a:xfrm>
                      <a:off x="7785000" y="1485720"/>
                      <a:ext cx="20520" cy="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0" name="Freeform 247"/>
                    <p:cNvSpPr/>
                    <p:nvPr/>
                  </p:nvSpPr>
                  <p:spPr>
                    <a:xfrm>
                      <a:off x="7826040" y="1482840"/>
                      <a:ext cx="18360" cy="468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1" h="3">
                          <a:moveTo>
                            <a:pt x="0" y="0"/>
                          </a:moveTo>
                          <a:lnTo>
                            <a:pt x="5" y="0"/>
                          </a:lnTo>
                          <a:lnTo>
                            <a:pt x="11" y="3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1" name="Freeform 248"/>
                    <p:cNvSpPr/>
                    <p:nvPr/>
                  </p:nvSpPr>
                  <p:spPr>
                    <a:xfrm>
                      <a:off x="7861680" y="1496880"/>
                      <a:ext cx="18720" cy="792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1" h="5">
                          <a:moveTo>
                            <a:pt x="0" y="0"/>
                          </a:moveTo>
                          <a:lnTo>
                            <a:pt x="6" y="5"/>
                          </a:lnTo>
                          <a:lnTo>
                            <a:pt x="11" y="5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2" name="Freeform 249"/>
                    <p:cNvSpPr/>
                    <p:nvPr/>
                  </p:nvSpPr>
                  <p:spPr>
                    <a:xfrm>
                      <a:off x="7066800" y="1544760"/>
                      <a:ext cx="656280" cy="1054080"/>
                    </a:xfrm>
                    <a:custGeom>
                      <a:avLst/>
                      <a:gdLst>
                        <a:gd name="textAreaLeft" fmla="*/ 0 w 656280"/>
                        <a:gd name="textAreaRight" fmla="*/ 656640 w 656280"/>
                        <a:gd name="textAreaTop" fmla="*/ 0 h 1054080"/>
                        <a:gd name="textAreaBottom" fmla="*/ 1054080 h 1054080"/>
                      </a:gdLst>
                      <a:ahLst/>
                      <a:rect l="textAreaLeft" t="textAreaTop" r="textAreaRight" b="textAreaBottom"/>
                      <a:pathLst>
                        <a:path w="384" h="664">
                          <a:moveTo>
                            <a:pt x="228" y="664"/>
                          </a:moveTo>
                          <a:lnTo>
                            <a:pt x="226" y="649"/>
                          </a:lnTo>
                          <a:lnTo>
                            <a:pt x="219" y="643"/>
                          </a:lnTo>
                          <a:lnTo>
                            <a:pt x="207" y="634"/>
                          </a:lnTo>
                          <a:lnTo>
                            <a:pt x="199" y="627"/>
                          </a:lnTo>
                          <a:lnTo>
                            <a:pt x="192" y="618"/>
                          </a:lnTo>
                          <a:lnTo>
                            <a:pt x="180" y="612"/>
                          </a:lnTo>
                          <a:lnTo>
                            <a:pt x="169" y="609"/>
                          </a:lnTo>
                          <a:lnTo>
                            <a:pt x="174" y="604"/>
                          </a:lnTo>
                          <a:lnTo>
                            <a:pt x="162" y="604"/>
                          </a:lnTo>
                          <a:lnTo>
                            <a:pt x="148" y="603"/>
                          </a:lnTo>
                          <a:lnTo>
                            <a:pt x="138" y="601"/>
                          </a:lnTo>
                          <a:lnTo>
                            <a:pt x="124" y="607"/>
                          </a:lnTo>
                          <a:lnTo>
                            <a:pt x="114" y="603"/>
                          </a:lnTo>
                          <a:lnTo>
                            <a:pt x="110" y="592"/>
                          </a:lnTo>
                          <a:lnTo>
                            <a:pt x="105" y="583"/>
                          </a:lnTo>
                          <a:lnTo>
                            <a:pt x="96" y="580"/>
                          </a:lnTo>
                          <a:lnTo>
                            <a:pt x="83" y="577"/>
                          </a:lnTo>
                          <a:lnTo>
                            <a:pt x="74" y="573"/>
                          </a:lnTo>
                          <a:lnTo>
                            <a:pt x="66" y="565"/>
                          </a:lnTo>
                          <a:lnTo>
                            <a:pt x="53" y="561"/>
                          </a:lnTo>
                          <a:lnTo>
                            <a:pt x="41" y="553"/>
                          </a:lnTo>
                          <a:lnTo>
                            <a:pt x="27" y="553"/>
                          </a:lnTo>
                          <a:lnTo>
                            <a:pt x="15" y="547"/>
                          </a:lnTo>
                          <a:lnTo>
                            <a:pt x="6" y="537"/>
                          </a:lnTo>
                          <a:lnTo>
                            <a:pt x="0" y="528"/>
                          </a:lnTo>
                          <a:lnTo>
                            <a:pt x="0" y="519"/>
                          </a:lnTo>
                          <a:lnTo>
                            <a:pt x="9" y="513"/>
                          </a:lnTo>
                          <a:lnTo>
                            <a:pt x="20" y="504"/>
                          </a:lnTo>
                          <a:lnTo>
                            <a:pt x="20" y="498"/>
                          </a:lnTo>
                          <a:lnTo>
                            <a:pt x="18" y="486"/>
                          </a:lnTo>
                          <a:lnTo>
                            <a:pt x="15" y="471"/>
                          </a:lnTo>
                          <a:lnTo>
                            <a:pt x="12" y="455"/>
                          </a:lnTo>
                          <a:lnTo>
                            <a:pt x="14" y="434"/>
                          </a:lnTo>
                          <a:lnTo>
                            <a:pt x="18" y="407"/>
                          </a:lnTo>
                          <a:lnTo>
                            <a:pt x="29" y="395"/>
                          </a:lnTo>
                          <a:lnTo>
                            <a:pt x="44" y="380"/>
                          </a:lnTo>
                          <a:lnTo>
                            <a:pt x="54" y="363"/>
                          </a:lnTo>
                          <a:lnTo>
                            <a:pt x="62" y="341"/>
                          </a:lnTo>
                          <a:lnTo>
                            <a:pt x="60" y="325"/>
                          </a:lnTo>
                          <a:lnTo>
                            <a:pt x="54" y="298"/>
                          </a:lnTo>
                          <a:lnTo>
                            <a:pt x="56" y="280"/>
                          </a:lnTo>
                          <a:lnTo>
                            <a:pt x="59" y="260"/>
                          </a:lnTo>
                          <a:lnTo>
                            <a:pt x="65" y="248"/>
                          </a:lnTo>
                          <a:lnTo>
                            <a:pt x="77" y="241"/>
                          </a:lnTo>
                          <a:lnTo>
                            <a:pt x="81" y="232"/>
                          </a:lnTo>
                          <a:lnTo>
                            <a:pt x="86" y="217"/>
                          </a:lnTo>
                          <a:lnTo>
                            <a:pt x="87" y="212"/>
                          </a:lnTo>
                          <a:lnTo>
                            <a:pt x="93" y="193"/>
                          </a:lnTo>
                          <a:lnTo>
                            <a:pt x="96" y="180"/>
                          </a:lnTo>
                          <a:lnTo>
                            <a:pt x="98" y="165"/>
                          </a:lnTo>
                          <a:lnTo>
                            <a:pt x="104" y="160"/>
                          </a:lnTo>
                          <a:lnTo>
                            <a:pt x="110" y="160"/>
                          </a:lnTo>
                          <a:lnTo>
                            <a:pt x="116" y="165"/>
                          </a:lnTo>
                          <a:lnTo>
                            <a:pt x="120" y="160"/>
                          </a:lnTo>
                          <a:lnTo>
                            <a:pt x="127" y="147"/>
                          </a:lnTo>
                          <a:lnTo>
                            <a:pt x="127" y="138"/>
                          </a:lnTo>
                          <a:lnTo>
                            <a:pt x="121" y="39"/>
                          </a:lnTo>
                          <a:lnTo>
                            <a:pt x="190" y="0"/>
                          </a:lnTo>
                          <a:lnTo>
                            <a:pt x="196" y="3"/>
                          </a:lnTo>
                          <a:lnTo>
                            <a:pt x="207" y="6"/>
                          </a:lnTo>
                          <a:lnTo>
                            <a:pt x="219" y="9"/>
                          </a:lnTo>
                          <a:lnTo>
                            <a:pt x="232" y="15"/>
                          </a:lnTo>
                          <a:lnTo>
                            <a:pt x="237" y="18"/>
                          </a:lnTo>
                          <a:lnTo>
                            <a:pt x="248" y="18"/>
                          </a:lnTo>
                          <a:lnTo>
                            <a:pt x="256" y="18"/>
                          </a:lnTo>
                          <a:lnTo>
                            <a:pt x="265" y="17"/>
                          </a:lnTo>
                          <a:lnTo>
                            <a:pt x="269" y="15"/>
                          </a:lnTo>
                          <a:lnTo>
                            <a:pt x="284" y="11"/>
                          </a:lnTo>
                          <a:lnTo>
                            <a:pt x="301" y="5"/>
                          </a:lnTo>
                          <a:lnTo>
                            <a:pt x="316" y="0"/>
                          </a:lnTo>
                          <a:lnTo>
                            <a:pt x="328" y="0"/>
                          </a:lnTo>
                          <a:lnTo>
                            <a:pt x="334" y="21"/>
                          </a:lnTo>
                          <a:lnTo>
                            <a:pt x="347" y="55"/>
                          </a:lnTo>
                          <a:lnTo>
                            <a:pt x="314" y="124"/>
                          </a:lnTo>
                          <a:lnTo>
                            <a:pt x="329" y="147"/>
                          </a:lnTo>
                          <a:lnTo>
                            <a:pt x="349" y="145"/>
                          </a:lnTo>
                          <a:lnTo>
                            <a:pt x="384" y="171"/>
                          </a:lnTo>
                          <a:lnTo>
                            <a:pt x="361" y="193"/>
                          </a:lnTo>
                          <a:lnTo>
                            <a:pt x="350" y="211"/>
                          </a:lnTo>
                          <a:lnTo>
                            <a:pt x="353" y="224"/>
                          </a:lnTo>
                          <a:lnTo>
                            <a:pt x="346" y="241"/>
                          </a:lnTo>
                          <a:lnTo>
                            <a:pt x="341" y="256"/>
                          </a:lnTo>
                          <a:lnTo>
                            <a:pt x="328" y="272"/>
                          </a:lnTo>
                          <a:lnTo>
                            <a:pt x="313" y="290"/>
                          </a:lnTo>
                          <a:lnTo>
                            <a:pt x="304" y="304"/>
                          </a:lnTo>
                          <a:lnTo>
                            <a:pt x="307" y="326"/>
                          </a:lnTo>
                          <a:lnTo>
                            <a:pt x="287" y="353"/>
                          </a:lnTo>
                          <a:lnTo>
                            <a:pt x="269" y="378"/>
                          </a:lnTo>
                          <a:lnTo>
                            <a:pt x="265" y="401"/>
                          </a:lnTo>
                          <a:lnTo>
                            <a:pt x="265" y="419"/>
                          </a:lnTo>
                          <a:lnTo>
                            <a:pt x="269" y="437"/>
                          </a:lnTo>
                          <a:lnTo>
                            <a:pt x="296" y="458"/>
                          </a:lnTo>
                          <a:lnTo>
                            <a:pt x="319" y="476"/>
                          </a:lnTo>
                          <a:lnTo>
                            <a:pt x="319" y="558"/>
                          </a:lnTo>
                          <a:lnTo>
                            <a:pt x="228" y="664"/>
                          </a:lnTo>
                          <a:close/>
                        </a:path>
                      </a:pathLst>
                    </a:custGeom>
                    <a:solidFill>
                      <a:srgbClr val="e9ffbe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3" name="Line 250"/>
                    <p:cNvSpPr/>
                    <p:nvPr/>
                  </p:nvSpPr>
                  <p:spPr>
                    <a:xfrm flipH="1" flipV="1">
                      <a:off x="7453440" y="2579400"/>
                      <a:ext cx="2880" cy="1908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720" bIns="-27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4" name="Line 251"/>
                    <p:cNvSpPr/>
                    <p:nvPr/>
                  </p:nvSpPr>
                  <p:spPr>
                    <a:xfrm flipH="1" flipV="1">
                      <a:off x="7425360" y="2553840"/>
                      <a:ext cx="15480" cy="11160"/>
                    </a:xfrm>
                    <a:prstGeom prst="line">
                      <a:avLst/>
                    </a:prstGeom>
                    <a:ln w="1440">
                      <a:solidFill>
                        <a:srgbClr val="728944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5" name="Freeform 252"/>
                    <p:cNvSpPr/>
                    <p:nvPr/>
                  </p:nvSpPr>
                  <p:spPr>
                    <a:xfrm>
                      <a:off x="7395120" y="2527200"/>
                      <a:ext cx="15120" cy="1440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14400"/>
                        <a:gd name="textAreaBottom" fmla="*/ 14760 h 14400"/>
                      </a:gdLst>
                      <a:ahLst/>
                      <a:rect l="textAreaLeft" t="textAreaTop" r="textAreaRight" b="textAreaBottom"/>
                      <a:pathLst>
                        <a:path w="9" h="9">
                          <a:moveTo>
                            <a:pt x="9" y="9"/>
                          </a:moveTo>
                          <a:lnTo>
                            <a:pt x="7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040" bIns="-32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6" name="Freeform 253"/>
                    <p:cNvSpPr/>
                    <p:nvPr/>
                  </p:nvSpPr>
                  <p:spPr>
                    <a:xfrm>
                      <a:off x="7359120" y="2511360"/>
                      <a:ext cx="16920" cy="648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6480"/>
                        <a:gd name="textAreaBottom" fmla="*/ 6840 h 6480"/>
                      </a:gdLst>
                      <a:ahLst/>
                      <a:rect l="textAreaLeft" t="textAreaTop" r="textAreaRight" b="textAreaBottom"/>
                      <a:pathLst>
                        <a:path w="10" h="4">
                          <a:moveTo>
                            <a:pt x="10" y="4"/>
                          </a:moveTo>
                          <a:lnTo>
                            <a:pt x="9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7" name="Freeform 254"/>
                    <p:cNvSpPr/>
                    <p:nvPr/>
                  </p:nvSpPr>
                  <p:spPr>
                    <a:xfrm>
                      <a:off x="7333560" y="2503440"/>
                      <a:ext cx="205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" h="0">
                          <a:moveTo>
                            <a:pt x="12" y="0"/>
                          </a:moveTo>
                          <a:lnTo>
                            <a:pt x="6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8" name="Freeform 255"/>
                    <p:cNvSpPr/>
                    <p:nvPr/>
                  </p:nvSpPr>
                  <p:spPr>
                    <a:xfrm>
                      <a:off x="7293960" y="2498760"/>
                      <a:ext cx="18720" cy="3240"/>
                    </a:xfrm>
                    <a:custGeom>
                      <a:avLst/>
                      <a:gdLst>
                        <a:gd name="textAreaLeft" fmla="*/ 0 w 18720"/>
                        <a:gd name="textAreaRight" fmla="*/ 19080 w 18720"/>
                        <a:gd name="textAreaTop" fmla="*/ 0 h 3240"/>
                        <a:gd name="textAreaBottom" fmla="*/ 3600 h 3240"/>
                      </a:gdLst>
                      <a:ahLst/>
                      <a:rect l="textAreaLeft" t="textAreaTop" r="textAreaRight" b="textAreaBottom"/>
                      <a:pathLst>
                        <a:path w="11" h="2">
                          <a:moveTo>
                            <a:pt x="11" y="2"/>
                          </a:moveTo>
                          <a:lnTo>
                            <a:pt x="5" y="0"/>
                          </a:lnTo>
                          <a:lnTo>
                            <a:pt x="0" y="2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0" bIns="-43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59" name="Freeform 256"/>
                    <p:cNvSpPr/>
                    <p:nvPr/>
                  </p:nvSpPr>
                  <p:spPr>
                    <a:xfrm>
                      <a:off x="7259760" y="2496960"/>
                      <a:ext cx="13680" cy="9720"/>
                    </a:xfrm>
                    <a:custGeom>
                      <a:avLst/>
                      <a:gdLst>
                        <a:gd name="textAreaLeft" fmla="*/ 0 w 13680"/>
                        <a:gd name="textAreaRight" fmla="*/ 14040 w 13680"/>
                        <a:gd name="textAreaTop" fmla="*/ 0 h 9720"/>
                        <a:gd name="textAreaBottom" fmla="*/ 10080 h 9720"/>
                      </a:gdLst>
                      <a:ahLst/>
                      <a:rect l="textAreaLeft" t="textAreaTop" r="textAreaRight" b="textAreaBottom"/>
                      <a:pathLst>
                        <a:path w="8" h="6">
                          <a:moveTo>
                            <a:pt x="8" y="6"/>
                          </a:moveTo>
                          <a:lnTo>
                            <a:pt x="1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720" bIns="-36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0" name="Freeform 257"/>
                    <p:cNvSpPr/>
                    <p:nvPr/>
                  </p:nvSpPr>
                  <p:spPr>
                    <a:xfrm>
                      <a:off x="7236360" y="2468520"/>
                      <a:ext cx="15120" cy="9360"/>
                    </a:xfrm>
                    <a:custGeom>
                      <a:avLst/>
                      <a:gdLst>
                        <a:gd name="textAreaLeft" fmla="*/ 0 w 15120"/>
                        <a:gd name="textAreaRight" fmla="*/ 15480 w 15120"/>
                        <a:gd name="textAreaTop" fmla="*/ 0 h 9360"/>
                        <a:gd name="textAreaBottom" fmla="*/ 9720 h 9360"/>
                      </a:gdLst>
                      <a:ahLst/>
                      <a:rect l="textAreaLeft" t="textAreaTop" r="textAreaRight" b="textAreaBottom"/>
                      <a:pathLst>
                        <a:path w="9" h="6">
                          <a:moveTo>
                            <a:pt x="9" y="6"/>
                          </a:moveTo>
                          <a:lnTo>
                            <a:pt x="6" y="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1" name="Freeform 258"/>
                    <p:cNvSpPr/>
                    <p:nvPr/>
                  </p:nvSpPr>
                  <p:spPr>
                    <a:xfrm>
                      <a:off x="7198560" y="2455920"/>
                      <a:ext cx="16920" cy="792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0" h="5">
                          <a:moveTo>
                            <a:pt x="10" y="5"/>
                          </a:moveTo>
                          <a:lnTo>
                            <a:pt x="6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2" name="Freeform 259"/>
                    <p:cNvSpPr/>
                    <p:nvPr/>
                  </p:nvSpPr>
                  <p:spPr>
                    <a:xfrm>
                      <a:off x="7162560" y="2436840"/>
                      <a:ext cx="20520" cy="7920"/>
                    </a:xfrm>
                    <a:custGeom>
                      <a:avLst/>
                      <a:gdLst>
                        <a:gd name="textAreaLeft" fmla="*/ 0 w 20520"/>
                        <a:gd name="textAreaRight" fmla="*/ 20880 w 2052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2" h="5">
                          <a:moveTo>
                            <a:pt x="12" y="5"/>
                          </a:moveTo>
                          <a:lnTo>
                            <a:pt x="10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3" name="Freeform 260"/>
                    <p:cNvSpPr/>
                    <p:nvPr/>
                  </p:nvSpPr>
                  <p:spPr>
                    <a:xfrm>
                      <a:off x="7126560" y="2422440"/>
                      <a:ext cx="16920" cy="4680"/>
                    </a:xfrm>
                    <a:custGeom>
                      <a:avLst/>
                      <a:gdLst>
                        <a:gd name="textAreaLeft" fmla="*/ 0 w 16920"/>
                        <a:gd name="textAreaRight" fmla="*/ 17280 w 16920"/>
                        <a:gd name="textAreaTop" fmla="*/ 0 h 4680"/>
                        <a:gd name="textAreaBottom" fmla="*/ 5040 h 4680"/>
                      </a:gdLst>
                      <a:ahLst/>
                      <a:rect l="textAreaLeft" t="textAreaTop" r="textAreaRight" b="textAreaBottom"/>
                      <a:pathLst>
                        <a:path w="10" h="3">
                          <a:moveTo>
                            <a:pt x="10" y="3"/>
                          </a:moveTo>
                          <a:lnTo>
                            <a:pt x="6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4" name="Freeform 261"/>
                    <p:cNvSpPr/>
                    <p:nvPr/>
                  </p:nvSpPr>
                  <p:spPr>
                    <a:xfrm>
                      <a:off x="7087320" y="2408040"/>
                      <a:ext cx="18360" cy="12960"/>
                    </a:xfrm>
                    <a:custGeom>
                      <a:avLst/>
                      <a:gdLst>
                        <a:gd name="textAreaLeft" fmla="*/ 0 w 18360"/>
                        <a:gd name="textAreaRight" fmla="*/ 18720 w 18360"/>
                        <a:gd name="textAreaTop" fmla="*/ 0 h 12960"/>
                        <a:gd name="textAreaBottom" fmla="*/ 13320 h 12960"/>
                      </a:gdLst>
                      <a:ahLst/>
                      <a:rect l="textAreaLeft" t="textAreaTop" r="textAreaRight" b="textAreaBottom"/>
                      <a:pathLst>
                        <a:path w="11" h="8">
                          <a:moveTo>
                            <a:pt x="11" y="8"/>
                          </a:moveTo>
                          <a:lnTo>
                            <a:pt x="3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480" bIns="-334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5" name="Freeform 262"/>
                    <p:cNvSpPr/>
                    <p:nvPr/>
                  </p:nvSpPr>
                  <p:spPr>
                    <a:xfrm>
                      <a:off x="7066800" y="2378160"/>
                      <a:ext cx="8280" cy="15840"/>
                    </a:xfrm>
                    <a:custGeom>
                      <a:avLst/>
                      <a:gdLst>
                        <a:gd name="textAreaLeft" fmla="*/ 0 w 8280"/>
                        <a:gd name="textAreaRight" fmla="*/ 8640 w 8280"/>
                        <a:gd name="textAreaTop" fmla="*/ 0 h 15840"/>
                        <a:gd name="textAreaBottom" fmla="*/ 16200 h 15840"/>
                      </a:gdLst>
                      <a:ahLst/>
                      <a:rect l="textAreaLeft" t="textAreaTop" r="textAreaRight" b="textAreaBottom"/>
                      <a:pathLst>
                        <a:path w="5" h="10">
                          <a:moveTo>
                            <a:pt x="5" y="10"/>
                          </a:moveTo>
                          <a:lnTo>
                            <a:pt x="0" y="3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noFill/>
                    <a:ln w="1440">
                      <a:solidFill>
                        <a:srgbClr val="728944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66" name="Freeform 263"/>
                  <p:cNvSpPr/>
                  <p:nvPr/>
                </p:nvSpPr>
                <p:spPr>
                  <a:xfrm>
                    <a:off x="7075440" y="2352600"/>
                    <a:ext cx="15480" cy="11160"/>
                  </a:xfrm>
                  <a:custGeom>
                    <a:avLst/>
                    <a:gdLst>
                      <a:gd name="textAreaLeft" fmla="*/ 0 w 15480"/>
                      <a:gd name="textAreaRight" fmla="*/ 15840 w 15480"/>
                      <a:gd name="textAreaTop" fmla="*/ 0 h 11160"/>
                      <a:gd name="textAreaBottom" fmla="*/ 11520 h 11160"/>
                    </a:gdLst>
                    <a:ahLst/>
                    <a:rect l="textAreaLeft" t="textAreaTop" r="textAreaRight" b="textAreaBottom"/>
                    <a:pathLst>
                      <a:path w="9" h="7">
                        <a:moveTo>
                          <a:pt x="0" y="7"/>
                        </a:moveTo>
                        <a:lnTo>
                          <a:pt x="4" y="4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280" bIns="-35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7" name="Line 264"/>
                  <p:cNvSpPr/>
                  <p:nvPr/>
                </p:nvSpPr>
                <p:spPr>
                  <a:xfrm flipH="1" flipV="1">
                    <a:off x="7097040" y="2315880"/>
                    <a:ext cx="32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8" name="Freeform 265"/>
                  <p:cNvSpPr/>
                  <p:nvPr/>
                </p:nvSpPr>
                <p:spPr>
                  <a:xfrm>
                    <a:off x="7090920" y="2281320"/>
                    <a:ext cx="5040" cy="19080"/>
                  </a:xfrm>
                  <a:custGeom>
                    <a:avLst/>
                    <a:gdLst>
                      <a:gd name="textAreaLeft" fmla="*/ 0 w 5040"/>
                      <a:gd name="textAreaRight" fmla="*/ 5400 w 50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3" h="12">
                        <a:moveTo>
                          <a:pt x="3" y="12"/>
                        </a:moveTo>
                        <a:lnTo>
                          <a:pt x="1" y="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9" name="Line 266"/>
                  <p:cNvSpPr/>
                  <p:nvPr/>
                </p:nvSpPr>
                <p:spPr>
                  <a:xfrm flipV="1">
                    <a:off x="7087320" y="2242800"/>
                    <a:ext cx="32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0" name="Line 267"/>
                  <p:cNvSpPr/>
                  <p:nvPr/>
                </p:nvSpPr>
                <p:spPr>
                  <a:xfrm flipV="1">
                    <a:off x="7092360" y="2204640"/>
                    <a:ext cx="32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1" name="Line 268"/>
                  <p:cNvSpPr/>
                  <p:nvPr/>
                </p:nvSpPr>
                <p:spPr>
                  <a:xfrm flipV="1">
                    <a:off x="7102800" y="2172960"/>
                    <a:ext cx="1332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2" name="Freeform 269"/>
                  <p:cNvSpPr/>
                  <p:nvPr/>
                </p:nvSpPr>
                <p:spPr>
                  <a:xfrm>
                    <a:off x="7131960" y="2144520"/>
                    <a:ext cx="11520" cy="14400"/>
                  </a:xfrm>
                  <a:custGeom>
                    <a:avLst/>
                    <a:gdLst>
                      <a:gd name="textAreaLeft" fmla="*/ 0 w 11520"/>
                      <a:gd name="textAreaRight" fmla="*/ 11880 w 1152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7" h="9">
                        <a:moveTo>
                          <a:pt x="0" y="9"/>
                        </a:moveTo>
                        <a:lnTo>
                          <a:pt x="6" y="2"/>
                        </a:lnTo>
                        <a:lnTo>
                          <a:pt x="7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3" name="Freeform 270"/>
                  <p:cNvSpPr/>
                  <p:nvPr/>
                </p:nvSpPr>
                <p:spPr>
                  <a:xfrm>
                    <a:off x="7154280" y="2111400"/>
                    <a:ext cx="10080" cy="1728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7280"/>
                      <a:gd name="textAreaBottom" fmla="*/ 17280 h 17280"/>
                    </a:gdLst>
                    <a:ahLst/>
                    <a:rect l="textAreaLeft" t="textAreaTop" r="textAreaRight" b="textAreaBottom"/>
                    <a:pathLst>
                      <a:path w="6" h="11">
                        <a:moveTo>
                          <a:pt x="0" y="11"/>
                        </a:moveTo>
                        <a:lnTo>
                          <a:pt x="3" y="6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4" name="Freeform 271"/>
                  <p:cNvSpPr/>
                  <p:nvPr/>
                </p:nvSpPr>
                <p:spPr>
                  <a:xfrm>
                    <a:off x="7169760" y="2074680"/>
                    <a:ext cx="2880" cy="19080"/>
                  </a:xfrm>
                  <a:custGeom>
                    <a:avLst/>
                    <a:gdLst>
                      <a:gd name="textAreaLeft" fmla="*/ 0 w 2880"/>
                      <a:gd name="textAreaRight" fmla="*/ 3240 w 288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2" h="12">
                        <a:moveTo>
                          <a:pt x="0" y="12"/>
                        </a:moveTo>
                        <a:lnTo>
                          <a:pt x="2" y="7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5" name="Line 272"/>
                  <p:cNvSpPr/>
                  <p:nvPr/>
                </p:nvSpPr>
                <p:spPr>
                  <a:xfrm flipH="1" flipV="1">
                    <a:off x="7164000" y="2038320"/>
                    <a:ext cx="5400" cy="172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6" name="Freeform 273"/>
                  <p:cNvSpPr/>
                  <p:nvPr/>
                </p:nvSpPr>
                <p:spPr>
                  <a:xfrm>
                    <a:off x="7159320" y="2000160"/>
                    <a:ext cx="3240" cy="19080"/>
                  </a:xfrm>
                  <a:custGeom>
                    <a:avLst/>
                    <a:gdLst>
                      <a:gd name="textAreaLeft" fmla="*/ 0 w 3240"/>
                      <a:gd name="textAreaRight" fmla="*/ 3600 w 32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2" h="12">
                        <a:moveTo>
                          <a:pt x="0" y="12"/>
                        </a:moveTo>
                        <a:lnTo>
                          <a:pt x="0" y="11"/>
                        </a:lnTo>
                        <a:lnTo>
                          <a:pt x="2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7" name="Line 274"/>
                  <p:cNvSpPr/>
                  <p:nvPr/>
                </p:nvSpPr>
                <p:spPr>
                  <a:xfrm flipV="1">
                    <a:off x="7162560" y="1961640"/>
                    <a:ext cx="50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8" name="Freeform 275"/>
                  <p:cNvSpPr/>
                  <p:nvPr/>
                </p:nvSpPr>
                <p:spPr>
                  <a:xfrm>
                    <a:off x="7174800" y="1931760"/>
                    <a:ext cx="13320" cy="14400"/>
                  </a:xfrm>
                  <a:custGeom>
                    <a:avLst/>
                    <a:gdLst>
                      <a:gd name="textAreaLeft" fmla="*/ 0 w 13320"/>
                      <a:gd name="textAreaRight" fmla="*/ 13680 w 1332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8" h="9">
                        <a:moveTo>
                          <a:pt x="0" y="9"/>
                        </a:moveTo>
                        <a:lnTo>
                          <a:pt x="2" y="4"/>
                        </a:lnTo>
                        <a:lnTo>
                          <a:pt x="8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9" name="Freeform 276"/>
                  <p:cNvSpPr/>
                  <p:nvPr/>
                </p:nvSpPr>
                <p:spPr>
                  <a:xfrm>
                    <a:off x="7203600" y="1900080"/>
                    <a:ext cx="5040" cy="19080"/>
                  </a:xfrm>
                  <a:custGeom>
                    <a:avLst/>
                    <a:gdLst>
                      <a:gd name="textAreaLeft" fmla="*/ 0 w 5040"/>
                      <a:gd name="textAreaRight" fmla="*/ 5400 w 50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3" h="12">
                        <a:moveTo>
                          <a:pt x="0" y="12"/>
                        </a:moveTo>
                        <a:lnTo>
                          <a:pt x="1" y="8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0" name="Freeform 277"/>
                  <p:cNvSpPr/>
                  <p:nvPr/>
                </p:nvSpPr>
                <p:spPr>
                  <a:xfrm>
                    <a:off x="7215840" y="1865160"/>
                    <a:ext cx="5040" cy="15840"/>
                  </a:xfrm>
                  <a:custGeom>
                    <a:avLst/>
                    <a:gdLst>
                      <a:gd name="textAreaLeft" fmla="*/ 0 w 5040"/>
                      <a:gd name="textAreaRight" fmla="*/ 5400 w 5040"/>
                      <a:gd name="textAreaTop" fmla="*/ 0 h 15840"/>
                      <a:gd name="textAreaBottom" fmla="*/ 16200 h 15840"/>
                    </a:gdLst>
                    <a:ahLst/>
                    <a:rect l="textAreaLeft" t="textAreaTop" r="textAreaRight" b="textAreaBottom"/>
                    <a:pathLst>
                      <a:path w="3" h="10">
                        <a:moveTo>
                          <a:pt x="0" y="10"/>
                        </a:moveTo>
                        <a:lnTo>
                          <a:pt x="0" y="10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1" name="Freeform 278"/>
                  <p:cNvSpPr/>
                  <p:nvPr/>
                </p:nvSpPr>
                <p:spPr>
                  <a:xfrm>
                    <a:off x="7225920" y="1827000"/>
                    <a:ext cx="5040" cy="19080"/>
                  </a:xfrm>
                  <a:custGeom>
                    <a:avLst/>
                    <a:gdLst>
                      <a:gd name="textAreaLeft" fmla="*/ 0 w 5040"/>
                      <a:gd name="textAreaRight" fmla="*/ 5400 w 50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3" h="12">
                        <a:moveTo>
                          <a:pt x="0" y="12"/>
                        </a:moveTo>
                        <a:lnTo>
                          <a:pt x="3" y="2"/>
                        </a:lnTo>
                        <a:lnTo>
                          <a:pt x="3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2" name="Freeform 279"/>
                  <p:cNvSpPr/>
                  <p:nvPr/>
                </p:nvSpPr>
                <p:spPr>
                  <a:xfrm>
                    <a:off x="7234560" y="1798560"/>
                    <a:ext cx="15480" cy="9720"/>
                  </a:xfrm>
                  <a:custGeom>
                    <a:avLst/>
                    <a:gdLst>
                      <a:gd name="textAreaLeft" fmla="*/ 0 w 15480"/>
                      <a:gd name="textAreaRight" fmla="*/ 15840 w 15480"/>
                      <a:gd name="textAreaTop" fmla="*/ 0 h 9720"/>
                      <a:gd name="textAreaBottom" fmla="*/ 10080 h 9720"/>
                    </a:gdLst>
                    <a:ahLst/>
                    <a:rect l="textAreaLeft" t="textAreaTop" r="textAreaRight" b="textAreaBottom"/>
                    <a:pathLst>
                      <a:path w="9" h="6">
                        <a:moveTo>
                          <a:pt x="0" y="6"/>
                        </a:moveTo>
                        <a:lnTo>
                          <a:pt x="0" y="5"/>
                        </a:lnTo>
                        <a:lnTo>
                          <a:pt x="6" y="0"/>
                        </a:lnTo>
                        <a:lnTo>
                          <a:pt x="9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720" bIns="-36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3" name="Freeform 280"/>
                  <p:cNvSpPr/>
                  <p:nvPr/>
                </p:nvSpPr>
                <p:spPr>
                  <a:xfrm>
                    <a:off x="7266960" y="1789200"/>
                    <a:ext cx="10080" cy="1404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4040"/>
                      <a:gd name="textAreaBottom" fmla="*/ 14400 h 14040"/>
                    </a:gdLst>
                    <a:ahLst/>
                    <a:rect l="textAreaLeft" t="textAreaTop" r="textAreaRight" b="textAreaBottom"/>
                    <a:pathLst>
                      <a:path w="6" h="9">
                        <a:moveTo>
                          <a:pt x="0" y="9"/>
                        </a:moveTo>
                        <a:lnTo>
                          <a:pt x="3" y="6"/>
                        </a:lnTo>
                        <a:lnTo>
                          <a:pt x="6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4" name="Freeform 281"/>
                  <p:cNvSpPr/>
                  <p:nvPr/>
                </p:nvSpPr>
                <p:spPr>
                  <a:xfrm>
                    <a:off x="7284240" y="1751040"/>
                    <a:ext cx="3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2">
                        <a:moveTo>
                          <a:pt x="0" y="12"/>
                        </a:moveTo>
                        <a:lnTo>
                          <a:pt x="0" y="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5" name="Line 282"/>
                  <p:cNvSpPr/>
                  <p:nvPr/>
                </p:nvSpPr>
                <p:spPr>
                  <a:xfrm flipH="1" flipV="1">
                    <a:off x="7282440" y="1712520"/>
                    <a:ext cx="14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6" name="Line 283"/>
                  <p:cNvSpPr/>
                  <p:nvPr/>
                </p:nvSpPr>
                <p:spPr>
                  <a:xfrm flipH="1" flipV="1">
                    <a:off x="7278840" y="1674360"/>
                    <a:ext cx="32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7" name="Line 284"/>
                  <p:cNvSpPr/>
                  <p:nvPr/>
                </p:nvSpPr>
                <p:spPr>
                  <a:xfrm flipH="1" flipV="1">
                    <a:off x="7276680" y="1636200"/>
                    <a:ext cx="180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8" name="Freeform 285"/>
                  <p:cNvSpPr/>
                  <p:nvPr/>
                </p:nvSpPr>
                <p:spPr>
                  <a:xfrm>
                    <a:off x="7274160" y="1604880"/>
                    <a:ext cx="8280" cy="12600"/>
                  </a:xfrm>
                  <a:custGeom>
                    <a:avLst/>
                    <a:gdLst>
                      <a:gd name="textAreaLeft" fmla="*/ 0 w 8280"/>
                      <a:gd name="textAreaRight" fmla="*/ 8640 w 82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5" h="8">
                        <a:moveTo>
                          <a:pt x="2" y="8"/>
                        </a:moveTo>
                        <a:lnTo>
                          <a:pt x="0" y="1"/>
                        </a:lnTo>
                        <a:lnTo>
                          <a:pt x="5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9" name="Line 286"/>
                  <p:cNvSpPr/>
                  <p:nvPr/>
                </p:nvSpPr>
                <p:spPr>
                  <a:xfrm flipV="1">
                    <a:off x="7299720" y="1585440"/>
                    <a:ext cx="18360" cy="972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0" name="Line 287"/>
                  <p:cNvSpPr/>
                  <p:nvPr/>
                </p:nvSpPr>
                <p:spPr>
                  <a:xfrm flipV="1">
                    <a:off x="7335360" y="1566360"/>
                    <a:ext cx="18720" cy="972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1" name="Line 288"/>
                  <p:cNvSpPr/>
                  <p:nvPr/>
                </p:nvSpPr>
                <p:spPr>
                  <a:xfrm flipV="1">
                    <a:off x="7371360" y="1547280"/>
                    <a:ext cx="18360" cy="972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2" name="Freeform 289"/>
                  <p:cNvSpPr/>
                  <p:nvPr/>
                </p:nvSpPr>
                <p:spPr>
                  <a:xfrm>
                    <a:off x="7410600" y="1552680"/>
                    <a:ext cx="16920" cy="4680"/>
                  </a:xfrm>
                  <a:custGeom>
                    <a:avLst/>
                    <a:gdLst>
                      <a:gd name="textAreaLeft" fmla="*/ 0 w 16920"/>
                      <a:gd name="textAreaRight" fmla="*/ 17280 w 16920"/>
                      <a:gd name="textAreaTop" fmla="*/ 0 h 4680"/>
                      <a:gd name="textAreaBottom" fmla="*/ 5040 h 4680"/>
                    </a:gdLst>
                    <a:ahLst/>
                    <a:rect l="textAreaLeft" t="textAreaTop" r="textAreaRight" b="textAreaBottom"/>
                    <a:pathLst>
                      <a:path w="10" h="3">
                        <a:moveTo>
                          <a:pt x="0" y="0"/>
                        </a:moveTo>
                        <a:lnTo>
                          <a:pt x="6" y="1"/>
                        </a:lnTo>
                        <a:lnTo>
                          <a:pt x="10" y="3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3" name="Freeform 290"/>
                  <p:cNvSpPr/>
                  <p:nvPr/>
                </p:nvSpPr>
                <p:spPr>
                  <a:xfrm>
                    <a:off x="7448040" y="1562040"/>
                    <a:ext cx="18720" cy="9360"/>
                  </a:xfrm>
                  <a:custGeom>
                    <a:avLst/>
                    <a:gdLst>
                      <a:gd name="textAreaLeft" fmla="*/ 0 w 18720"/>
                      <a:gd name="textAreaRight" fmla="*/ 19080 w 18720"/>
                      <a:gd name="textAreaTop" fmla="*/ 0 h 9360"/>
                      <a:gd name="textAreaBottom" fmla="*/ 9720 h 9360"/>
                    </a:gdLst>
                    <a:ahLst/>
                    <a:rect l="textAreaLeft" t="textAreaTop" r="textAreaRight" b="textAreaBottom"/>
                    <a:pathLst>
                      <a:path w="11" h="6">
                        <a:moveTo>
                          <a:pt x="0" y="0"/>
                        </a:moveTo>
                        <a:lnTo>
                          <a:pt x="9" y="4"/>
                        </a:lnTo>
                        <a:lnTo>
                          <a:pt x="11" y="6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4" name="Freeform 291"/>
                  <p:cNvSpPr/>
                  <p:nvPr/>
                </p:nvSpPr>
                <p:spPr>
                  <a:xfrm>
                    <a:off x="7487640" y="1573200"/>
                    <a:ext cx="183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0">
                        <a:moveTo>
                          <a:pt x="0" y="0"/>
                        </a:moveTo>
                        <a:lnTo>
                          <a:pt x="2" y="0"/>
                        </a:lnTo>
                        <a:lnTo>
                          <a:pt x="10" y="0"/>
                        </a:lnTo>
                        <a:lnTo>
                          <a:pt x="11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5" name="Freeform 292"/>
                  <p:cNvSpPr/>
                  <p:nvPr/>
                </p:nvSpPr>
                <p:spPr>
                  <a:xfrm>
                    <a:off x="7526880" y="1563480"/>
                    <a:ext cx="18720" cy="7920"/>
                  </a:xfrm>
                  <a:custGeom>
                    <a:avLst/>
                    <a:gdLst>
                      <a:gd name="textAreaLeft" fmla="*/ 0 w 18720"/>
                      <a:gd name="textAreaRight" fmla="*/ 19080 w 18720"/>
                      <a:gd name="textAreaTop" fmla="*/ 0 h 7920"/>
                      <a:gd name="textAreaBottom" fmla="*/ 8280 h 7920"/>
                    </a:gdLst>
                    <a:ahLst/>
                    <a:rect l="textAreaLeft" t="textAreaTop" r="textAreaRight" b="textAreaBottom"/>
                    <a:pathLst>
                      <a:path w="11" h="5">
                        <a:moveTo>
                          <a:pt x="0" y="5"/>
                        </a:moveTo>
                        <a:lnTo>
                          <a:pt x="0" y="3"/>
                        </a:lnTo>
                        <a:lnTo>
                          <a:pt x="11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6" name="Freeform 293"/>
                  <p:cNvSpPr/>
                  <p:nvPr/>
                </p:nvSpPr>
                <p:spPr>
                  <a:xfrm>
                    <a:off x="7566480" y="1552680"/>
                    <a:ext cx="20520" cy="46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4680"/>
                      <a:gd name="textAreaBottom" fmla="*/ 5040 h 4680"/>
                    </a:gdLst>
                    <a:ahLst/>
                    <a:rect l="textAreaLeft" t="textAreaTop" r="textAreaRight" b="textAreaBottom"/>
                    <a:pathLst>
                      <a:path w="12" h="3">
                        <a:moveTo>
                          <a:pt x="0" y="3"/>
                        </a:moveTo>
                        <a:lnTo>
                          <a:pt x="9" y="0"/>
                        </a:lnTo>
                        <a:lnTo>
                          <a:pt x="12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760" bIns="-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7" name="Freeform 294"/>
                  <p:cNvSpPr/>
                  <p:nvPr/>
                </p:nvSpPr>
                <p:spPr>
                  <a:xfrm>
                    <a:off x="7603920" y="1544760"/>
                    <a:ext cx="20520" cy="2880"/>
                  </a:xfrm>
                  <a:custGeom>
                    <a:avLst/>
                    <a:gdLst>
                      <a:gd name="textAreaLeft" fmla="*/ 0 w 20520"/>
                      <a:gd name="textAreaRight" fmla="*/ 20880 w 20520"/>
                      <a:gd name="textAreaTop" fmla="*/ 0 h 2880"/>
                      <a:gd name="textAreaBottom" fmla="*/ 3240 h 2880"/>
                    </a:gdLst>
                    <a:ahLst/>
                    <a:rect l="textAreaLeft" t="textAreaTop" r="textAreaRight" b="textAreaBottom"/>
                    <a:pathLst>
                      <a:path w="12" h="2">
                        <a:moveTo>
                          <a:pt x="0" y="2"/>
                        </a:moveTo>
                        <a:lnTo>
                          <a:pt x="2" y="0"/>
                        </a:lnTo>
                        <a:lnTo>
                          <a:pt x="12" y="0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8" name="Freeform 295"/>
                  <p:cNvSpPr/>
                  <p:nvPr/>
                </p:nvSpPr>
                <p:spPr>
                  <a:xfrm>
                    <a:off x="7633080" y="1562040"/>
                    <a:ext cx="6480" cy="19080"/>
                  </a:xfrm>
                  <a:custGeom>
                    <a:avLst/>
                    <a:gdLst>
                      <a:gd name="textAreaLeft" fmla="*/ 0 w 6480"/>
                      <a:gd name="textAreaRight" fmla="*/ 6840 w 648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4" h="12">
                        <a:moveTo>
                          <a:pt x="0" y="0"/>
                        </a:moveTo>
                        <a:lnTo>
                          <a:pt x="3" y="10"/>
                        </a:lnTo>
                        <a:lnTo>
                          <a:pt x="4" y="12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9" name="Line 296"/>
                  <p:cNvSpPr/>
                  <p:nvPr/>
                </p:nvSpPr>
                <p:spPr>
                  <a:xfrm>
                    <a:off x="7644960" y="1596960"/>
                    <a:ext cx="828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0" name="Line 297"/>
                  <p:cNvSpPr/>
                  <p:nvPr/>
                </p:nvSpPr>
                <p:spPr>
                  <a:xfrm flipH="1">
                    <a:off x="7650000" y="1631880"/>
                    <a:ext cx="828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1" name="Line 298"/>
                  <p:cNvSpPr/>
                  <p:nvPr/>
                </p:nvSpPr>
                <p:spPr>
                  <a:xfrm flipH="1">
                    <a:off x="7633080" y="1668240"/>
                    <a:ext cx="10080" cy="1620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2" name="Line 299"/>
                  <p:cNvSpPr/>
                  <p:nvPr/>
                </p:nvSpPr>
                <p:spPr>
                  <a:xfrm flipH="1">
                    <a:off x="7617240" y="1703160"/>
                    <a:ext cx="6840" cy="176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3" name="Freeform 300"/>
                  <p:cNvSpPr/>
                  <p:nvPr/>
                </p:nvSpPr>
                <p:spPr>
                  <a:xfrm>
                    <a:off x="7603920" y="1736640"/>
                    <a:ext cx="10080" cy="17640"/>
                  </a:xfrm>
                  <a:custGeom>
                    <a:avLst/>
                    <a:gdLst>
                      <a:gd name="textAreaLeft" fmla="*/ 0 w 10080"/>
                      <a:gd name="textAreaRight" fmla="*/ 10440 w 10080"/>
                      <a:gd name="textAreaTop" fmla="*/ 0 h 17640"/>
                      <a:gd name="textAreaBottom" fmla="*/ 18000 h 17640"/>
                    </a:gdLst>
                    <a:ahLst/>
                    <a:rect l="textAreaLeft" t="textAreaTop" r="textAreaRight" b="textAreaBottom"/>
                    <a:pathLst>
                      <a:path w="6" h="11">
                        <a:moveTo>
                          <a:pt x="2" y="0"/>
                        </a:moveTo>
                        <a:lnTo>
                          <a:pt x="0" y="3"/>
                        </a:lnTo>
                        <a:lnTo>
                          <a:pt x="6" y="11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4" name="Freeform 301"/>
                  <p:cNvSpPr/>
                  <p:nvPr/>
                </p:nvSpPr>
                <p:spPr>
                  <a:xfrm>
                    <a:off x="7624440" y="1770120"/>
                    <a:ext cx="18360" cy="7920"/>
                  </a:xfrm>
                  <a:custGeom>
                    <a:avLst/>
                    <a:gdLst>
                      <a:gd name="textAreaLeft" fmla="*/ 0 w 18360"/>
                      <a:gd name="textAreaRight" fmla="*/ 18720 w 18360"/>
                      <a:gd name="textAreaTop" fmla="*/ 0 h 7920"/>
                      <a:gd name="textAreaBottom" fmla="*/ 8280 h 7920"/>
                    </a:gdLst>
                    <a:ahLst/>
                    <a:rect l="textAreaLeft" t="textAreaTop" r="textAreaRight" b="textAreaBottom"/>
                    <a:pathLst>
                      <a:path w="11" h="5">
                        <a:moveTo>
                          <a:pt x="0" y="0"/>
                        </a:moveTo>
                        <a:lnTo>
                          <a:pt x="3" y="5"/>
                        </a:lnTo>
                        <a:lnTo>
                          <a:pt x="11" y="5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520" bIns="-38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5" name="Freeform 302"/>
                  <p:cNvSpPr/>
                  <p:nvPr/>
                </p:nvSpPr>
                <p:spPr>
                  <a:xfrm>
                    <a:off x="7663680" y="1774800"/>
                    <a:ext cx="15480" cy="12600"/>
                  </a:xfrm>
                  <a:custGeom>
                    <a:avLst/>
                    <a:gdLst>
                      <a:gd name="textAreaLeft" fmla="*/ 0 w 15480"/>
                      <a:gd name="textAreaRight" fmla="*/ 15840 w 15480"/>
                      <a:gd name="textAreaTop" fmla="*/ 0 h 12600"/>
                      <a:gd name="textAreaBottom" fmla="*/ 12960 h 12600"/>
                    </a:gdLst>
                    <a:ahLst/>
                    <a:rect l="textAreaLeft" t="textAreaTop" r="textAreaRight" b="textAreaBottom"/>
                    <a:pathLst>
                      <a:path w="9" h="8">
                        <a:moveTo>
                          <a:pt x="0" y="0"/>
                        </a:moveTo>
                        <a:lnTo>
                          <a:pt x="0" y="0"/>
                        </a:lnTo>
                        <a:lnTo>
                          <a:pt x="9" y="8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840" bIns="-33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6" name="Line 303"/>
                  <p:cNvSpPr/>
                  <p:nvPr/>
                </p:nvSpPr>
                <p:spPr>
                  <a:xfrm>
                    <a:off x="7696440" y="1797120"/>
                    <a:ext cx="16920" cy="1116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7" name="Line 304"/>
                  <p:cNvSpPr/>
                  <p:nvPr/>
                </p:nvSpPr>
                <p:spPr>
                  <a:xfrm flipH="1">
                    <a:off x="7702560" y="1820880"/>
                    <a:ext cx="1548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8" name="Freeform 305"/>
                  <p:cNvSpPr/>
                  <p:nvPr/>
                </p:nvSpPr>
                <p:spPr>
                  <a:xfrm>
                    <a:off x="7675920" y="1846080"/>
                    <a:ext cx="13320" cy="14400"/>
                  </a:xfrm>
                  <a:custGeom>
                    <a:avLst/>
                    <a:gdLst>
                      <a:gd name="textAreaLeft" fmla="*/ 0 w 13320"/>
                      <a:gd name="textAreaRight" fmla="*/ 13680 w 1332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8" h="9">
                        <a:moveTo>
                          <a:pt x="8" y="0"/>
                        </a:moveTo>
                        <a:lnTo>
                          <a:pt x="5" y="3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9" name="Freeform 306"/>
                  <p:cNvSpPr/>
                  <p:nvPr/>
                </p:nvSpPr>
                <p:spPr>
                  <a:xfrm>
                    <a:off x="7665480" y="1876320"/>
                    <a:ext cx="5400" cy="19080"/>
                  </a:xfrm>
                  <a:custGeom>
                    <a:avLst/>
                    <a:gdLst>
                      <a:gd name="textAreaLeft" fmla="*/ 0 w 5400"/>
                      <a:gd name="textAreaRight" fmla="*/ 5760 w 540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3" h="12">
                        <a:moveTo>
                          <a:pt x="0" y="0"/>
                        </a:moveTo>
                        <a:lnTo>
                          <a:pt x="0" y="2"/>
                        </a:lnTo>
                        <a:lnTo>
                          <a:pt x="3" y="12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0" name="Freeform 307"/>
                  <p:cNvSpPr/>
                  <p:nvPr/>
                </p:nvSpPr>
                <p:spPr>
                  <a:xfrm>
                    <a:off x="7655400" y="1914480"/>
                    <a:ext cx="8280" cy="17280"/>
                  </a:xfrm>
                  <a:custGeom>
                    <a:avLst/>
                    <a:gdLst>
                      <a:gd name="textAreaLeft" fmla="*/ 0 w 8280"/>
                      <a:gd name="textAreaRight" fmla="*/ 8640 w 8280"/>
                      <a:gd name="textAreaTop" fmla="*/ 0 h 17280"/>
                      <a:gd name="textAreaBottom" fmla="*/ 17280 h 17280"/>
                    </a:gdLst>
                    <a:ahLst/>
                    <a:rect l="textAreaLeft" t="textAreaTop" r="textAreaRight" b="textAreaBottom"/>
                    <a:pathLst>
                      <a:path w="5" h="11">
                        <a:moveTo>
                          <a:pt x="5" y="0"/>
                        </a:moveTo>
                        <a:lnTo>
                          <a:pt x="2" y="8"/>
                        </a:lnTo>
                        <a:lnTo>
                          <a:pt x="0" y="11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1" name="Freeform 308"/>
                  <p:cNvSpPr/>
                  <p:nvPr/>
                </p:nvSpPr>
                <p:spPr>
                  <a:xfrm>
                    <a:off x="7638120" y="1950840"/>
                    <a:ext cx="11880" cy="14400"/>
                  </a:xfrm>
                  <a:custGeom>
                    <a:avLst/>
                    <a:gdLst>
                      <a:gd name="textAreaLeft" fmla="*/ 0 w 11880"/>
                      <a:gd name="textAreaRight" fmla="*/ 12240 w 11880"/>
                      <a:gd name="textAreaTop" fmla="*/ 0 h 14400"/>
                      <a:gd name="textAreaBottom" fmla="*/ 14760 h 14400"/>
                    </a:gdLst>
                    <a:ahLst/>
                    <a:rect l="textAreaLeft" t="textAreaTop" r="textAreaRight" b="textAreaBottom"/>
                    <a:pathLst>
                      <a:path w="7" h="9">
                        <a:moveTo>
                          <a:pt x="7" y="0"/>
                        </a:moveTo>
                        <a:lnTo>
                          <a:pt x="7" y="0"/>
                        </a:lnTo>
                        <a:lnTo>
                          <a:pt x="0" y="9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2" name="Line 309"/>
                  <p:cNvSpPr/>
                  <p:nvPr/>
                </p:nvSpPr>
                <p:spPr>
                  <a:xfrm flipH="1">
                    <a:off x="7612200" y="1979640"/>
                    <a:ext cx="1188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3" name="Line 310"/>
                  <p:cNvSpPr/>
                  <p:nvPr/>
                </p:nvSpPr>
                <p:spPr>
                  <a:xfrm flipH="1">
                    <a:off x="7588440" y="2009880"/>
                    <a:ext cx="1008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4" name="Freeform 311"/>
                  <p:cNvSpPr/>
                  <p:nvPr/>
                </p:nvSpPr>
                <p:spPr>
                  <a:xfrm>
                    <a:off x="7588440" y="2043000"/>
                    <a:ext cx="3240" cy="19080"/>
                  </a:xfrm>
                  <a:custGeom>
                    <a:avLst/>
                    <a:gdLst>
                      <a:gd name="textAreaLeft" fmla="*/ 0 w 3240"/>
                      <a:gd name="textAreaRight" fmla="*/ 3600 w 32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2" h="12">
                        <a:moveTo>
                          <a:pt x="0" y="0"/>
                        </a:moveTo>
                        <a:lnTo>
                          <a:pt x="2" y="12"/>
                        </a:lnTo>
                        <a:lnTo>
                          <a:pt x="0" y="12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5" name="Line 312"/>
                  <p:cNvSpPr/>
                  <p:nvPr/>
                </p:nvSpPr>
                <p:spPr>
                  <a:xfrm flipH="1">
                    <a:off x="7566480" y="2079720"/>
                    <a:ext cx="1152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6" name="Line 313"/>
                  <p:cNvSpPr/>
                  <p:nvPr/>
                </p:nvSpPr>
                <p:spPr>
                  <a:xfrm flipH="1">
                    <a:off x="7542000" y="2109600"/>
                    <a:ext cx="13320" cy="1440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7" name="Freeform 314"/>
                  <p:cNvSpPr/>
                  <p:nvPr/>
                </p:nvSpPr>
                <p:spPr>
                  <a:xfrm>
                    <a:off x="7525440" y="2139840"/>
                    <a:ext cx="5040" cy="19080"/>
                  </a:xfrm>
                  <a:custGeom>
                    <a:avLst/>
                    <a:gdLst>
                      <a:gd name="textAreaLeft" fmla="*/ 0 w 5040"/>
                      <a:gd name="textAreaRight" fmla="*/ 5400 w 5040"/>
                      <a:gd name="textAreaTop" fmla="*/ 0 h 19080"/>
                      <a:gd name="textAreaBottom" fmla="*/ 19440 h 19080"/>
                    </a:gdLst>
                    <a:ahLst/>
                    <a:rect l="textAreaLeft" t="textAreaTop" r="textAreaRight" b="textAreaBottom"/>
                    <a:pathLst>
                      <a:path w="3" h="12">
                        <a:moveTo>
                          <a:pt x="3" y="0"/>
                        </a:moveTo>
                        <a:lnTo>
                          <a:pt x="1" y="3"/>
                        </a:lnTo>
                        <a:lnTo>
                          <a:pt x="0" y="12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8" name="Freeform 315"/>
                  <p:cNvSpPr/>
                  <p:nvPr/>
                </p:nvSpPr>
                <p:spPr>
                  <a:xfrm>
                    <a:off x="7520400" y="2176560"/>
                    <a:ext cx="36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0" h="13">
                        <a:moveTo>
                          <a:pt x="0" y="0"/>
                        </a:moveTo>
                        <a:lnTo>
                          <a:pt x="0" y="3"/>
                        </a:lnTo>
                        <a:lnTo>
                          <a:pt x="0" y="13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9" name="Line 316"/>
                  <p:cNvSpPr/>
                  <p:nvPr/>
                </p:nvSpPr>
                <p:spPr>
                  <a:xfrm>
                    <a:off x="7520400" y="2214360"/>
                    <a:ext cx="504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0" name="Line 317"/>
                  <p:cNvSpPr/>
                  <p:nvPr/>
                </p:nvSpPr>
                <p:spPr>
                  <a:xfrm>
                    <a:off x="7537320" y="2247840"/>
                    <a:ext cx="18360" cy="1116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5640" bIns="-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1" name="Freeform 318"/>
                  <p:cNvSpPr/>
                  <p:nvPr/>
                </p:nvSpPr>
                <p:spPr>
                  <a:xfrm>
                    <a:off x="7571520" y="2268360"/>
                    <a:ext cx="16920" cy="12960"/>
                  </a:xfrm>
                  <a:custGeom>
                    <a:avLst/>
                    <a:gdLst>
                      <a:gd name="textAreaLeft" fmla="*/ 0 w 16920"/>
                      <a:gd name="textAreaRight" fmla="*/ 17280 w 16920"/>
                      <a:gd name="textAreaTop" fmla="*/ 0 h 12960"/>
                      <a:gd name="textAreaBottom" fmla="*/ 13320 h 12960"/>
                    </a:gdLst>
                    <a:ahLst/>
                    <a:rect l="textAreaLeft" t="textAreaTop" r="textAreaRight" b="textAreaBottom"/>
                    <a:pathLst>
                      <a:path w="10" h="8">
                        <a:moveTo>
                          <a:pt x="0" y="0"/>
                        </a:moveTo>
                        <a:lnTo>
                          <a:pt x="1" y="2"/>
                        </a:lnTo>
                        <a:lnTo>
                          <a:pt x="10" y="8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2" name="Freeform 319"/>
                  <p:cNvSpPr/>
                  <p:nvPr/>
                </p:nvSpPr>
                <p:spPr>
                  <a:xfrm>
                    <a:off x="7603920" y="2292120"/>
                    <a:ext cx="8280" cy="17640"/>
                  </a:xfrm>
                  <a:custGeom>
                    <a:avLst/>
                    <a:gdLst>
                      <a:gd name="textAreaLeft" fmla="*/ 0 w 8280"/>
                      <a:gd name="textAreaRight" fmla="*/ 8640 w 8280"/>
                      <a:gd name="textAreaTop" fmla="*/ 0 h 17640"/>
                      <a:gd name="textAreaBottom" fmla="*/ 18000 h 17640"/>
                    </a:gdLst>
                    <a:ahLst/>
                    <a:rect l="textAreaLeft" t="textAreaTop" r="textAreaRight" b="textAreaBottom"/>
                    <a:pathLst>
                      <a:path w="5" h="11">
                        <a:moveTo>
                          <a:pt x="0" y="0"/>
                        </a:moveTo>
                        <a:lnTo>
                          <a:pt x="5" y="5"/>
                        </a:lnTo>
                        <a:lnTo>
                          <a:pt x="5" y="11"/>
                        </a:lnTo>
                      </a:path>
                    </a:pathLst>
                  </a:custGeom>
                  <a:noFill/>
                  <a:ln w="1440">
                    <a:solidFill>
                      <a:srgbClr val="728944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3" name="Line 320"/>
                  <p:cNvSpPr/>
                  <p:nvPr/>
                </p:nvSpPr>
                <p:spPr>
                  <a:xfrm>
                    <a:off x="7612560" y="2328840"/>
                    <a:ext cx="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4" name="Line 321"/>
                  <p:cNvSpPr/>
                  <p:nvPr/>
                </p:nvSpPr>
                <p:spPr>
                  <a:xfrm>
                    <a:off x="7612560" y="2365200"/>
                    <a:ext cx="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5" name="Line 322"/>
                  <p:cNvSpPr/>
                  <p:nvPr/>
                </p:nvSpPr>
                <p:spPr>
                  <a:xfrm>
                    <a:off x="7612560" y="2403360"/>
                    <a:ext cx="0" cy="1908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6" name="Line 323"/>
                  <p:cNvSpPr/>
                  <p:nvPr/>
                </p:nvSpPr>
                <p:spPr>
                  <a:xfrm flipH="1">
                    <a:off x="7588080" y="2440080"/>
                    <a:ext cx="1332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7" name="Line 324"/>
                  <p:cNvSpPr/>
                  <p:nvPr/>
                </p:nvSpPr>
                <p:spPr>
                  <a:xfrm flipH="1">
                    <a:off x="7562520" y="2468520"/>
                    <a:ext cx="13320" cy="1440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8" name="Line 325"/>
                  <p:cNvSpPr/>
                  <p:nvPr/>
                </p:nvSpPr>
                <p:spPr>
                  <a:xfrm flipH="1">
                    <a:off x="7535160" y="2496960"/>
                    <a:ext cx="11880" cy="1440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9" name="Line 326"/>
                  <p:cNvSpPr/>
                  <p:nvPr/>
                </p:nvSpPr>
                <p:spPr>
                  <a:xfrm flipH="1">
                    <a:off x="7509600" y="2525760"/>
                    <a:ext cx="11880" cy="140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0" name="Line 327"/>
                  <p:cNvSpPr/>
                  <p:nvPr/>
                </p:nvSpPr>
                <p:spPr>
                  <a:xfrm flipH="1">
                    <a:off x="7482600" y="2554200"/>
                    <a:ext cx="11520" cy="1584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1" name="Line 328"/>
                  <p:cNvSpPr/>
                  <p:nvPr/>
                </p:nvSpPr>
                <p:spPr>
                  <a:xfrm flipH="1">
                    <a:off x="7456320" y="2584440"/>
                    <a:ext cx="11880" cy="14400"/>
                  </a:xfrm>
                  <a:prstGeom prst="line">
                    <a:avLst/>
                  </a:prstGeom>
                  <a:ln w="1440">
                    <a:solidFill>
                      <a:srgbClr val="72894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32" name="Freeform 329"/>
            <p:cNvSpPr/>
            <p:nvPr/>
          </p:nvSpPr>
          <p:spPr>
            <a:xfrm>
              <a:off x="6870960" y="1654200"/>
              <a:ext cx="1370160" cy="804960"/>
            </a:xfrm>
            <a:custGeom>
              <a:avLst/>
              <a:gdLst>
                <a:gd name="textAreaLeft" fmla="*/ 0 w 1370160"/>
                <a:gd name="textAreaRight" fmla="*/ 1370520 w 1370160"/>
                <a:gd name="textAreaTop" fmla="*/ 0 h 804960"/>
                <a:gd name="textAreaBottom" fmla="*/ 805320 h 804960"/>
              </a:gdLst>
              <a:ahLst/>
              <a:rect l="textAreaLeft" t="textAreaTop" r="textAreaRight" b="textAreaBottom"/>
              <a:pathLst>
                <a:path w="801" h="507">
                  <a:moveTo>
                    <a:pt x="0" y="102"/>
                  </a:moveTo>
                  <a:cubicBezTo>
                    <a:pt x="57" y="51"/>
                    <a:pt x="114" y="0"/>
                    <a:pt x="148" y="5"/>
                  </a:cubicBezTo>
                  <a:cubicBezTo>
                    <a:pt x="182" y="10"/>
                    <a:pt x="193" y="62"/>
                    <a:pt x="205" y="131"/>
                  </a:cubicBezTo>
                  <a:cubicBezTo>
                    <a:pt x="217" y="200"/>
                    <a:pt x="191" y="378"/>
                    <a:pt x="222" y="422"/>
                  </a:cubicBezTo>
                  <a:cubicBezTo>
                    <a:pt x="253" y="466"/>
                    <a:pt x="340" y="412"/>
                    <a:pt x="393" y="393"/>
                  </a:cubicBezTo>
                  <a:cubicBezTo>
                    <a:pt x="446" y="374"/>
                    <a:pt x="494" y="318"/>
                    <a:pt x="542" y="307"/>
                  </a:cubicBezTo>
                  <a:cubicBezTo>
                    <a:pt x="590" y="296"/>
                    <a:pt x="642" y="312"/>
                    <a:pt x="684" y="325"/>
                  </a:cubicBezTo>
                  <a:cubicBezTo>
                    <a:pt x="726" y="338"/>
                    <a:pt x="785" y="357"/>
                    <a:pt x="793" y="387"/>
                  </a:cubicBezTo>
                  <a:cubicBezTo>
                    <a:pt x="801" y="417"/>
                    <a:pt x="765" y="462"/>
                    <a:pt x="730" y="507"/>
                  </a:cubicBezTo>
                </a:path>
              </a:pathLst>
            </a:custGeom>
            <a:noFill/>
            <a:ln w="9360">
              <a:solidFill>
                <a:srgbClr val="eeece1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Freeform 330"/>
            <p:cNvSpPr/>
            <p:nvPr/>
          </p:nvSpPr>
          <p:spPr>
            <a:xfrm>
              <a:off x="7293240" y="1581120"/>
              <a:ext cx="718200" cy="468360"/>
            </a:xfrm>
            <a:custGeom>
              <a:avLst/>
              <a:gdLst>
                <a:gd name="textAreaLeft" fmla="*/ 0 w 718200"/>
                <a:gd name="textAreaRight" fmla="*/ 718560 w 71820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420" h="295">
                  <a:moveTo>
                    <a:pt x="95" y="0"/>
                  </a:moveTo>
                  <a:cubicBezTo>
                    <a:pt x="93" y="22"/>
                    <a:pt x="92" y="44"/>
                    <a:pt x="78" y="85"/>
                  </a:cubicBezTo>
                  <a:cubicBezTo>
                    <a:pt x="64" y="126"/>
                    <a:pt x="0" y="217"/>
                    <a:pt x="10" y="245"/>
                  </a:cubicBezTo>
                  <a:cubicBezTo>
                    <a:pt x="20" y="273"/>
                    <a:pt x="96" y="245"/>
                    <a:pt x="141" y="251"/>
                  </a:cubicBezTo>
                  <a:cubicBezTo>
                    <a:pt x="186" y="257"/>
                    <a:pt x="249" y="295"/>
                    <a:pt x="283" y="279"/>
                  </a:cubicBezTo>
                  <a:cubicBezTo>
                    <a:pt x="317" y="263"/>
                    <a:pt x="323" y="180"/>
                    <a:pt x="346" y="154"/>
                  </a:cubicBezTo>
                  <a:cubicBezTo>
                    <a:pt x="369" y="128"/>
                    <a:pt x="408" y="126"/>
                    <a:pt x="420" y="120"/>
                  </a:cubicBezTo>
                </a:path>
              </a:pathLst>
            </a:custGeom>
            <a:noFill/>
            <a:ln w="9360">
              <a:solidFill>
                <a:srgbClr val="eeece1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4" name="TextBox 313"/>
          <p:cNvSpPr/>
          <p:nvPr/>
        </p:nvSpPr>
        <p:spPr>
          <a:xfrm>
            <a:off x="383040" y="1362240"/>
            <a:ext cx="10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5" name="Group 340"/>
          <p:cNvGrpSpPr/>
          <p:nvPr/>
        </p:nvGrpSpPr>
        <p:grpSpPr>
          <a:xfrm>
            <a:off x="361440" y="5540400"/>
            <a:ext cx="8209440" cy="1212120"/>
            <a:chOff x="361440" y="5540400"/>
            <a:chExt cx="8209440" cy="1212120"/>
          </a:xfrm>
        </p:grpSpPr>
        <p:sp>
          <p:nvSpPr>
            <p:cNvPr id="1936" name="Text Box 30"/>
            <p:cNvSpPr/>
            <p:nvPr/>
          </p:nvSpPr>
          <p:spPr>
            <a:xfrm>
              <a:off x="361440" y="5810400"/>
              <a:ext cx="8209440" cy="94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Household/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ommunit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Character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ross-country data harmonization challenges.  </a:t>
              </a:r>
              <a:r>
                <a:rPr b="1" i="1" lang="en-US" sz="1400" spc="-1" strike="noStrike">
                  <a:solidFill>
                    <a:srgbClr val="ff0000"/>
                  </a:solidFill>
                  <a:latin typeface="Verdana"/>
                </a:rPr>
                <a:t>Livelihoods, Assets, Gender &amp; Access Foc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TextBox 314"/>
            <p:cNvSpPr/>
            <p:nvPr/>
          </p:nvSpPr>
          <p:spPr>
            <a:xfrm>
              <a:off x="375840" y="5540400"/>
              <a:ext cx="94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MICR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8" name="Group 335"/>
          <p:cNvGrpSpPr/>
          <p:nvPr/>
        </p:nvGrpSpPr>
        <p:grpSpPr>
          <a:xfrm>
            <a:off x="380880" y="3319560"/>
            <a:ext cx="8276760" cy="2000160"/>
            <a:chOff x="380880" y="3319560"/>
            <a:chExt cx="8276760" cy="2000160"/>
          </a:xfrm>
        </p:grpSpPr>
        <p:sp>
          <p:nvSpPr>
            <p:cNvPr id="1939" name="Text Box 32"/>
            <p:cNvSpPr/>
            <p:nvPr/>
          </p:nvSpPr>
          <p:spPr>
            <a:xfrm>
              <a:off x="380880" y="3941640"/>
              <a:ext cx="4571640" cy="12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Production/Market Context &amp; Impac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Gridcells/pixels as units of analysi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atural/Human landscape patterns as well as resour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nd product flows are unifying concepts and objects of analysis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0000"/>
                  </a:solidFill>
                  <a:latin typeface="Verdana"/>
                </a:rPr>
                <a:t>Systems focus</a:t>
              </a:r>
              <a:r>
                <a:rPr b="1" lang="en-US" sz="1400" spc="-1" strike="noStrike">
                  <a:solidFill>
                    <a:srgbClr val="ff0000"/>
                  </a:solidFill>
                  <a:latin typeface="Verdana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TextBox 315"/>
            <p:cNvSpPr/>
            <p:nvPr/>
          </p:nvSpPr>
          <p:spPr>
            <a:xfrm>
              <a:off x="389160" y="3640320"/>
              <a:ext cx="854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ME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1" name="Group 332"/>
            <p:cNvGrpSpPr/>
            <p:nvPr/>
          </p:nvGrpSpPr>
          <p:grpSpPr>
            <a:xfrm>
              <a:off x="4157640" y="3319560"/>
              <a:ext cx="4500000" cy="2000160"/>
              <a:chOff x="4157640" y="3319560"/>
              <a:chExt cx="4500000" cy="2000160"/>
            </a:xfrm>
          </p:grpSpPr>
          <p:sp>
            <p:nvSpPr>
              <p:cNvPr id="1942" name="Line 34"/>
              <p:cNvSpPr/>
              <p:nvPr/>
            </p:nvSpPr>
            <p:spPr>
              <a:xfrm>
                <a:off x="5343120" y="4157640"/>
                <a:ext cx="1271880" cy="116208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Line 35"/>
              <p:cNvSpPr/>
              <p:nvPr/>
            </p:nvSpPr>
            <p:spPr>
              <a:xfrm>
                <a:off x="4342680" y="4138560"/>
                <a:ext cx="1219320" cy="115200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Line 36"/>
              <p:cNvSpPr/>
              <p:nvPr/>
            </p:nvSpPr>
            <p:spPr>
              <a:xfrm flipV="1">
                <a:off x="4699800" y="4966560"/>
                <a:ext cx="3266640" cy="432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Line 37"/>
              <p:cNvSpPr/>
              <p:nvPr/>
            </p:nvSpPr>
            <p:spPr>
              <a:xfrm flipV="1">
                <a:off x="4157640" y="4344480"/>
                <a:ext cx="3266640" cy="432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Line 38"/>
              <p:cNvSpPr/>
              <p:nvPr/>
            </p:nvSpPr>
            <p:spPr>
              <a:xfrm>
                <a:off x="5020200" y="3319560"/>
                <a:ext cx="0" cy="175356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Line 39"/>
              <p:cNvSpPr/>
              <p:nvPr/>
            </p:nvSpPr>
            <p:spPr>
              <a:xfrm>
                <a:off x="5540040" y="3319560"/>
                <a:ext cx="0" cy="175356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Line 40"/>
              <p:cNvSpPr/>
              <p:nvPr/>
            </p:nvSpPr>
            <p:spPr>
              <a:xfrm>
                <a:off x="5767560" y="3459600"/>
                <a:ext cx="0" cy="175356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AutoShape 43"/>
              <p:cNvSpPr/>
              <p:nvPr/>
            </p:nvSpPr>
            <p:spPr>
              <a:xfrm flipV="1" rot="10800000">
                <a:off x="5003640" y="4617360"/>
                <a:ext cx="766440" cy="344520"/>
              </a:xfrm>
              <a:prstGeom prst="cube">
                <a:avLst>
                  <a:gd name="adj" fmla="val 64611"/>
                </a:avLst>
              </a:pr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Text Box 45"/>
              <p:cNvSpPr/>
              <p:nvPr/>
            </p:nvSpPr>
            <p:spPr>
              <a:xfrm>
                <a:off x="5965920" y="4069800"/>
                <a:ext cx="1689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8000"/>
                    </a:solidFill>
                    <a:latin typeface="Verdana"/>
                  </a:rPr>
                  <a:t>Production Syste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Text Box 46"/>
              <p:cNvSpPr/>
              <p:nvPr/>
            </p:nvSpPr>
            <p:spPr>
              <a:xfrm>
                <a:off x="6021720" y="4402440"/>
                <a:ext cx="20811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b6bcf"/>
                    </a:solidFill>
                    <a:latin typeface="Verdana"/>
                  </a:rPr>
                  <a:t>Ecosystems &amp; ES Service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Text Box 47"/>
              <p:cNvSpPr/>
              <p:nvPr/>
            </p:nvSpPr>
            <p:spPr>
              <a:xfrm>
                <a:off x="5876280" y="3754800"/>
                <a:ext cx="2781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9933ff"/>
                    </a:solidFill>
                    <a:latin typeface="Verdana"/>
                  </a:rPr>
                  <a:t>Infrastructure/Market Acces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Line 48"/>
              <p:cNvSpPr/>
              <p:nvPr/>
            </p:nvSpPr>
            <p:spPr>
              <a:xfrm flipV="1">
                <a:off x="4406400" y="4542480"/>
                <a:ext cx="3266640" cy="432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Line 49"/>
              <p:cNvSpPr/>
              <p:nvPr/>
            </p:nvSpPr>
            <p:spPr>
              <a:xfrm>
                <a:off x="4838040" y="4148280"/>
                <a:ext cx="1239120" cy="115704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Line 48"/>
              <p:cNvSpPr/>
              <p:nvPr/>
            </p:nvSpPr>
            <p:spPr>
              <a:xfrm flipV="1">
                <a:off x="4587480" y="4742640"/>
                <a:ext cx="3266640" cy="4320"/>
              </a:xfrm>
              <a:prstGeom prst="line">
                <a:avLst/>
              </a:prstGeom>
              <a:ln w="9360">
                <a:solidFill>
                  <a:srgbClr val="eeece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AutoShape 42"/>
              <p:cNvSpPr/>
              <p:nvPr/>
            </p:nvSpPr>
            <p:spPr>
              <a:xfrm flipV="1" rot="10800000">
                <a:off x="5017320" y="4286880"/>
                <a:ext cx="765000" cy="345960"/>
              </a:xfrm>
              <a:prstGeom prst="cube">
                <a:avLst>
                  <a:gd name="adj" fmla="val 64611"/>
                </a:avLst>
              </a:prstGeom>
              <a:solidFill>
                <a:srgbClr val="fac09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AutoShape 41"/>
              <p:cNvSpPr/>
              <p:nvPr/>
            </p:nvSpPr>
            <p:spPr>
              <a:xfrm flipV="1" rot="10800000">
                <a:off x="5028120" y="3964320"/>
                <a:ext cx="766440" cy="344520"/>
              </a:xfrm>
              <a:prstGeom prst="cube">
                <a:avLst>
                  <a:gd name="adj" fmla="val 64611"/>
                </a:avLst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AutoShape 41"/>
              <p:cNvSpPr/>
              <p:nvPr/>
            </p:nvSpPr>
            <p:spPr>
              <a:xfrm flipV="1" rot="10800000">
                <a:off x="5018400" y="3640320"/>
                <a:ext cx="766440" cy="344520"/>
              </a:xfrm>
              <a:prstGeom prst="cube">
                <a:avLst>
                  <a:gd name="adj" fmla="val 64611"/>
                </a:avLst>
              </a:prstGeom>
              <a:solidFill>
                <a:srgbClr val="9933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Text Box 46"/>
              <p:cNvSpPr/>
              <p:nvPr/>
            </p:nvSpPr>
            <p:spPr>
              <a:xfrm>
                <a:off x="6015240" y="4745520"/>
                <a:ext cx="2536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6f0d"/>
                    </a:solidFill>
                    <a:latin typeface="Verdana"/>
                  </a:rPr>
                  <a:t>Demographics/Human Welfa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Line 44"/>
              <p:cNvSpPr/>
              <p:nvPr/>
            </p:nvSpPr>
            <p:spPr>
              <a:xfrm>
                <a:off x="5248080" y="3459600"/>
                <a:ext cx="0" cy="1753560"/>
              </a:xfrm>
              <a:prstGeom prst="line">
                <a:avLst/>
              </a:prstGeom>
              <a:ln w="93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1" name="TextBox 322"/>
          <p:cNvSpPr/>
          <p:nvPr/>
        </p:nvSpPr>
        <p:spPr>
          <a:xfrm>
            <a:off x="193680" y="163440"/>
            <a:ext cx="870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inking Data &amp; Analysis Across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SA Farming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3" name="Content Placeholder 3" descr="fs.png"/>
          <p:cNvPicPr/>
          <p:nvPr/>
        </p:nvPicPr>
        <p:blipFill>
          <a:blip r:embed="rId1"/>
          <a:stretch/>
        </p:blipFill>
        <p:spPr>
          <a:xfrm>
            <a:off x="-23760" y="914400"/>
            <a:ext cx="5468760" cy="5791320"/>
          </a:xfrm>
          <a:prstGeom prst="rect">
            <a:avLst/>
          </a:prstGeom>
          <a:ln w="0">
            <a:noFill/>
          </a:ln>
        </p:spPr>
      </p:pic>
      <p:pic>
        <p:nvPicPr>
          <p:cNvPr id="1964" name="Content Placeholder 3" descr="fs.png"/>
          <p:cNvPicPr/>
          <p:nvPr/>
        </p:nvPicPr>
        <p:blipFill>
          <a:blip r:embed="rId2"/>
          <a:stretch/>
        </p:blipFill>
        <p:spPr>
          <a:xfrm>
            <a:off x="5459400" y="1708200"/>
            <a:ext cx="3106800" cy="4656240"/>
          </a:xfrm>
          <a:prstGeom prst="rect">
            <a:avLst/>
          </a:prstGeom>
          <a:ln w="0">
            <a:noFill/>
          </a:ln>
        </p:spPr>
      </p:pic>
      <p:sp>
        <p:nvSpPr>
          <p:cNvPr id="1965" name="Rectangle 2"/>
          <p:cNvSpPr/>
          <p:nvPr/>
        </p:nvSpPr>
        <p:spPr>
          <a:xfrm>
            <a:off x="241200" y="3505320"/>
            <a:ext cx="1892520" cy="32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TextBox 7"/>
          <p:cNvSpPr/>
          <p:nvPr/>
        </p:nvSpPr>
        <p:spPr>
          <a:xfrm>
            <a:off x="253080" y="6305400"/>
            <a:ext cx="24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urce: Dixon el al. 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5087520" y="32040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lecting S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cus Are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8" name="Content Placeholder 3" descr="africa_poppng.png"/>
          <p:cNvPicPr/>
          <p:nvPr/>
        </p:nvPicPr>
        <p:blipFill>
          <a:blip r:embed="rId1"/>
          <a:stretch/>
        </p:blipFill>
        <p:spPr>
          <a:xfrm>
            <a:off x="162000" y="380880"/>
            <a:ext cx="427500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69" name="TextBox 8"/>
          <p:cNvSpPr/>
          <p:nvPr/>
        </p:nvSpPr>
        <p:spPr>
          <a:xfrm>
            <a:off x="142920" y="4332240"/>
            <a:ext cx="121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TextBox 12"/>
          <p:cNvSpPr/>
          <p:nvPr/>
        </p:nvSpPr>
        <p:spPr>
          <a:xfrm>
            <a:off x="3450240" y="37800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UMP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5087520" y="32040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lecting S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cus Are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2" name="Group 16"/>
          <p:cNvGrpSpPr/>
          <p:nvPr/>
        </p:nvGrpSpPr>
        <p:grpSpPr>
          <a:xfrm>
            <a:off x="886680" y="1065240"/>
            <a:ext cx="4592520" cy="4591800"/>
            <a:chOff x="886680" y="1065240"/>
            <a:chExt cx="4592520" cy="4591800"/>
          </a:xfrm>
        </p:grpSpPr>
        <p:grpSp>
          <p:nvGrpSpPr>
            <p:cNvPr id="1973" name="Group 2"/>
            <p:cNvGrpSpPr/>
            <p:nvPr/>
          </p:nvGrpSpPr>
          <p:grpSpPr>
            <a:xfrm>
              <a:off x="936720" y="1067040"/>
              <a:ext cx="4526280" cy="4525560"/>
              <a:chOff x="936720" y="1067040"/>
              <a:chExt cx="4526280" cy="4525560"/>
            </a:xfrm>
          </p:grpSpPr>
          <p:pic>
            <p:nvPicPr>
              <p:cNvPr id="1974" name="Content Placeholder 5" descr="headcount $1.25 per day.png"/>
              <p:cNvPicPr/>
              <p:nvPr/>
            </p:nvPicPr>
            <p:blipFill>
              <a:blip r:embed="rId1"/>
              <a:stretch/>
            </p:blipFill>
            <p:spPr>
              <a:xfrm>
                <a:off x="936720" y="1067040"/>
                <a:ext cx="4526280" cy="452556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pic>
            <p:nvPicPr>
              <p:cNvPr id="1975" name="Picture 7" descr="legend headcount $1.25 per day.png"/>
              <p:cNvPicPr/>
              <p:nvPr/>
            </p:nvPicPr>
            <p:blipFill>
              <a:blip r:embed="rId2"/>
              <a:stretch/>
            </p:blipFill>
            <p:spPr>
              <a:xfrm>
                <a:off x="1319760" y="2880360"/>
                <a:ext cx="1346400" cy="2547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976" name="TextBox 9"/>
            <p:cNvSpPr/>
            <p:nvPr/>
          </p:nvSpPr>
          <p:spPr>
            <a:xfrm>
              <a:off x="886680" y="528876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Pover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TextBox 13"/>
            <p:cNvSpPr/>
            <p:nvPr/>
          </p:nvSpPr>
          <p:spPr>
            <a:xfrm>
              <a:off x="4269600" y="1065240"/>
              <a:ext cx="1209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Wood et al 20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now replaced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5087520" y="32040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lecting S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cus Are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9" name="Group 17"/>
          <p:cNvGrpSpPr/>
          <p:nvPr/>
        </p:nvGrpSpPr>
        <p:grpSpPr>
          <a:xfrm>
            <a:off x="1988640" y="1636560"/>
            <a:ext cx="4336920" cy="4629960"/>
            <a:chOff x="1988640" y="1636560"/>
            <a:chExt cx="4336920" cy="4629960"/>
          </a:xfrm>
        </p:grpSpPr>
        <p:pic>
          <p:nvPicPr>
            <p:cNvPr id="1980" name="Content Placeholder 6" descr="Africa Cropland density.png"/>
            <p:cNvPicPr/>
            <p:nvPr/>
          </p:nvPicPr>
          <p:blipFill>
            <a:blip r:embed="rId1"/>
            <a:stretch/>
          </p:blipFill>
          <p:spPr>
            <a:xfrm>
              <a:off x="2031120" y="1675440"/>
              <a:ext cx="4275360" cy="45266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1981" name="TextBox 10"/>
            <p:cNvSpPr/>
            <p:nvPr/>
          </p:nvSpPr>
          <p:spPr>
            <a:xfrm>
              <a:off x="1988640" y="5898240"/>
              <a:ext cx="104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Cropl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TextBox 14"/>
            <p:cNvSpPr/>
            <p:nvPr/>
          </p:nvSpPr>
          <p:spPr>
            <a:xfrm>
              <a:off x="5094720" y="163656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Ramankutty et 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(2008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5087520" y="32040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Selecting SI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ocus Area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4" name="Content Placeholder 3" descr="africa_mkt.png"/>
          <p:cNvPicPr/>
          <p:nvPr/>
        </p:nvPicPr>
        <p:blipFill>
          <a:blip r:embed="rId1"/>
          <a:stretch/>
        </p:blipFill>
        <p:spPr>
          <a:xfrm>
            <a:off x="3457440" y="2390760"/>
            <a:ext cx="4121280" cy="433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985" name="Group 18"/>
          <p:cNvGrpSpPr/>
          <p:nvPr/>
        </p:nvGrpSpPr>
        <p:grpSpPr>
          <a:xfrm>
            <a:off x="3414960" y="2384280"/>
            <a:ext cx="4158000" cy="4407480"/>
            <a:chOff x="3414960" y="2384280"/>
            <a:chExt cx="4158000" cy="4407480"/>
          </a:xfrm>
        </p:grpSpPr>
        <p:sp>
          <p:nvSpPr>
            <p:cNvPr id="1986" name="TextBox 11"/>
            <p:cNvSpPr/>
            <p:nvPr/>
          </p:nvSpPr>
          <p:spPr>
            <a:xfrm>
              <a:off x="3414960" y="6423480"/>
              <a:ext cx="197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ime to &gt;50K tow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TextBox 15"/>
            <p:cNvSpPr/>
            <p:nvPr/>
          </p:nvSpPr>
          <p:spPr>
            <a:xfrm>
              <a:off x="6499080" y="2384280"/>
              <a:ext cx="1073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HarvestCho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alibri"/>
                </a:rPr>
                <a:t>Guo 20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22:17:45Z</dcterms:created>
  <dc:creator>locadmin</dc:creator>
  <dc:description/>
  <dc:language>en-US</dc:language>
  <cp:lastModifiedBy>PBallantyne</cp:lastModifiedBy>
  <dcterms:modified xsi:type="dcterms:W3CDTF">2012-01-11T15:03:52Z</dcterms:modified>
  <cp:revision>33</cp:revision>
  <dc:subject/>
  <dc:title>PowerPoint Presentation</dc:title>
</cp:coreProperties>
</file>