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35F6-E34B-48BD-AEA1-52BF90DB2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AEC5-05DB-44A8-ACBB-A99403A25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ST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E34F-F8B3-4D7C-B3BD-43FF7C4F7D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6840" y="3152160"/>
            <a:ext cx="51814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111840" y="159984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6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3111840" y="3152160"/>
            <a:ext cx="252828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220896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961080" y="159984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684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220896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3961080" y="3152160"/>
            <a:ext cx="1668240" cy="14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9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5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02" name="Picture 3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0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0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1590840" y="1752120"/>
            <a:ext cx="712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R Mali Evalu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360160" y="3580920"/>
            <a:ext cx="5380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"/>
              </a:rPr>
              <a:t>I. Hoeschle-Zeled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"/>
              </a:rPr>
              <a:t>Coordinator Africa RISING ESA and W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82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Gill Sans"/>
              </a:rPr>
              <a:t>Bamako, 8 January 201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4896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489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Feedback of research results to R4D platforms and farme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9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Address farmers’ request for inter-farm visits and field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27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Monitoring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Assemble socially disaggregated data of project participa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tudies on technology integration into farming activities, case studies on hh resource allo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Question research hypothe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Gender research around technologi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736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4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Data Management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2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Use of PMMT, inclusion of data from NARS in PMM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Data sharing according to data management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120" y="2666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Gill Sans"/>
              </a:rPr>
              <a:t>Partners WA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grpSp>
        <p:nvGrpSpPr>
          <p:cNvPr id="415" name="Group 13"/>
          <p:cNvGrpSpPr/>
          <p:nvPr/>
        </p:nvGrpSpPr>
        <p:grpSpPr>
          <a:xfrm>
            <a:off x="838080" y="4867200"/>
            <a:ext cx="7391520" cy="1824120"/>
            <a:chOff x="838080" y="4867200"/>
            <a:chExt cx="7391520" cy="1824120"/>
          </a:xfrm>
        </p:grpSpPr>
        <p:pic>
          <p:nvPicPr>
            <p:cNvPr id="416" name="Picture 2" descr=""/>
            <p:cNvPicPr/>
            <p:nvPr/>
          </p:nvPicPr>
          <p:blipFill>
            <a:blip r:embed="rId1"/>
            <a:stretch/>
          </p:blipFill>
          <p:spPr>
            <a:xfrm>
              <a:off x="7576920" y="4867200"/>
              <a:ext cx="652680" cy="7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Picture 3" descr=""/>
            <p:cNvPicPr/>
            <p:nvPr/>
          </p:nvPicPr>
          <p:blipFill>
            <a:blip r:embed="rId2"/>
            <a:stretch/>
          </p:blipFill>
          <p:spPr>
            <a:xfrm>
              <a:off x="4216680" y="5978880"/>
              <a:ext cx="675360" cy="67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8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996480" y="4981680"/>
              <a:ext cx="372600" cy="67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9" name="Picture 2" descr="P:\logos\i\ICRISAT\icrisat-logo.jpg"/>
            <p:cNvPicPr/>
            <p:nvPr/>
          </p:nvPicPr>
          <p:blipFill>
            <a:blip r:embed="rId4"/>
            <a:stretch/>
          </p:blipFill>
          <p:spPr>
            <a:xfrm>
              <a:off x="838080" y="6118560"/>
              <a:ext cx="1434960" cy="53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6" descr="AVRDC – The World Vegetable Center — avrdc.org"/>
            <p:cNvPicPr/>
            <p:nvPr/>
          </p:nvPicPr>
          <p:blipFill>
            <a:blip r:embed="rId5"/>
            <a:srcRect l="0" t="0" r="63858" b="0"/>
            <a:stretch/>
          </p:blipFill>
          <p:spPr>
            <a:xfrm>
              <a:off x="4876920" y="5040360"/>
              <a:ext cx="1872360" cy="5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Picture 7" descr="P:\logos\i\iita\IITA_regular-sienna_with slogan (2).JPG"/>
            <p:cNvPicPr/>
            <p:nvPr/>
          </p:nvPicPr>
          <p:blipFill>
            <a:blip r:embed="rId6"/>
            <a:stretch/>
          </p:blipFill>
          <p:spPr>
            <a:xfrm>
              <a:off x="2819160" y="5051160"/>
              <a:ext cx="1069200" cy="53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Picture 9" descr=""/>
            <p:cNvPicPr/>
            <p:nvPr/>
          </p:nvPicPr>
          <p:blipFill>
            <a:blip r:embed="rId7"/>
            <a:stretch/>
          </p:blipFill>
          <p:spPr>
            <a:xfrm>
              <a:off x="7281360" y="5987880"/>
              <a:ext cx="936720" cy="65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Picture 1" descr=""/>
            <p:cNvPicPr/>
            <p:nvPr/>
          </p:nvPicPr>
          <p:blipFill>
            <a:blip r:embed="rId8"/>
            <a:stretch/>
          </p:blipFill>
          <p:spPr>
            <a:xfrm>
              <a:off x="2819160" y="5987880"/>
              <a:ext cx="70344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Picture 3" descr=""/>
            <p:cNvPicPr/>
            <p:nvPr/>
          </p:nvPicPr>
          <p:blipFill>
            <a:blip r:embed="rId9"/>
            <a:stretch/>
          </p:blipFill>
          <p:spPr>
            <a:xfrm>
              <a:off x="5638680" y="5947920"/>
              <a:ext cx="705240" cy="72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itle 1"/>
          <p:cNvSpPr/>
          <p:nvPr/>
        </p:nvSpPr>
        <p:spPr>
          <a:xfrm>
            <a:off x="476280" y="190512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156834"/>
                </a:solidFill>
                <a:latin typeface="Gill Sans"/>
              </a:rPr>
              <a:t>Thank You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2000"/>
          </a:bodyPr>
          <a:p>
            <a:pPr marL="13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oday’s focus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sour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tner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onito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ata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mendations related to research activities will be discussed during workplan rev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3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11280" y="170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7000"/>
          </a:bodyPr>
          <a:p>
            <a:pPr marL="30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Management (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p. V and 4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60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Streamlining approval of work plan and budgets, ease of fund transfers to national partners, reporting schedules aligned to season, mentoring partners in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60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atching budgets with work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60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mproving communication between partners, remove silo 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3000"/>
          </a:bodyPr>
          <a:p>
            <a:pPr marL="374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v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e-engaging IER, build their cap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athway to impact: collaboration with development partners and projects, monitoring technology upta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i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Completion of logframe, include theory of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7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520" y="1676160"/>
            <a:ext cx="7772400" cy="6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marL="16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Resources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ii and 45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Qualified research coordinator in each distr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obility of stud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inimise # of short-term/part-time scient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Mentoring new staff, cross-team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National partners supported with transport and research as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marL="41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Implementation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ii and 7-1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10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4D platforms at different levels to be operationalized, link activities to the platforms (prioritization, demand driven resear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Role, facilitation and management of platforms to be clarified and agreed upon; AMEDD and AMASSA to facilitate platfo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395280" y="1989000"/>
            <a:ext cx="77724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7000"/>
          </a:bodyPr>
          <a:p>
            <a:pPr marL="164880" indent="-1454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Establishment of at least two research hubs with government and development organizations integrated, all partners to work at these hub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-14544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ulling different surveys together to provide holistic synthe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Participatory budgets and cost–benefit analysis of SI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vi.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Attention to impact of technology changes on gen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4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9000"/>
          </a:bodyPr>
          <a:p>
            <a:pPr marL="33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"/>
              </a:rPr>
              <a:t>Partnerships </a:t>
            </a:r>
            <a:r>
              <a:rPr b="0" lang="en-GB" sz="2000" spc="-1" strike="noStrike">
                <a:solidFill>
                  <a:srgbClr val="000000"/>
                </a:solidFill>
                <a:latin typeface="Gill Sans"/>
              </a:rPr>
              <a:t>(p. v, vi and 37-38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Limit lengthy and complex compliance arrangements, timely submission of workplans and reports, timely funding of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ntegration of activities by different research part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mprove communication among partners: calendar, meetings, semin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6000"/>
          </a:bodyPr>
          <a:p>
            <a:pPr marL="295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v.  Closer and broadened collaboration with IER for better ownership of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Information of USAID mission and their bilateral projects; development partners to establish demonstrations near Africa RISING  commun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>
              <a:lnSpc>
                <a:spcPct val="100000"/>
              </a:lnSpc>
              <a:spcBef>
                <a:spcPts val="700"/>
              </a:spcBef>
              <a:buClr>
                <a:srgbClr val="712123"/>
              </a:buClr>
              <a:buFont typeface="Gill Sans"/>
              <a:buAutoNum type="roman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NGOs to facilitate R4D Platforms, development partners to become me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7T10:09:38Z</dcterms:created>
  <dc:creator>IZeledon</dc:creator>
  <dc:description/>
  <dc:language>en-US</dc:language>
  <cp:lastModifiedBy>Jonathan Odhong</cp:lastModifiedBy>
  <cp:lastPrinted>2011-10-06T11:45:23Z</cp:lastPrinted>
  <dcterms:modified xsi:type="dcterms:W3CDTF">2015-03-22T08:51:31Z</dcterms:modified>
  <cp:revision>29</cp:revision>
  <dc:subject/>
  <dc:title>Slide 1</dc:title>
</cp:coreProperties>
</file>