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739-3EE7-4DF1-808F-7E0FE20E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35EC-4841-4F6A-83DB-32DFD451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B90-2287-46A0-BB25-16D344A0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9F7-01F6-49FB-BE76-FF303A6E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0E38-750D-4FAA-AE8F-A3B8E3D9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5883-FFB6-407E-9F03-8202EA61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9F73-0347-474F-ADCE-C27F4213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D15E-E613-4C77-9B9C-09665277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5D14-8C18-4004-A1EA-28871191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4475-B11A-4B83-8B5F-A21157AD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455F-658A-4875-9E75-78813206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1D2B-2DCC-43CD-A17E-C7383174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4908-6705-47D8-9D1D-72841881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EFF9-1A45-4B50-8B36-3AB9689B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6F3B-3EE3-4B00-82DD-62455595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2FA6-03DE-4836-9DF7-36DCB822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03A2-6504-4F06-A4AF-6A224F60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3CD49-0B4E-4E39-B386-AF88729E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CCD38-A303-4061-8A7D-259758D7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F4153-3B7E-41E5-8F47-472954D0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8D651-86D5-4CD8-AEA5-CA98397B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59E54-A0B2-4DE0-A559-545108D6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F3B-7646-42E9-B1C9-9FB3CAF5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D187B-212F-491A-8C40-638B5CBB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1C540-926F-4373-B962-F64A18C6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E9B3C-C052-4F81-AF7D-0CC5F7B6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797C3-76DA-4C55-9FD9-2046E284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95CF9-BBED-4760-BF64-CD400774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6D4DA-EC92-4B05-8859-77104D2D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A09F7-735A-4C92-A18C-68BBA4CF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317FE-D8A3-4F10-BCCC-7C5C9D3A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1E1C1-E619-4819-9161-7EA5D2E3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9ECDC-1241-483E-B08A-FA09977D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47DA-4ADA-46D6-B455-E50A7AB4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FFD9F-3EF7-4A35-8339-2663105B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4A98B-3A32-452D-B864-494DBD54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85149-C5C1-44E7-B0BD-931C06D9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8168C-77B7-4B0B-9BCB-8F0EEA1E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4837E-E70F-4EEA-AFF9-10BA8D86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4D55E-591B-4F89-999C-669C5CB4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8C114-30F6-405C-84F3-4A1D3D03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891DC-329F-464F-9002-C0DC2719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7A9BB-D02B-41E3-A2AC-5A456BE7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91D1-7427-4B2B-80C7-9EE75AEC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CAAF-7EC4-4AEA-AE6D-24291977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DD7-F726-495A-A757-F4194A23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A869-414A-4007-AFED-2898EBD4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0B0E-AA68-40FF-AD45-926D8D2C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CDDA-8DFC-4ED9-A4EE-ED22D206243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5D65-2D55-498E-A857-FB396B798C3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12F4-9E41-4F3E-B8A1-50CC6233C1B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82B2-284F-474D-BC61-1BE1BBC265F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380880" y="733320"/>
            <a:ext cx="8610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ing partnership among Africa RISING, NAFAKA and TUBORESHE CHAKULA Programs for fast-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duced food waste and spoi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rahim Shabani, Abass Adeba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vanus Mruma, Gabriel Ndung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ephat Kionaum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a RISING annual planning Meet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LY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Sand Hotel, Dar es sal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itle 1"/>
          <p:cNvSpPr/>
          <p:nvPr/>
        </p:nvSpPr>
        <p:spPr>
          <a:xfrm>
            <a:off x="228600" y="7621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rmers’ perceptions on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Calibri"/>
              </a:rPr>
              <a:t>postharvest ope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Table 8" descr=""/>
          <p:cNvPicPr/>
          <p:nvPr/>
        </p:nvPicPr>
        <p:blipFill>
          <a:blip r:embed="rId1"/>
          <a:stretch/>
        </p:blipFill>
        <p:spPr>
          <a:xfrm>
            <a:off x="225360" y="2305080"/>
            <a:ext cx="5492880" cy="40402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5867280" y="2362320"/>
            <a:ext cx="3276720" cy="161676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Diverse knowledge g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armers’ trai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reation and training of commodity storage specialis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tle 1"/>
          <p:cNvSpPr/>
          <p:nvPr/>
        </p:nvSpPr>
        <p:spPr>
          <a:xfrm>
            <a:off x="60948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harvest loss control pract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28600" y="2362320"/>
          <a:ext cx="5257800" cy="3817800"/>
        </p:xfrm>
        <a:graphic>
          <a:graphicData uri="http://schemas.openxmlformats.org/drawingml/2006/table">
            <a:tbl>
              <a:tblPr/>
              <a:tblGrid>
                <a:gridCol w="4114800"/>
                <a:gridCol w="1143000"/>
              </a:tblGrid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ntrol meas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raditional her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s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e-processing 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5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rtificial chemical control (Insecticides &amp; pesticides)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r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per dr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intaining hygienic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per handling/packa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Rectangle 2"/>
          <p:cNvSpPr/>
          <p:nvPr/>
        </p:nvSpPr>
        <p:spPr>
          <a:xfrm>
            <a:off x="0" y="457200"/>
            <a:ext cx="30178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5562720" y="2362320"/>
            <a:ext cx="3581280" cy="275796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Extensive use of pesticides in cereals and legu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ostharvest management training: Introduce improved methods for drying, shelling, storage,  et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nsure public health safety by investigating and providing a remedy to potential high pesticide residue in marketed cereals and legu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-360" y="1676160"/>
            <a:ext cx="5638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44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3 lead farmers were trained in Kipelesa and Ngipa  villages of Kitet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80920" indent="-514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70c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maize shelling practices aiming at reducing food loss an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ng ti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armers spend on crop process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80920" indent="-514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70c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drying technology (e.g. by using the collapsible dryer case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I:\DCIM\Camera\2015-07-02 11.43.22.jpg"/>
          <p:cNvPicPr/>
          <p:nvPr/>
        </p:nvPicPr>
        <p:blipFill>
          <a:blip r:embed="rId1"/>
          <a:stretch/>
        </p:blipFill>
        <p:spPr>
          <a:xfrm>
            <a:off x="6095880" y="2286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6095880" y="32767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PERESA VILLAGE, KITET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G:\DCIM\129___07\IMG_5076.JPG"/>
          <p:cNvPicPr/>
          <p:nvPr/>
        </p:nvPicPr>
        <p:blipFill>
          <a:blip r:embed="rId2"/>
          <a:stretch/>
        </p:blipFill>
        <p:spPr>
          <a:xfrm>
            <a:off x="607068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-360" y="1676520"/>
            <a:ext cx="5638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80920" indent="-514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  <a:ea typeface="Arial"/>
              </a:rPr>
              <a:t>3.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torage practices (e.g. use of hermetic storage bags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ctivities are going fi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I:\DCIM\Camera\2015-07-02 11.16.20.jpg"/>
          <p:cNvPicPr/>
          <p:nvPr/>
        </p:nvPicPr>
        <p:blipFill>
          <a:blip r:embed="rId1"/>
          <a:stretch/>
        </p:blipFill>
        <p:spPr>
          <a:xfrm>
            <a:off x="6477120" y="3524400"/>
            <a:ext cx="2500200" cy="3333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I:\DCIM\Camera\2015-07-02 12.01.02.jpg"/>
          <p:cNvPicPr/>
          <p:nvPr/>
        </p:nvPicPr>
        <p:blipFill>
          <a:blip r:embed="rId2"/>
          <a:stretch/>
        </p:blipFill>
        <p:spPr>
          <a:xfrm>
            <a:off x="6477120" y="7632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50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rain 48 lead farmers in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of trainers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 four  villages of Kongwa and Mvomer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intensification of maize fortification with micronutrient in areas where TUBOCHA was operating micronutrient progra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he awareness of processors on proper fortification procedur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 WORK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training of lead farmers on improved postharvest handling practices: shelling, drying and storag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public health safety of  cereals and legumes stored with pesticid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 WORK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09120" y="170604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ong expectation of farmers in return for the  information they offered; majority of the farmers were expecting food ai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ers experienced prolonged dry season and late rainfall which are thought to cause crop failure, causing reduced need for storage technologies as the household food may run-out very quickly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ALLENGES AND 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harvest management activities have just started because the harvest season for maize is June/Jul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stharvest team will keep implementing the IR 6 to improve the livelihoods of the smallholder farming communities in the project areas through reduced food loss and consumption of nutrient-dense foo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LUSION  AND RECOMMENDATION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530280" y="2822400"/>
            <a:ext cx="7742160" cy="1444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s://encrypted-tbn3.gstatic.com/images?q=tbn:ANd9GcTqGbQx8ihsnIQDjkt_WTAIpj7IkuwUHV3fvUytXDUfWJ30NIiHxw"/>
          <p:cNvPicPr/>
          <p:nvPr/>
        </p:nvPicPr>
        <p:blipFill>
          <a:blip r:embed="rId2"/>
          <a:stretch/>
        </p:blipFill>
        <p:spPr>
          <a:xfrm>
            <a:off x="228600" y="685800"/>
            <a:ext cx="4876920" cy="121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s://encrypted-tbn0.gstatic.com/images?q=tbn:ANd9GcQFfRd58MYaM_0rAWLbDpwffKO1Bk9-EI7uogj0YIV6ag5K2Xx6"/>
          <p:cNvPicPr/>
          <p:nvPr/>
        </p:nvPicPr>
        <p:blipFill>
          <a:blip r:embed="rId3"/>
          <a:stretch/>
        </p:blipFill>
        <p:spPr>
          <a:xfrm>
            <a:off x="7238880" y="762120"/>
            <a:ext cx="13525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560" y="114300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BJECTIVES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ARTNER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KEY RESULT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KEY ACHIEVEMENT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UTURE WORK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HALLENGES AND CONSTRAINTS FACED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BEST ACTIVITIES AND IMPROVEMENT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NCLUSION AND RECOMMENDATION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457200" y="533520"/>
            <a:ext cx="43434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G:\DCIM\129___07\IMG_5073.JPG"/>
          <p:cNvPicPr/>
          <p:nvPr/>
        </p:nvPicPr>
        <p:blipFill>
          <a:blip r:embed="rId1"/>
          <a:stretch/>
        </p:blipFill>
        <p:spPr>
          <a:xfrm>
            <a:off x="4775040" y="114300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600" y="114264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food loss is a challenge that contributes to food insecurity and reduces the income of millions of smallholder farm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loss of grains and legumes ranged from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0 – 40%  at the time of harv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5% during shell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5 – 25% or up to 90% during stor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loss of  vegetables ≥ 3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or handling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inadequate storage conditions an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damage during transport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609480" y="53352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1523520"/>
            <a:ext cx="4648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Many simple tools and approaches for reducing the losses exis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Uptake and adoption by smallholder farmers remain limited due to lack of awareness and skills to use the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G:\DCIM\129___07\IMG_5072.JPG"/>
          <p:cNvPicPr/>
          <p:nvPr/>
        </p:nvPicPr>
        <p:blipFill>
          <a:blip r:embed="rId1"/>
          <a:stretch/>
        </p:blipFill>
        <p:spPr>
          <a:xfrm>
            <a:off x="4724280" y="9144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203" name="Title 1"/>
          <p:cNvSpPr/>
          <p:nvPr/>
        </p:nvSpPr>
        <p:spPr>
          <a:xfrm>
            <a:off x="609480" y="53352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52280" y="1599840"/>
            <a:ext cx="83059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 and provide improved innovation and technologies that improve harvesting, processing and storage of cereals and legumes to increase food security and safe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post harvest management technologies to reduce losses and bring quality up to market standar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bjectiv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28600" y="1447920"/>
          <a:ext cx="8686800" cy="4494240"/>
        </p:xfrm>
        <a:graphic>
          <a:graphicData uri="http://schemas.openxmlformats.org/drawingml/2006/table">
            <a:tbl>
              <a:tblPr/>
              <a:tblGrid>
                <a:gridCol w="533520"/>
                <a:gridCol w="2819160"/>
                <a:gridCol w="609840"/>
                <a:gridCol w="1218960"/>
                <a:gridCol w="914400"/>
                <a:gridCol w="914400"/>
                <a:gridCol w="914400"/>
                <a:gridCol w="762120"/>
              </a:tblGrid>
              <a:tr h="94644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HIEVEMENT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ber of farmers and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ber of rural households benefiting directly from USG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838080" y="6094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ARGET BENEFITI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TNER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560" y="1676160"/>
            <a:ext cx="83055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NAFAK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UBOCH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Center for Counseling, Nutrition and Health Care (COUNSENUTH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rueFoo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ee Pee (T) Ltd – PICS bag manufactur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C:\Users\Simon Boniface\Desktop\For Ibrahim\Map showing the villages.png"/>
          <p:cNvPicPr/>
          <p:nvPr/>
        </p:nvPicPr>
        <p:blipFill>
          <a:blip r:embed="rId1"/>
          <a:stretch/>
        </p:blipFill>
        <p:spPr>
          <a:xfrm>
            <a:off x="457200" y="1981080"/>
            <a:ext cx="6324480" cy="46198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212" name="Title 1"/>
          <p:cNvSpPr/>
          <p:nvPr/>
        </p:nvSpPr>
        <p:spPr>
          <a:xfrm>
            <a:off x="685800" y="3808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ticipatory diagnosis of the main postharvest problems that should be addressed by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858000" y="1981080"/>
            <a:ext cx="2057400" cy="100692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 collected from 255 farmers in 15 villag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1"/>
          <p:cNvSpPr/>
          <p:nvPr/>
        </p:nvSpPr>
        <p:spPr>
          <a:xfrm>
            <a:off x="609480" y="5335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ercent Loss at different postharvest handling sta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2840" y="1828800"/>
          <a:ext cx="6934320" cy="2629080"/>
        </p:xfrm>
        <a:graphic>
          <a:graphicData uri="http://schemas.openxmlformats.org/drawingml/2006/table">
            <a:tbl>
              <a:tblPr/>
              <a:tblGrid>
                <a:gridCol w="1371600"/>
                <a:gridCol w="1066680"/>
                <a:gridCol w="533520"/>
                <a:gridCol w="685800"/>
                <a:gridCol w="609480"/>
                <a:gridCol w="685800"/>
                <a:gridCol w="654120"/>
                <a:gridCol w="588960"/>
                <a:gridCol w="738360"/>
              </a:tblGrid>
              <a:tr h="105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eld loss (insects, rodents &amp; fungi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ck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ckag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ok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lo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geon pe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flo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-si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. nu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rghu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2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7086600" y="1828800"/>
            <a:ext cx="1981080" cy="184428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9-20% loss of foo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ostharvest loss prevention technologies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0:24:56Z</dcterms:created>
  <dc:creator>Kinyoro Ibrahim</dc:creator>
  <dc:description/>
  <dc:language>en-US</dc:language>
  <cp:lastModifiedBy>Odhong, Jonathan (IITA)</cp:lastModifiedBy>
  <dcterms:modified xsi:type="dcterms:W3CDTF">2015-07-10T14:54:12Z</dcterms:modified>
  <cp:revision>60</cp:revision>
  <dc:subject/>
  <dc:title>Slide 1</dc:title>
</cp:coreProperties>
</file>