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98D0-830F-4A1B-BAA6-2D0874991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17B-2A55-4CF7-AEA5-F7B574B9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817D-D78E-4FD7-BA56-42DF9D5A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F7FD-9C7E-40B5-88BF-0F14B3AB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7E8E-EDAC-4A85-B5D1-78F5C02A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AE2B-0777-4E6E-AFEB-08EF20CE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BA51-13D7-411F-886C-12D58FD2B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7D9C-F271-438F-B329-8504753E8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910EC-94B8-4025-9409-896DA6FF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F10B-5E2B-40CE-A7CA-F1B8ED39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C4B5-AE6F-4284-A7FE-83118144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E7E4-4E71-4EF0-9B2F-D8BC17FB3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5831-3A0D-4DB5-9B7D-01A38B21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156C-BDF6-4162-BE24-064F0C91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EE1E-E276-4E32-AE7F-938BED53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2183-09A7-4DA7-AA29-BEB211153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4D5C3-1317-4DDE-9F65-8468D2E7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2C150-490A-44A0-BA81-F77F11B47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E899E-3B81-469F-A539-CC22B1A9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94A3F-222A-4B15-8BAD-1A00B69A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605DD-35FB-461D-BE13-6248B0DB5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7400E-46F4-4BC2-B14E-09CFB68C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A15B-C609-462D-AB34-7AFE7EDE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1C136-31B6-4179-918B-EE845489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421BB-8BAF-4CDA-AB2E-A4EA040C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21C89-1402-4E1B-BD5B-20572A85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3A01A-5579-40BF-90C5-7221AE1E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94167-89AC-48EE-8563-B28AD580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B5E8B-1F20-477D-8876-B294DF44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7758A-3D22-4280-9224-6CD87FA6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C3CD1-67ED-45D3-AF3A-CED612C2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CF191-EB43-448B-AFE6-AFAA7E68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F5205-C85C-4CC8-B605-E68350FF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2D52-C652-4D27-A764-2CC98D6E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49E77-2A7D-41E5-AC8E-B5EA93A2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39892-E204-4CDC-BC88-32470971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DE358-185C-4CD2-B94C-2459DF51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DB216-C1E1-4F0C-9FFE-33FFC794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AF4EA-F803-4105-BA63-886C5EA1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656B2-9D9D-432B-9914-23932F37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8C3F5-0DA0-4AC5-88CB-97D97EF91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9F022-FF1B-4543-BC08-0DB660EC4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69CDB-6505-450B-B51E-9E221F1F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1CED-7B0B-4D27-8D85-FDC42641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C4E-2102-43C2-BAD5-C5D2D3F1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75B-677D-4F48-BD3C-06989E77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2025-44BC-49FC-84D2-45A54EDC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045F-9645-4587-97B7-5C6D4332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1A56-9A25-4A2B-A281-CC0131493E1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FD83-3032-495D-8EB5-FF7BC7F309A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FD63-0A1C-4072-8633-5405AC5898A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C8B73-563B-47A0-8C49-C7BC8D3B7B9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380880" y="733320"/>
            <a:ext cx="8610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ing partnership among Africa RISING, NAFAKA and TUBORESHE CHAKULA Programs for fast-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duced food waste and spoi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rahim Shabani, Abass Adeba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vanus Mruma, Gabriel Ndung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ephat Kionaum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a RISING annual planning Meet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LY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Sand Hotel, Dar es sala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itle 1"/>
          <p:cNvSpPr/>
          <p:nvPr/>
        </p:nvSpPr>
        <p:spPr>
          <a:xfrm>
            <a:off x="228600" y="7621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rmers’ perceptions on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Calibri"/>
              </a:rPr>
              <a:t>postharvest ope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Table 8" descr=""/>
          <p:cNvPicPr/>
          <p:nvPr/>
        </p:nvPicPr>
        <p:blipFill>
          <a:blip r:embed="rId1"/>
          <a:stretch/>
        </p:blipFill>
        <p:spPr>
          <a:xfrm>
            <a:off x="225360" y="2305080"/>
            <a:ext cx="5492880" cy="40402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5867280" y="2362320"/>
            <a:ext cx="3276720" cy="161676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Diverse knowledge g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armers’ trai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reation and training of commodity storage specialis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tle 1"/>
          <p:cNvSpPr/>
          <p:nvPr/>
        </p:nvSpPr>
        <p:spPr>
          <a:xfrm>
            <a:off x="60948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harvest loss control pract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28600" y="2362320"/>
          <a:ext cx="5257800" cy="3817800"/>
        </p:xfrm>
        <a:graphic>
          <a:graphicData uri="http://schemas.openxmlformats.org/drawingml/2006/table">
            <a:tbl>
              <a:tblPr/>
              <a:tblGrid>
                <a:gridCol w="4114800"/>
                <a:gridCol w="1143000"/>
              </a:tblGrid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ntrol meas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raditional her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s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e-processing 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5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rtificial chemical control (Insecticides &amp; pesticides)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r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per dr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intaining hygienic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per handling/packa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Rectangle 2"/>
          <p:cNvSpPr/>
          <p:nvPr/>
        </p:nvSpPr>
        <p:spPr>
          <a:xfrm>
            <a:off x="0" y="457200"/>
            <a:ext cx="30178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5562720" y="2362320"/>
            <a:ext cx="3581280" cy="275796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Extensive use of pesticides in cereals and legu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ostharvest management training: Introduce improved methods for drying, shelling, storage,  et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nsure public health safety by investigating and providing a remedy to potential high pesticide residue in marketed cereals and legu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-360" y="1676160"/>
            <a:ext cx="5638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44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3 lead farmers were trained in Kipelesa and Ngipa  villages of Kitet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80920" indent="-514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70c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maize shelling practices aiming at reducing food loss an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ng ti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armers spend on crop process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80920" indent="-514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70c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drying technology (e.g. by using the collapsible dryer case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I:\DCIM\Camera\2015-07-02 11.43.22.jpg"/>
          <p:cNvPicPr/>
          <p:nvPr/>
        </p:nvPicPr>
        <p:blipFill>
          <a:blip r:embed="rId1"/>
          <a:stretch/>
        </p:blipFill>
        <p:spPr>
          <a:xfrm>
            <a:off x="6095880" y="2286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6095880" y="32767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PERESA VILLAGE, KITET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G:\DCIM\129___07\IMG_5076.JPG"/>
          <p:cNvPicPr/>
          <p:nvPr/>
        </p:nvPicPr>
        <p:blipFill>
          <a:blip r:embed="rId2"/>
          <a:stretch/>
        </p:blipFill>
        <p:spPr>
          <a:xfrm>
            <a:off x="607068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-360" y="1676520"/>
            <a:ext cx="5638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80920" indent="-514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  <a:ea typeface="Arial"/>
              </a:rPr>
              <a:t>3.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torage practices (e.g. use of hermetic storage bags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ctivities are going fi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I:\DCIM\Camera\2015-07-02 11.16.20.jpg"/>
          <p:cNvPicPr/>
          <p:nvPr/>
        </p:nvPicPr>
        <p:blipFill>
          <a:blip r:embed="rId1"/>
          <a:stretch/>
        </p:blipFill>
        <p:spPr>
          <a:xfrm>
            <a:off x="6477120" y="3524400"/>
            <a:ext cx="2500200" cy="3333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I:\DCIM\Camera\2015-07-02 12.01.02.jpg"/>
          <p:cNvPicPr/>
          <p:nvPr/>
        </p:nvPicPr>
        <p:blipFill>
          <a:blip r:embed="rId2"/>
          <a:stretch/>
        </p:blipFill>
        <p:spPr>
          <a:xfrm>
            <a:off x="6477120" y="7632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500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rain 48 lead farmers in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of trainers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 four  villages of Kongwa and Mvomer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intensification of maize fortification with micronutrient in areas where TUBOCHA was operating micronutrient progra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he awareness of processors on proper fortification procedur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 WORK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training of lead farmers on improved postharvest handling practices: shelling, drying and storag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public health safety of  cereals and legumes stored with pesticid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 WORK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09120" y="170604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ong expectation of farmers in return for the  information they offered; majority of the farmers were expecting food ai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ers experienced prolonged dry season and late rainfall which are thought to cause crop failure, causing reduced need for storage technologies as the household food may run-out very quickly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ALLENGES AND CONSTR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harvest management activities have just started because the harvest season for maize is June/Jul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stharvest team will keep implementing the IR 6 to improve the livelihoods of the smallholder farming communities in the project areas through reduced food loss and consumption of nutrient-dense food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LUSION  AND RECOMMENDATION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530280" y="2822400"/>
            <a:ext cx="7742160" cy="1444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s://encrypted-tbn3.gstatic.com/images?q=tbn:ANd9GcTqGbQx8ihsnIQDjkt_WTAIpj7IkuwUHV3fvUytXDUfWJ30NIiHxw"/>
          <p:cNvPicPr/>
          <p:nvPr/>
        </p:nvPicPr>
        <p:blipFill>
          <a:blip r:embed="rId2"/>
          <a:stretch/>
        </p:blipFill>
        <p:spPr>
          <a:xfrm>
            <a:off x="228600" y="685800"/>
            <a:ext cx="4876920" cy="121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s://encrypted-tbn0.gstatic.com/images?q=tbn:ANd9GcQFfRd58MYaM_0rAWLbDpwffKO1Bk9-EI7uogj0YIV6ag5K2Xx6"/>
          <p:cNvPicPr/>
          <p:nvPr/>
        </p:nvPicPr>
        <p:blipFill>
          <a:blip r:embed="rId3"/>
          <a:stretch/>
        </p:blipFill>
        <p:spPr>
          <a:xfrm>
            <a:off x="7238880" y="762120"/>
            <a:ext cx="13525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560" y="1143000"/>
            <a:ext cx="8839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OBJECTIVES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ARTNER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KEY RESULT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KEY ACHIEVEMENT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UTURE WORK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HALLENGES AND CONSTRAINTS FACED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BEST ACTIVITIES AND IMPROVEMENT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NCLUSION AND RECOMMENDATION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457200" y="533520"/>
            <a:ext cx="43434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G:\DCIM\129___07\IMG_5073.JPG"/>
          <p:cNvPicPr/>
          <p:nvPr/>
        </p:nvPicPr>
        <p:blipFill>
          <a:blip r:embed="rId1"/>
          <a:stretch/>
        </p:blipFill>
        <p:spPr>
          <a:xfrm>
            <a:off x="4775040" y="1143000"/>
            <a:ext cx="4368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8600" y="114264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food loss is a challenge that contributes to food insecurity and reduces the income of millions of smallholder farm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loss of grains and legumes ranged from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0 – 40%  at the time of harv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5% during shell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5 – 25% or up to 90% during stor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loss of  vegetables ≥ 3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or handling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inadequate storage conditions an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damage during transport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609480" y="533520"/>
            <a:ext cx="8229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0" y="1523520"/>
            <a:ext cx="4648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Many simple tools and approaches for reducing the losses exis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Uptake and adoption by smallholder farmers remain limited due to lack of awareness and skills to use the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G:\DCIM\129___07\IMG_5072.JPG"/>
          <p:cNvPicPr/>
          <p:nvPr/>
        </p:nvPicPr>
        <p:blipFill>
          <a:blip r:embed="rId1"/>
          <a:stretch/>
        </p:blipFill>
        <p:spPr>
          <a:xfrm>
            <a:off x="4724280" y="9144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203" name="Title 1"/>
          <p:cNvSpPr/>
          <p:nvPr/>
        </p:nvSpPr>
        <p:spPr>
          <a:xfrm>
            <a:off x="609480" y="533520"/>
            <a:ext cx="8229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52280" y="1599840"/>
            <a:ext cx="83059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 and provide improved innovation and technologies that improve harvesting, processing and storage of cereals and legumes to increase food security and safe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post harvest management technologies to reduce losses and bring quality up to market standar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bjectiv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28600" y="1447920"/>
          <a:ext cx="8686800" cy="4494240"/>
        </p:xfrm>
        <a:graphic>
          <a:graphicData uri="http://schemas.openxmlformats.org/drawingml/2006/table">
            <a:tbl>
              <a:tblPr/>
              <a:tblGrid>
                <a:gridCol w="533520"/>
                <a:gridCol w="2819160"/>
                <a:gridCol w="609840"/>
                <a:gridCol w="1218960"/>
                <a:gridCol w="914400"/>
                <a:gridCol w="914400"/>
                <a:gridCol w="914400"/>
                <a:gridCol w="762120"/>
              </a:tblGrid>
              <a:tr h="94644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HIEVEMENT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ber of farmers and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ber of rural households benefiting directly from USG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838080" y="6094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ARGET BENEFITI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TNER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560" y="1676160"/>
            <a:ext cx="83055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NAFAK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UBOCH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Center for Counseling, Nutrition and Health Care (COUNSENUTH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rueFoo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ee Pee (T) Ltd – PICS bag manufactur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C:\Users\Simon Boniface\Desktop\For Ibrahim\Map showing the villages.png"/>
          <p:cNvPicPr/>
          <p:nvPr/>
        </p:nvPicPr>
        <p:blipFill>
          <a:blip r:embed="rId1"/>
          <a:stretch/>
        </p:blipFill>
        <p:spPr>
          <a:xfrm>
            <a:off x="457200" y="1981080"/>
            <a:ext cx="6324480" cy="46198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212" name="Title 1"/>
          <p:cNvSpPr/>
          <p:nvPr/>
        </p:nvSpPr>
        <p:spPr>
          <a:xfrm>
            <a:off x="685800" y="3808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ticipatory diagnosis of the main postharvest problems that should be addressed by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858000" y="1981080"/>
            <a:ext cx="2057400" cy="100692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 collected from 255 farmers in 15 villag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1"/>
          <p:cNvSpPr/>
          <p:nvPr/>
        </p:nvSpPr>
        <p:spPr>
          <a:xfrm>
            <a:off x="609480" y="5335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ercent Loss at different postharvest handling sta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2840" y="1828800"/>
          <a:ext cx="6934320" cy="2629080"/>
        </p:xfrm>
        <a:graphic>
          <a:graphicData uri="http://schemas.openxmlformats.org/drawingml/2006/table">
            <a:tbl>
              <a:tblPr/>
              <a:tblGrid>
                <a:gridCol w="1371600"/>
                <a:gridCol w="1066680"/>
                <a:gridCol w="533520"/>
                <a:gridCol w="685800"/>
                <a:gridCol w="609480"/>
                <a:gridCol w="685800"/>
                <a:gridCol w="654120"/>
                <a:gridCol w="588960"/>
                <a:gridCol w="738360"/>
              </a:tblGrid>
              <a:tr h="105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eld loss (insects, rodents &amp; fungi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ck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ckag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ok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lo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geon pe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flo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-si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. nu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rghu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2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7086600" y="1828800"/>
            <a:ext cx="1981080" cy="184428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9-20% loss of foo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ostharvest loss prevention technologies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0:24:56Z</dcterms:created>
  <dc:creator>Kinyoro Ibrahim</dc:creator>
  <dc:description/>
  <dc:language>en-US</dc:language>
  <cp:lastModifiedBy>Odhong, Jonathan (IITA)</cp:lastModifiedBy>
  <dcterms:modified xsi:type="dcterms:W3CDTF">2015-07-10T14:54:12Z</dcterms:modified>
  <cp:revision>60</cp:revision>
  <dc:subject/>
  <dc:title>Slide 1</dc:title>
</cp:coreProperties>
</file>