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4.jpeg" ContentType="image/jpeg"/>
  <Override PartName="/ppt/media/image24.png" ContentType="image/png"/>
  <Override PartName="/ppt/media/image27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39.png" ContentType="image/png"/>
  <Override PartName="/ppt/media/image9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34.wmf" ContentType="image/x-wmf"/>
  <Override PartName="/ppt/media/image12.png" ContentType="image/png"/>
  <Override PartName="/ppt/media/image20.jpeg" ContentType="image/jpeg"/>
  <Override PartName="/ppt/media/image36.png" ContentType="image/png"/>
  <Override PartName="/ppt/media/image37.png" ContentType="image/png"/>
  <Override PartName="/ppt/media/image7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38.png" ContentType="image/png"/>
  <Override PartName="/ppt/media/image4.png" ContentType="image/png"/>
  <Override PartName="/ppt/media/image1.png" ContentType="image/pn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  <p:sldId id="268" r:id="rId37"/>
    <p:sldId id="269" r:id="rId38"/>
    <p:sldId id="270" r:id="rId39"/>
    <p:sldId id="271" r:id="rId40"/>
    <p:sldId id="27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slide" Target="slides/slide13.xml"/><Relationship Id="rId38" Type="http://schemas.openxmlformats.org/officeDocument/2006/relationships/slide" Target="slides/slide14.xml"/><Relationship Id="rId39" Type="http://schemas.openxmlformats.org/officeDocument/2006/relationships/slide" Target="slides/slide15.xml"/><Relationship Id="rId40" Type="http://schemas.openxmlformats.org/officeDocument/2006/relationships/slide" Target="slides/slide16.xml"/><Relationship Id="rId41" Type="http://schemas.openxmlformats.org/officeDocument/2006/relationships/slide" Target="slides/slide17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429C-2B51-4A5B-BFB0-A2B79CB7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9C9E1-114F-4E62-A55D-B2EC13506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F8DEA-7BE7-44D4-9418-9C075459C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E7BC-7E98-4832-A645-7DFABA34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8342-712B-4BD8-A269-54036AD6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0F7-E428-4C6B-B2E2-0C7050B3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4ACE3-F486-4CC6-9BFB-0B70F3BC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CA6AD-87AE-46FC-8FDF-6617AC20A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60B2-183E-4788-8DF3-BB39EF7A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A96B-DE09-4EE1-A017-BEAD10D7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A63-FC6A-4C8E-8654-D946F126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9A45-78C2-4B8F-859A-EF02158E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745-CCA2-4702-A77F-B6E28B44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5B7F-5A77-4CE0-A88D-0217A6CC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A6212-BA0B-4EDE-9A9C-074DD551A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BAD94-0325-4898-A281-52F98CB3C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EF57-B36C-4C61-92C3-F6E13D8E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AD3E-4DB2-4AF0-8D46-E6AFFAFE9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457AA-6A1D-4273-996C-66F38B13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3275-FBF0-49D5-8591-98495AA5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89D86-6DF7-4A59-92A4-A66A61219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CFBD20-9F2C-4B41-A6A4-D3AD7535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FABFA-D9D1-4F5A-8323-5AB14707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40813-A226-40C5-9F2C-BF529887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4A8A7A-9675-4581-A6F4-2255AE1AD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8F337-616B-475A-8745-3840D444E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B730-C46B-4BFC-80A8-EA78F3CE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694D29-33A6-456A-ACF9-B4350B99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6CE2E-73C7-4E8E-B443-0D89C49A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2A5CC8-6014-40AE-99A7-7495A4EF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A20-ED13-4A4A-AB68-3BEF204C6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A28EA-2BA7-4B83-844A-79CC3534A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BAC16-CBC0-41DE-8676-59A5DD758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0B8B9-2574-4EDE-9F29-E2794A7CA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EDF7C-5880-4BF9-80FA-65C785B26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302F7-B41F-4636-94F8-7B4711AC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F64F-91CF-402D-BB66-52D54E81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BA808F-3E3E-47E9-B70A-7BC9F436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CD67D-D4F1-4FC2-B822-AAD1CF75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75234-B470-41DB-8590-A7109178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13B06-A12A-48DA-A1DD-6C5009928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122-6EFD-498D-A614-8C7D5F4B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DB2B-09F0-4A2C-B36B-AF050F93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A660D-492A-4E29-B7AC-5513A90F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E064E-E2E2-4F09-A989-65FFBF76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C700D4-61E9-4ADA-9192-C21107BA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B7D25-CDA2-4EBE-AC74-CBD3C61F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94A88-9C38-4A1D-B110-49327CF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9DD8D-D1EC-4A9C-9E20-166AB8C1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CDEC7-1706-4C48-8748-18D87A62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1DFB8-5A1D-4438-B33F-012618DA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E4E57-DC46-431D-B9C0-9690449DC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22D-ADB3-4FF2-A5DC-3CF02676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5E0923-5046-4337-B076-F0BF35A5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EC16E-B863-491C-8944-3D328702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8FA309-11B3-4ED9-8BA5-32988B21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337EC-58BF-4DDA-B25C-3AD46D6E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8E137-A4BC-49CA-A301-C2378075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DCDB4-608A-4B48-B3DF-8F3DEB1B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189FF-66AE-4EDE-88CF-E7D43456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AB3D0-E9B1-47AE-B58A-D3DB02FA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033F1-51D0-45D9-B9A5-22367009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54996-0B9E-4731-AFF9-30A669AB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3232-46E7-45CD-B148-768AA42E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EC269-65B8-409B-89A8-6BF6D14D1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C4975-7000-4A29-9CC4-8FABE8090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EE160-E6D9-4324-9B55-371BFD9AA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35214-180A-483B-8361-DE03B5F07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6D296-4625-45FC-8E33-E183A2F3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95C67-9D54-41E1-AE27-E76067B1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36A9E-0244-4FAB-8DDD-69FCD035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3E82-456E-4944-808C-460F9852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3F6B86-4EB5-4D75-9201-93EB7548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F9BE06-F434-44B4-A193-AACD087B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456-6633-4AC6-8EAC-2CABB9D7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92415-82B2-4C12-8068-0323CEE8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14CAC-8C78-419F-A373-280B8875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36EA3-5585-443F-87B5-891F6CC3C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C5566-19A2-4C70-90FE-736A6D704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0D5CC-E5C7-422C-AB57-64E71AD6A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63EE7-B10E-4513-8DF7-A29ABE38D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16E6E-9CC4-49F3-8330-B41BA4AAC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86B47-CE56-4DFC-84D3-EEA4D3CE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B26F3C-7ADF-4E28-B0AD-E1D85463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8904A-113F-4A1A-8AD7-53DBEAD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6151-3EAE-4027-B112-A323493A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3F614E-9A3F-438F-80CD-0BE1EB4E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70340-ADC4-4E17-B65C-FB0AB3BAF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D9F55-DA9E-4112-BDCC-D90847AD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9FC4A-61EC-47B8-8643-4A9C0A594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A16D8-8B58-49AA-A38F-100F49DE8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2F82A-1F37-419D-B908-326DA411E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D2F7-06B7-4F9A-97A6-7687A005F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2326E3-DD8F-42D9-988B-50D5BA287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0AF5D-A273-4A4F-93D7-84AD4DAA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6F516-D643-465C-A79D-4A200132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0EA-4932-4C26-A446-70C610145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3F67BC-4A08-40E3-8E9F-71C3F5D55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48DF6C-090D-4E80-B02F-B3D9C1A7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8DB7C-B60B-4B1D-A9FB-CE7A1282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A4A58-47E1-491F-833D-839736B5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01E4C8-6E45-4A99-8E46-F7C43BCAF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E062F-CDD7-48F6-A2CC-A42DE86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39D917-B4BD-42D3-B9A4-1A99A54F1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A0101-FB44-4DB8-8B4C-D0CA2BFA1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4D161B-029A-4971-9199-102E6A99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2E7D3-68C7-4FAA-AF06-2F987744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2726-3FDA-4771-A10F-8D56D0ED8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E0E2-6E75-4542-8BB3-F99520A49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9F89CD-D01C-4A42-B7EC-2C557027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05D14-83C4-44AE-93C7-F17855AE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E563D-C779-4270-8E28-D33BF1272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5675C-4F73-4B2A-8AFC-15CDFBF5F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67DFA-E96D-423F-80DD-527356B0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F7BD4-6E53-4160-8A0C-890E856F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1E236F-204C-447F-BE09-7F9F5C76B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CA49FC-7580-42A1-85DD-1752C1824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31F9F-43F2-4590-A908-454785C9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F7B0-BCFE-4AEB-A2CC-F92B84707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6CA2ED-FD72-4FF2-B0CD-0B1EB37F8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09122-168E-458A-B541-408773F20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1DB1E-333D-4796-AB17-D5347592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CB8E3-2F4A-4E1D-9EE7-DE692ADB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B07524-6B46-4030-9A23-DADB1E49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36EA05-5658-4AB1-A3C1-3C4ED3A9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82284-B9A0-445F-AB7A-3860B874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0C30E-640F-4A98-B056-5D2CFE6C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16423-A38D-458D-8228-C8C6712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EF701D-F0D0-4D3F-9C6F-4EF15F3F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6D074-FD92-4462-A51F-3AD3AFED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2E9226-24D1-402A-9A14-23E0A8DD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122D8E-56EE-4075-9AEE-D059C5F2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A472E-2FE2-43EE-9B08-62A5F410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4A422-2E82-4D37-89A2-CEE708F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4B5B6-D1E6-4B81-B2CF-562E5F73C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93504C-EC66-4922-A197-EB95EDD8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7E2AA-2F7C-4349-A268-39E4B0B1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3C18B-3876-4C7C-9601-23A36F28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8C73C-51E6-49BB-AA8B-ED713E4B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BF4A81-4035-41BD-BE62-F3AC3791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69033-701E-423A-BB70-28F1FC25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5B8AD-7AA2-4660-899F-69F27D18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8F36F2-55A2-4417-B932-01CF2DDD1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322ECE-7C7D-4543-B4C8-BD02A8C4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C02B-2F7A-45B0-883E-60B600B685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9E5E-79A8-4F6B-9671-D1C83FE7B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807FA-0D40-480A-A17D-BFDBF4926A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849E1-D727-4CDB-ABD2-94145D7AE3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9B4D1-DD29-475A-A58A-E869CD38C3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E954-4199-4382-B32E-E6DA754CF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0CB7-CB13-4A05-8F18-E88F0D73CA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03B6-5124-4812-B06F-026DB96F6D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6BE9-A9BF-4ECF-93E4-BF1A3D21B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4736E-6C27-4900-9094-FC69FC3B4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D9E7-EA92-4588-AE00-8DA6186A1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8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sp>
        <p:nvSpPr>
          <p:cNvPr id="882" name="PlaceHolder 1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A86C-7CA8-463D-82F3-AD190695F3A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4"/>
          <p:cNvSpPr/>
          <p:nvPr/>
        </p:nvSpPr>
        <p:spPr>
          <a:xfrm>
            <a:off x="7892640" y="6490080"/>
            <a:ext cx="118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iita.or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5" descr="IITA_regular-sienna_no slogan 2"/>
          <p:cNvPicPr/>
          <p:nvPr/>
        </p:nvPicPr>
        <p:blipFill>
          <a:blip r:embed="rId2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IITA_regular-sienna_no slogan 2"/>
          <p:cNvPicPr/>
          <p:nvPr/>
        </p:nvPicPr>
        <p:blipFill>
          <a:blip r:embed="rId3"/>
          <a:stretch/>
        </p:blipFill>
        <p:spPr>
          <a:xfrm>
            <a:off x="304920" y="268200"/>
            <a:ext cx="1447560" cy="5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wmf"/><Relationship Id="rId3" Type="http://schemas.openxmlformats.org/officeDocument/2006/relationships/image" Target="../media/image35.jpe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9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922" name="Picture 11" descr="Zambia Agriculture Research Institute"/>
          <p:cNvPicPr/>
          <p:nvPr/>
        </p:nvPicPr>
        <p:blipFill>
          <a:blip r:embed="rId2"/>
          <a:stretch/>
        </p:blipFill>
        <p:spPr>
          <a:xfrm>
            <a:off x="0" y="2300400"/>
            <a:ext cx="1752480" cy="143352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2" descr=""/>
          <p:cNvPicPr/>
          <p:nvPr/>
        </p:nvPicPr>
        <p:blipFill>
          <a:blip r:embed="rId3"/>
          <a:stretch/>
        </p:blipFill>
        <p:spPr>
          <a:xfrm>
            <a:off x="0" y="5589720"/>
            <a:ext cx="1752480" cy="1268280"/>
          </a:xfrm>
          <a:prstGeom prst="rect">
            <a:avLst/>
          </a:prstGeom>
          <a:ln w="0">
            <a:noFill/>
          </a:ln>
        </p:spPr>
      </p:pic>
      <p:sp>
        <p:nvSpPr>
          <p:cNvPr id="924" name="TextBox 16"/>
          <p:cNvSpPr/>
          <p:nvPr/>
        </p:nvSpPr>
        <p:spPr>
          <a:xfrm>
            <a:off x="0" y="990720"/>
            <a:ext cx="9144000" cy="112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595959"/>
                </a:solidFill>
                <a:latin typeface="Tahoma"/>
                <a:ea typeface="Tahoma"/>
              </a:rPr>
              <a:t>Commercialising  aflasafe as a biocontrol for aflatoxin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" name="Picture 2" descr=""/>
          <p:cNvPicPr/>
          <p:nvPr/>
        </p:nvPicPr>
        <p:blipFill>
          <a:blip r:embed="rId4"/>
          <a:stretch/>
        </p:blipFill>
        <p:spPr>
          <a:xfrm>
            <a:off x="2924280" y="2438280"/>
            <a:ext cx="3247920" cy="4343400"/>
          </a:xfrm>
          <a:prstGeom prst="rect">
            <a:avLst/>
          </a:prstGeom>
          <a:ln w="0">
            <a:noFill/>
          </a:ln>
        </p:spPr>
      </p:pic>
      <p:grpSp>
        <p:nvGrpSpPr>
          <p:cNvPr id="926" name="Group 7"/>
          <p:cNvGrpSpPr/>
          <p:nvPr/>
        </p:nvGrpSpPr>
        <p:grpSpPr>
          <a:xfrm>
            <a:off x="209520" y="4165560"/>
            <a:ext cx="1238400" cy="1244520"/>
            <a:chOff x="209520" y="4165560"/>
            <a:chExt cx="1238400" cy="1244520"/>
          </a:xfrm>
        </p:grpSpPr>
        <p:pic>
          <p:nvPicPr>
            <p:cNvPr id="927" name="Picture 3" descr="nisirlogo"/>
            <p:cNvPicPr/>
            <p:nvPr/>
          </p:nvPicPr>
          <p:blipFill>
            <a:blip r:embed="rId5"/>
            <a:stretch/>
          </p:blipFill>
          <p:spPr>
            <a:xfrm>
              <a:off x="405720" y="4364640"/>
              <a:ext cx="842040" cy="83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8" name="AutoShape 4"/>
            <p:cNvSpPr/>
            <p:nvPr/>
          </p:nvSpPr>
          <p:spPr>
            <a:xfrm>
              <a:off x="209520" y="4165560"/>
              <a:ext cx="1238400" cy="1244520"/>
            </a:xfrm>
            <a:custGeom>
              <a:avLst/>
              <a:gdLst>
                <a:gd name="textAreaLeft" fmla="*/ 181080 w 1238400"/>
                <a:gd name="textAreaRight" fmla="*/ 1057320 w 1238400"/>
                <a:gd name="textAreaTop" fmla="*/ 182160 h 1244520"/>
                <a:gd name="textAreaBottom" fmla="*/ 1062360 h 1244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544" y="10800"/>
                  </a:moveTo>
                  <a:cubicBezTo>
                    <a:pt x="3544" y="14807"/>
                    <a:pt x="6793" y="18056"/>
                    <a:pt x="10800" y="18056"/>
                  </a:cubicBezTo>
                  <a:cubicBezTo>
                    <a:pt x="14807" y="18056"/>
                    <a:pt x="18056" y="14807"/>
                    <a:pt x="18056" y="10800"/>
                  </a:cubicBezTo>
                  <a:cubicBezTo>
                    <a:pt x="18056" y="6793"/>
                    <a:pt x="14807" y="3544"/>
                    <a:pt x="10800" y="3544"/>
                  </a:cubicBezTo>
                  <a:cubicBezTo>
                    <a:pt x="6793" y="3544"/>
                    <a:pt x="3544" y="6793"/>
                    <a:pt x="3544" y="10800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66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36360" rIns="3636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TextBox 16"/>
          <p:cNvSpPr/>
          <p:nvPr/>
        </p:nvSpPr>
        <p:spPr>
          <a:xfrm>
            <a:off x="2724120" y="0"/>
            <a:ext cx="6572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s’ Meeting, 30</a:t>
            </a:r>
            <a:r>
              <a:rPr b="1" lang="en-GB" sz="1800" spc="-1" strike="noStrike" baseline="30000">
                <a:solidFill>
                  <a:srgbClr val="ffffff"/>
                </a:solidFill>
                <a:latin typeface="Tahoma"/>
                <a:ea typeface="Tahoma"/>
              </a:rPr>
              <a:t>th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  <a:ea typeface="Tahoma"/>
              </a:rPr>
              <a:t> September 2016, Lus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  <a:ea typeface="Tahoma"/>
              </a:rPr>
              <a:t>Theme 4:  Current achievements &amp;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AutoShape 2"/>
          <p:cNvSpPr/>
          <p:nvPr/>
        </p:nvSpPr>
        <p:spPr>
          <a:xfrm>
            <a:off x="155520" y="-1150920"/>
            <a:ext cx="6743880" cy="24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Picture 18" descr="Macintosh HD:Users:alys.yng:Dropbox:Research:Zambia:AA GNIAA - INGENEAS:Communication Tools:Logos - INGENAES:ingenaesLogos2.png"/>
          <p:cNvPicPr/>
          <p:nvPr/>
        </p:nvPicPr>
        <p:blipFill>
          <a:blip r:embed="rId7"/>
          <a:stretch/>
        </p:blipFill>
        <p:spPr>
          <a:xfrm>
            <a:off x="6899400" y="5948280"/>
            <a:ext cx="2122200" cy="71748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9" descr=""/>
          <p:cNvPicPr/>
          <p:nvPr/>
        </p:nvPicPr>
        <p:blipFill>
          <a:blip r:embed="rId8"/>
          <a:stretch/>
        </p:blipFill>
        <p:spPr>
          <a:xfrm>
            <a:off x="6781680" y="2438280"/>
            <a:ext cx="2239920" cy="790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20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6899400" y="4363920"/>
            <a:ext cx="2122200" cy="53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Dossier submitted to ZEM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5" name="Group 11"/>
          <p:cNvGrpSpPr/>
          <p:nvPr/>
        </p:nvGrpSpPr>
        <p:grpSpPr>
          <a:xfrm>
            <a:off x="95400" y="5743440"/>
            <a:ext cx="2641320" cy="962280"/>
            <a:chOff x="95400" y="5743440"/>
            <a:chExt cx="2641320" cy="962280"/>
          </a:xfrm>
        </p:grpSpPr>
        <p:sp>
          <p:nvSpPr>
            <p:cNvPr id="1006" name="Rounded Rectangle 12"/>
            <p:cNvSpPr/>
            <p:nvPr/>
          </p:nvSpPr>
          <p:spPr>
            <a:xfrm>
              <a:off x="95400" y="5743440"/>
              <a:ext cx="2641320" cy="96228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ounded Rectangle 4"/>
            <p:cNvSpPr/>
            <p:nvPr/>
          </p:nvSpPr>
          <p:spPr>
            <a:xfrm>
              <a:off x="142920" y="5790960"/>
              <a:ext cx="2546280" cy="86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-submission of Dossier-</a:t>
              </a:r>
              <a:r>
                <a:rPr b="1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yet to be d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8" name="Group 14"/>
          <p:cNvGrpSpPr/>
          <p:nvPr/>
        </p:nvGrpSpPr>
        <p:grpSpPr>
          <a:xfrm>
            <a:off x="76320" y="4343400"/>
            <a:ext cx="2641320" cy="961920"/>
            <a:chOff x="76320" y="4343400"/>
            <a:chExt cx="2641320" cy="961920"/>
          </a:xfrm>
        </p:grpSpPr>
        <p:sp>
          <p:nvSpPr>
            <p:cNvPr id="1009" name="Rounded Rectangle 16"/>
            <p:cNvSpPr/>
            <p:nvPr/>
          </p:nvSpPr>
          <p:spPr>
            <a:xfrm>
              <a:off x="76320" y="4343400"/>
              <a:ext cx="264132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ounded Rectangle 4"/>
            <p:cNvSpPr/>
            <p:nvPr/>
          </p:nvSpPr>
          <p:spPr>
            <a:xfrm>
              <a:off x="123840" y="4390920"/>
              <a:ext cx="254628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Revision of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1" name="Group 19"/>
          <p:cNvGrpSpPr/>
          <p:nvPr/>
        </p:nvGrpSpPr>
        <p:grpSpPr>
          <a:xfrm>
            <a:off x="82440" y="1600200"/>
            <a:ext cx="2641680" cy="961920"/>
            <a:chOff x="82440" y="1600200"/>
            <a:chExt cx="2641680" cy="961920"/>
          </a:xfrm>
        </p:grpSpPr>
        <p:sp>
          <p:nvSpPr>
            <p:cNvPr id="1012" name="Rounded Rectangle 20"/>
            <p:cNvSpPr/>
            <p:nvPr/>
          </p:nvSpPr>
          <p:spPr>
            <a:xfrm>
              <a:off x="82440" y="1600200"/>
              <a:ext cx="2641680" cy="96192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ounded Rectangle 4"/>
            <p:cNvSpPr/>
            <p:nvPr/>
          </p:nvSpPr>
          <p:spPr>
            <a:xfrm>
              <a:off x="129960" y="1647720"/>
              <a:ext cx="2546640" cy="86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6320" rIns="76320" tIns="76320" bIns="7632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Submission of Application doss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22"/>
          <p:cNvGrpSpPr/>
          <p:nvPr/>
        </p:nvGrpSpPr>
        <p:grpSpPr>
          <a:xfrm>
            <a:off x="76320" y="2971800"/>
            <a:ext cx="2641320" cy="969840"/>
            <a:chOff x="76320" y="2971800"/>
            <a:chExt cx="2641320" cy="969840"/>
          </a:xfrm>
        </p:grpSpPr>
        <p:sp>
          <p:nvSpPr>
            <p:cNvPr id="1015" name="Rounded Rectangle 23"/>
            <p:cNvSpPr/>
            <p:nvPr/>
          </p:nvSpPr>
          <p:spPr>
            <a:xfrm>
              <a:off x="76320" y="2971800"/>
              <a:ext cx="2641320" cy="969840"/>
            </a:xfrm>
            <a:prstGeom prst="roundRect">
              <a:avLst>
                <a:gd name="adj" fmla="val 16667"/>
              </a:avLst>
            </a:prstGeom>
            <a:solidFill>
              <a:srgbClr val="ffffff">
                <a:alpha val="90000"/>
              </a:srgbClr>
            </a:solidFill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ounded Rectangle 4"/>
            <p:cNvSpPr/>
            <p:nvPr/>
          </p:nvSpPr>
          <p:spPr>
            <a:xfrm>
              <a:off x="146160" y="3019320"/>
              <a:ext cx="2501640" cy="87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9000" rIns="99000" tIns="99000" bIns="9900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1155600"/>
                  <a:tab algn="l" pos="2311560"/>
                  <a:tab algn="l" pos="3467160"/>
                  <a:tab algn="l" pos="4622760"/>
                  <a:tab algn="l" pos="5778360"/>
                  <a:tab algn="l" pos="6934320"/>
                  <a:tab algn="l" pos="8089920"/>
                  <a:tab algn="l" pos="9245520"/>
                  <a:tab algn="l" pos="1040148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ahoma"/>
                  <a:ea typeface="Tahoma"/>
                </a:rPr>
                <a:t>Dossier Review &amp; Feedback to Applic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7" name="Group 25" descr=""/>
          <p:cNvPicPr/>
          <p:nvPr/>
        </p:nvPicPr>
        <p:blipFill>
          <a:blip r:embed="rId2"/>
          <a:stretch/>
        </p:blipFill>
        <p:spPr>
          <a:xfrm>
            <a:off x="3236760" y="1584360"/>
            <a:ext cx="2670480" cy="946080"/>
          </a:xfrm>
          <a:prstGeom prst="rect">
            <a:avLst/>
          </a:prstGeom>
          <a:ln w="0">
            <a:noFill/>
          </a:ln>
        </p:spPr>
      </p:pic>
      <p:pic>
        <p:nvPicPr>
          <p:cNvPr id="1018" name="Group 28" descr=""/>
          <p:cNvPicPr/>
          <p:nvPr/>
        </p:nvPicPr>
        <p:blipFill>
          <a:blip r:embed="rId3"/>
          <a:stretch/>
        </p:blipFill>
        <p:spPr>
          <a:xfrm>
            <a:off x="3365640" y="3645000"/>
            <a:ext cx="2670120" cy="946080"/>
          </a:xfrm>
          <a:prstGeom prst="rect">
            <a:avLst/>
          </a:prstGeom>
          <a:ln w="0">
            <a:noFill/>
          </a:ln>
        </p:spPr>
      </p:pic>
      <p:pic>
        <p:nvPicPr>
          <p:cNvPr id="1019" name="Group 31" descr=""/>
          <p:cNvPicPr/>
          <p:nvPr/>
        </p:nvPicPr>
        <p:blipFill>
          <a:blip r:embed="rId4"/>
          <a:stretch/>
        </p:blipFill>
        <p:spPr>
          <a:xfrm>
            <a:off x="6188040" y="3645000"/>
            <a:ext cx="2664000" cy="946080"/>
          </a:xfrm>
          <a:prstGeom prst="rect">
            <a:avLst/>
          </a:prstGeom>
          <a:ln w="0">
            <a:noFill/>
          </a:ln>
        </p:spPr>
      </p:pic>
      <p:pic>
        <p:nvPicPr>
          <p:cNvPr id="1020" name="Group 34" descr=""/>
          <p:cNvPicPr/>
          <p:nvPr/>
        </p:nvPicPr>
        <p:blipFill>
          <a:blip r:embed="rId5"/>
          <a:stretch/>
        </p:blipFill>
        <p:spPr>
          <a:xfrm>
            <a:off x="4584600" y="5778360"/>
            <a:ext cx="2670120" cy="946440"/>
          </a:xfrm>
          <a:prstGeom prst="rect">
            <a:avLst/>
          </a:prstGeom>
          <a:ln w="0">
            <a:noFill/>
          </a:ln>
        </p:spPr>
      </p:pic>
      <p:pic>
        <p:nvPicPr>
          <p:cNvPr id="1021" name="Group 37" descr=""/>
          <p:cNvPicPr/>
          <p:nvPr/>
        </p:nvPicPr>
        <p:blipFill>
          <a:blip r:embed="rId6"/>
          <a:stretch/>
        </p:blipFill>
        <p:spPr>
          <a:xfrm>
            <a:off x="6315120" y="1633680"/>
            <a:ext cx="2663640" cy="944280"/>
          </a:xfrm>
          <a:prstGeom prst="rect">
            <a:avLst/>
          </a:prstGeom>
          <a:ln w="0">
            <a:noFill/>
          </a:ln>
        </p:spPr>
      </p:pic>
      <p:sp>
        <p:nvSpPr>
          <p:cNvPr id="1022" name="Striped Right Arrow 3"/>
          <p:cNvSpPr/>
          <p:nvPr/>
        </p:nvSpPr>
        <p:spPr>
          <a:xfrm>
            <a:off x="2895480" y="6059520"/>
            <a:ext cx="1600200" cy="380880"/>
          </a:xfrm>
          <a:custGeom>
            <a:avLst/>
            <a:gdLst/>
            <a:ahLst/>
            <a:rect l="l" t="t" r="r" b="b"/>
            <a:pathLst>
              <a:path w="1600200" h="381000">
                <a:moveTo>
                  <a:pt x="0" y="95250"/>
                </a:moveTo>
                <a:lnTo>
                  <a:pt x="11906" y="95250"/>
                </a:lnTo>
                <a:lnTo>
                  <a:pt x="11906" y="285750"/>
                </a:lnTo>
                <a:lnTo>
                  <a:pt x="0" y="285750"/>
                </a:lnTo>
                <a:lnTo>
                  <a:pt x="0" y="95250"/>
                </a:lnTo>
                <a:close/>
                <a:moveTo>
                  <a:pt x="23813" y="95250"/>
                </a:moveTo>
                <a:lnTo>
                  <a:pt x="47625" y="95250"/>
                </a:lnTo>
                <a:lnTo>
                  <a:pt x="47625" y="285750"/>
                </a:lnTo>
                <a:lnTo>
                  <a:pt x="23813" y="285750"/>
                </a:lnTo>
                <a:lnTo>
                  <a:pt x="23813" y="95250"/>
                </a:lnTo>
                <a:close/>
                <a:moveTo>
                  <a:pt x="59531" y="95250"/>
                </a:moveTo>
                <a:lnTo>
                  <a:pt x="1409700" y="95250"/>
                </a:lnTo>
                <a:lnTo>
                  <a:pt x="1409700" y="0"/>
                </a:lnTo>
                <a:lnTo>
                  <a:pt x="1600200" y="190500"/>
                </a:lnTo>
                <a:lnTo>
                  <a:pt x="1409700" y="381000"/>
                </a:lnTo>
                <a:lnTo>
                  <a:pt x="1409700" y="285750"/>
                </a:lnTo>
                <a:lnTo>
                  <a:pt x="59531" y="285750"/>
                </a:lnTo>
                <a:lnTo>
                  <a:pt x="59531" y="95250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Striped Right Arrow 40"/>
          <p:cNvSpPr/>
          <p:nvPr/>
        </p:nvSpPr>
        <p:spPr>
          <a:xfrm rot="14026200">
            <a:off x="4408200" y="5111280"/>
            <a:ext cx="1370160" cy="160200"/>
          </a:xfrm>
          <a:custGeom>
            <a:avLst/>
            <a:gdLst/>
            <a:ahLst/>
            <a:rect l="l" t="t" r="r" b="b"/>
            <a:pathLst>
              <a:path w="1370012" h="160338">
                <a:moveTo>
                  <a:pt x="0" y="40085"/>
                </a:moveTo>
                <a:lnTo>
                  <a:pt x="5011" y="40085"/>
                </a:lnTo>
                <a:lnTo>
                  <a:pt x="5011" y="120254"/>
                </a:lnTo>
                <a:lnTo>
                  <a:pt x="0" y="120254"/>
                </a:lnTo>
                <a:lnTo>
                  <a:pt x="0" y="40085"/>
                </a:lnTo>
                <a:close/>
                <a:moveTo>
                  <a:pt x="10021" y="40085"/>
                </a:moveTo>
                <a:lnTo>
                  <a:pt x="20042" y="40085"/>
                </a:lnTo>
                <a:lnTo>
                  <a:pt x="20042" y="120254"/>
                </a:lnTo>
                <a:lnTo>
                  <a:pt x="10021" y="120254"/>
                </a:lnTo>
                <a:lnTo>
                  <a:pt x="10021" y="40085"/>
                </a:lnTo>
                <a:close/>
                <a:moveTo>
                  <a:pt x="25053" y="40085"/>
                </a:moveTo>
                <a:lnTo>
                  <a:pt x="1289843" y="40085"/>
                </a:lnTo>
                <a:lnTo>
                  <a:pt x="1289843" y="0"/>
                </a:lnTo>
                <a:lnTo>
                  <a:pt x="1370012" y="80169"/>
                </a:lnTo>
                <a:lnTo>
                  <a:pt x="1289843" y="160338"/>
                </a:lnTo>
                <a:lnTo>
                  <a:pt x="1289843" y="120254"/>
                </a:lnTo>
                <a:lnTo>
                  <a:pt x="25053" y="120254"/>
                </a:lnTo>
                <a:lnTo>
                  <a:pt x="25053" y="40085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Striped Right Arrow 41"/>
          <p:cNvSpPr/>
          <p:nvPr/>
        </p:nvSpPr>
        <p:spPr>
          <a:xfrm rot="18195600">
            <a:off x="6334920" y="5108400"/>
            <a:ext cx="1368720" cy="158760"/>
          </a:xfrm>
          <a:custGeom>
            <a:avLst/>
            <a:gdLst/>
            <a:ahLst/>
            <a:rect l="l" t="t" r="r" b="b"/>
            <a:pathLst>
              <a:path w="1368425" h="158750">
                <a:moveTo>
                  <a:pt x="0" y="39688"/>
                </a:moveTo>
                <a:lnTo>
                  <a:pt x="4961" y="39688"/>
                </a:lnTo>
                <a:lnTo>
                  <a:pt x="4961" y="119063"/>
                </a:lnTo>
                <a:lnTo>
                  <a:pt x="0" y="119063"/>
                </a:lnTo>
                <a:lnTo>
                  <a:pt x="0" y="39688"/>
                </a:lnTo>
                <a:close/>
                <a:moveTo>
                  <a:pt x="9922" y="39688"/>
                </a:moveTo>
                <a:lnTo>
                  <a:pt x="19844" y="39688"/>
                </a:lnTo>
                <a:lnTo>
                  <a:pt x="19844" y="119063"/>
                </a:lnTo>
                <a:lnTo>
                  <a:pt x="9922" y="119063"/>
                </a:lnTo>
                <a:lnTo>
                  <a:pt x="9922" y="39688"/>
                </a:lnTo>
                <a:close/>
                <a:moveTo>
                  <a:pt x="24805" y="39688"/>
                </a:moveTo>
                <a:lnTo>
                  <a:pt x="1289050" y="39688"/>
                </a:lnTo>
                <a:lnTo>
                  <a:pt x="1289050" y="0"/>
                </a:lnTo>
                <a:lnTo>
                  <a:pt x="1368425" y="79375"/>
                </a:lnTo>
                <a:lnTo>
                  <a:pt x="1289050" y="158750"/>
                </a:lnTo>
                <a:lnTo>
                  <a:pt x="1289050" y="119063"/>
                </a:lnTo>
                <a:lnTo>
                  <a:pt x="24805" y="119063"/>
                </a:lnTo>
                <a:lnTo>
                  <a:pt x="24805" y="39688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Striped Right Arrow 42"/>
          <p:cNvSpPr/>
          <p:nvPr/>
        </p:nvSpPr>
        <p:spPr>
          <a:xfrm rot="15835200">
            <a:off x="3625560" y="3024000"/>
            <a:ext cx="1055520" cy="118800"/>
          </a:xfrm>
          <a:custGeom>
            <a:avLst/>
            <a:gdLst/>
            <a:ahLst/>
            <a:rect l="l" t="t" r="r" b="b"/>
            <a:pathLst>
              <a:path w="1055688" h="119062">
                <a:moveTo>
                  <a:pt x="0" y="29766"/>
                </a:moveTo>
                <a:lnTo>
                  <a:pt x="3721" y="29766"/>
                </a:lnTo>
                <a:lnTo>
                  <a:pt x="3721" y="89297"/>
                </a:lnTo>
                <a:lnTo>
                  <a:pt x="0" y="89297"/>
                </a:lnTo>
                <a:lnTo>
                  <a:pt x="0" y="29766"/>
                </a:lnTo>
                <a:close/>
                <a:moveTo>
                  <a:pt x="7441" y="29766"/>
                </a:moveTo>
                <a:lnTo>
                  <a:pt x="14883" y="29766"/>
                </a:lnTo>
                <a:lnTo>
                  <a:pt x="14883" y="89297"/>
                </a:lnTo>
                <a:lnTo>
                  <a:pt x="7441" y="89297"/>
                </a:lnTo>
                <a:lnTo>
                  <a:pt x="7441" y="29766"/>
                </a:lnTo>
                <a:close/>
                <a:moveTo>
                  <a:pt x="18603" y="29766"/>
                </a:moveTo>
                <a:lnTo>
                  <a:pt x="996157" y="29766"/>
                </a:lnTo>
                <a:lnTo>
                  <a:pt x="996157" y="0"/>
                </a:lnTo>
                <a:lnTo>
                  <a:pt x="1055688" y="59531"/>
                </a:lnTo>
                <a:lnTo>
                  <a:pt x="996157" y="119062"/>
                </a:lnTo>
                <a:lnTo>
                  <a:pt x="996157" y="89297"/>
                </a:lnTo>
                <a:lnTo>
                  <a:pt x="18603" y="89297"/>
                </a:lnTo>
                <a:lnTo>
                  <a:pt x="18603" y="29766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Striped Right Arrow 43"/>
          <p:cNvSpPr/>
          <p:nvPr/>
        </p:nvSpPr>
        <p:spPr>
          <a:xfrm flipV="1" rot="19268400">
            <a:off x="5421240" y="3068640"/>
            <a:ext cx="1577520" cy="104760"/>
          </a:xfrm>
          <a:custGeom>
            <a:avLst/>
            <a:gdLst/>
            <a:ahLst/>
            <a:rect l="l" t="t" r="r" b="b"/>
            <a:pathLst>
              <a:path w="1577975" h="104775">
                <a:moveTo>
                  <a:pt x="0" y="26194"/>
                </a:moveTo>
                <a:lnTo>
                  <a:pt x="3274" y="26194"/>
                </a:lnTo>
                <a:lnTo>
                  <a:pt x="3274" y="78581"/>
                </a:lnTo>
                <a:lnTo>
                  <a:pt x="0" y="78581"/>
                </a:lnTo>
                <a:lnTo>
                  <a:pt x="0" y="26194"/>
                </a:lnTo>
                <a:close/>
                <a:moveTo>
                  <a:pt x="6548" y="26194"/>
                </a:moveTo>
                <a:lnTo>
                  <a:pt x="13097" y="26194"/>
                </a:lnTo>
                <a:lnTo>
                  <a:pt x="13097" y="78581"/>
                </a:lnTo>
                <a:lnTo>
                  <a:pt x="6548" y="78581"/>
                </a:lnTo>
                <a:lnTo>
                  <a:pt x="6548" y="26194"/>
                </a:lnTo>
                <a:close/>
                <a:moveTo>
                  <a:pt x="16371" y="26194"/>
                </a:moveTo>
                <a:lnTo>
                  <a:pt x="1525588" y="26194"/>
                </a:lnTo>
                <a:lnTo>
                  <a:pt x="1525588" y="0"/>
                </a:lnTo>
                <a:lnTo>
                  <a:pt x="1577975" y="52388"/>
                </a:lnTo>
                <a:lnTo>
                  <a:pt x="1525588" y="104775"/>
                </a:lnTo>
                <a:lnTo>
                  <a:pt x="1525588" y="78581"/>
                </a:lnTo>
                <a:lnTo>
                  <a:pt x="16371" y="78581"/>
                </a:lnTo>
                <a:lnTo>
                  <a:pt x="16371" y="2619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fc4b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4632480" y="1006560"/>
          <a:ext cx="4511520" cy="1598400"/>
        </p:xfrm>
        <a:graphic>
          <a:graphicData uri="http://schemas.openxmlformats.org/drawingml/2006/table">
            <a:tbl>
              <a:tblPr/>
              <a:tblGrid>
                <a:gridCol w="4511520"/>
              </a:tblGrid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NTRY POINT 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58800">
                <a:tc>
                  <a:txBody>
                    <a:bodyPr rIns="73080" tIns="0" bIns="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USINESS PLAN FOR AFLASAFE COMMERCIALISATION IN ZAMB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69800">
                <a:tc>
                  <a:txBody>
                    <a:bodyPr lIns="73080" rIns="73080" tIns="137160" bIns="13716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rst Working Draft- JANUARY 20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3080" marR="73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1" name=""/>
          <p:cNvGraphicFramePr/>
          <p:nvPr/>
        </p:nvGraphicFramePr>
        <p:xfrm>
          <a:off x="42840" y="1295280"/>
          <a:ext cx="2190600" cy="5521320"/>
        </p:xfrm>
        <a:graphic>
          <a:graphicData uri="http://schemas.openxmlformats.org/drawingml/2006/table">
            <a:tbl>
              <a:tblPr/>
              <a:tblGrid>
                <a:gridCol w="2190600"/>
              </a:tblGrid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R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T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R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IZ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SAID-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F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ACO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 Province Farmers Cooperatives union (EPFC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MSEED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MES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AB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hare Africa Zambi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252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gram Against Malnutrition (PAM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787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ain Traders Association of Zambia (GTAZ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FIT +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2628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5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ZEM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2" name=""/>
          <p:cNvGraphicFramePr/>
          <p:nvPr/>
        </p:nvGraphicFramePr>
        <p:xfrm>
          <a:off x="2316240" y="3137040"/>
          <a:ext cx="2495520" cy="3644640"/>
        </p:xfrm>
        <a:graphic>
          <a:graphicData uri="http://schemas.openxmlformats.org/drawingml/2006/table">
            <a:tbl>
              <a:tblPr/>
              <a:tblGrid>
                <a:gridCol w="2495520"/>
              </a:tblGrid>
              <a:tr h="8413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mallholder Agri Business Promotion Programme (SAPP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11206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Department of Marketing and Agri-busin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19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52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Village headman &amp; Farmers in 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56016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tete District Women’s Assoc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33" name=""/>
          <p:cNvGraphicFramePr/>
          <p:nvPr/>
        </p:nvGraphicFramePr>
        <p:xfrm>
          <a:off x="4876920" y="4191120"/>
          <a:ext cx="4267080" cy="2560680"/>
        </p:xfrm>
        <a:graphic>
          <a:graphicData uri="http://schemas.openxmlformats.org/drawingml/2006/table">
            <a:tbl>
              <a:tblPr/>
              <a:tblGrid>
                <a:gridCol w="4267080"/>
              </a:tblGrid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84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Petau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Nyimb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Kab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648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inistry of Agriculture,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  <a:tr h="365400">
                <a:tc>
                  <a:txBody>
                    <a:bodyPr lIns="46080" rIns="4608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&amp; groundnut farmers in Chibom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6080" marR="46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f7f7f"/>
                    </a:solidFill>
                  </a:tcPr>
                </a:tc>
              </a:tr>
            </a:tbl>
          </a:graphicData>
        </a:graphic>
      </p:graphicFrame>
      <p:sp>
        <p:nvSpPr>
          <p:cNvPr id="1034" name="Rectangle 7"/>
          <p:cNvSpPr/>
          <p:nvPr/>
        </p:nvSpPr>
        <p:spPr>
          <a:xfrm>
            <a:off x="5369040" y="3359160"/>
            <a:ext cx="3698640" cy="505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  <a:ea typeface="Tahoma"/>
              </a:rPr>
              <a:t>Stakeholder consul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: BP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4343400" y="853920"/>
            <a:ext cx="4695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aflasafe manufactu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hare-Africa Zamb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AMSE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companies expressed need for seed money to jump start the manufacturing pro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Tahoma"/>
              </a:rPr>
              <a:t>530, 000$ for aflasafe pla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5"/>
          <p:cNvSpPr/>
          <p:nvPr/>
        </p:nvSpPr>
        <p:spPr>
          <a:xfrm>
            <a:off x="4295880" y="4302000"/>
            <a:ext cx="4695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ff"/>
                </a:solidFill>
                <a:uFillTx/>
                <a:latin typeface="Tahoma"/>
                <a:ea typeface="Tahoma"/>
              </a:rPr>
              <a:t>Potential distribution channel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Lead firms: Organizations operating M/GN value chai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Seed &amp; input supp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15"/>
          <p:cNvSpPr/>
          <p:nvPr/>
        </p:nvSpPr>
        <p:spPr>
          <a:xfrm>
            <a:off x="27000" y="1509840"/>
            <a:ext cx="4162320" cy="461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Market &amp; dema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60% of farmers willing to pay for such a produ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Market: Local consumers, processors, Govt school feeding programs, regional trad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GOs &amp; development partn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1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4. 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5. Trade assess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2"/>
          <p:cNvSpPr/>
          <p:nvPr/>
        </p:nvSpPr>
        <p:spPr>
          <a:xfrm>
            <a:off x="1066680" y="1703520"/>
            <a:ext cx="6782040" cy="5031720"/>
          </a:xfrm>
          <a:prstGeom prst="rect">
            <a:avLst/>
          </a:prstGeom>
          <a:noFill/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n Assessment Report of Trade Performance of Key Agricultural Value Chains in Zambia from 2013 to 2015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epared and submitted by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Gregory Chans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pril, 2016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FIT plus USAID Pro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lot #18944 | Off Lubansheshi Road Olympia Park | Lusaka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amb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ZM1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6" name="Picture 15" descr=""/>
          <p:cNvPicPr/>
          <p:nvPr/>
        </p:nvPicPr>
        <p:blipFill>
          <a:blip r:embed="rId2"/>
          <a:stretch/>
        </p:blipFill>
        <p:spPr>
          <a:xfrm>
            <a:off x="7337520" y="990720"/>
            <a:ext cx="1806480" cy="636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6. Awareness raising &amp; Capacity build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1" name="Picture 44" descr=""/>
          <p:cNvPicPr/>
          <p:nvPr/>
        </p:nvPicPr>
        <p:blipFill>
          <a:blip r:embed="rId2"/>
          <a:stretch/>
        </p:blipFill>
        <p:spPr>
          <a:xfrm>
            <a:off x="76320" y="4648320"/>
            <a:ext cx="3759120" cy="21142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5" descr=""/>
          <p:cNvPicPr/>
          <p:nvPr/>
        </p:nvPicPr>
        <p:blipFill>
          <a:blip r:embed="rId3"/>
          <a:stretch/>
        </p:blipFill>
        <p:spPr>
          <a:xfrm>
            <a:off x="6553080" y="4686480"/>
            <a:ext cx="2514600" cy="207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3" name=""/>
          <p:cNvGraphicFramePr/>
          <p:nvPr/>
        </p:nvGraphicFramePr>
        <p:xfrm>
          <a:off x="76320" y="1600200"/>
          <a:ext cx="8915400" cy="2641680"/>
        </p:xfrm>
        <a:graphic>
          <a:graphicData uri="http://schemas.openxmlformats.org/drawingml/2006/table">
            <a:tbl>
              <a:tblPr/>
              <a:tblGrid>
                <a:gridCol w="1523880"/>
                <a:gridCol w="762120"/>
                <a:gridCol w="990360"/>
                <a:gridCol w="1371600"/>
                <a:gridCol w="685800"/>
                <a:gridCol w="990720"/>
                <a:gridCol w="762120"/>
                <a:gridCol w="1096920"/>
                <a:gridCol w="731880"/>
              </a:tblGrid>
              <a:tr h="3906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sung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e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Lead far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EOs/ CE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 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620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A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54" name="Picture 46" descr=""/>
          <p:cNvPicPr/>
          <p:nvPr/>
        </p:nvPicPr>
        <p:blipFill>
          <a:blip r:embed="rId4"/>
          <a:stretch/>
        </p:blipFill>
        <p:spPr>
          <a:xfrm>
            <a:off x="4343400" y="4581360"/>
            <a:ext cx="1676520" cy="222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7"/>
          <p:cNvSpPr/>
          <p:nvPr/>
        </p:nvSpPr>
        <p:spPr>
          <a:xfrm>
            <a:off x="-457200" y="83664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ry spell experienced in Western &amp; Southern provinces negatively affected aflasafe deployment in pre-selected field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oor road networks: inaccessible fallen trees/ logs and thickets prevented access to fields in the fores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irds were a problem in forest areas cropped to maize &amp; groundnut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743200" y="19224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Challenges &amp; research gap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76320" y="4081320"/>
            <a:ext cx="4800600" cy="270036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2" descr=""/>
          <p:cNvPicPr/>
          <p:nvPr/>
        </p:nvPicPr>
        <p:blipFill>
          <a:blip r:embed="rId3"/>
          <a:stretch/>
        </p:blipFill>
        <p:spPr>
          <a:xfrm>
            <a:off x="6626160" y="4081320"/>
            <a:ext cx="2467080" cy="27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-457200" y="835200"/>
            <a:ext cx="9524880" cy="32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 development: A new consultant to be hired to finalize business plan development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: Continue with the product registration process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74304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Data: Test aflasafe product region I &amp; III AEZ to gather 2</a:t>
            </a:r>
            <a:r>
              <a:rPr b="0" lang="en-GB" sz="2300" spc="-1" strike="noStrike" baseline="30000">
                <a:solidFill>
                  <a:srgbClr val="000000"/>
                </a:solidFill>
                <a:latin typeface="Tahoma"/>
                <a:ea typeface="Tahoma"/>
              </a:rPr>
              <a:t>nd</a:t>
            </a: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 year efficacy d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2743200" y="-36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ahoma"/>
                <a:ea typeface="Tahoma"/>
              </a:rPr>
              <a:t>Gaps &amp; outlook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76320" y="4402080"/>
            <a:ext cx="4228920" cy="23796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2" descr=""/>
          <p:cNvPicPr/>
          <p:nvPr/>
        </p:nvPicPr>
        <p:blipFill>
          <a:blip r:embed="rId3"/>
          <a:stretch/>
        </p:blipFill>
        <p:spPr>
          <a:xfrm>
            <a:off x="6934320" y="4417920"/>
            <a:ext cx="2158920" cy="236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5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2666880" y="45720"/>
            <a:ext cx="64771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cknowled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7" name="Picture 6" descr=""/>
          <p:cNvPicPr/>
          <p:nvPr/>
        </p:nvPicPr>
        <p:blipFill>
          <a:blip r:embed="rId2"/>
          <a:stretch/>
        </p:blipFill>
        <p:spPr>
          <a:xfrm>
            <a:off x="152280" y="5365800"/>
            <a:ext cx="2514600" cy="164448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3" descr="P1040794"/>
          <p:cNvPicPr/>
          <p:nvPr/>
        </p:nvPicPr>
        <p:blipFill>
          <a:blip r:embed="rId3"/>
          <a:stretch/>
        </p:blipFill>
        <p:spPr>
          <a:xfrm>
            <a:off x="4781520" y="914400"/>
            <a:ext cx="4406760" cy="5867280"/>
          </a:xfrm>
          <a:prstGeom prst="rect">
            <a:avLst/>
          </a:prstGeom>
          <a:ln w="0">
            <a:noFill/>
          </a:ln>
        </p:spPr>
      </p:pic>
      <p:sp>
        <p:nvSpPr>
          <p:cNvPr id="106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AutoShape 5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1" name="Picture 9" descr=""/>
          <p:cNvPicPr/>
          <p:nvPr/>
        </p:nvPicPr>
        <p:blipFill>
          <a:blip r:embed="rId4"/>
          <a:stretch/>
        </p:blipFill>
        <p:spPr>
          <a:xfrm>
            <a:off x="23240880" y="30403800"/>
            <a:ext cx="4724640" cy="16542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2" descr=""/>
          <p:cNvPicPr/>
          <p:nvPr/>
        </p:nvPicPr>
        <p:blipFill>
          <a:blip r:embed="rId5"/>
          <a:stretch/>
        </p:blipFill>
        <p:spPr>
          <a:xfrm>
            <a:off x="76320" y="2666880"/>
            <a:ext cx="2471760" cy="865440"/>
          </a:xfrm>
          <a:prstGeom prst="rect">
            <a:avLst/>
          </a:prstGeom>
          <a:ln w="0">
            <a:noFill/>
          </a:ln>
        </p:spPr>
      </p:pic>
      <p:pic>
        <p:nvPicPr>
          <p:cNvPr id="1073" name="Grafik 7" descr=""/>
          <p:cNvPicPr/>
          <p:nvPr/>
        </p:nvPicPr>
        <p:blipFill>
          <a:blip r:embed="rId6"/>
          <a:stretch/>
        </p:blipFill>
        <p:spPr>
          <a:xfrm>
            <a:off x="34920" y="3638520"/>
            <a:ext cx="2239920" cy="933480"/>
          </a:xfrm>
          <a:prstGeom prst="rect">
            <a:avLst/>
          </a:prstGeom>
          <a:ln w="0">
            <a:noFill/>
          </a:ln>
        </p:spPr>
      </p:pic>
      <p:sp>
        <p:nvSpPr>
          <p:cNvPr id="1074" name="AutoShape 14"/>
          <p:cNvSpPr/>
          <p:nvPr/>
        </p:nvSpPr>
        <p:spPr>
          <a:xfrm>
            <a:off x="155520" y="-1881360"/>
            <a:ext cx="3371760" cy="39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5" name="Picture 15" descr=""/>
          <p:cNvPicPr/>
          <p:nvPr/>
        </p:nvPicPr>
        <p:blipFill>
          <a:blip r:embed="rId7"/>
          <a:stretch/>
        </p:blipFill>
        <p:spPr>
          <a:xfrm>
            <a:off x="0" y="838080"/>
            <a:ext cx="1514520" cy="17640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4" descr="Macintosh HD:Users:alys.yng:Dropbox:Research:Zambia:AA GNIAA - INGENEAS:Communication Tools:Logos - INGENAES:ingenaesLogos2.png"/>
          <p:cNvPicPr/>
          <p:nvPr/>
        </p:nvPicPr>
        <p:blipFill>
          <a:blip r:embed="rId8"/>
          <a:stretch/>
        </p:blipFill>
        <p:spPr>
          <a:xfrm>
            <a:off x="2362320" y="1949400"/>
            <a:ext cx="2122200" cy="716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6" descr="Macintosh HD:Users:alys.yng:Desktop:Screen Shot 2016-05-01 at 5.46.06 AM.png"/>
          <p:cNvPicPr/>
          <p:nvPr/>
        </p:nvPicPr>
        <p:blipFill>
          <a:blip r:embed="rId9"/>
          <a:stretch/>
        </p:blipFill>
        <p:spPr>
          <a:xfrm>
            <a:off x="2602080" y="3809880"/>
            <a:ext cx="2122200" cy="538200"/>
          </a:xfrm>
          <a:prstGeom prst="rect">
            <a:avLst/>
          </a:prstGeom>
          <a:ln w="0">
            <a:noFill/>
          </a:ln>
        </p:spPr>
      </p:pic>
      <p:sp>
        <p:nvSpPr>
          <p:cNvPr id="1078" name="Rectangle 17"/>
          <p:cNvSpPr/>
          <p:nvPr/>
        </p:nvSpPr>
        <p:spPr>
          <a:xfrm>
            <a:off x="2286000" y="4729320"/>
            <a:ext cx="23544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 </a:t>
            </a: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Aflasafe te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9" name="Picture 15" descr=""/>
          <p:cNvPicPr/>
          <p:nvPr/>
        </p:nvPicPr>
        <p:blipFill>
          <a:blip r:embed="rId10"/>
          <a:stretch/>
        </p:blipFill>
        <p:spPr>
          <a:xfrm>
            <a:off x="34920" y="4610160"/>
            <a:ext cx="2239920" cy="79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Project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3"/>
          <p:cNvSpPr/>
          <p:nvPr/>
        </p:nvSpPr>
        <p:spPr>
          <a:xfrm>
            <a:off x="76320" y="1308240"/>
            <a:ext cx="8991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conduct a trade assessment of key agricultural VCs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efficacy of two aflasafe biocontrol products in Region I and III agro-ecological zones of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business plan for commercializing aflasafe in Zamb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develop a dossier &amp; identify requirements for aflasafe registration &amp; commer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Tahoma"/>
              </a:rPr>
              <a:t>To assess the cost benefits of using afla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9601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3333ff"/>
                </a:solidFill>
                <a:latin typeface="Tahoma"/>
                <a:ea typeface="Tahoma"/>
              </a:rPr>
              <a:t>Aflasafe Technology: Planned activities &amp; Partne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traight Connector 12"/>
          <p:cNvSpPr/>
          <p:nvPr/>
        </p:nvSpPr>
        <p:spPr>
          <a:xfrm>
            <a:off x="0" y="988920"/>
            <a:ext cx="9144000" cy="18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1"/>
          <p:cNvSpPr/>
          <p:nvPr/>
        </p:nvSpPr>
        <p:spPr>
          <a:xfrm>
            <a:off x="12600" y="2757600"/>
            <a:ext cx="1752840" cy="219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Trade assessment +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Cost benefit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15"/>
          <p:cNvSpPr/>
          <p:nvPr/>
        </p:nvSpPr>
        <p:spPr>
          <a:xfrm>
            <a:off x="584280" y="1322280"/>
            <a:ext cx="8026200" cy="0"/>
          </a:xfrm>
          <a:prstGeom prst="line">
            <a:avLst/>
          </a:prstGeom>
          <a:ln w="76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2" name="Picture 11" descr=""/>
          <p:cNvPicPr/>
          <p:nvPr/>
        </p:nvPicPr>
        <p:blipFill>
          <a:blip r:embed="rId1"/>
          <a:stretch/>
        </p:blipFill>
        <p:spPr>
          <a:xfrm>
            <a:off x="8174160" y="12970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1" descr=""/>
          <p:cNvPicPr/>
          <p:nvPr/>
        </p:nvPicPr>
        <p:blipFill>
          <a:blip r:embed="rId2"/>
          <a:stretch/>
        </p:blipFill>
        <p:spPr>
          <a:xfrm>
            <a:off x="4419720" y="1309680"/>
            <a:ext cx="817560" cy="160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1" descr=""/>
          <p:cNvPicPr/>
          <p:nvPr/>
        </p:nvPicPr>
        <p:blipFill>
          <a:blip r:embed="rId3"/>
          <a:stretch/>
        </p:blipFill>
        <p:spPr>
          <a:xfrm>
            <a:off x="2535120" y="1295280"/>
            <a:ext cx="817560" cy="40658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1" descr=""/>
          <p:cNvPicPr/>
          <p:nvPr/>
        </p:nvPicPr>
        <p:blipFill>
          <a:blip r:embed="rId4"/>
          <a:stretch/>
        </p:blipFill>
        <p:spPr>
          <a:xfrm>
            <a:off x="6323040" y="1309680"/>
            <a:ext cx="817560" cy="41227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1" descr=""/>
          <p:cNvPicPr/>
          <p:nvPr/>
        </p:nvPicPr>
        <p:blipFill>
          <a:blip r:embed="rId5"/>
          <a:stretch/>
        </p:blipFill>
        <p:spPr>
          <a:xfrm>
            <a:off x="200160" y="1297080"/>
            <a:ext cx="793440" cy="160344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1"/>
          <p:cNvSpPr/>
          <p:nvPr/>
        </p:nvSpPr>
        <p:spPr>
          <a:xfrm>
            <a:off x="3733920" y="2760840"/>
            <a:ext cx="2179440" cy="1144800"/>
          </a:xfrm>
          <a:prstGeom prst="rect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value demon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1"/>
          <p:cNvSpPr/>
          <p:nvPr/>
        </p:nvSpPr>
        <p:spPr>
          <a:xfrm>
            <a:off x="1952640" y="4800600"/>
            <a:ext cx="2127240" cy="794520"/>
          </a:xfrm>
          <a:prstGeom prst="rect">
            <a:avLst/>
          </a:prstGeom>
          <a:noFill/>
          <a:ln w="38160">
            <a:solidFill>
              <a:srgbClr val="55f3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Efficacy trial in AEZs I &amp; II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1"/>
          <p:cNvSpPr/>
          <p:nvPr/>
        </p:nvSpPr>
        <p:spPr>
          <a:xfrm>
            <a:off x="5943600" y="5030640"/>
            <a:ext cx="1476360" cy="794520"/>
          </a:xfrm>
          <a:prstGeom prst="rect">
            <a:avLst/>
          </a:prstGeom>
          <a:noFill/>
          <a:ln w="38160">
            <a:solidFill>
              <a:srgbClr val="fac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Business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1"/>
          <p:cNvSpPr/>
          <p:nvPr/>
        </p:nvSpPr>
        <p:spPr>
          <a:xfrm>
            <a:off x="7281720" y="2728800"/>
            <a:ext cx="1828800" cy="794520"/>
          </a:xfrm>
          <a:prstGeom prst="rect">
            <a:avLst/>
          </a:prstGeom>
          <a:noFill/>
          <a:ln w="38160">
            <a:solidFill>
              <a:srgbClr val="fc4b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Tahoma"/>
                <a:ea typeface="Tahoma"/>
              </a:rPr>
              <a:t>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itle 8"/>
          <p:cNvSpPr/>
          <p:nvPr/>
        </p:nvSpPr>
        <p:spPr>
          <a:xfrm>
            <a:off x="0" y="4567320"/>
            <a:ext cx="1709640" cy="13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 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itle 8"/>
          <p:cNvSpPr/>
          <p:nvPr/>
        </p:nvSpPr>
        <p:spPr>
          <a:xfrm>
            <a:off x="2098800" y="5715000"/>
            <a:ext cx="1711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US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itle 8"/>
          <p:cNvSpPr/>
          <p:nvPr/>
        </p:nvSpPr>
        <p:spPr>
          <a:xfrm>
            <a:off x="4079880" y="3595680"/>
            <a:ext cx="1711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Profit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Share-Africa Zamb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/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itle 8"/>
          <p:cNvSpPr/>
          <p:nvPr/>
        </p:nvSpPr>
        <p:spPr>
          <a:xfrm>
            <a:off x="6051600" y="5869080"/>
            <a:ext cx="13399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2000"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itle 8"/>
          <p:cNvSpPr/>
          <p:nvPr/>
        </p:nvSpPr>
        <p:spPr>
          <a:xfrm>
            <a:off x="7467480" y="3519360"/>
            <a:ext cx="1711440" cy="22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NIS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Z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ahoma"/>
                <a:ea typeface="Tahoma"/>
              </a:rPr>
              <a:t>I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1"/>
          <p:cNvSpPr/>
          <p:nvPr/>
        </p:nvSpPr>
        <p:spPr>
          <a:xfrm>
            <a:off x="-76320" y="838080"/>
            <a:ext cx="952524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50000"/>
              </a:lnSpc>
              <a:buClr>
                <a:srgbClr val="3333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Efficacy of Aflasafe in Region I &amp; III agro-ecological zon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7f7f7f"/>
                </a:solidFill>
                <a:latin typeface="Tahoma"/>
                <a:ea typeface="Tahoma"/>
              </a:rPr>
              <a:t>(60.2 Ha treated (45 females, 57 males)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"/>
          <p:cNvGraphicFramePr/>
          <p:nvPr/>
        </p:nvGraphicFramePr>
        <p:xfrm>
          <a:off x="33480" y="1973160"/>
          <a:ext cx="9067680" cy="2889360"/>
        </p:xfrm>
        <a:graphic>
          <a:graphicData uri="http://schemas.openxmlformats.org/drawingml/2006/table">
            <a:tbl>
              <a:tblPr/>
              <a:tblGrid>
                <a:gridCol w="934920"/>
                <a:gridCol w="1471680"/>
                <a:gridCol w="1444680"/>
                <a:gridCol w="1284120"/>
                <a:gridCol w="1363680"/>
                <a:gridCol w="1390680"/>
                <a:gridCol w="1177920"/>
              </a:tblGrid>
              <a:tr h="457560"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Maize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4575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West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shek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1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outhe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Kazungu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entr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re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61" name="Picture 5" descr=""/>
          <p:cNvPicPr/>
          <p:nvPr/>
        </p:nvPicPr>
        <p:blipFill>
          <a:blip r:embed="rId2"/>
          <a:stretch/>
        </p:blipFill>
        <p:spPr>
          <a:xfrm>
            <a:off x="12600" y="4981680"/>
            <a:ext cx="2730600" cy="1888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8" descr=""/>
          <p:cNvPicPr/>
          <p:nvPr/>
        </p:nvPicPr>
        <p:blipFill>
          <a:blip r:embed="rId3"/>
          <a:stretch/>
        </p:blipFill>
        <p:spPr>
          <a:xfrm>
            <a:off x="6019920" y="4924440"/>
            <a:ext cx="3124080" cy="1901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4" descr=""/>
          <p:cNvPicPr/>
          <p:nvPr/>
        </p:nvPicPr>
        <p:blipFill>
          <a:blip r:embed="rId4"/>
          <a:stretch/>
        </p:blipFill>
        <p:spPr>
          <a:xfrm>
            <a:off x="3276720" y="4959360"/>
            <a:ext cx="2271600" cy="189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1. Results: aflasafe effic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8" name=""/>
          <p:cNvGraphicFramePr/>
          <p:nvPr/>
        </p:nvGraphicFramePr>
        <p:xfrm>
          <a:off x="152280" y="1447920"/>
          <a:ext cx="8839440" cy="5257800"/>
        </p:xfrm>
        <a:graphic>
          <a:graphicData uri="http://schemas.openxmlformats.org/drawingml/2006/table">
            <a:tbl>
              <a:tblPr/>
              <a:tblGrid>
                <a:gridCol w="1952640"/>
                <a:gridCol w="1704960"/>
                <a:gridCol w="1676520"/>
                <a:gridCol w="1676520"/>
                <a:gridCol w="1828800"/>
              </a:tblGrid>
              <a:tr h="9241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maize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groundnut samples (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Trea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Contro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7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7f7f7f"/>
                          </a:solidFill>
                          <a:latin typeface="Tahoma"/>
                          <a:ea typeface="Tahoma"/>
                        </a:rPr>
                        <a:t>0-14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9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79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4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56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3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2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3333ff"/>
                          </a:solidFill>
                          <a:latin typeface="Tahoma"/>
                          <a:ea typeface="Tahoma"/>
                        </a:rPr>
                        <a:t>3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2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e46c0a"/>
                          </a:solidFill>
                          <a:latin typeface="Tahoma"/>
                          <a:ea typeface="Tahoma"/>
                        </a:rPr>
                        <a:t>1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1"/>
          <p:cNvSpPr/>
          <p:nvPr/>
        </p:nvSpPr>
        <p:spPr>
          <a:xfrm>
            <a:off x="0" y="838080"/>
            <a:ext cx="91440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2. Aflasafe product value demonstration + Cost benefit analysi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3" name=""/>
          <p:cNvGraphicFramePr/>
          <p:nvPr/>
        </p:nvGraphicFramePr>
        <p:xfrm>
          <a:off x="63360" y="1905120"/>
          <a:ext cx="9028080" cy="2797200"/>
        </p:xfrm>
        <a:graphic>
          <a:graphicData uri="http://schemas.openxmlformats.org/drawingml/2006/table">
            <a:tbl>
              <a:tblPr/>
              <a:tblGrid>
                <a:gridCol w="882720"/>
                <a:gridCol w="1536840"/>
                <a:gridCol w="1614240"/>
                <a:gridCol w="1920960"/>
                <a:gridCol w="1613160"/>
                <a:gridCol w="1460160"/>
              </a:tblGrid>
              <a:tr h="549000"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E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Distri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rowSpan="2"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loc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Groundnut fiel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reate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ontr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  <a:tr h="549000">
                <a:tc rowSpan="2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Easte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tandik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panga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gridSpan="2"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ot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6a6a6"/>
                    </a:solidFill>
                  </a:tcPr>
                </a:tc>
              </a:tr>
            </a:tbl>
          </a:graphicData>
        </a:graphic>
      </p:graphicFrame>
      <p:pic>
        <p:nvPicPr>
          <p:cNvPr id="974" name="Picture 8" descr=""/>
          <p:cNvPicPr/>
          <p:nvPr/>
        </p:nvPicPr>
        <p:blipFill>
          <a:blip r:embed="rId2"/>
          <a:stretch/>
        </p:blipFill>
        <p:spPr>
          <a:xfrm>
            <a:off x="3368520" y="4829040"/>
            <a:ext cx="1508400" cy="200340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6" descr=""/>
          <p:cNvPicPr/>
          <p:nvPr/>
        </p:nvPicPr>
        <p:blipFill>
          <a:blip r:embed="rId3"/>
          <a:stretch/>
        </p:blipFill>
        <p:spPr>
          <a:xfrm>
            <a:off x="76320" y="4829040"/>
            <a:ext cx="2373120" cy="20131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C:\Users\mwale\Pictures\2016-04-28\013.jpg"/>
          <p:cNvPicPr/>
          <p:nvPr/>
        </p:nvPicPr>
        <p:blipFill>
          <a:blip r:embed="rId4"/>
          <a:stretch/>
        </p:blipFill>
        <p:spPr>
          <a:xfrm>
            <a:off x="5521320" y="4800600"/>
            <a:ext cx="3614760" cy="207504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1"/>
          <p:cNvSpPr/>
          <p:nvPr/>
        </p:nvSpPr>
        <p:spPr>
          <a:xfrm>
            <a:off x="0" y="838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ff"/>
                </a:solidFill>
                <a:latin typeface="Tahoma"/>
                <a:ea typeface="Tahoma"/>
              </a:rPr>
              <a:t>2. Resul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152280" y="1487520"/>
          <a:ext cx="8915400" cy="3419280"/>
        </p:xfrm>
        <a:graphic>
          <a:graphicData uri="http://schemas.openxmlformats.org/drawingml/2006/table">
            <a:tbl>
              <a:tblPr/>
              <a:tblGrid>
                <a:gridCol w="2362320"/>
                <a:gridCol w="2971800"/>
                <a:gridCol w="3581280"/>
              </a:tblGrid>
              <a:tr h="61956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flatoxin lev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Proportion of untreated groundnut samp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Range (ppb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3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c00000"/>
                          </a:solidFill>
                          <a:latin typeface="Tahoma"/>
                          <a:ea typeface="Tahoma"/>
                        </a:rPr>
                        <a:t>0-11,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Undetect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-4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-1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1-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920"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&gt; 20 pp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6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2" name="Rectangle 4"/>
          <p:cNvSpPr/>
          <p:nvPr/>
        </p:nvSpPr>
        <p:spPr>
          <a:xfrm>
            <a:off x="0" y="5083200"/>
            <a:ext cx="91440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Aflatoxin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ongo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5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ff"/>
                </a:solidFill>
                <a:latin typeface="Tahoma"/>
                <a:ea typeface="Tahoma"/>
              </a:rPr>
              <a:t>Cost benefit analysis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Profit+ &amp; Share Africa Zambia  undertaking the assess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9" descr=""/>
          <p:cNvPicPr/>
          <p:nvPr/>
        </p:nvPicPr>
        <p:blipFill>
          <a:blip r:embed="rId2"/>
          <a:stretch/>
        </p:blipFill>
        <p:spPr>
          <a:xfrm>
            <a:off x="76320" y="4172040"/>
            <a:ext cx="4640040" cy="260964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0" descr=""/>
          <p:cNvPicPr/>
          <p:nvPr/>
        </p:nvPicPr>
        <p:blipFill>
          <a:blip r:embed="rId3"/>
          <a:stretch/>
        </p:blipFill>
        <p:spPr>
          <a:xfrm>
            <a:off x="4888080" y="990720"/>
            <a:ext cx="4206600" cy="411480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5"/>
          <p:cNvSpPr/>
          <p:nvPr/>
        </p:nvSpPr>
        <p:spPr>
          <a:xfrm>
            <a:off x="47520" y="1600200"/>
            <a:ext cx="469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ZEMA Engagement: 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Field evaluation of aflasaf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0" name="Picture 3" descr="logo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2666880" y="122400"/>
            <a:ext cx="6477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Current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Rectangle 92"/>
          <p:cNvSpPr/>
          <p:nvPr/>
        </p:nvSpPr>
        <p:spPr>
          <a:xfrm>
            <a:off x="15228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"/>
          <p:cNvSpPr/>
          <p:nvPr/>
        </p:nvSpPr>
        <p:spPr>
          <a:xfrm>
            <a:off x="0" y="838080"/>
            <a:ext cx="914400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3333ff"/>
                </a:solidFill>
                <a:latin typeface="Tahoma"/>
                <a:ea typeface="Tahoma"/>
              </a:rPr>
              <a:t>3. Aflasafe product registration: Requirements identifi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4" name="Group 14"/>
          <p:cNvGrpSpPr/>
          <p:nvPr/>
        </p:nvGrpSpPr>
        <p:grpSpPr>
          <a:xfrm>
            <a:off x="52560" y="4239720"/>
            <a:ext cx="3276360" cy="2598120"/>
            <a:chOff x="52560" y="4239720"/>
            <a:chExt cx="3276360" cy="2598120"/>
          </a:xfrm>
        </p:grpSpPr>
        <p:pic>
          <p:nvPicPr>
            <p:cNvPr id="995" name="Picture 3" descr=""/>
            <p:cNvPicPr/>
            <p:nvPr/>
          </p:nvPicPr>
          <p:blipFill>
            <a:blip r:embed="rId2"/>
            <a:stretch/>
          </p:blipFill>
          <p:spPr>
            <a:xfrm>
              <a:off x="2562840" y="6115680"/>
              <a:ext cx="761760" cy="72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6" name="Rectangle 5"/>
            <p:cNvSpPr/>
            <p:nvPr/>
          </p:nvSpPr>
          <p:spPr>
            <a:xfrm>
              <a:off x="52560" y="4239720"/>
              <a:ext cx="3276360" cy="255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INSTITUTE FOR SCIENTIFIC AND INDUSTRIAL RESEARC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VISIONAL ECOTOXICOGY DOSSIER FOR AFLASAFE ZM01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 AFLASAFE ZM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epared b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Henry Njapa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rch 201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7" name="Rectangle 12"/>
          <p:cNvSpPr/>
          <p:nvPr/>
        </p:nvSpPr>
        <p:spPr>
          <a:xfrm>
            <a:off x="3886200" y="1471680"/>
            <a:ext cx="5181480" cy="375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Efficacy (min 2 seasons; 2 trials /crop; all AE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Ori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roduct descri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Physical and chemical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Mode of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13"/>
          <p:cNvSpPr/>
          <p:nvPr/>
        </p:nvSpPr>
        <p:spPr>
          <a:xfrm>
            <a:off x="0" y="1371600"/>
            <a:ext cx="337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VIII (Main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Form X (Label contents application for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Produc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A draft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20"/>
          <p:cNvSpPr/>
          <p:nvPr/>
        </p:nvSpPr>
        <p:spPr>
          <a:xfrm>
            <a:off x="3746520" y="5229360"/>
            <a:ext cx="5626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ertificate of registration from country of 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Safety data 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Consent letter from manufact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 algn="just">
              <a:lnSpc>
                <a:spcPct val="150000"/>
              </a:lnSpc>
              <a:buClr>
                <a:srgbClr val="000000"/>
              </a:buClr>
              <a:buFont typeface="Tahoma"/>
              <a:buAutoNum type="romanLcPeriod" startAt="5"/>
              <a:tabLst>
                <a:tab algn="l" pos="1414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cotoxicology Doss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Striped Right Arrow 22"/>
          <p:cNvSpPr/>
          <p:nvPr/>
        </p:nvSpPr>
        <p:spPr>
          <a:xfrm>
            <a:off x="2666880" y="3200400"/>
            <a:ext cx="1143000" cy="241200"/>
          </a:xfrm>
          <a:custGeom>
            <a:avLst/>
            <a:gdLst/>
            <a:ahLst/>
            <a:rect l="l" t="t" r="r" b="b"/>
            <a:pathLst>
              <a:path w="1143000" h="241300">
                <a:moveTo>
                  <a:pt x="0" y="60325"/>
                </a:moveTo>
                <a:lnTo>
                  <a:pt x="7541" y="60325"/>
                </a:lnTo>
                <a:lnTo>
                  <a:pt x="7541" y="180975"/>
                </a:lnTo>
                <a:lnTo>
                  <a:pt x="0" y="180975"/>
                </a:lnTo>
                <a:lnTo>
                  <a:pt x="0" y="60325"/>
                </a:lnTo>
                <a:close/>
                <a:moveTo>
                  <a:pt x="15081" y="60325"/>
                </a:moveTo>
                <a:lnTo>
                  <a:pt x="30163" y="60325"/>
                </a:lnTo>
                <a:lnTo>
                  <a:pt x="30163" y="180975"/>
                </a:lnTo>
                <a:lnTo>
                  <a:pt x="15081" y="180975"/>
                </a:lnTo>
                <a:lnTo>
                  <a:pt x="15081" y="60325"/>
                </a:lnTo>
                <a:close/>
                <a:moveTo>
                  <a:pt x="37703" y="60325"/>
                </a:moveTo>
                <a:lnTo>
                  <a:pt x="1022350" y="60325"/>
                </a:lnTo>
                <a:lnTo>
                  <a:pt x="1022350" y="0"/>
                </a:lnTo>
                <a:lnTo>
                  <a:pt x="1143000" y="120650"/>
                </a:lnTo>
                <a:lnTo>
                  <a:pt x="1022350" y="241300"/>
                </a:lnTo>
                <a:lnTo>
                  <a:pt x="1022350" y="180975"/>
                </a:lnTo>
                <a:lnTo>
                  <a:pt x="37703" y="180975"/>
                </a:lnTo>
                <a:lnTo>
                  <a:pt x="37703" y="60325"/>
                </a:lnTo>
                <a:close/>
              </a:path>
            </a:pathLst>
          </a:custGeom>
          <a:solidFill>
            <a:srgbClr val="7f7f7f"/>
          </a:solidFill>
          <a:ln w="25560">
            <a:solidFill>
              <a:srgbClr val="59595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3T18:38:10Z</dcterms:created>
  <dc:creator>CRaphael</dc:creator>
  <dc:description/>
  <dc:language>en-US</dc:language>
  <cp:lastModifiedBy>Odhong, Jonathan (IITA)</cp:lastModifiedBy>
  <dcterms:modified xsi:type="dcterms:W3CDTF">2016-09-14T08:33:21Z</dcterms:modified>
  <cp:revision>687</cp:revision>
  <dc:subject/>
  <dc:title>Slide 1</dc:title>
</cp:coreProperties>
</file>