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342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F63E-788B-4CBF-819C-5F8BF2657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3AF-F54A-48A0-9C20-DC03DE59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7D69-A8AA-4926-9E15-2FFECCF9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D2A5-0F7B-4388-8DD4-6E2E8C7EE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17BBB-47E3-447E-AD66-EB02801AF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43695-DFFB-4F56-B9B4-04AFFC28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3771-71B3-480E-AB58-FF5D7AA4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70B9-B001-49A8-B99B-7646090F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A2D4-151C-4C91-BC15-C7B99646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F6722-F79B-47C1-8DC4-2FA05125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2882-73BF-4668-B4EA-8E7E9037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C0A-027B-443B-A680-21C2D4F8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57A0D-3165-4758-9CA5-CCF183C9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B69D-01EA-45A6-9DCB-7BA82ED2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CD68A-63A1-44DD-BD15-D263A31B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217F-4B81-4CF3-9443-9B584F6EA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A982-0D44-42C9-BF6D-F01DC59F3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7425-50DC-43F8-962B-E11BAFCB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A29B-B298-4FE2-AAF5-0E492C3DB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EFAA-E828-4688-B0E0-DFE0442E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320-965D-46D3-881E-8F2FE27A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1074-9B55-40CA-8B7D-71A8E2D6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1353-BEA2-4739-92D4-25F07ABF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9A64-3545-4B24-AD49-EEBDE897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5A4D-DE43-4AB2-AC27-F7C3AC42E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20" descr=""/>
          <p:cNvPicPr/>
          <p:nvPr/>
        </p:nvPicPr>
        <p:blipFill>
          <a:blip r:embed="rId2"/>
          <a:srcRect l="0" t="0" r="63470" b="0"/>
          <a:stretch/>
        </p:blipFill>
        <p:spPr>
          <a:xfrm>
            <a:off x="227160" y="228600"/>
            <a:ext cx="242244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2" descr=""/>
          <p:cNvPicPr/>
          <p:nvPr/>
        </p:nvPicPr>
        <p:blipFill>
          <a:blip r:embed="rId2"/>
          <a:srcRect l="0" t="0" r="63466" b="0"/>
          <a:stretch/>
        </p:blipFill>
        <p:spPr>
          <a:xfrm>
            <a:off x="455760" y="455760"/>
            <a:ext cx="300492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1EC7-B74F-461C-BAB0-B02D7361C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2362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&amp;E Plan for Africa RIS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371600" y="411480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ry En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 and Evaluation Expert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ember 5,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s Ab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construction of 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sit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diagnosis/technology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ine for setting monitoring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line for evaluation (if nee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evaluation design (e.g., reduced sample size with better information on varian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modeling on scaling up &amp;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ata use, presentation, modeling (IFPRI to provi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h data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S &amp; other analytical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ons for scaling up &amp;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roles and responsi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2209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P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TA, IL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"/>
          <p:cNvSpPr/>
          <p:nvPr/>
        </p:nvSpPr>
        <p:spPr>
          <a:xfrm>
            <a:off x="1143000" y="4648320"/>
            <a:ext cx="68580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collects which data when for which purposes and where are they entered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line of Presentation (and the Pla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rica RISING objectives, activities, 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valuation (and Lear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a use, presentation,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les and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y ro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e to M&amp;E vision,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&amp;E Plan integ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TF indicators an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1447920" y="4114800"/>
            <a:ext cx="57150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role is critica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440" y="22093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 agricultural systems through sustainable inten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intensification: producing more (agricultural) output from same area of land, wh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ing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contributions to natural capital and flow of environment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440" y="22093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gnosis &amp; design of technology combi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-farm &amp; on-station trials of new combinations of existing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 and/or value chain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and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eal-based farming systems - Sudano-Sahelian zone of West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p-livestock systems - Ethiopian highl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ze-legume-livestock systems - Eastern &amp; Southern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ca RISING objective, activities, expected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22096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key, direct results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higher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negative environmental imp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contributions to natural capital &amp; flow of environmental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lue chain conduct and performance improved? / Improved market efficiency? / Improved extension effectivene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results possible: labor use, WUE, poverty, hun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s the “what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-  to see if project is on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ing – to inform client &amp; other stakeholders of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ID F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useful to AR for monitoring or evaluation or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440" y="19051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lps understand “how” &amp; “why” of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termines &amp; attributes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alitative and/or quanti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ites (different lev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usehol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ologies &amp; combi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atio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"/>
          <p:cNvSpPr/>
          <p:nvPr/>
        </p:nvSpPr>
        <p:spPr>
          <a:xfrm>
            <a:off x="1066680" y="6019920"/>
            <a:ext cx="66294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most important questions to answ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2209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questions, including at which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method for each, including demonstration of fea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quantitative evaluations includes power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required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data collection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analysis for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0:07:42Z</dcterms:created>
  <dc:creator>Design Studio</dc:creator>
  <dc:description/>
  <dc:language>en-US</dc:language>
  <cp:lastModifiedBy>Gary Ender</cp:lastModifiedBy>
  <cp:lastPrinted>2004-09-30T16:41:33Z</cp:lastPrinted>
  <dcterms:modified xsi:type="dcterms:W3CDTF">2012-09-05T18:54:10Z</dcterms:modified>
  <cp:revision>156</cp:revision>
  <dc:subject/>
  <dc:title>PowerPoint Presentation</dc:title>
</cp:coreProperties>
</file>