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0F0-AFDC-4A01-819D-55AF2FF6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44F-49A2-4954-89A9-7EB0D44B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0B6-1C99-4FBE-98AB-431B3598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F2D-C55E-4DE8-8538-A551DE89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D140-F1B8-431A-B664-E2DB5225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3A08-F9DA-44D8-98EF-A01BFE8C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FE98-D16D-446D-BF9F-6EF713B1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E5DA-5E34-4C9D-936C-0081E7D3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76F6-99F2-42B0-8EC4-203B261F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EDC3-1207-4878-8F80-2CFE8A58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701D-09BA-4880-8536-EAB285D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52A-8CEB-4D4B-83A2-247C92EC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0F77-4E53-420D-BCA8-8EC904D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CAAF-CE96-4D43-A804-06C4B2ED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204C-39A6-4841-96A2-F3DADEB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7282-4009-4B63-9334-0495639B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DC6C-39C2-49E1-8C59-4E972937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E7C-E9FD-4C11-BFF5-7DD7DD77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4A1-9644-437D-8D58-16585281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DD1-AB00-4534-AAB4-5FCE2704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421-1ADA-4578-A500-047A9030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C2F-2E3B-48F9-8054-EAB4EC9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21C-1EC0-4FCE-BECE-A464ADF7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CF4-9AAD-4253-BD60-2124E53E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4A5E-82EE-4F81-99BB-D8A89CFBC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E87F-09D4-4F9A-AFC1-C5909DD42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5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nstruction of 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iagnosis/technolog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setting monitoring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evaluation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evaluation design (e.g., reduced sample size with better information on vari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deling on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use, presentation, modeling (IFPRI to prov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 &amp; other analytical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s for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roles and respon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209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TA, IL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143000" y="4648320"/>
            <a:ext cx="6858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llects which data when for which purposes and where are they enter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of Presentation (and the Pla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rica RISING objectives, activities, 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(and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use, presentation,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 ro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 to M&amp;E vision,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E Plan integ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indicator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447920" y="4114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ole is crit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agricultural systems through 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tensification: producing more (agricultural) output from same area of land, wh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ntributions to natural capital and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is &amp; design of technology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farm &amp; on-station trials of new combinations of exist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and/or value chain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d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-based farming systems - Sudano-Sahelian zone of West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p-livestock systems - Ethiopian high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ze-legume-livestock systems - Eastern &amp;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2209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ontributions to natural capital &amp;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66680" y="6019920"/>
            <a:ext cx="6629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ost important questions to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questions, including at which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method for each, including demonstration of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uantitative evaluations includes powe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quired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data collection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analysis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5T18:54:10Z</dcterms:modified>
  <cp:revision>156</cp:revision>
  <dc:subject/>
  <dc:title>PowerPoint Presentation</dc:title>
</cp:coreProperties>
</file>