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A86F-898A-43AA-9653-38D9390FC0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C26E-083F-4D9F-A068-49179420D1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DC5E5-55DA-45BA-B99B-138901431B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C74A9-4691-4CA0-9A44-2382F46800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0E67-805A-41EA-AD54-3D33A833F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F98A-4980-4FDC-9494-621B4A6EE6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E869-BC0A-484A-8D2F-AD59B080552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ABA6D-806D-4C68-AA5D-3C1A5C18C08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8BE27-053F-4E70-BA0E-A7B03049D96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7434E-1C08-4576-AB27-551EBE26AA4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C0955-1735-4349-A98C-279C210C708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BAE5-F485-446C-A747-85A222A3DC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EDCC-C614-46D1-8D9C-F5C160CEE94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E8A1-A691-4192-B6D9-01D95E305EF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2460-F7CF-4A4D-A696-6660E868242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T 6, Baba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stitutional co-operation and co-lear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ccesses, challenges and lessons learned 2013-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Placeholder 2"/>
          <p:cNvSpPr/>
          <p:nvPr/>
        </p:nvSpPr>
        <p:spPr>
          <a:xfrm>
            <a:off x="595440" y="38862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writesh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SM, June 30 – July 2, 20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Babati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 platform research activities and outpu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2421000"/>
          <a:ext cx="7772400" cy="2936880"/>
        </p:xfrm>
        <a:graphic>
          <a:graphicData uri="http://schemas.openxmlformats.org/drawingml/2006/table">
            <a:tbl>
              <a:tblPr/>
              <a:tblGrid>
                <a:gridCol w="1090440"/>
                <a:gridCol w="1400400"/>
                <a:gridCol w="528156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/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May – Sept 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ati and Kongwa/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analysis R4D Babati, establishment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ult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M JUMBA, MC work plan 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form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MBA in BDC; Evaluation JUM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keholder inventory ward level platfo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6836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The strategic level Research for Development Platform (JUMBA) established as an integrated part of Babati District Council annual budget and activity pla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aluation of JUM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Stakeholder inventory and analysis completed as a preparation for establishment of six ward level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Other socio-economic resear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85640" y="2006640"/>
          <a:ext cx="8407440" cy="4479840"/>
        </p:xfrm>
        <a:graphic>
          <a:graphicData uri="http://schemas.openxmlformats.org/drawingml/2006/table">
            <a:tbl>
              <a:tblPr/>
              <a:tblGrid>
                <a:gridCol w="1179720"/>
                <a:gridCol w="1371600"/>
                <a:gridCol w="58561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v-S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in activ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ngtsson and Klerfelt (2014): </a:t>
                      </a:r>
                      <a:r>
                        <a:rPr b="0" i="1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al Intensification and Livelihood Strategies of Female Farmers in Babati District, Tanzania. University of Gothenbu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c (iAgri)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eldwork MSc stud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28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ozi, S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 and Effectiveness of Approaches for Adoption and Scaling of Integrated Systems Innovations among Smallholder Farmers in Babati, Tanzani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Egerton Universit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a, M (2016).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ct of ISFM Technology Adoption on Household Poverty in Tanzania: A Case of Smallholder Maize and Pigeon-pea Farmers in Babati Distric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 MSc thesis, Makerere Univer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50Z</dcterms:modified>
  <cp:revision>87</cp:revision>
  <dc:subject/>
  <dc:title>Slide 1</dc:title>
</cp:coreProperties>
</file>