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A9FB-D75C-4470-85DF-BA65683D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3A3B-132E-4586-A859-B251B36C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835C-5799-45FC-8856-70D775B2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2165-28DF-4EC7-99A0-5708E636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FEDE-A26B-400C-B1E7-C14FE575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6814-0491-41C5-B246-EDBF30B5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62DB-D9CD-4491-8F1C-4020B020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E22-2FE1-4F48-96CA-D75082C8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8641-D094-4BDA-A786-16C459D6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6EC-CBFE-4E20-9C72-7E7893C6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5623-C862-46E5-A5AC-0ECBDF7A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B5E1-A7C5-4176-ABAF-20A78CEA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337E-5050-4BB6-898D-E3E9EF229EE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6221-1D27-4DC6-B03E-90CDA5B51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34FD-1596-40D6-AF88-62A588FA99E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72B1-500D-4C08-84F1-0A53F0765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4000" spc="-1" strike="noStrike">
                <a:solidFill>
                  <a:srgbClr val="660033"/>
                </a:solidFill>
                <a:latin typeface="Arial"/>
              </a:rPr>
              <a:t>Community Stratification using Livelihood Indicators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676520" y="60976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 and Amare Haileslas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19320" y="16002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in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eat at other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 (intervention targe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we “combine” metho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ory “follow-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usehol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 an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mpac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we develop participatory tools for benchmar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7553160" cy="50198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Familiarisation of key informant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uss capital asse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, N, S, H,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usehold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616040" y="1981080"/>
            <a:ext cx="7543800" cy="4876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Key informant interview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ducted on a group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 pilot site groups formed from existing sub-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nk indicators within capital asse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view indicator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828800" y="1676520"/>
          <a:ext cx="7162920" cy="4587840"/>
        </p:xfrm>
        <a:graphic>
          <a:graphicData uri="http://schemas.openxmlformats.org/drawingml/2006/table">
            <a:tbl>
              <a:tblPr/>
              <a:tblGrid>
                <a:gridCol w="1598760"/>
                <a:gridCol w="1197000"/>
                <a:gridCol w="1679400"/>
                <a:gridCol w="2687760"/>
              </a:tblGrid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rti La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ulu Nege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efa Woli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bi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88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Strong family 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Family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vel of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knowledge / ski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gree of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Confid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Age (dominant age grou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vel of confidence in own 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Trai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Heal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Gender m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portion of productive family me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Age of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Family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cess to training and new technolog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88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Special skills (e.g. carpen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Age m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session of special skills (e.g. thatching / carpente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 Exper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session of farming knowledge and ski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88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 Gender mix in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vel of experience acqu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ealth status of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mily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140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atio of males to females in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600200" y="1693800"/>
            <a:ext cx="7543800" cy="5164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Household interview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0 household heads / 49 consolidated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cators score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and futur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0 – 45 minutes per house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Benchmarking analysi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1905120"/>
          <a:ext cx="7924680" cy="1798560"/>
        </p:xfrm>
        <a:graphic>
          <a:graphicData uri="http://schemas.openxmlformats.org/drawingml/2006/table">
            <a:tbl>
              <a:tblPr/>
              <a:tblGrid>
                <a:gridCol w="1822320"/>
                <a:gridCol w="1525680"/>
                <a:gridCol w="1525680"/>
                <a:gridCol w="1525680"/>
                <a:gridCol w="1525320"/>
              </a:tblGrid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 for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 graz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d avail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d br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gr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838080" y="4267080"/>
          <a:ext cx="8077320" cy="2027520"/>
        </p:xfrm>
        <a:graphic>
          <a:graphicData uri="http://schemas.openxmlformats.org/drawingml/2006/table">
            <a:tbl>
              <a:tblPr/>
              <a:tblGrid>
                <a:gridCol w="1752840"/>
                <a:gridCol w="1581120"/>
                <a:gridCol w="1581120"/>
                <a:gridCol w="1581120"/>
                <a:gridCol w="158112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d knowledge /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of community lead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 in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der 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gr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y benchmark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00240" y="197460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ification masks important 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1676520" y="2589120"/>
            <a:ext cx="6438960" cy="2114640"/>
          </a:xfrm>
          <a:prstGeom prst="rect">
            <a:avLst/>
          </a:prstGeom>
          <a:ln w="0">
            <a:noFill/>
          </a:ln>
        </p:spPr>
      </p:pic>
      <p:sp>
        <p:nvSpPr>
          <p:cNvPr id="105" name="Content Placeholder 2"/>
          <p:cNvSpPr/>
          <p:nvPr/>
        </p:nvSpPr>
        <p:spPr>
          <a:xfrm>
            <a:off x="1200240" y="6019920"/>
            <a:ext cx="7696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is for peer-to-peer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1981080" y="3325680"/>
            <a:ext cx="6438960" cy="1924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2286000" y="4094280"/>
            <a:ext cx="643896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Stratifica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01680" y="1983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al component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1219320" y="25909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uste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6858000" cy="382572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7" descr=""/>
          <p:cNvPicPr/>
          <p:nvPr/>
        </p:nvPicPr>
        <p:blipFill>
          <a:blip r:embed="rId2"/>
          <a:stretch/>
        </p:blipFill>
        <p:spPr>
          <a:xfrm>
            <a:off x="2771640" y="3263760"/>
            <a:ext cx="46674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Cluster characteristic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2209680"/>
          <a:ext cx="8229600" cy="3475080"/>
        </p:xfrm>
        <a:graphic>
          <a:graphicData uri="http://schemas.openxmlformats.org/drawingml/2006/table">
            <a:tbl>
              <a:tblPr/>
              <a:tblGrid>
                <a:gridCol w="1752480"/>
                <a:gridCol w="1295640"/>
                <a:gridCol w="1295280"/>
                <a:gridCol w="1295280"/>
                <a:gridCol w="1295640"/>
                <a:gridCol w="129528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t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d area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vestock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rge : small rumin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y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te househo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stock speci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d househo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p speci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2T13:08:48Z</dcterms:modified>
  <cp:revision>100</cp:revision>
  <dc:subject/>
  <dc:title>PowerPoint Presentation</dc:title>
</cp:coreProperties>
</file>