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B21-7C35-4E93-945F-A1A7B212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5262-45C1-4BAF-A87D-4356F0A7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D7B8-FDED-4A03-9C3F-27B5285BA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61EB-83FF-41A0-8798-025F252B0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B493-3B96-402E-9D84-167BEA06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25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5720" y="19810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2193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25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5720" y="413064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C2A-D8C2-4ECE-B8D6-2B95E7FA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DE3-AF75-4CC8-BAF5-F3596093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BC2C-ED4C-48D9-8F01-013B3C82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7652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30C-1EAD-44C8-9A0F-D455B315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64FE-5967-4314-8133-1B226E9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68000" y="413064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DBA-59B4-4D3E-9813-B5FC7AF1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68000" y="19810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413064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FFBF-73F7-4D17-917B-068CE680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08EA9-9694-4C1A-BA6E-B96CEE45C30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A2CF7-9ED4-4E75-BC7B-CA00B2D7E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1600200" cy="685800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48E56-BD14-44D5-9C4D-36EC94BAC18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68A2-75D3-43A2-872E-CE5DA01A9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npo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Optima"/>
              </a:rPr>
              <a:t> </a:t>
            </a:r>
            <a:r>
              <a:rPr b="1" lang="en-GB" sz="4000" spc="-1" strike="noStrike">
                <a:solidFill>
                  <a:srgbClr val="660033"/>
                </a:solidFill>
                <a:latin typeface="Arial"/>
              </a:rPr>
              <a:t>Community Stratification using Livelihood Indicators</a:t>
            </a:r>
            <a:endParaRPr b="0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3213000"/>
            <a:ext cx="6513480" cy="24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676520" y="60976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Optima"/>
              </a:rPr>
              <a:t>Peter Thorne and Amare Haileslas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at next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2193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ine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eat at other 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st (intervention target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“combine” metho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ory “follow-up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n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ex an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mpact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an we develop participatory tools for benchmar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7553160" cy="50198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Familiarisation of key informant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uss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, N, S, H,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lai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usehold assess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1616040" y="1981080"/>
            <a:ext cx="7543800" cy="487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Key informant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ducted on a group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 pilot site groups formed from existing sub-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ank indicators within capital asset 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Review indicator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828800" y="1676520"/>
          <a:ext cx="7162920" cy="4587840"/>
        </p:xfrm>
        <a:graphic>
          <a:graphicData uri="http://schemas.openxmlformats.org/drawingml/2006/table">
            <a:tbl>
              <a:tblPr/>
              <a:tblGrid>
                <a:gridCol w="1598760"/>
                <a:gridCol w="1197000"/>
                <a:gridCol w="1679400"/>
                <a:gridCol w="2687760"/>
              </a:tblGrid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rti Lam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ulu Neg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efa Wolig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bin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 Strong family 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knowledge /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gree of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Confid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Educ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Age (dominant age grou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confidence in own 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Heal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 Gender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portion of productive family me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Age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 Motiv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cess to training and new technolog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v-SE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Special skills (e.g. carpente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 Age m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special skills (e.g. thatching / carpentery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5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 Exper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session of farming knowledge and ski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43488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 Gender mix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evel of experience acquir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Health status of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212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mily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21400"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7920" rIns="7920" tIns="792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 of males to females in fami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920" marR="79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1600200" y="1693800"/>
            <a:ext cx="7543800" cy="5164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Household interview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21932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50 household heads / 49 consolidated indic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cators scored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rrent and futur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0 – 45 minutes per househ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Benchmarking analysi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28600" y="1905120"/>
          <a:ext cx="7924680" cy="1798560"/>
        </p:xfrm>
        <a:graphic>
          <a:graphicData uri="http://schemas.openxmlformats.org/drawingml/2006/table">
            <a:tbl>
              <a:tblPr/>
              <a:tblGrid>
                <a:gridCol w="1822320"/>
                <a:gridCol w="1525680"/>
                <a:gridCol w="1525680"/>
                <a:gridCol w="1525680"/>
                <a:gridCol w="1525320"/>
              </a:tblGrid>
              <a:tr h="68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tur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for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cess to graz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d avai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roved bree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838080" y="4267080"/>
          <a:ext cx="8077320" cy="2027520"/>
        </p:xfrm>
        <a:graphic>
          <a:graphicData uri="http://schemas.openxmlformats.org/drawingml/2006/table">
            <a:tbl>
              <a:tblPr/>
              <a:tblGrid>
                <a:gridCol w="1752840"/>
                <a:gridCol w="1581120"/>
                <a:gridCol w="1581120"/>
                <a:gridCol w="1581120"/>
                <a:gridCol w="158112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cial c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ared knowledge / ski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of community lead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atus in 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der me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ddle gr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ttom 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.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Why benchmark?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00240" y="1974600"/>
            <a:ext cx="7696080" cy="6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atification masks important var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1676520" y="2589120"/>
            <a:ext cx="6438960" cy="2114640"/>
          </a:xfrm>
          <a:prstGeom prst="rect">
            <a:avLst/>
          </a:prstGeom>
          <a:ln w="0">
            <a:noFill/>
          </a:ln>
        </p:spPr>
      </p:pic>
      <p:sp>
        <p:nvSpPr>
          <p:cNvPr id="105" name="Content Placeholder 2"/>
          <p:cNvSpPr/>
          <p:nvPr/>
        </p:nvSpPr>
        <p:spPr>
          <a:xfrm>
            <a:off x="1200240" y="6019920"/>
            <a:ext cx="769608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sis for peer-to-peer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2"/>
          <a:stretch/>
        </p:blipFill>
        <p:spPr>
          <a:xfrm>
            <a:off x="1981080" y="3325680"/>
            <a:ext cx="6438960" cy="1924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3"/>
          <a:stretch/>
        </p:blipFill>
        <p:spPr>
          <a:xfrm>
            <a:off x="2286000" y="4094280"/>
            <a:ext cx="643896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aeaea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Stratification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01680" y="198396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al component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1219320" y="2590920"/>
            <a:ext cx="7315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uster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6858000" cy="382572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7" descr=""/>
          <p:cNvPicPr/>
          <p:nvPr/>
        </p:nvPicPr>
        <p:blipFill>
          <a:blip r:embed="rId2"/>
          <a:stretch/>
        </p:blipFill>
        <p:spPr>
          <a:xfrm>
            <a:off x="2771640" y="3263760"/>
            <a:ext cx="46674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990033"/>
                </a:solidFill>
                <a:latin typeface="Arial"/>
              </a:rPr>
              <a:t>Cluster characteristics</a:t>
            </a:r>
            <a:endParaRPr b="0" lang="en-US" sz="4400" spc="-1" strike="noStrike">
              <a:solidFill>
                <a:srgbClr val="990033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2209680"/>
          <a:ext cx="8229600" cy="3475080"/>
        </p:xfrm>
        <a:graphic>
          <a:graphicData uri="http://schemas.openxmlformats.org/drawingml/2006/table">
            <a:tbl>
              <a:tblPr/>
              <a:tblGrid>
                <a:gridCol w="1752480"/>
                <a:gridCol w="1295640"/>
                <a:gridCol w="1295280"/>
                <a:gridCol w="1295280"/>
                <a:gridCol w="1295640"/>
                <a:gridCol w="1295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t sc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d 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vestock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rge : small rumin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mily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te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stock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d househol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p speciali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09:32:33Z</dcterms:created>
  <dc:creator>sat</dc:creator>
  <dc:description/>
  <dc:language>en-US</dc:language>
  <cp:lastModifiedBy>Thorne, Peter (ILRI)</cp:lastModifiedBy>
  <dcterms:modified xsi:type="dcterms:W3CDTF">2012-09-12T13:08:48Z</dcterms:modified>
  <cp:revision>100</cp:revision>
  <dc:subject/>
  <dc:title>PowerPoint Presentation</dc:title>
</cp:coreProperties>
</file>