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8171-392D-4BE1-A197-1CB99FD72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02C0-06D9-4968-AE4B-8094C381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3799-B781-4833-9EAB-9EAF3A594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C5FB-2865-4CC1-8805-E1E6C6B27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80EB-FE51-42BD-BDB6-6A07154B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FA89-3D03-4981-9E9F-EBB78AF7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659C-5436-4C71-B826-85EBF5BA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4079-AA63-46E9-A28D-E1FAA894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DBF0-C833-4B6A-99D1-89B104F9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54E7-A19E-4A4D-BE15-34CF61F6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DB59-53FA-430F-8E49-919202F6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9AA4-AFC2-4CAD-BDEF-B3055C75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CA87-AAB3-4659-AAD5-CD78A7204762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Box 10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2" descr="\\nas\DATA\MMU\1Publishing_service\50YEARS_Anniversary\50YEARS_logos\IITA TAA White Big.png"/>
          <p:cNvPicPr/>
          <p:nvPr/>
        </p:nvPicPr>
        <p:blipFill>
          <a:blip r:embed="rId2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itle 1"/>
          <p:cNvSpPr/>
          <p:nvPr/>
        </p:nvSpPr>
        <p:spPr>
          <a:xfrm>
            <a:off x="1600200" y="33480"/>
            <a:ext cx="7391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ontent Placeholder 2"/>
          <p:cNvSpPr/>
          <p:nvPr/>
        </p:nvSpPr>
        <p:spPr>
          <a:xfrm>
            <a:off x="152280" y="642960"/>
            <a:ext cx="8839440" cy="59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INTEGRATING NUTRITION INTO VALUE CHAINS B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nual Review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f0"/>
                </a:solidFill>
                <a:latin typeface="Calibri"/>
              </a:rPr>
              <a:t>Agriculture Producti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9 June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7920"/>
            <a:ext cx="7010640" cy="44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B-ACTIVITY2:1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28600" y="533520"/>
          <a:ext cx="8763120" cy="6124320"/>
        </p:xfrm>
        <a:graphic>
          <a:graphicData uri="http://schemas.openxmlformats.org/drawingml/2006/table">
            <a:tbl>
              <a:tblPr/>
              <a:tblGrid>
                <a:gridCol w="5867280"/>
                <a:gridCol w="2895840"/>
              </a:tblGrid>
              <a:tr h="1107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1 Enabling farmers’ access to improved inputs (seed and inoculum) and servi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 DADO/Input Suppliers/IITA/AgrD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977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1.1 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ification and screening of existing farmer group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77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1.2 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entation sessions for farmer groups on the pro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 / DADO/INVC BA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77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1.3 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ermining quantities of seed of different crops/varieties requi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 DADO/INVC 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77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1.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engthening Farmer Organiz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107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1.4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rcing and Distribution of seed (agreeing on the payment modaliti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6915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B ACTIVITY 2:4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52280" y="685800"/>
          <a:ext cx="8363160" cy="5159520"/>
        </p:xfrm>
        <a:graphic>
          <a:graphicData uri="http://schemas.openxmlformats.org/drawingml/2006/table">
            <a:tbl>
              <a:tblPr/>
              <a:tblGrid>
                <a:gridCol w="6172200"/>
                <a:gridCol w="2190960"/>
              </a:tblGrid>
              <a:tr h="863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 2.2.1  Irrigation and water management technologies and practi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289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2.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cation of irrigable cit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290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2.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sitization meetings and identification of farmer grou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16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2.3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 staff and farmers on optional irrigation technologies and water manag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560" y="23760"/>
            <a:ext cx="7543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SUB ACTIVITY 2:3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28600" y="685800"/>
          <a:ext cx="8286840" cy="5867280"/>
        </p:xfrm>
        <a:graphic>
          <a:graphicData uri="http://schemas.openxmlformats.org/drawingml/2006/table">
            <a:tbl>
              <a:tblPr/>
              <a:tblGrid>
                <a:gridCol w="5791320"/>
                <a:gridCol w="2495520"/>
              </a:tblGrid>
              <a:tr h="1676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 2.3. Post harvest management (Utilization and storage loss reduc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469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3.1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 of field staff and lead farmers on food processing and utiliz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/AgriD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471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3.2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 on optional post harvest handling techniques and minimum standa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/AgriD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2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3.3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lementation and monitoring of optional post harvest handling techniques and minimum standa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/AgriD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6991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CTIVITY 2:2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28600" y="533520"/>
          <a:ext cx="8763120" cy="5970600"/>
        </p:xfrm>
        <a:graphic>
          <a:graphicData uri="http://schemas.openxmlformats.org/drawingml/2006/table">
            <a:tbl>
              <a:tblPr/>
              <a:tblGrid>
                <a:gridCol w="6048360"/>
                <a:gridCol w="2714760"/>
              </a:tblGrid>
              <a:tr h="862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 2.4.  Provision of  extension services to farmer group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4.1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 farmers on Pre-planting activities and monitoring implementation of these activiti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SST/DADO/INVC/IPs/AgriD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4.2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Demonstration of improved technologies (including identification of plots to mount dem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SST/DADO/INVC/IPs/AgriD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22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4.3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 farmers on GAP (agronomic practices, postharvest practices, utilization, processing and marketing with emphasis on aflatoxin control and reducing storage loss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SST/DADO/INVC/IPs/AgriD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4.4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ing, technology uptake, germination, crop development and incidences of pests and dise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/AgriD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82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4.5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ield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4.6 Harvest and postharvest hand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138240"/>
            <a:ext cx="788688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 rot="1893600">
            <a:off x="-252000" y="2801160"/>
            <a:ext cx="92311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ANK YOU FOR LISTERN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5T17:20:52Z</dcterms:created>
  <dc:creator>ajuba</dc:creator>
  <dc:description/>
  <dc:language>en-US</dc:language>
  <cp:lastModifiedBy>Chisanga, Genschers (IITA)</cp:lastModifiedBy>
  <cp:lastPrinted>2017-06-28T09:09:24Z</cp:lastPrinted>
  <dcterms:modified xsi:type="dcterms:W3CDTF">2017-06-30T07:16:03Z</dcterms:modified>
  <cp:revision>196</cp:revision>
  <dc:subject/>
  <dc:title>Slide 1</dc:title>
</cp:coreProperties>
</file>