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C847-5944-4141-8D30-FF6AA1AF4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850E-34E5-4E4B-814D-69399CCA1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2A95-5143-4CA4-89A9-BA31AD4FD9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D0A-414E-4908-A551-9EC9197EC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960-A925-4886-9FA3-90A687C0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8AC-DD4E-4CD8-B732-1A08AE6DE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2381-08E6-4FC0-A3E4-37F45450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9AD4-27DB-4313-8A33-91B94101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4D61-46DA-4623-B4FA-98744E59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2D3B-74BE-463C-89EB-94FD9941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86B-E81F-4D01-8207-6BE65F2F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F723-2D02-4C42-ACA0-B34EECE8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D7C-5422-494B-A416-03E6D0C4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6D35-A135-4E82-B305-245332EA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061A-DDFA-4124-ABFB-6FEA4F7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0FFB-5E5E-41E2-872E-1C4854785AF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ubtitle 2" descr=""/>
          <p:cNvPicPr/>
          <p:nvPr/>
        </p:nvPicPr>
        <p:blipFill>
          <a:blip r:embed="rId1"/>
          <a:stretch/>
        </p:blipFill>
        <p:spPr>
          <a:xfrm>
            <a:off x="1749600" y="3389400"/>
            <a:ext cx="5419440" cy="1463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4920" y="268200"/>
            <a:ext cx="86104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AFRICA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search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ustainabl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ntensification for the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xt </a:t>
            </a:r>
            <a:r>
              <a:rPr b="1" lang="en-US" sz="1800" spc="-1" strike="noStrike">
                <a:solidFill>
                  <a:srgbClr val="77933c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77933c"/>
                </a:solidFill>
                <a:latin typeface="Arial"/>
              </a:rPr>
              <a:t>ener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Tamale, Ghana, 9-12 Jan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51" name="Rectangle 8" descr=""/>
          <p:cNvPicPr/>
          <p:nvPr/>
        </p:nvPicPr>
        <p:blipFill>
          <a:blip r:embed="rId3"/>
          <a:stretch/>
        </p:blipFill>
        <p:spPr>
          <a:xfrm>
            <a:off x="378000" y="1805040"/>
            <a:ext cx="8619840" cy="2077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line, current activities, projected imp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 of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rgeting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act Evaluation and M&amp;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6"/>
          <p:cNvSpPr/>
          <p:nvPr/>
        </p:nvSpPr>
        <p:spPr>
          <a:xfrm>
            <a:off x="444600" y="501156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0"/>
          <p:cNvSpPr/>
          <p:nvPr/>
        </p:nvSpPr>
        <p:spPr>
          <a:xfrm>
            <a:off x="1171440" y="436680"/>
            <a:ext cx="66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ear 1 Time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Zapf Dingbats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4"/>
          <p:cNvSpPr/>
          <p:nvPr/>
        </p:nvSpPr>
        <p:spPr>
          <a:xfrm>
            <a:off x="214200" y="1839960"/>
            <a:ext cx="22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69" name="TextBox 4"/>
          <p:cNvSpPr/>
          <p:nvPr/>
        </p:nvSpPr>
        <p:spPr>
          <a:xfrm>
            <a:off x="1200600" y="2697120"/>
            <a:ext cx="253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ity -&gt; Indicator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3762720" y="3662280"/>
            <a:ext cx="182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4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5" name="Straight Arrow Connector 30"/>
          <p:cNvCxnSpPr/>
          <p:nvPr/>
        </p:nvCxnSpPr>
        <p:spPr>
          <a:xfrm>
            <a:off x="3563640" y="4071600"/>
            <a:ext cx="271836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6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77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  <p:sp>
        <p:nvSpPr>
          <p:cNvPr id="78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28440">
            <a:solidFill>
              <a:srgbClr val="b6dcdf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43164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&amp;E Immediate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11280" y="1419120"/>
            <a:ext cx="8137440" cy="37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of baselin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farming systems (ref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f sites and research activities to help design/create Component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ation of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frame activities/indicators -&gt; M&amp;E final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IFPRI vs Implementation partner indicator/survey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logue with USAID FtF M&amp;E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 M&amp;E collaboration arrangements wi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FPRI/SARI-Gha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ICRISAT/IER-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CRS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380880" y="2146320"/>
            <a:ext cx="1905120" cy="14288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ondary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IR, SARI, Stats Offices, DHS, IFPRI, WB,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380880" y="3879720"/>
            <a:ext cx="1876680" cy="22860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 Project Dat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Monitoring (Indicator)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Additional evalu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e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276720" y="2736720"/>
            <a:ext cx="2590560" cy="224820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ion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S/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op(-Livestock)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utrition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conometric mod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Elbow Connector 9"/>
          <p:cNvCxnSpPr>
            <a:stCxn id="83" idx="3"/>
            <a:endCxn id="84" idx="1"/>
          </p:cNvCxnSpPr>
          <p:nvPr/>
        </p:nvCxnSpPr>
        <p:spPr>
          <a:xfrm flipV="1">
            <a:off x="2257200" y="3860640"/>
            <a:ext cx="1019880" cy="1162440"/>
          </a:xfrm>
          <a:prstGeom prst="bentConnector3">
            <a:avLst>
              <a:gd name="adj1" fmla="val 50000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86" name="Rectangle 10"/>
          <p:cNvSpPr/>
          <p:nvPr/>
        </p:nvSpPr>
        <p:spPr>
          <a:xfrm>
            <a:off x="6499080" y="2146320"/>
            <a:ext cx="2057400" cy="3486240"/>
          </a:xfrm>
          <a:prstGeom prst="rect">
            <a:avLst/>
          </a:prstGeom>
          <a:solidFill>
            <a:srgbClr val="222268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tential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nual projections of scaled up/out potential project impacts over next 30-50 years by region, country, SS z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527760" y="333360"/>
            <a:ext cx="8448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jections of Potential Project Impac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t Scale and Over Ti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6"/>
          <p:cNvCxnSpPr/>
          <p:nvPr/>
        </p:nvCxnSpPr>
        <p:spPr>
          <a:xfrm>
            <a:off x="5867280" y="3870000"/>
            <a:ext cx="6105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89" name="Elbow Connector 2"/>
          <p:cNvCxnSpPr>
            <a:stCxn id="82" idx="3"/>
            <a:endCxn id="84" idx="1"/>
          </p:cNvCxnSpPr>
          <p:nvPr/>
        </p:nvCxnSpPr>
        <p:spPr>
          <a:xfrm>
            <a:off x="2286000" y="2860560"/>
            <a:ext cx="991440" cy="1000800"/>
          </a:xfrm>
          <a:prstGeom prst="bentConnector3">
            <a:avLst>
              <a:gd name="adj1" fmla="val 49981"/>
            </a:avLst>
          </a:prstGeom>
          <a:ln w="381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7:43:59Z</dcterms:created>
  <dc:creator>Luca Pellerano</dc:creator>
  <dc:description/>
  <dc:language>en-US</dc:language>
  <cp:lastModifiedBy>PBallantyne</cp:lastModifiedBy>
  <dcterms:modified xsi:type="dcterms:W3CDTF">2012-01-17T05:56:30Z</dcterms:modified>
  <cp:revision>50</cp:revision>
  <dc:subject/>
  <dc:title>Slide 1</dc:title>
</cp:coreProperties>
</file>