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262C-8DE2-478A-931B-607FC5885A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C0A2-59BA-4D56-BE66-48C2BDE29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4976-6DB3-49B2-88DE-61F3D1550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514-D32C-4A90-A61D-A8E4E086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033-5C76-46C3-9C78-8D743BA9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9AC-B408-4BC7-8D76-BDBED32D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31F-9948-49F7-8B38-F02B0CDB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049-ADE4-4844-8CFB-BCC3C693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FFF-F966-4BB9-B72A-27725225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169-19AC-4873-90A3-921488AF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3EC-05DE-46D8-9AA2-D5F5A99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905-C5F6-48A5-8AC6-76545A62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B65-816D-414C-9F48-1D698A16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227-E807-45D5-90C8-87F99FD9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919-D7FA-4FF5-9ABE-B32F2C94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4359-DAD3-4563-B95F-912D16B021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749600" y="3389400"/>
            <a:ext cx="5419440" cy="146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920" y="26820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AFRICA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search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ustainabl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tensification for th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xt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ne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Tamale, Ghana, 9-12 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8" descr=""/>
          <p:cNvPicPr/>
          <p:nvPr/>
        </p:nvPicPr>
        <p:blipFill>
          <a:blip r:embed="rId3"/>
          <a:stretch/>
        </p:blipFill>
        <p:spPr>
          <a:xfrm>
            <a:off x="378000" y="1805040"/>
            <a:ext cx="8619840" cy="207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line, current activities, projecte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 of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ing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act Evaluation and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6"/>
          <p:cNvSpPr/>
          <p:nvPr/>
        </p:nvSpPr>
        <p:spPr>
          <a:xfrm>
            <a:off x="444600" y="501156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1171440" y="436680"/>
            <a:ext cx="66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ar 1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14200" y="183996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69" name="TextBox 4"/>
          <p:cNvSpPr/>
          <p:nvPr/>
        </p:nvSpPr>
        <p:spPr>
          <a:xfrm>
            <a:off x="1200600" y="2697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-&gt; Indicato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762720" y="3662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3563640" y="4071600"/>
            <a:ext cx="2718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78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31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&amp;E Immediat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11280" y="1419120"/>
            <a:ext cx="813744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of baseli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farming systems (ref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sites and research activities to help design/create Component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ation of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frame activities/indicators -&gt; M&amp;E fina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IFPRI vs Implementation partner indicator/surve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 with USAID FtF M&amp;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M&amp;E collaboration arrangements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PRI/SARI-G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CRISAT/IER-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80880" y="2146320"/>
            <a:ext cx="1905120" cy="14288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ary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IR, SARI, Stats Offices, DHS, IFPRI, WB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0880" y="3879720"/>
            <a:ext cx="1876680" cy="22860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 Project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Monitoring (Indicator)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Additional evalu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276720" y="2736720"/>
            <a:ext cx="2590560" cy="22482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S/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(-Livestock)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etr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Elbow Connector 9"/>
          <p:cNvCxnSpPr>
            <a:stCxn id="83" idx="3"/>
            <a:endCxn id="84" idx="1"/>
          </p:cNvCxnSpPr>
          <p:nvPr/>
        </p:nvCxnSpPr>
        <p:spPr>
          <a:xfrm flipV="1">
            <a:off x="2257200" y="3860640"/>
            <a:ext cx="1019880" cy="1162440"/>
          </a:xfrm>
          <a:prstGeom prst="bentConnector3">
            <a:avLst>
              <a:gd name="adj1" fmla="val 50000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86" name="Rectangle 10"/>
          <p:cNvSpPr/>
          <p:nvPr/>
        </p:nvSpPr>
        <p:spPr>
          <a:xfrm>
            <a:off x="6499080" y="2146320"/>
            <a:ext cx="2057400" cy="34862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ntial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ual projections of scaled up/out potential project impacts over next 30-50 years by region, country, SS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27760" y="333360"/>
            <a:ext cx="844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ions of Potential Project Impa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 Scale and Over Ti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6"/>
          <p:cNvCxnSpPr/>
          <p:nvPr/>
        </p:nvCxnSpPr>
        <p:spPr>
          <a:xfrm>
            <a:off x="5867280" y="3870000"/>
            <a:ext cx="6105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9" name="Elbow Connector 2"/>
          <p:cNvCxnSpPr>
            <a:stCxn id="82" idx="3"/>
            <a:endCxn id="84" idx="1"/>
          </p:cNvCxnSpPr>
          <p:nvPr/>
        </p:nvCxnSpPr>
        <p:spPr>
          <a:xfrm>
            <a:off x="2286000" y="2860560"/>
            <a:ext cx="991440" cy="1000800"/>
          </a:xfrm>
          <a:prstGeom prst="bentConnector3">
            <a:avLst>
              <a:gd name="adj1" fmla="val 49981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7:43:59Z</dcterms:created>
  <dc:creator>Luca Pellerano</dc:creator>
  <dc:description/>
  <dc:language>en-US</dc:language>
  <cp:lastModifiedBy>PBallantyne</cp:lastModifiedBy>
  <dcterms:modified xsi:type="dcterms:W3CDTF">2012-01-17T05:56:30Z</dcterms:modified>
  <cp:revision>50</cp:revision>
  <dc:subject/>
  <dc:title>Slide 1</dc:title>
</cp:coreProperties>
</file>