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D344-BF43-4E00-9D74-7B78272E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4E26-55E8-497C-B5C7-4C7A92DB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567B-35F2-4B29-87E8-D24B94280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A43F-43A0-4160-A92B-9D3C414A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1080-58CD-4F97-B634-842D9BA5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4CF5-4BE7-4FC9-B74F-ACEB2521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E03F-92CB-490A-8373-7584E77F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958B-8F85-43AC-9612-CD6AD587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5AC5-EAF4-4C7F-A408-AD3DF13F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DA47-B2F5-4A0B-BC8F-C504D5CF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6B44-07F0-44DA-962C-845A7304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943E-5502-4595-9ED1-A30204FB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14B6-E8C9-4D2F-A7F6-A9A57E2D62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1278000" y="722160"/>
            <a:ext cx="6494400" cy="1640160"/>
          </a:xfrm>
          <a:prstGeom prst="rect">
            <a:avLst/>
          </a:prstGeom>
          <a:solidFill>
            <a:srgbClr val="416f4c"/>
          </a:solidFill>
          <a:ln w="38160">
            <a:solidFill>
              <a:srgbClr val="f4a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9000" bIns="9000" anchor="ctr" anchorCtr="1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825720"/>
                <a:tab algn="l" pos="76518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ICRAF’S  AFRICA RISING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1"/>
          <a:stretch/>
        </p:blipFill>
        <p:spPr>
          <a:xfrm>
            <a:off x="7800840" y="942840"/>
            <a:ext cx="1111320" cy="11829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Subtitle 2"/>
          <p:cNvGrpSpPr/>
          <p:nvPr/>
        </p:nvGrpSpPr>
        <p:grpSpPr>
          <a:xfrm>
            <a:off x="1871640" y="2919240"/>
            <a:ext cx="6010200" cy="1781280"/>
            <a:chOff x="1871640" y="2919240"/>
            <a:chExt cx="6010200" cy="1781280"/>
          </a:xfrm>
        </p:grpSpPr>
        <p:pic>
          <p:nvPicPr>
            <p:cNvPr id="55" name="Subtitle 2" descr=""/>
            <p:cNvPicPr/>
            <p:nvPr/>
          </p:nvPicPr>
          <p:blipFill>
            <a:blip r:embed="rId2"/>
            <a:stretch/>
          </p:blipFill>
          <p:spPr>
            <a:xfrm>
              <a:off x="1871640" y="2919240"/>
              <a:ext cx="6010200" cy="17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1981080" y="3029040"/>
              <a:ext cx="5791320" cy="15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Calibri"/>
                </a:rPr>
                <a:t>Njoloma J. , Mulwafu A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Calibri"/>
                </a:rPr>
                <a:t>ICRAF Southern Africa Programm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Calibri"/>
                </a:rPr>
                <a:t>MALAWI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"/>
          <p:cNvSpPr/>
          <p:nvPr/>
        </p:nvSpPr>
        <p:spPr>
          <a:xfrm>
            <a:off x="277920" y="5430960"/>
            <a:ext cx="88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frica Rising  Planning  and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4 – 16 July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3"/>
          <a:stretch/>
        </p:blipFill>
        <p:spPr>
          <a:xfrm>
            <a:off x="125280" y="866880"/>
            <a:ext cx="114804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>
            <a:off x="7800840" y="942840"/>
            <a:ext cx="1111320" cy="11829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"/>
          <p:cNvSpPr/>
          <p:nvPr/>
        </p:nvSpPr>
        <p:spPr>
          <a:xfrm>
            <a:off x="277920" y="5430960"/>
            <a:ext cx="88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frica Rising  Planning  and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4 – 16 July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"/>
          <p:cNvPicPr/>
          <p:nvPr/>
        </p:nvPicPr>
        <p:blipFill>
          <a:blip r:embed="rId2"/>
          <a:stretch/>
        </p:blipFill>
        <p:spPr>
          <a:xfrm>
            <a:off x="125280" y="866880"/>
            <a:ext cx="1148040" cy="13348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1"/>
          <p:cNvSpPr/>
          <p:nvPr/>
        </p:nvSpPr>
        <p:spPr>
          <a:xfrm>
            <a:off x="3048120" y="2125800"/>
            <a:ext cx="31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tle 1"/>
          <p:cNvSpPr/>
          <p:nvPr/>
        </p:nvSpPr>
        <p:spPr>
          <a:xfrm>
            <a:off x="1065240" y="782640"/>
            <a:ext cx="6324480" cy="655560"/>
          </a:xfrm>
          <a:prstGeom prst="rect">
            <a:avLst/>
          </a:prstGeom>
          <a:noFill/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6f4c"/>
                </a:solidFill>
                <a:latin typeface="Calibri"/>
                <a:ea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ontent Placeholder 2"/>
          <p:cNvSpPr/>
          <p:nvPr/>
        </p:nvSpPr>
        <p:spPr>
          <a:xfrm>
            <a:off x="457200" y="1600200"/>
            <a:ext cx="746748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trod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echnology flag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echnologies potential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enefici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utur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cknowled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5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1336680" y="365040"/>
            <a:ext cx="6095880" cy="703440"/>
          </a:xfrm>
          <a:prstGeom prst="rect">
            <a:avLst/>
          </a:prstGeom>
          <a:solidFill>
            <a:srgbClr val="f4aae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5"/>
          <p:cNvSpPr/>
          <p:nvPr/>
        </p:nvSpPr>
        <p:spPr>
          <a:xfrm>
            <a:off x="1143000" y="1371600"/>
            <a:ext cx="699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entral Malaw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edza in Linthipe E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Elevation of about 1200 mas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nnual rainfall is 700-110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336680" y="365040"/>
            <a:ext cx="6095880" cy="703440"/>
          </a:xfrm>
          <a:prstGeom prst="rect">
            <a:avLst/>
          </a:prstGeom>
          <a:solidFill>
            <a:srgbClr val="f4aae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chnology flag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143000" y="1371600"/>
            <a:ext cx="6997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aize-Grain Legume-Tephrosia Intercrop (year one of tr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</a:rPr>
              <a:t>Various comb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Ma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Grain legu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Dwarf and climbing b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Pigeon p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Tephro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2. Livestock integration (year one of fee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eaf fodder feeding in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Dairy c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07732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165560" cy="3124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4191120" y="2705040"/>
            <a:ext cx="441936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1336680" y="365040"/>
            <a:ext cx="7350120" cy="703440"/>
          </a:xfrm>
          <a:prstGeom prst="rect">
            <a:avLst/>
          </a:prstGeom>
          <a:solidFill>
            <a:srgbClr val="f4aae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chnologies potential attribu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143000" y="1371600"/>
            <a:ext cx="7543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aize-Grain Legume-Tephrosia Interc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Diversified farm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Improved maize y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Improved household nutrition and in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Improved soil fer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2. Livestock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Increased milk y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Improved household nutrition and in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Improved soil fer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1336680" y="365040"/>
            <a:ext cx="7350120" cy="703440"/>
          </a:xfrm>
          <a:prstGeom prst="rect">
            <a:avLst/>
          </a:prstGeom>
          <a:solidFill>
            <a:srgbClr val="f4aae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enefici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1143000" y="1371600"/>
            <a:ext cx="754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aize-Grain Legume-Tephrosia Interc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22 Smallholder far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(19 females and 3 m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2. Livestock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90 smallholder far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(38 males and 52 fem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1336680" y="365040"/>
            <a:ext cx="7350120" cy="703440"/>
          </a:xfrm>
          <a:prstGeom prst="rect">
            <a:avLst/>
          </a:prstGeom>
          <a:solidFill>
            <a:srgbClr val="f4aae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uture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1143000" y="137160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aize-Grain Legume-Tephrosia Interc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Train farmers on biomass in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Support farmers with inputs in year 2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data collection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2. Livestock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Train farmers on fodder utiliza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support farmers with inpu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data collection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5T08:20:16Z</dcterms:created>
  <dc:creator>Bruce Sosola</dc:creator>
  <dc:description/>
  <dc:language>en-US</dc:language>
  <cp:lastModifiedBy>JNjoloma</cp:lastModifiedBy>
  <dcterms:modified xsi:type="dcterms:W3CDTF">2015-07-14T08:58:28Z</dcterms:modified>
  <cp:revision>79</cp:revision>
  <dc:subject/>
  <dc:title>ICRAF Contribution to Conservation Agriculture Development in Malawi</dc:title>
</cp:coreProperties>
</file>