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5212-F069-4AE9-BB34-63B37702F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5996-58C7-4C1C-884C-0AE803D6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307E-E19D-4D62-988A-872CC181F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854-6A93-4431-8321-FC6CBE11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1FA7-56AA-4D3E-9B7F-056BE57D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94AB-F03D-4834-B1AD-DD52CE7FD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CB0-021B-490D-AF64-BC4FC293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83D3-D1D9-4E37-B88C-CB6A2131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C92D-D3C7-4B09-816D-3FD70C5A0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6B77-376F-403C-B083-89BF1931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FFCD-DC1B-487B-B78D-07A6A309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F96-0717-42BD-A3D3-49A0237C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12D3-7B86-4C6A-BD60-A4E85152D3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1278000" y="722160"/>
            <a:ext cx="6494400" cy="1640160"/>
          </a:xfrm>
          <a:prstGeom prst="rect">
            <a:avLst/>
          </a:prstGeom>
          <a:solidFill>
            <a:srgbClr val="416f4c"/>
          </a:solidFill>
          <a:ln w="38160">
            <a:solidFill>
              <a:srgbClr val="f4aa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7640" rIns="17640" tIns="9000" bIns="9000" anchor="ctr" anchorCtr="1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825720"/>
                <a:tab algn="l" pos="76518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  <a:ea typeface="MS PGothic"/>
              </a:rPr>
              <a:t>ICRAF’S  AFRICA RISING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Subtitle 2"/>
          <p:cNvGrpSpPr/>
          <p:nvPr/>
        </p:nvGrpSpPr>
        <p:grpSpPr>
          <a:xfrm>
            <a:off x="1871640" y="2919240"/>
            <a:ext cx="6010200" cy="1781280"/>
            <a:chOff x="1871640" y="2919240"/>
            <a:chExt cx="6010200" cy="1781280"/>
          </a:xfrm>
        </p:grpSpPr>
        <p:pic>
          <p:nvPicPr>
            <p:cNvPr id="55" name="Subtitle 2" descr=""/>
            <p:cNvPicPr/>
            <p:nvPr/>
          </p:nvPicPr>
          <p:blipFill>
            <a:blip r:embed="rId2"/>
            <a:stretch/>
          </p:blipFill>
          <p:spPr>
            <a:xfrm>
              <a:off x="1871640" y="2919240"/>
              <a:ext cx="601020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1981080" y="3029040"/>
              <a:ext cx="5791320" cy="15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Njoloma J. , Mulwafu A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ICRAF Southern Africa Programm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MALAW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"/>
          <p:cNvPicPr/>
          <p:nvPr/>
        </p:nvPicPr>
        <p:blipFill>
          <a:blip r:embed="rId3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7800840" y="942840"/>
            <a:ext cx="1111320" cy="11829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"/>
          <p:cNvSpPr/>
          <p:nvPr/>
        </p:nvSpPr>
        <p:spPr>
          <a:xfrm>
            <a:off x="277920" y="5430960"/>
            <a:ext cx="886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frica Rising  Planning  and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4 – 16 July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25280" y="866880"/>
            <a:ext cx="1148040" cy="1334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1"/>
          <p:cNvSpPr/>
          <p:nvPr/>
        </p:nvSpPr>
        <p:spPr>
          <a:xfrm>
            <a:off x="3048120" y="212580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"/>
              </a:rPr>
              <a:t>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itle 1"/>
          <p:cNvSpPr/>
          <p:nvPr/>
        </p:nvSpPr>
        <p:spPr>
          <a:xfrm>
            <a:off x="1065240" y="782640"/>
            <a:ext cx="6324480" cy="655560"/>
          </a:xfrm>
          <a:prstGeom prst="rect">
            <a:avLst/>
          </a:prstGeom>
          <a:noFill/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16f4c"/>
                </a:solidFill>
                <a:latin typeface="Calibri"/>
                <a:ea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tent Placeholder 2"/>
          <p:cNvSpPr/>
          <p:nvPr/>
        </p:nvSpPr>
        <p:spPr>
          <a:xfrm>
            <a:off x="457200" y="1600200"/>
            <a:ext cx="7467480" cy="46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y flag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Technologies potential attrib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Benefici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utur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50000"/>
              </a:lnSpc>
              <a:spcBef>
                <a:spcPts val="700"/>
              </a:spcBef>
              <a:buClr>
                <a:srgbClr val="fe8637"/>
              </a:buClr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65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6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1143000" y="1371600"/>
            <a:ext cx="6997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Central Malaw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dza in Linthipe E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Elevation of about 1200 masl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annual rainfall is 700-1100 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1336680" y="365040"/>
            <a:ext cx="609588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echnology flag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1143000" y="1371600"/>
            <a:ext cx="6997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 (year one of tr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</a:rPr>
              <a:t>Various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Ma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Grain legu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warf and climbing b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02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Pigeon p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ephro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 (year one of fee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Leaf fodder feeding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  <a:ea typeface="Arial"/>
              </a:rPr>
              <a:t>Dairy c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0773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165560" cy="3124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4191120" y="2705040"/>
            <a:ext cx="44193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echnologies potential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1143000" y="137160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iversified farm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maize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ncreased milk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household nutrition and in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Improved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nefici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1143000" y="1371600"/>
            <a:ext cx="7543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22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(19 females and 3 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90 smallholder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(38 males and 52 fem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75"/>
          <p:cNvSpPr/>
          <p:nvPr/>
        </p:nvSpPr>
        <p:spPr>
          <a:xfrm>
            <a:off x="3422520" y="372744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6"/>
          <p:cNvSpPr/>
          <p:nvPr/>
        </p:nvSpPr>
        <p:spPr>
          <a:xfrm>
            <a:off x="3422520" y="4141800"/>
            <a:ext cx="36720" cy="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6478560" y="4254480"/>
            <a:ext cx="36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640" rIns="1764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0" y="-10944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7"/>
          <p:cNvSpPr/>
          <p:nvPr/>
        </p:nvSpPr>
        <p:spPr>
          <a:xfrm>
            <a:off x="-3960" y="46440"/>
            <a:ext cx="214020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Cambria"/>
                <a:ea typeface="MS PGothic"/>
              </a:rPr>
              <a:t>       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	</a:t>
            </a: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                   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8"/>
          <p:cNvSpPr/>
          <p:nvPr/>
        </p:nvSpPr>
        <p:spPr>
          <a:xfrm>
            <a:off x="-1800" y="208080"/>
            <a:ext cx="76680" cy="6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Book Antiqua"/>
                <a:ea typeface="MS PGothic"/>
              </a:rPr>
              <a:t>  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9"/>
          <p:cNvSpPr/>
          <p:nvPr/>
        </p:nvSpPr>
        <p:spPr>
          <a:xfrm>
            <a:off x="0" y="293760"/>
            <a:ext cx="4428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1960" rIns="21960" tIns="10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066"/>
          <p:cNvSpPr/>
          <p:nvPr/>
        </p:nvSpPr>
        <p:spPr>
          <a:xfrm>
            <a:off x="2590920" y="6229440"/>
            <a:ext cx="2361960" cy="144360"/>
          </a:xfrm>
          <a:prstGeom prst="rect">
            <a:avLst/>
          </a:prstGeom>
          <a:solidFill>
            <a:srgbClr val="d24a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066"/>
          <p:cNvSpPr/>
          <p:nvPr/>
        </p:nvSpPr>
        <p:spPr>
          <a:xfrm>
            <a:off x="5181480" y="6229440"/>
            <a:ext cx="2057400" cy="1443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066"/>
          <p:cNvSpPr/>
          <p:nvPr/>
        </p:nvSpPr>
        <p:spPr>
          <a:xfrm>
            <a:off x="7467480" y="6229440"/>
            <a:ext cx="1346400" cy="14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960" rIns="2196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125280" y="6095880"/>
            <a:ext cx="246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worldagroforestry.or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1336680" y="365040"/>
            <a:ext cx="7350120" cy="703440"/>
          </a:xfrm>
          <a:prstGeom prst="rect">
            <a:avLst/>
          </a:prstGeom>
          <a:solidFill>
            <a:srgbClr val="f4aaeb"/>
          </a:soli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utur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4"/>
          <p:cNvSpPr/>
          <p:nvPr/>
        </p:nvSpPr>
        <p:spPr>
          <a:xfrm>
            <a:off x="1143000" y="1371600"/>
            <a:ext cx="7543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Maize-Grain Legume-Tephrosia Interc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Train farmers on biomass in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Support farmers with inputs in year 2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b05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2. Livestock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Train farmers on fodder utiliza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support farmers with inpu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 Rounded MT Bold"/>
                <a:ea typeface="Arial"/>
              </a:rPr>
              <a:t>data collection a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5T08:20:16Z</dcterms:created>
  <dc:creator>Bruce Sosola</dc:creator>
  <dc:description/>
  <dc:language>en-US</dc:language>
  <cp:lastModifiedBy>JNjoloma</cp:lastModifiedBy>
  <dcterms:modified xsi:type="dcterms:W3CDTF">2015-07-14T08:58:28Z</dcterms:modified>
  <cp:revision>79</cp:revision>
  <dc:subject/>
  <dc:title>ICRAF Contribution to Conservation Agriculture Development in Malawi</dc:title>
</cp:coreProperties>
</file>