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3146-5DA6-458D-82B1-E5BAB2F67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CAED-D81B-4D13-9945-CAEBFF46D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E1AE-F6D8-4F03-BB82-2FCF19821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9C5F-5950-4E73-808F-0FA825BE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B369-D6BE-49DF-A909-3D7EF959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408-DB44-4458-955D-55745D6B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762E-B6A3-4266-83D1-63BFAF82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F78-2D17-424C-9809-87C8F05B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308-192D-475A-8F68-7201CF3F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7824-745A-4096-848A-AC63A3EC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833E-2C55-448D-B4B4-DFE889C8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208E-568E-4AF3-8662-00B6BD93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489C-F4EE-4D5E-A1DF-72A7D78E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9C4-4A4C-430D-A002-6DF24A25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20E-F1E2-41FE-A245-1BE4F00F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C475-1CB7-4941-8254-92DD45EA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9FC1-A7FE-4838-BB31-E1507C6D5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1072-C133-4B5A-A079-A7661BC0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CAB7-B300-4806-BAD7-84E58431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3E1EC-FAE5-4545-A90A-FF8A1C8D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8935-0726-4280-931B-8E52BDD5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73CC-70FC-4605-AA80-5FA9DE06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0511-E884-4CF2-96A8-A6E9C78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8EDF-0861-4A3E-A0B6-C350CD68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1903-065E-4FD4-8A0C-D5BAC85C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759F-C1DF-4CA1-98E7-EC8889EA0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9434-07EA-413D-AFD2-5086A4CC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8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2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3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92117-BD8C-46FE-BCA0-1B32756C5E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1AD5-367C-4856-9B1D-D75A53FE5F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94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: Year 2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380880" y="21337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NAFAKA sta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ts implications on the project next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Expanding  x 5 ti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hat are the implications for realizing the resul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team/subteam should articulate its strategy for next year or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libri"/>
              </a:rPr>
              <a:t>Clarification to beneficia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ut the project focus (clear mess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</a:t>
            </a: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other components of the value chain (markets, inputs, processing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51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, process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ICOs: Kilosa, Mvomero, Babati, Iringa rural, Kilolo, Mbarali, Mbozi, Kongwa, Kiteto and Kilombero distri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Ke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380880" y="2666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am eff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Good; generally on track to realize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Reorganiz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ice team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anagement and coordin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leadership, advice,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Key action areas for better scal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Oval 3"/>
          <p:cNvSpPr/>
          <p:nvPr/>
        </p:nvSpPr>
        <p:spPr>
          <a:xfrm>
            <a:off x="824040" y="3314880"/>
            <a:ext cx="2514600" cy="1904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4"/>
          <p:cNvSpPr/>
          <p:nvPr/>
        </p:nvSpPr>
        <p:spPr>
          <a:xfrm>
            <a:off x="2057400" y="335268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TextBox 31" descr=""/>
          <p:cNvPicPr/>
          <p:nvPr/>
        </p:nvPicPr>
        <p:blipFill>
          <a:blip r:embed="rId1"/>
          <a:stretch/>
        </p:blipFill>
        <p:spPr>
          <a:xfrm>
            <a:off x="987480" y="40417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493" name="TextBox 32" descr=""/>
          <p:cNvPicPr/>
          <p:nvPr/>
        </p:nvPicPr>
        <p:blipFill>
          <a:blip r:embed="rId2"/>
          <a:stretch/>
        </p:blipFill>
        <p:spPr>
          <a:xfrm>
            <a:off x="3273480" y="3889440"/>
            <a:ext cx="1450800" cy="646200"/>
          </a:xfrm>
          <a:prstGeom prst="rect">
            <a:avLst/>
          </a:prstGeom>
          <a:ln w="0">
            <a:noFill/>
          </a:ln>
        </p:spPr>
      </p:pic>
      <p:sp>
        <p:nvSpPr>
          <p:cNvPr id="494" name="Rounded Rectangle 33"/>
          <p:cNvSpPr/>
          <p:nvPr/>
        </p:nvSpPr>
        <p:spPr>
          <a:xfrm>
            <a:off x="1828800" y="20574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vest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ounded Rectangle 34"/>
          <p:cNvSpPr/>
          <p:nvPr/>
        </p:nvSpPr>
        <p:spPr>
          <a:xfrm>
            <a:off x="1600200" y="579132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6" name="Straight Arrow Connector 37"/>
          <p:cNvCxnSpPr/>
          <p:nvPr/>
        </p:nvCxnSpPr>
        <p:spPr>
          <a:xfrm>
            <a:off x="342864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7" name="Straight Arrow Connector 38"/>
          <p:cNvCxnSpPr/>
          <p:nvPr/>
        </p:nvCxnSpPr>
        <p:spPr>
          <a:xfrm>
            <a:off x="220932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8" name="TextBox 39"/>
          <p:cNvSpPr/>
          <p:nvPr/>
        </p:nvSpPr>
        <p:spPr>
          <a:xfrm>
            <a:off x="2133720" y="3962520"/>
            <a:ext cx="1052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Up-Down Arrow 40"/>
          <p:cNvSpPr/>
          <p:nvPr/>
        </p:nvSpPr>
        <p:spPr>
          <a:xfrm>
            <a:off x="2666880" y="5257800"/>
            <a:ext cx="228600" cy="533520"/>
          </a:xfrm>
          <a:prstGeom prst="upDownArrow">
            <a:avLst>
              <a:gd name="adj1" fmla="val 50000"/>
              <a:gd name="adj2" fmla="val 50015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2"/>
          <p:cNvSpPr/>
          <p:nvPr/>
        </p:nvSpPr>
        <p:spPr>
          <a:xfrm>
            <a:off x="4815000" y="1808280"/>
            <a:ext cx="42526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should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NAFAKA as a consortium has many development actors that matter. We should involve them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tter communication and coordination (wit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subordin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team lead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1"/>
          <p:cNvSpPr/>
          <p:nvPr/>
        </p:nvSpPr>
        <p:spPr>
          <a:xfrm>
            <a:off x="1219320" y="1224000"/>
            <a:ext cx="8991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7f09"/>
                </a:solidFill>
                <a:latin typeface="Calibri"/>
                <a:ea typeface="MS PGothic"/>
              </a:rPr>
              <a:t>1. Partnership – ‘winning’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If it is not recorded, it did not happen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2.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6094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ff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terna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s of technologies including ‘cost-benefi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materials (manuals, flyers, fact she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posts for the de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68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417680"/>
            <a:ext cx="3352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. 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eld Liaison staff training (May 20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M&amp;E partners’ meetings (quarter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609480" y="390996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i. Progress and upda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(DC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4T05:36:17Z</dcterms:modified>
  <cp:revision>30</cp:revision>
  <dc:subject/>
  <dc:title>PowerPoint Presentation</dc:title>
</cp:coreProperties>
</file>