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3CB8-3C56-4D5C-B41C-C5A63E49B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7144-934E-4B18-8156-ADE6AB7A2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4178-0A7E-4295-B14B-A70417A32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5F1-F81B-48EE-83C9-9E26D195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E74-2C42-4D24-A193-8E30BC5D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3B6-7222-4E05-9151-C9BF617D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3AF-AE33-4BAB-BE80-4FE2CCAE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197-CBE0-4B20-AB19-AA1D85C0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610-9801-4662-B68B-D0DC0EBC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EEB-EBD1-434D-8A58-EAA77C7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A54-A40B-4C72-A556-4E08F05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6EB-4924-433D-A49D-331AD0E3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A43-53C0-4E97-93B7-2169FD0A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8F4-0321-4B7B-A60B-5ACB1FC6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493-8F59-4F6C-AC02-7F99BD4D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FA9C-3C45-4135-AF61-BCA36085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AA39-7DB6-4133-8631-9D196B9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0B36-9C97-4E1C-BA2B-1FF0032A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0BAF-84BE-4CBF-84BD-6266846E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5295-16AD-4A37-8B0A-CE7A7388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6D1A-EFE7-4769-8FA7-8E75CC15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F35E-9090-4C39-B450-19F34158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B293-C1E7-4233-B02F-94750BD7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E123-465C-4439-82CE-0024FBB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3959-E6E6-4A3A-A854-DC9794B4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5583-4580-4539-BEF9-CCC996BF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1433-BBC5-4A5F-8EF8-DAFD20EA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8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2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3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2994-64FC-4B23-9C24-806E604C2F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591C-0988-484F-A007-D82C797E2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94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2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380880" y="21337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FAKA sta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ts implications on the project nex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Expanding  x 5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hat are the implications for realizing the resul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eam/subteam should articulate its strategy for next year o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libri"/>
              </a:rPr>
              <a:t>Clarification to beneficia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the project focus (clear mess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other components of the value chain (markets, inputs, processing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51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, process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ICOs: Kilosa, Mvomero, Babati, Iringa rural, Kilolo, Mbarali, Mbozi, Kongwa, Kiteto and Kilombero 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Ke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80880" y="2666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am eff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Good; generally on track to realize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Reorganiz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ce team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anagement and coordin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leadership, advice,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Key action areas for better sca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Oval 3"/>
          <p:cNvSpPr/>
          <p:nvPr/>
        </p:nvSpPr>
        <p:spPr>
          <a:xfrm>
            <a:off x="824040" y="3314880"/>
            <a:ext cx="2514600" cy="1904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4"/>
          <p:cNvSpPr/>
          <p:nvPr/>
        </p:nvSpPr>
        <p:spPr>
          <a:xfrm>
            <a:off x="2057400" y="335268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TextBox 31" descr=""/>
          <p:cNvPicPr/>
          <p:nvPr/>
        </p:nvPicPr>
        <p:blipFill>
          <a:blip r:embed="rId1"/>
          <a:stretch/>
        </p:blipFill>
        <p:spPr>
          <a:xfrm>
            <a:off x="987480" y="40417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493" name="TextBox 32" descr=""/>
          <p:cNvPicPr/>
          <p:nvPr/>
        </p:nvPicPr>
        <p:blipFill>
          <a:blip r:embed="rId2"/>
          <a:stretch/>
        </p:blipFill>
        <p:spPr>
          <a:xfrm>
            <a:off x="3273480" y="3889440"/>
            <a:ext cx="1450800" cy="646200"/>
          </a:xfrm>
          <a:prstGeom prst="rect">
            <a:avLst/>
          </a:prstGeom>
          <a:ln w="0">
            <a:noFill/>
          </a:ln>
        </p:spPr>
      </p:pic>
      <p:sp>
        <p:nvSpPr>
          <p:cNvPr id="494" name="Rounded Rectangle 33"/>
          <p:cNvSpPr/>
          <p:nvPr/>
        </p:nvSpPr>
        <p:spPr>
          <a:xfrm>
            <a:off x="1828800" y="20574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vest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ounded Rectangle 34"/>
          <p:cNvSpPr/>
          <p:nvPr/>
        </p:nvSpPr>
        <p:spPr>
          <a:xfrm>
            <a:off x="1600200" y="579132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37"/>
          <p:cNvCxnSpPr/>
          <p:nvPr/>
        </p:nvCxnSpPr>
        <p:spPr>
          <a:xfrm>
            <a:off x="342864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Straight Arrow Connector 38"/>
          <p:cNvCxnSpPr/>
          <p:nvPr/>
        </p:nvCxnSpPr>
        <p:spPr>
          <a:xfrm>
            <a:off x="220932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8" name="TextBox 39"/>
          <p:cNvSpPr/>
          <p:nvPr/>
        </p:nvSpPr>
        <p:spPr>
          <a:xfrm>
            <a:off x="2133720" y="3962520"/>
            <a:ext cx="1052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Up-Down Arrow 40"/>
          <p:cNvSpPr/>
          <p:nvPr/>
        </p:nvSpPr>
        <p:spPr>
          <a:xfrm>
            <a:off x="2666880" y="5257800"/>
            <a:ext cx="228600" cy="533520"/>
          </a:xfrm>
          <a:prstGeom prst="upDownArrow">
            <a:avLst>
              <a:gd name="adj1" fmla="val 50000"/>
              <a:gd name="adj2" fmla="val 50015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4815000" y="1808280"/>
            <a:ext cx="42526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should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NAFAKA as a consortium has many development actors that matter. We should involve them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tter communication and coordination (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subordin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team lead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1219320" y="1224000"/>
            <a:ext cx="8991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7f09"/>
                </a:solidFill>
                <a:latin typeface="Calibri"/>
                <a:ea typeface="MS PGothic"/>
              </a:rPr>
              <a:t>1. Partnership – ‘winning’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If it is not recorded, it did not happen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2.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6094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tern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s of technologies including ‘cost-benefi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materials (manuals, flyers, fact she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posts for the d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6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417680"/>
            <a:ext cx="3352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. 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eld Liaison staff training (May 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M&amp;E partners’ meetings (quarter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609480" y="390996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i. Progress and upd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(DC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4T05:36:17Z</dcterms:modified>
  <cp:revision>30</cp:revision>
  <dc:subject/>
  <dc:title>PowerPoint Presentation</dc:title>
</cp:coreProperties>
</file>