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7745-EA0B-4560-AE63-6C6F02579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594B-E828-4D29-AB09-7E0B097C9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2A1A-7E43-4E7F-ABE3-0E75BE9BFB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2D32-9598-4233-BEDD-3974CB15E6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C7C9-6394-462F-9895-7455830E2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DEC0-44A6-4B43-9112-EAA585CFCE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6DFC-8D01-4318-993F-A6B4D07814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9D69-79DD-4178-9220-74B124F0432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6B2D-598E-4713-8072-BF38886DE2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6967-5561-4E39-BFC0-C3F91A9D06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0126-1256-458F-8000-8127BB8F97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31B9-6FC0-4440-A94C-DC3300BA75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74DE-BE93-4625-A851-A5976131BB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B9D4-8A69-4460-9313-578D4922DA5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3078-268E-4142-8F32-8F94DC35093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bati Distric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–for–Development (R4D) Platfo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3068280"/>
            <a:ext cx="51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Jukwaa la Utafiti kwa Maendeleo Wilaya ya Babati (JUMB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" y="41148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Review and Planning Meeting, Mangoch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ly 14-16,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 Hillb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Diagram 3" descr=""/>
          <p:cNvPicPr/>
          <p:nvPr/>
        </p:nvPicPr>
        <p:blipFill>
          <a:blip r:embed="rId1"/>
          <a:stretch/>
        </p:blipFill>
        <p:spPr>
          <a:xfrm>
            <a:off x="1474920" y="1487520"/>
            <a:ext cx="6913440" cy="48211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50920" y="184464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nabling system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Annual General Meeting, Oct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onstitution, leadership, research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nagement retreat, Jan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ork plan 2015-16, communication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Progress in 2014-20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RELIABLE MARKET FOR AGRICULTURAL PRODUCTS FROM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ENABLING ENVIRONMENT FOR EFFICIENT PRODUCTION OF AGRICULTURAL PRODUCTS (LIVESTOCK AND CROP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CITY BUILDING OF JUM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 PLATFORM  CAPAC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ACT YOUTH TO FARMING AS A BUSINESS THROUGH PROVISION OF FEASIBLE INCEN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trainers in farming as a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ext + farmers in PHM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formation on farmer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value addition in 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velop market strategies for prize stab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proper land use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examp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044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of ext on GAP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apacity building on QDS maize production (3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ensitization on artificial insemination (6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rassroot level platforms in 6 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mmunication and promotion of JUMBA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Annual meetings for evaluation, reflection and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for 20 youth in chicken and vegetable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links between youth and credit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con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gree of formalization (bureaucra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trategic in character – not yet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ion and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Buy-in from NGOs and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nnect to existing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o to ward/villag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ind balance with research coordination/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Monitoring and  evaluation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Reflection and challeng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Per Hillbur</cp:lastModifiedBy>
  <cp:lastPrinted>2011-10-06T11:45:23Z</cp:lastPrinted>
  <dcterms:modified xsi:type="dcterms:W3CDTF">2015-07-14T05:38:04Z</dcterms:modified>
  <cp:revision>37</cp:revision>
  <dc:subject/>
  <dc:title>Slide 1</dc:title>
</cp:coreProperties>
</file>