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3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4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7F59E-B210-4A8A-8F3E-3B95696383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v-S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2305-0B12-4D3C-B0B9-619AF99CCF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26562-9A39-4AD6-9F0E-9AA14E3BC98F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68323-F867-4C1B-B672-1D099A903C7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E30B-9BFA-4453-BFC9-687C6B729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70E1-BB37-432A-A332-BE814EBDA0D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5DAA4-93B7-4980-91CF-9D4F18D8FF0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EB69-8D49-42DD-8B7B-EA2C10E6E3A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7900E-1515-457F-812E-5390D633E19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A405-9AA5-46F8-8933-69F21D7A348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2499-21C2-42B2-B11C-AE60B855A90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ABA58-0294-4435-841B-58D046A18DC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BE46-3C57-4B00-A4DB-2F3F35246E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9713A-1633-438A-BB58-C6A76E21433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CC96-48C4-4C7C-B7F2-2196939D890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0" y="19098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4"/>
          <a:stretch/>
        </p:blipFill>
        <p:spPr>
          <a:xfrm>
            <a:off x="1752480" y="5002200"/>
            <a:ext cx="5639040" cy="17035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34560" y="141264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abati District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earch–for–Development (R4D) Platfor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8000" y="3068280"/>
            <a:ext cx="5158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Calibri"/>
                <a:ea typeface="Calibri"/>
              </a:rPr>
              <a:t>Jukwaa la Utafiti kwa Maendeleo Wilaya ya Babati (JUMB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" y="411480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Review and Planning Meeting, Mangoch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uly 14-16, 201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 Hillb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Diagram 3" descr=""/>
          <p:cNvPicPr/>
          <p:nvPr/>
        </p:nvPicPr>
        <p:blipFill>
          <a:blip r:embed="rId1"/>
          <a:stretch/>
        </p:blipFill>
        <p:spPr>
          <a:xfrm>
            <a:off x="1523880" y="1390680"/>
            <a:ext cx="6791400" cy="4930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3780000" y="2568600"/>
            <a:ext cx="2062080" cy="2168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1" descr=""/>
          <p:cNvPicPr/>
          <p:nvPr/>
        </p:nvPicPr>
        <p:blipFill>
          <a:blip r:embed="rId3"/>
          <a:stretch/>
        </p:blipFill>
        <p:spPr>
          <a:xfrm>
            <a:off x="4869000" y="299736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"/>
          <p:cNvPicPr/>
          <p:nvPr/>
        </p:nvPicPr>
        <p:blipFill>
          <a:blip r:embed="rId4"/>
          <a:stretch/>
        </p:blipFill>
        <p:spPr>
          <a:xfrm>
            <a:off x="5011560" y="3357720"/>
            <a:ext cx="185760" cy="183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"/>
          <p:cNvPicPr/>
          <p:nvPr/>
        </p:nvPicPr>
        <p:blipFill>
          <a:blip r:embed="rId5"/>
          <a:stretch/>
        </p:blipFill>
        <p:spPr>
          <a:xfrm>
            <a:off x="4216320" y="387360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4" descr=""/>
          <p:cNvPicPr/>
          <p:nvPr/>
        </p:nvPicPr>
        <p:blipFill>
          <a:blip r:embed="rId6"/>
          <a:stretch/>
        </p:blipFill>
        <p:spPr>
          <a:xfrm>
            <a:off x="4437000" y="3911760"/>
            <a:ext cx="182520" cy="182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"/>
          <p:cNvPicPr/>
          <p:nvPr/>
        </p:nvPicPr>
        <p:blipFill>
          <a:blip r:embed="rId7"/>
          <a:stretch/>
        </p:blipFill>
        <p:spPr>
          <a:xfrm>
            <a:off x="4356000" y="4130640"/>
            <a:ext cx="182520" cy="18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"/>
          <p:cNvPicPr/>
          <p:nvPr/>
        </p:nvPicPr>
        <p:blipFill>
          <a:blip r:embed="rId8"/>
          <a:stretch/>
        </p:blipFill>
        <p:spPr>
          <a:xfrm>
            <a:off x="5364000" y="4086360"/>
            <a:ext cx="182880" cy="1839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324000" y="177336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The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nnov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Diagram 3" descr=""/>
          <p:cNvPicPr/>
          <p:nvPr/>
        </p:nvPicPr>
        <p:blipFill>
          <a:blip r:embed="rId1"/>
          <a:stretch/>
        </p:blipFill>
        <p:spPr>
          <a:xfrm>
            <a:off x="1474920" y="1487520"/>
            <a:ext cx="6913440" cy="4821120"/>
          </a:xfrm>
          <a:prstGeom prst="rect">
            <a:avLst/>
          </a:prstGeom>
          <a:ln w="0">
            <a:noFill/>
          </a:ln>
        </p:spPr>
      </p:pic>
      <p:sp>
        <p:nvSpPr>
          <p:cNvPr id="213" name="TextBox 1"/>
          <p:cNvSpPr/>
          <p:nvPr/>
        </p:nvSpPr>
        <p:spPr>
          <a:xfrm>
            <a:off x="250920" y="1844640"/>
            <a:ext cx="252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Enabling system inno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Annual General Meeting, Oct 20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constitution, leadership, research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Management retreat, Jan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alibri"/>
              </a:rPr>
              <a:t>Work plan 2015-16, communication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Progress in 2014-2015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2205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RELIABLE MARKET FOR AGRICULTURAL PRODUCTS FROM BABA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ATE ENABLING ENVIRONMENT FOR EFFICIENT PRODUCTION OF AGRICULTURAL PRODUCTS (LIVESTOCK AND CROP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PACITY BUILDING OF JUMB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RENGTHENING  PLATFORM  CAPACIT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217080" algn="just">
              <a:spcBef>
                <a:spcPts val="499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TTRACT YOUTH TO FARMING AS A BUSINESS THROUGH PROVISION OF FEASIBLE INCENT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trainers in farming as a busi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ext + farmers in PHM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formation on farmers grou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value addition in process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velop market strategies for prize stabi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proper land use pla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examp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0440" y="21337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of ext on GAP (scal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apacity building on QDS maize production (3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ensitization on artificial insemination (6 war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rassroot level platforms in 6 w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mmunication and promotion of JUMBA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Annual meetings for evaluation, reflection and lear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Training for 20 youth in chicken and vegetable p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20556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e links between youth and credit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Calibri"/>
              </a:rPr>
              <a:t>Work plan 2015-2016: Activities (cont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Degree of formalization (bureaucrac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Strategic in character – not yet operat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acilitation and lead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Buy-in from NGOs and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Connect to existing networ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Go to ward/villag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Find balance with research coordination/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Calibri"/>
              </a:rPr>
              <a:t>Monitoring and  evaluation of progr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800" spc="-1" strike="noStrike">
                <a:solidFill>
                  <a:srgbClr val="000000"/>
                </a:solidFill>
                <a:latin typeface="Calibri"/>
              </a:rPr>
              <a:t>Reflection and challeng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08:08:26Z</dcterms:created>
  <dc:creator>IZeledon</dc:creator>
  <dc:description/>
  <dc:language>en-US</dc:language>
  <cp:lastModifiedBy>Per Hillbur</cp:lastModifiedBy>
  <cp:lastPrinted>2011-10-06T11:45:23Z</cp:lastPrinted>
  <dcterms:modified xsi:type="dcterms:W3CDTF">2015-07-14T05:38:04Z</dcterms:modified>
  <cp:revision>37</cp:revision>
  <dc:subject/>
  <dc:title>Slide 1</dc:title>
</cp:coreProperties>
</file>