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10.png" ContentType="image/png"/>
  <Override PartName="/ppt/media/image6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ftr" idx="7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Num" idx="8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9E58-53F6-493A-80C4-0B1E3F4290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F477-3E70-4A9C-A483-6451794B4DF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---- Meeting Notes (19/04/2013 10:35) 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p modelling of N and P respo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ailed analysis of the data we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pid assess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fitability with a temporal dimen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18A8-D48C-448E-9B00-51EAFA4C53F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58B48-20B2-4498-882B-23D61C5D70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9B6B5-B38C-4FCD-A460-1CD6E9C108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327AF-4651-410C-8B4F-8AD7300C52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20200-B0AC-49C7-A48F-B8EB9F71A9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73FEC-B13D-451A-8989-7E297E4112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4133E-D435-4BA1-ACC0-FD55E31DFC1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74C45-CE9A-4EA4-81CA-CCD23B54CDD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BFAB6-1C85-43FF-84A9-6A78678698A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92B42-A2C9-4D4E-BD15-3B3D03E4BC6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17BF0-3940-4986-ABAF-8F0F736F9C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0DF99-C6DA-472B-9CA2-37D100FE728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1835E-C50F-4967-BBC3-E82E8370C14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09B7A-0960-461D-9B42-C3AAA24399E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B6250-1B42-428D-98E4-026C3872293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8E2C1-2DF5-469B-A64F-8268EF5CEA1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DA877-E8BC-4080-86D3-8CD1C0C3958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D9948-F845-4609-AF3B-619AED2DF67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B7ACE-654F-4399-A0CF-7EB281FF390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9D4C6-B7A9-4007-88B0-8EA2422549C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2A80E-FA9D-4F8A-8B8A-63B54B11A97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CB68F-DD5D-4366-B88E-7AEB34CE10C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8872F-E7BA-42A5-921F-832A40FE5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885EEF-40E4-4AB9-B865-34B33C3E3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62D5A-A272-49D8-926E-F830B9A8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DA5F59-D713-461C-AED8-2CB38A1A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750A1-551A-4CDD-AA4D-FFDE48D3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248561-CCF5-4AA2-9FEE-EBCA641A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EF352-B4E5-4B1C-A878-851CABE2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0AE2BE-EA54-4B8E-9086-E1A5FC3C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B6871B-ECAC-4607-9771-34C1335C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56A9B-25E5-4A80-812C-A447E1139FA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10516D-26B6-4DC7-9ABF-DDFC9022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DB5338-3A62-4F90-8483-8CEF7F143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242BBD-5D33-496F-AC3C-89B43397C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DF036-5B63-413B-9A61-13744B35B7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6A5E5-196C-460E-9108-54A7C04619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E906-A6E3-4B0F-8069-250B086D2C09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76320"/>
            <a:ext cx="9144000" cy="12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"/>
          <p:cNvPicPr/>
          <p:nvPr/>
        </p:nvPicPr>
        <p:blipFill>
          <a:blip r:embed="rId3"/>
          <a:stretch/>
        </p:blipFill>
        <p:spPr>
          <a:xfrm>
            <a:off x="0" y="-76320"/>
            <a:ext cx="9144000" cy="1204920"/>
          </a:xfrm>
          <a:prstGeom prst="rect">
            <a:avLst/>
          </a:prstGeom>
          <a:ln w="0">
            <a:noFill/>
          </a:ln>
        </p:spPr>
      </p:pic>
      <p:grpSp>
        <p:nvGrpSpPr>
          <p:cNvPr id="39" name="Group 4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40" name="Picture 4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5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6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0" y="-76320"/>
            <a:ext cx="9144000" cy="12049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sldNum" idx="2"/>
          </p:nvPr>
        </p:nvSpPr>
        <p:spPr>
          <a:xfrm>
            <a:off x="8706960" y="64213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D80F-4AE9-4B98-BD47-1757A4ADD37B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3"/>
          <a:stretch/>
        </p:blipFill>
        <p:spPr>
          <a:xfrm>
            <a:off x="0" y="-76320"/>
            <a:ext cx="9144000" cy="12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3"/>
          <a:stretch/>
        </p:blipFill>
        <p:spPr>
          <a:xfrm>
            <a:off x="0" y="-76320"/>
            <a:ext cx="9144000" cy="120492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2057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AR_Global_partners.jpg"/>
          <p:cNvPicPr/>
          <p:nvPr/>
        </p:nvPicPr>
        <p:blipFill>
          <a:blip r:embed="rId4"/>
          <a:stretch/>
        </p:blipFill>
        <p:spPr>
          <a:xfrm>
            <a:off x="1733400" y="5533920"/>
            <a:ext cx="5677200" cy="56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"/>
          <p:cNvPicPr/>
          <p:nvPr/>
        </p:nvPicPr>
        <p:blipFill>
          <a:blip r:embed="rId3"/>
          <a:stretch/>
        </p:blipFill>
        <p:spPr>
          <a:xfrm>
            <a:off x="0" y="-76320"/>
            <a:ext cx="9144000" cy="12049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5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8272-EAF5-472A-A258-5AA1A942ECE7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380520" y="1523520"/>
            <a:ext cx="8534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09800"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0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b050"/>
                </a:solidFill>
                <a:latin typeface="Calibri"/>
              </a:rPr>
              <a:t>From skeptism to realism: unlocking productivity potential under small holder farmers in Babati, Northern Tanza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600200" y="3809880"/>
            <a:ext cx="5562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Kihara J., Kizito F., Lyimo S.D., Yangole L., Songoyani 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2" descr="C:\Users\user\Desktop\6719132809_d02a581715_s.jpg"/>
          <p:cNvPicPr/>
          <p:nvPr/>
        </p:nvPicPr>
        <p:blipFill>
          <a:blip r:embed="rId2"/>
          <a:stretch/>
        </p:blipFill>
        <p:spPr>
          <a:xfrm>
            <a:off x="0" y="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onclusion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6840" y="13716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2124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rmer perceptions of soil condition relate well with observed produ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2124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mand for soil and water conservation is hig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2124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rmers obtain yield improvements that pay off fertilizer and associated added costs of the improved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2124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tivity of some components such as beans still very 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2124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ilure to use specific components of IP is explained and suggestions made, including mechanization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51920" y="1905120"/>
            <a:ext cx="899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7121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use of fertilizers and poor agronom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7121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tivity low below potential for the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7121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ze pigeonpea intercropping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700"/>
              </a:spcBef>
              <a:buClr>
                <a:srgbClr val="7121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ess crop performance with good agronomic practices under farmer conditions and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700"/>
              </a:spcBef>
              <a:buClr>
                <a:srgbClr val="7121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derstand farmer perceptions of production environments and Improved practice of maize/pigeonpea pro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22860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7121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earcher controlled trials of fertilizer respo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7121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ilored agronomic surveys with farmers using fertilizers in different seasons (3 target practic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71212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d pract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71212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rmers pract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71212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 (like IP but no fertilize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7121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rmers participatory technology assessments at villag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ethod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5181480" y="4191120"/>
            <a:ext cx="3505320" cy="2628720"/>
          </a:xfrm>
          <a:prstGeom prst="rect">
            <a:avLst/>
          </a:prstGeom>
          <a:ln w="0">
            <a:noFill/>
          </a:ln>
        </p:spPr>
      </p:pic>
      <p:sp>
        <p:nvSpPr>
          <p:cNvPr id="250" name="Slide Number Placeholder 4"/>
          <p:cNvSpPr/>
          <p:nvPr/>
        </p:nvSpPr>
        <p:spPr>
          <a:xfrm>
            <a:off x="8610480" y="6400800"/>
            <a:ext cx="609840" cy="396720"/>
          </a:xfrm>
          <a:prstGeom prst="bracketPair">
            <a:avLst>
              <a:gd name="adj" fmla="val 1794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53FD-9C7E-4DDE-B3C2-51F8462FEAF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3"/>
          <p:cNvSpPr/>
          <p:nvPr/>
        </p:nvSpPr>
        <p:spPr>
          <a:xfrm>
            <a:off x="0" y="333360"/>
            <a:ext cx="914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3926"/>
                </a:solidFill>
                <a:latin typeface="Calibri"/>
              </a:rPr>
              <a:t>Where we started. Where are we go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5" descr=""/>
          <p:cNvPicPr/>
          <p:nvPr/>
        </p:nvPicPr>
        <p:blipFill>
          <a:blip r:embed="rId2"/>
          <a:stretch/>
        </p:blipFill>
        <p:spPr>
          <a:xfrm>
            <a:off x="152280" y="685800"/>
            <a:ext cx="5527800" cy="4014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"/>
          <p:cNvPicPr/>
          <p:nvPr/>
        </p:nvPicPr>
        <p:blipFill>
          <a:blip r:embed="rId3"/>
          <a:stretch/>
        </p:blipFill>
        <p:spPr>
          <a:xfrm>
            <a:off x="5257800" y="1143000"/>
            <a:ext cx="3692520" cy="3165480"/>
          </a:xfrm>
          <a:prstGeom prst="rect">
            <a:avLst/>
          </a:prstGeom>
          <a:ln w="0">
            <a:noFill/>
          </a:ln>
        </p:spPr>
      </p:pic>
      <p:sp>
        <p:nvSpPr>
          <p:cNvPr id="254" name="TextBox 2"/>
          <p:cNvSpPr/>
          <p:nvPr/>
        </p:nvSpPr>
        <p:spPr>
          <a:xfrm>
            <a:off x="6225120" y="1066680"/>
            <a:ext cx="188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for ~60 tr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armer x season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Straight Arrow Connector 4"/>
          <p:cNvCxnSpPr/>
          <p:nvPr/>
        </p:nvCxnSpPr>
        <p:spPr>
          <a:xfrm flipV="1">
            <a:off x="762120" y="2590200"/>
            <a:ext cx="3582000" cy="889560"/>
          </a:xfrm>
          <a:prstGeom prst="straightConnector1">
            <a:avLst/>
          </a:prstGeom>
          <a:ln w="73080">
            <a:solidFill>
              <a:srgbClr val="f07c03"/>
            </a:solidFill>
            <a:miter/>
            <a:tailEnd len="med" type="triangle" w="med"/>
          </a:ln>
        </p:spPr>
      </p:cxnSp>
      <p:sp>
        <p:nvSpPr>
          <p:cNvPr id="256" name="TextBox 7"/>
          <p:cNvSpPr/>
          <p:nvPr/>
        </p:nvSpPr>
        <p:spPr>
          <a:xfrm>
            <a:off x="380880" y="4876920"/>
            <a:ext cx="4343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priate plant dens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rtile so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ximity to homest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quent manure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ttomland fiel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ource: Kihara et al 201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eft Brace 9"/>
          <p:cNvSpPr/>
          <p:nvPr/>
        </p:nvSpPr>
        <p:spPr>
          <a:xfrm>
            <a:off x="1981080" y="5299200"/>
            <a:ext cx="152640" cy="129996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 h 1299960"/>
              <a:gd name="textAreaBottom" fmla="*/ 1296000 h 129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6"/>
                  <a:pt x="10800" y="211"/>
                </a:cubicBezTo>
                <a:lnTo>
                  <a:pt x="10800" y="10589"/>
                </a:lnTo>
                <a:cubicBezTo>
                  <a:pt x="10800" y="10695"/>
                  <a:pt x="5400" y="10800"/>
                  <a:pt x="0" y="10800"/>
                </a:cubicBezTo>
                <a:cubicBezTo>
                  <a:pt x="5400" y="10800"/>
                  <a:pt x="10800" y="10906"/>
                  <a:pt x="10800" y="11011"/>
                </a:cubicBezTo>
                <a:lnTo>
                  <a:pt x="10800" y="21389"/>
                </a:lnTo>
                <a:cubicBezTo>
                  <a:pt x="10800" y="21495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ight Brace 10"/>
          <p:cNvSpPr/>
          <p:nvPr/>
        </p:nvSpPr>
        <p:spPr>
          <a:xfrm>
            <a:off x="4419720" y="5257800"/>
            <a:ext cx="304560" cy="1341360"/>
          </a:xfrm>
          <a:custGeom>
            <a:avLst/>
            <a:gdLst>
              <a:gd name="textAreaLeft" fmla="*/ 0 w 304560"/>
              <a:gd name="textAreaRight" fmla="*/ 109800 w 304560"/>
              <a:gd name="textAreaTop" fmla="*/ 7920 h 1341360"/>
              <a:gd name="textAreaBottom" fmla="*/ 1333440 h 134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5"/>
                  <a:pt x="10800" y="409"/>
                </a:cubicBezTo>
                <a:lnTo>
                  <a:pt x="10800" y="10391"/>
                </a:lnTo>
                <a:cubicBezTo>
                  <a:pt x="10800" y="10596"/>
                  <a:pt x="16200" y="10800"/>
                  <a:pt x="21600" y="10800"/>
                </a:cubicBezTo>
                <a:cubicBezTo>
                  <a:pt x="16200" y="10800"/>
                  <a:pt x="10800" y="11005"/>
                  <a:pt x="10800" y="11209"/>
                </a:cubicBezTo>
                <a:lnTo>
                  <a:pt x="10800" y="21191"/>
                </a:lnTo>
                <a:cubicBezTo>
                  <a:pt x="10800" y="21396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5"/>
          <p:cNvSpPr/>
          <p:nvPr/>
        </p:nvSpPr>
        <p:spPr>
          <a:xfrm>
            <a:off x="3472560" y="107784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7 farmer fiel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urvey 201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8" descr=""/>
          <p:cNvPicPr/>
          <p:nvPr/>
        </p:nvPicPr>
        <p:blipFill>
          <a:blip r:embed="rId1"/>
          <a:stretch/>
        </p:blipFill>
        <p:spPr>
          <a:xfrm>
            <a:off x="2773440" y="2925720"/>
            <a:ext cx="6294240" cy="3780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2" descr=""/>
          <p:cNvPicPr/>
          <p:nvPr/>
        </p:nvPicPr>
        <p:blipFill>
          <a:blip r:embed="rId2"/>
          <a:stretch/>
        </p:blipFill>
        <p:spPr>
          <a:xfrm>
            <a:off x="139680" y="1143000"/>
            <a:ext cx="5651640" cy="3398760"/>
          </a:xfrm>
          <a:prstGeom prst="rect">
            <a:avLst/>
          </a:prstGeom>
          <a:ln w="0">
            <a:noFill/>
          </a:ln>
        </p:spPr>
      </p:pic>
      <p:sp>
        <p:nvSpPr>
          <p:cNvPr id="262" name="TextBox 13"/>
          <p:cNvSpPr/>
          <p:nvPr/>
        </p:nvSpPr>
        <p:spPr>
          <a:xfrm>
            <a:off x="2182680" y="1446120"/>
            <a:ext cx="310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ields from 76 farmer fields in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" descr=""/>
          <p:cNvPicPr/>
          <p:nvPr/>
        </p:nvPicPr>
        <p:blipFill>
          <a:blip r:embed="rId3"/>
          <a:stretch/>
        </p:blipFill>
        <p:spPr>
          <a:xfrm>
            <a:off x="55440" y="1206360"/>
            <a:ext cx="5542200" cy="3335400"/>
          </a:xfrm>
          <a:prstGeom prst="rect">
            <a:avLst/>
          </a:prstGeom>
          <a:ln w="0">
            <a:noFill/>
          </a:ln>
        </p:spPr>
      </p:pic>
      <p:sp>
        <p:nvSpPr>
          <p:cNvPr id="264" name="TextBox 13"/>
          <p:cNvSpPr/>
          <p:nvPr/>
        </p:nvSpPr>
        <p:spPr>
          <a:xfrm>
            <a:off x="0" y="333360"/>
            <a:ext cx="914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3926"/>
                </a:solidFill>
                <a:latin typeface="Calibri"/>
              </a:rPr>
              <a:t>Where we started. Where are we going?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Straight Arrow Connector 6"/>
          <p:cNvCxnSpPr/>
          <p:nvPr/>
        </p:nvCxnSpPr>
        <p:spPr>
          <a:xfrm flipV="1">
            <a:off x="1294920" y="2513880"/>
            <a:ext cx="3582360" cy="889560"/>
          </a:xfrm>
          <a:prstGeom prst="straightConnector1">
            <a:avLst/>
          </a:prstGeom>
          <a:ln w="73080">
            <a:solidFill>
              <a:srgbClr val="f07c03"/>
            </a:solidFill>
            <a:miter/>
            <a:tailEnd len="med" type="triangle" w="med"/>
          </a:ln>
        </p:spPr>
      </p:cxnSp>
      <p:cxnSp>
        <p:nvCxnSpPr>
          <p:cNvPr id="266" name="Straight Arrow Connector 9"/>
          <p:cNvCxnSpPr/>
          <p:nvPr/>
        </p:nvCxnSpPr>
        <p:spPr>
          <a:xfrm flipV="1">
            <a:off x="3733920" y="3962160"/>
            <a:ext cx="4496400" cy="1753200"/>
          </a:xfrm>
          <a:prstGeom prst="straightConnector1">
            <a:avLst/>
          </a:prstGeom>
          <a:ln w="73080">
            <a:solidFill>
              <a:srgbClr val="f07c03"/>
            </a:solidFill>
            <a:miter/>
            <a:tailEnd len="med" type="triangle" w="med"/>
          </a:ln>
        </p:spPr>
      </p:cxnSp>
      <p:sp>
        <p:nvSpPr>
          <p:cNvPr id="267" name="TextBox 14"/>
          <p:cNvSpPr/>
          <p:nvPr/>
        </p:nvSpPr>
        <p:spPr>
          <a:xfrm>
            <a:off x="1015920" y="1274760"/>
            <a:ext cx="93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6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6" descr=""/>
          <p:cNvPicPr/>
          <p:nvPr/>
        </p:nvPicPr>
        <p:blipFill>
          <a:blip r:embed="rId4"/>
          <a:stretch/>
        </p:blipFill>
        <p:spPr>
          <a:xfrm>
            <a:off x="5867280" y="1041480"/>
            <a:ext cx="2900520" cy="2468520"/>
          </a:xfrm>
          <a:prstGeom prst="rect">
            <a:avLst/>
          </a:prstGeom>
          <a:ln w="0">
            <a:noFill/>
          </a:ln>
        </p:spPr>
      </p:pic>
      <p:sp>
        <p:nvSpPr>
          <p:cNvPr id="269" name="TextBox 17"/>
          <p:cNvSpPr/>
          <p:nvPr/>
        </p:nvSpPr>
        <p:spPr>
          <a:xfrm>
            <a:off x="5791320" y="3510000"/>
            <a:ext cx="102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3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8"/>
          <p:cNvSpPr/>
          <p:nvPr/>
        </p:nvSpPr>
        <p:spPr>
          <a:xfrm>
            <a:off x="6435720" y="950760"/>
            <a:ext cx="955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4 average of 27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19" descr=""/>
          <p:cNvPicPr/>
          <p:nvPr/>
        </p:nvPicPr>
        <p:blipFill>
          <a:blip r:embed="rId5"/>
          <a:stretch/>
        </p:blipFill>
        <p:spPr>
          <a:xfrm>
            <a:off x="0" y="4643280"/>
            <a:ext cx="2898720" cy="1630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Fertilizer use by farmer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57200" y="1839960"/>
          <a:ext cx="7924680" cy="3341520"/>
        </p:xfrm>
        <a:graphic>
          <a:graphicData uri="http://schemas.openxmlformats.org/drawingml/2006/table">
            <a:tbl>
              <a:tblPr/>
              <a:tblGrid>
                <a:gridCol w="1828800"/>
                <a:gridCol w="1447920"/>
                <a:gridCol w="1371600"/>
                <a:gridCol w="1523880"/>
                <a:gridCol w="175248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ill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pons 20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ken 20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pons 2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ken 2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1036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bi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1481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o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  <p:sp>
        <p:nvSpPr>
          <p:cNvPr id="274" name=""/>
          <p:cNvSpPr txBox="1"/>
          <p:nvPr/>
        </p:nvSpPr>
        <p:spPr>
          <a:xfrm>
            <a:off x="419040" y="5105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y high numbers refused to use fertilizers in 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mand for fertilizers is rapidly rising among far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4" descr=""/>
          <p:cNvPicPr/>
          <p:nvPr/>
        </p:nvPicPr>
        <p:blipFill>
          <a:blip r:embed="rId1"/>
          <a:stretch/>
        </p:blipFill>
        <p:spPr>
          <a:xfrm>
            <a:off x="61920" y="1805040"/>
            <a:ext cx="9082080" cy="4452840"/>
          </a:xfrm>
          <a:prstGeom prst="rect">
            <a:avLst/>
          </a:prstGeom>
          <a:ln w="0">
            <a:noFill/>
          </a:ln>
        </p:spPr>
      </p:pic>
      <p:sp>
        <p:nvSpPr>
          <p:cNvPr id="276" name="TextBox 13"/>
          <p:cNvSpPr/>
          <p:nvPr/>
        </p:nvSpPr>
        <p:spPr>
          <a:xfrm>
            <a:off x="0" y="333360"/>
            <a:ext cx="914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3926"/>
                </a:solidFill>
                <a:latin typeface="Calibri"/>
              </a:rPr>
              <a:t>Yields with fertilizers across vill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5" descr=""/>
          <p:cNvPicPr/>
          <p:nvPr/>
        </p:nvPicPr>
        <p:blipFill>
          <a:blip r:embed="rId1"/>
          <a:stretch/>
        </p:blipFill>
        <p:spPr>
          <a:xfrm>
            <a:off x="272880" y="1447920"/>
            <a:ext cx="8642520" cy="5148000"/>
          </a:xfrm>
          <a:prstGeom prst="rect">
            <a:avLst/>
          </a:prstGeom>
          <a:ln w="0">
            <a:noFill/>
          </a:ln>
        </p:spPr>
      </p:pic>
      <p:sp>
        <p:nvSpPr>
          <p:cNvPr id="280" name="TextBox 13"/>
          <p:cNvSpPr/>
          <p:nvPr/>
        </p:nvSpPr>
        <p:spPr>
          <a:xfrm>
            <a:off x="0" y="333360"/>
            <a:ext cx="914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3926"/>
                </a:solidFill>
                <a:latin typeface="Calibri"/>
              </a:rPr>
              <a:t>Yield change due to improved 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Landscapes and farmer awarenes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625720" y="1600200"/>
            <a:ext cx="3289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rmers perceive erosion and indicate willingness to address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304920" y="1890720"/>
            <a:ext cx="5321160" cy="37479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11:33:49Z</dcterms:created>
  <dc:creator>LeBorgne, Ewen (ILRI)</dc:creator>
  <dc:description/>
  <dc:language>en-US</dc:language>
  <cp:lastModifiedBy>Kihara Job</cp:lastModifiedBy>
  <cp:lastPrinted>2011-10-06T11:45:23Z</cp:lastPrinted>
  <dcterms:modified xsi:type="dcterms:W3CDTF">2016-06-30T08:25:04Z</dcterms:modified>
  <cp:revision>151</cp:revision>
  <dc:subject/>
  <dc:title>PowerPoint Presentation</dc:title>
</cp:coreProperties>
</file>