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8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9.wmf" ContentType="image/x-wmf"/>
  <Override PartName="/ppt/media/image14.png" ContentType="image/png"/>
  <Override PartName="/ppt/media/image10.png" ContentType="image/png"/>
  <Override PartName="/ppt/media/image6.jpeg" ContentType="image/jpeg"/>
  <Override PartName="/ppt/media/image13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dt" idx="6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move the slide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 type="ftr" idx="7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 type="sldNum" idx="8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2A699-80BC-4401-B116-0C150E28A6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EA2B3-FCDF-47B5-864E-AEEF20C51811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---- Meeting Notes (19/04/2013 10:35) ----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op modelling of N and P respon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tailed analysis of the data we ha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pid assess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fitability with a temporal dimen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9D735-0D23-4F29-B3F6-694D3B93CE89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C8C57-8C61-4444-BD94-DAB3AFB4D4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3833A-E1CE-4607-9D24-DCB2609AD1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213D6-9BB5-4CAD-BBD5-EFFE60F222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D7A9A-72A0-4929-909D-BB051A8EAB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7F8DE-7BA2-4F7F-A8E4-A7AB6C240E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D81F90-92C6-45E2-9887-B0F2C5581A5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2A9FD5-0970-45EC-B679-7388E98F94A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E418F0-ED49-42E3-B411-6956B10AC63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2669DB-8BC3-44C8-89EE-3A6A62B2B26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D74285-8F4E-41F2-A357-F94480F9614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C11BD-323D-41C5-8D3F-DAC629CD275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7DA337-A39C-49B4-BC78-BDF3F688D89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FC0E52-6842-4185-9FDD-3FCF9C93536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0BD7EC-8070-4EB8-A70A-FB752DB2CF5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21A0B-0616-4481-8C6A-5B64A35BB68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2D57AA-8B80-4FFA-9A4C-DDC8A6F9FE0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48A04E-FCFB-4A72-8DF7-65962C6FFFE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3B4D8E-3DF9-47A1-ADEC-77BF0578292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485D5-777F-4266-84FA-BAABEF86870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AE698-E4A6-4B34-874F-4BC5B2AD24DC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EA51F-3538-4A6B-B000-27D638539332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6DDF5F-5C6A-42E2-A570-E70B64B8E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B4BCFD-C68A-498F-8F32-34B9F5297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5359AC-A545-4B5F-9665-A213C0B42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ED05A8-B6DE-42B2-99F4-5647209B3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189601-4402-4661-AAEE-D1E52939F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F452B5-73EA-4EF8-B25A-481CB7A1C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6EA349-DF88-4B3B-8B80-A6C15B047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7686A7-AAC0-44C6-887F-C4D3F5753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B6A60A-3512-4D2F-8DFB-0C790A0EA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5E4CF-E468-48BD-B93F-CEBD5804E179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867474-3791-44A0-B215-2FB343005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304547-BAE8-4014-B086-113F377B9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DB50F1-AA5A-4821-BF0D-C8F4CC8BE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0B2B3-4820-4C06-9F55-87D5081D62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95714-BBBD-498A-BBB9-AD53F3A4FB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8631000" y="6421320"/>
            <a:ext cx="56880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6B497-FBB5-4823-BBE8-84C887F2BA1E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-76320"/>
            <a:ext cx="9144000" cy="1204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2" descr=""/>
          <p:cNvPicPr/>
          <p:nvPr/>
        </p:nvPicPr>
        <p:blipFill>
          <a:blip r:embed="rId3"/>
          <a:stretch/>
        </p:blipFill>
        <p:spPr>
          <a:xfrm>
            <a:off x="0" y="-76320"/>
            <a:ext cx="9144000" cy="1204920"/>
          </a:xfrm>
          <a:prstGeom prst="rect">
            <a:avLst/>
          </a:prstGeom>
          <a:ln w="0">
            <a:noFill/>
          </a:ln>
        </p:spPr>
      </p:pic>
      <p:grpSp>
        <p:nvGrpSpPr>
          <p:cNvPr id="39" name="Group 4"/>
          <p:cNvGrpSpPr/>
          <p:nvPr/>
        </p:nvGrpSpPr>
        <p:grpSpPr>
          <a:xfrm>
            <a:off x="2327400" y="5987880"/>
            <a:ext cx="3943080" cy="606600"/>
            <a:chOff x="2327400" y="5987880"/>
            <a:chExt cx="3943080" cy="606600"/>
          </a:xfrm>
        </p:grpSpPr>
        <p:pic>
          <p:nvPicPr>
            <p:cNvPr id="40" name="Picture 4" descr=""/>
            <p:cNvPicPr/>
            <p:nvPr/>
          </p:nvPicPr>
          <p:blipFill>
            <a:blip r:embed="rId4"/>
            <a:stretch/>
          </p:blipFill>
          <p:spPr>
            <a:xfrm>
              <a:off x="5162400" y="6121800"/>
              <a:ext cx="1108080" cy="33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" name="Picture 5" descr=""/>
            <p:cNvPicPr/>
            <p:nvPr/>
          </p:nvPicPr>
          <p:blipFill>
            <a:blip r:embed="rId5"/>
            <a:stretch/>
          </p:blipFill>
          <p:spPr>
            <a:xfrm>
              <a:off x="3222720" y="6168600"/>
              <a:ext cx="1561320" cy="24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" name="Picture 6" descr=""/>
            <p:cNvPicPr/>
            <p:nvPr/>
          </p:nvPicPr>
          <p:blipFill>
            <a:blip r:embed="rId6"/>
            <a:stretch/>
          </p:blipFill>
          <p:spPr>
            <a:xfrm>
              <a:off x="2327400" y="5987880"/>
              <a:ext cx="511200" cy="606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"/>
          <p:cNvPicPr/>
          <p:nvPr/>
        </p:nvPicPr>
        <p:blipFill>
          <a:blip r:embed="rId3"/>
          <a:stretch/>
        </p:blipFill>
        <p:spPr>
          <a:xfrm>
            <a:off x="0" y="-76320"/>
            <a:ext cx="9144000" cy="120492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sldNum" idx="2"/>
          </p:nvPr>
        </p:nvSpPr>
        <p:spPr>
          <a:xfrm>
            <a:off x="8706960" y="6421320"/>
            <a:ext cx="6447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2EF19-585C-42A5-9B96-DA7963BC54B3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"/>
          <p:cNvPicPr/>
          <p:nvPr/>
        </p:nvPicPr>
        <p:blipFill>
          <a:blip r:embed="rId3"/>
          <a:stretch/>
        </p:blipFill>
        <p:spPr>
          <a:xfrm>
            <a:off x="0" y="-76320"/>
            <a:ext cx="9144000" cy="1204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"/>
          <p:cNvPicPr/>
          <p:nvPr/>
        </p:nvPicPr>
        <p:blipFill>
          <a:blip r:embed="rId3"/>
          <a:stretch/>
        </p:blipFill>
        <p:spPr>
          <a:xfrm>
            <a:off x="0" y="-76320"/>
            <a:ext cx="9144000" cy="1204920"/>
          </a:xfrm>
          <a:prstGeom prst="rect">
            <a:avLst/>
          </a:prstGeom>
          <a:ln w="0">
            <a:noFill/>
          </a:ln>
        </p:spPr>
      </p:pic>
      <p:sp>
        <p:nvSpPr>
          <p:cNvPr id="155" name="TextBox 3"/>
          <p:cNvSpPr/>
          <p:nvPr/>
        </p:nvSpPr>
        <p:spPr>
          <a:xfrm>
            <a:off x="0" y="205740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4" descr="AR_Global_partners.jpg"/>
          <p:cNvPicPr/>
          <p:nvPr/>
        </p:nvPicPr>
        <p:blipFill>
          <a:blip r:embed="rId4"/>
          <a:stretch/>
        </p:blipFill>
        <p:spPr>
          <a:xfrm>
            <a:off x="1733400" y="5533920"/>
            <a:ext cx="5677200" cy="561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"/>
          <p:cNvPicPr/>
          <p:nvPr/>
        </p:nvPicPr>
        <p:blipFill>
          <a:blip r:embed="rId3"/>
          <a:stretch/>
        </p:blipFill>
        <p:spPr>
          <a:xfrm>
            <a:off x="0" y="-76320"/>
            <a:ext cx="9144000" cy="120492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sldNum" idx="5"/>
          </p:nvPr>
        </p:nvSpPr>
        <p:spPr>
          <a:xfrm>
            <a:off x="8631000" y="6421320"/>
            <a:ext cx="56880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05D67-A6CD-49F3-B373-371A3538A418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4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34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wmf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380520" y="1523520"/>
            <a:ext cx="85345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109800"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109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b050"/>
                </a:solidFill>
                <a:latin typeface="Calibri"/>
              </a:rPr>
              <a:t>From skeptism to realism: unlocking productivity potential under small holder farmers in Babati, Northern Tanzan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600200" y="3809880"/>
            <a:ext cx="5562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Kihara J., Kizito F., Lyimo S.D., Yangole L., Songoyani I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4" name="Picture 2" descr="C:\Users\user\Desktop\6719132809_d02a581715_s.jpg"/>
          <p:cNvPicPr/>
          <p:nvPr/>
        </p:nvPicPr>
        <p:blipFill>
          <a:blip r:embed="rId2"/>
          <a:stretch/>
        </p:blipFill>
        <p:spPr>
          <a:xfrm>
            <a:off x="0" y="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onclusions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56840" y="13716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212400">
              <a:spcBef>
                <a:spcPts val="7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armer perceptions of soil condition relate well with observed productiv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212400">
              <a:spcBef>
                <a:spcPts val="7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mand for soil and water conservation is hig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212400">
              <a:spcBef>
                <a:spcPts val="7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armers obtain yield improvements that pay off fertilizer and associated added costs of the improved practi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212400">
              <a:spcBef>
                <a:spcPts val="7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ductivity of some components such as beans still very lo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212400">
              <a:spcBef>
                <a:spcPts val="7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ailure to use specific components of IP is explained and suggestions made, including mechanization suppo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randomBa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151920" y="1905120"/>
            <a:ext cx="8991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700"/>
              </a:spcBef>
              <a:buClr>
                <a:srgbClr val="7121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w use of fertilizers and poor agronom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7121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ductivity low below potential for the are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7121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ize pigeonpea intercropping 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700"/>
              </a:spcBef>
              <a:buClr>
                <a:srgbClr val="7121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sess crop performance with good agronomic practices under farmer conditions and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700"/>
              </a:spcBef>
              <a:buClr>
                <a:srgbClr val="7121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nderstand farmer perceptions of production environments and Improved practice of maize/pigeonpea produ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457200" y="22860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700"/>
              </a:spcBef>
              <a:buClr>
                <a:srgbClr val="7121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earcher controlled trials of fertilizer respon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7121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ailored agronomic surveys with farmers using fertilizers in different seasons (3 target practic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601"/>
              </a:spcBef>
              <a:buClr>
                <a:srgbClr val="71212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mproved practi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601"/>
              </a:spcBef>
              <a:buClr>
                <a:srgbClr val="71212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armers practi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601"/>
              </a:spcBef>
              <a:buClr>
                <a:srgbClr val="71212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 (like IP but no fertilizer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7121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armers participatory technology assessments at villag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Method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3" descr=""/>
          <p:cNvPicPr/>
          <p:nvPr/>
        </p:nvPicPr>
        <p:blipFill>
          <a:blip r:embed="rId1"/>
          <a:stretch/>
        </p:blipFill>
        <p:spPr>
          <a:xfrm>
            <a:off x="5181480" y="4191120"/>
            <a:ext cx="3505320" cy="2628720"/>
          </a:xfrm>
          <a:prstGeom prst="rect">
            <a:avLst/>
          </a:prstGeom>
          <a:ln w="0">
            <a:noFill/>
          </a:ln>
        </p:spPr>
      </p:pic>
      <p:sp>
        <p:nvSpPr>
          <p:cNvPr id="250" name="Slide Number Placeholder 4"/>
          <p:cNvSpPr/>
          <p:nvPr/>
        </p:nvSpPr>
        <p:spPr>
          <a:xfrm>
            <a:off x="8610480" y="6400800"/>
            <a:ext cx="609840" cy="396720"/>
          </a:xfrm>
          <a:prstGeom prst="bracketPair">
            <a:avLst>
              <a:gd name="adj" fmla="val 1794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0D24E-1F1D-40D5-8360-257EF93590CE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13"/>
          <p:cNvSpPr/>
          <p:nvPr/>
        </p:nvSpPr>
        <p:spPr>
          <a:xfrm>
            <a:off x="0" y="333360"/>
            <a:ext cx="914400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3926"/>
                </a:solidFill>
                <a:latin typeface="Calibri"/>
              </a:rPr>
              <a:t>Where we started. Where are we go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5" descr=""/>
          <p:cNvPicPr/>
          <p:nvPr/>
        </p:nvPicPr>
        <p:blipFill>
          <a:blip r:embed="rId2"/>
          <a:stretch/>
        </p:blipFill>
        <p:spPr>
          <a:xfrm>
            <a:off x="152280" y="685800"/>
            <a:ext cx="5527800" cy="401472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5" descr=""/>
          <p:cNvPicPr/>
          <p:nvPr/>
        </p:nvPicPr>
        <p:blipFill>
          <a:blip r:embed="rId3"/>
          <a:stretch/>
        </p:blipFill>
        <p:spPr>
          <a:xfrm>
            <a:off x="5257800" y="1143000"/>
            <a:ext cx="3692520" cy="3165480"/>
          </a:xfrm>
          <a:prstGeom prst="rect">
            <a:avLst/>
          </a:prstGeom>
          <a:ln w="0">
            <a:noFill/>
          </a:ln>
        </p:spPr>
      </p:pic>
      <p:sp>
        <p:nvSpPr>
          <p:cNvPr id="254" name="TextBox 2"/>
          <p:cNvSpPr/>
          <p:nvPr/>
        </p:nvSpPr>
        <p:spPr>
          <a:xfrm>
            <a:off x="6225120" y="1066680"/>
            <a:ext cx="1884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verage for ~60 tri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farmer x season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5" name="Straight Arrow Connector 4"/>
          <p:cNvCxnSpPr/>
          <p:nvPr/>
        </p:nvCxnSpPr>
        <p:spPr>
          <a:xfrm flipV="1">
            <a:off x="762120" y="2590200"/>
            <a:ext cx="3582000" cy="889560"/>
          </a:xfrm>
          <a:prstGeom prst="straightConnector1">
            <a:avLst/>
          </a:prstGeom>
          <a:ln w="73080">
            <a:solidFill>
              <a:srgbClr val="f07c03"/>
            </a:solidFill>
            <a:miter/>
            <a:tailEnd len="med" type="triangle" w="med"/>
          </a:ln>
        </p:spPr>
      </p:cxnSp>
      <p:sp>
        <p:nvSpPr>
          <p:cNvPr id="256" name="TextBox 7"/>
          <p:cNvSpPr/>
          <p:nvPr/>
        </p:nvSpPr>
        <p:spPr>
          <a:xfrm>
            <a:off x="380880" y="4876920"/>
            <a:ext cx="43434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ropriate plant dens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rtile soi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574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ximity to homest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574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requent manure 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574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ottomland field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ource: Kihara et al 201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eft Brace 9"/>
          <p:cNvSpPr/>
          <p:nvPr/>
        </p:nvSpPr>
        <p:spPr>
          <a:xfrm>
            <a:off x="1981080" y="5299200"/>
            <a:ext cx="152640" cy="1299960"/>
          </a:xfrm>
          <a:custGeom>
            <a:avLst/>
            <a:gdLst>
              <a:gd name="textAreaLeft" fmla="*/ 97560 w 152640"/>
              <a:gd name="textAreaRight" fmla="*/ 153000 w 152640"/>
              <a:gd name="textAreaTop" fmla="*/ 3960 h 1299960"/>
              <a:gd name="textAreaBottom" fmla="*/ 1296000 h 1299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06"/>
                  <a:pt x="10800" y="211"/>
                </a:cubicBezTo>
                <a:lnTo>
                  <a:pt x="10800" y="10589"/>
                </a:lnTo>
                <a:cubicBezTo>
                  <a:pt x="10800" y="10695"/>
                  <a:pt x="5400" y="10800"/>
                  <a:pt x="0" y="10800"/>
                </a:cubicBezTo>
                <a:cubicBezTo>
                  <a:pt x="5400" y="10800"/>
                  <a:pt x="10800" y="10906"/>
                  <a:pt x="10800" y="11011"/>
                </a:cubicBezTo>
                <a:lnTo>
                  <a:pt x="10800" y="21389"/>
                </a:lnTo>
                <a:cubicBezTo>
                  <a:pt x="10800" y="21495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ight Brace 10"/>
          <p:cNvSpPr/>
          <p:nvPr/>
        </p:nvSpPr>
        <p:spPr>
          <a:xfrm>
            <a:off x="4419720" y="5257800"/>
            <a:ext cx="304560" cy="1341360"/>
          </a:xfrm>
          <a:custGeom>
            <a:avLst/>
            <a:gdLst>
              <a:gd name="textAreaLeft" fmla="*/ 0 w 304560"/>
              <a:gd name="textAreaRight" fmla="*/ 109800 w 304560"/>
              <a:gd name="textAreaTop" fmla="*/ 7920 h 1341360"/>
              <a:gd name="textAreaBottom" fmla="*/ 1333440 h 1341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05"/>
                  <a:pt x="10800" y="409"/>
                </a:cubicBezTo>
                <a:lnTo>
                  <a:pt x="10800" y="10391"/>
                </a:lnTo>
                <a:cubicBezTo>
                  <a:pt x="10800" y="10596"/>
                  <a:pt x="16200" y="10800"/>
                  <a:pt x="21600" y="10800"/>
                </a:cubicBezTo>
                <a:cubicBezTo>
                  <a:pt x="16200" y="10800"/>
                  <a:pt x="10800" y="11005"/>
                  <a:pt x="10800" y="11209"/>
                </a:cubicBezTo>
                <a:lnTo>
                  <a:pt x="10800" y="21191"/>
                </a:lnTo>
                <a:cubicBezTo>
                  <a:pt x="10800" y="21396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15"/>
          <p:cNvSpPr/>
          <p:nvPr/>
        </p:nvSpPr>
        <p:spPr>
          <a:xfrm>
            <a:off x="3472560" y="1077840"/>
            <a:ext cx="151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17 farmer fiel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survey 201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8" descr=""/>
          <p:cNvPicPr/>
          <p:nvPr/>
        </p:nvPicPr>
        <p:blipFill>
          <a:blip r:embed="rId1"/>
          <a:stretch/>
        </p:blipFill>
        <p:spPr>
          <a:xfrm>
            <a:off x="2773440" y="2925720"/>
            <a:ext cx="6294240" cy="378000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12" descr=""/>
          <p:cNvPicPr/>
          <p:nvPr/>
        </p:nvPicPr>
        <p:blipFill>
          <a:blip r:embed="rId2"/>
          <a:stretch/>
        </p:blipFill>
        <p:spPr>
          <a:xfrm>
            <a:off x="139680" y="1143000"/>
            <a:ext cx="5651640" cy="3398760"/>
          </a:xfrm>
          <a:prstGeom prst="rect">
            <a:avLst/>
          </a:prstGeom>
          <a:ln w="0">
            <a:noFill/>
          </a:ln>
        </p:spPr>
      </p:pic>
      <p:sp>
        <p:nvSpPr>
          <p:cNvPr id="262" name="TextBox 13"/>
          <p:cNvSpPr/>
          <p:nvPr/>
        </p:nvSpPr>
        <p:spPr>
          <a:xfrm>
            <a:off x="2182680" y="1446120"/>
            <a:ext cx="310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ields from 76 farmer fields in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1" descr=""/>
          <p:cNvPicPr/>
          <p:nvPr/>
        </p:nvPicPr>
        <p:blipFill>
          <a:blip r:embed="rId3"/>
          <a:stretch/>
        </p:blipFill>
        <p:spPr>
          <a:xfrm>
            <a:off x="55440" y="1206360"/>
            <a:ext cx="5542200" cy="3335400"/>
          </a:xfrm>
          <a:prstGeom prst="rect">
            <a:avLst/>
          </a:prstGeom>
          <a:ln w="0">
            <a:noFill/>
          </a:ln>
        </p:spPr>
      </p:pic>
      <p:sp>
        <p:nvSpPr>
          <p:cNvPr id="264" name="TextBox 13"/>
          <p:cNvSpPr/>
          <p:nvPr/>
        </p:nvSpPr>
        <p:spPr>
          <a:xfrm>
            <a:off x="0" y="333360"/>
            <a:ext cx="914400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3926"/>
                </a:solidFill>
                <a:latin typeface="Calibri"/>
              </a:rPr>
              <a:t>Where we started. Where are we going?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5" name="Straight Arrow Connector 6"/>
          <p:cNvCxnSpPr/>
          <p:nvPr/>
        </p:nvCxnSpPr>
        <p:spPr>
          <a:xfrm flipV="1">
            <a:off x="1294920" y="2513880"/>
            <a:ext cx="3582360" cy="889560"/>
          </a:xfrm>
          <a:prstGeom prst="straightConnector1">
            <a:avLst/>
          </a:prstGeom>
          <a:ln w="73080">
            <a:solidFill>
              <a:srgbClr val="f07c03"/>
            </a:solidFill>
            <a:miter/>
            <a:tailEnd len="med" type="triangle" w="med"/>
          </a:ln>
        </p:spPr>
      </p:cxnSp>
      <p:cxnSp>
        <p:nvCxnSpPr>
          <p:cNvPr id="266" name="Straight Arrow Connector 9"/>
          <p:cNvCxnSpPr/>
          <p:nvPr/>
        </p:nvCxnSpPr>
        <p:spPr>
          <a:xfrm flipV="1">
            <a:off x="3733920" y="3962160"/>
            <a:ext cx="4496400" cy="1753200"/>
          </a:xfrm>
          <a:prstGeom prst="straightConnector1">
            <a:avLst/>
          </a:prstGeom>
          <a:ln w="73080">
            <a:solidFill>
              <a:srgbClr val="f07c03"/>
            </a:solidFill>
            <a:miter/>
            <a:tailEnd len="med" type="triangle" w="med"/>
          </a:ln>
        </p:spPr>
      </p:cxnSp>
      <p:sp>
        <p:nvSpPr>
          <p:cNvPr id="267" name="TextBox 14"/>
          <p:cNvSpPr/>
          <p:nvPr/>
        </p:nvSpPr>
        <p:spPr>
          <a:xfrm>
            <a:off x="1015920" y="1274760"/>
            <a:ext cx="93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6 surv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16" descr=""/>
          <p:cNvPicPr/>
          <p:nvPr/>
        </p:nvPicPr>
        <p:blipFill>
          <a:blip r:embed="rId4"/>
          <a:stretch/>
        </p:blipFill>
        <p:spPr>
          <a:xfrm>
            <a:off x="5867280" y="1041480"/>
            <a:ext cx="2900520" cy="2468520"/>
          </a:xfrm>
          <a:prstGeom prst="rect">
            <a:avLst/>
          </a:prstGeom>
          <a:ln w="0">
            <a:noFill/>
          </a:ln>
        </p:spPr>
      </p:pic>
      <p:sp>
        <p:nvSpPr>
          <p:cNvPr id="269" name="TextBox 17"/>
          <p:cNvSpPr/>
          <p:nvPr/>
        </p:nvSpPr>
        <p:spPr>
          <a:xfrm>
            <a:off x="5791320" y="3510000"/>
            <a:ext cx="102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3 surv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8"/>
          <p:cNvSpPr/>
          <p:nvPr/>
        </p:nvSpPr>
        <p:spPr>
          <a:xfrm>
            <a:off x="6435720" y="950760"/>
            <a:ext cx="955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14 average of 27 fie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19" descr=""/>
          <p:cNvPicPr/>
          <p:nvPr/>
        </p:nvPicPr>
        <p:blipFill>
          <a:blip r:embed="rId5"/>
          <a:stretch/>
        </p:blipFill>
        <p:spPr>
          <a:xfrm>
            <a:off x="0" y="4643280"/>
            <a:ext cx="2898720" cy="163044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Fertilizer use by farmers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57200" y="1839960"/>
          <a:ext cx="7924680" cy="3341520"/>
        </p:xfrm>
        <a:graphic>
          <a:graphicData uri="http://schemas.openxmlformats.org/drawingml/2006/table">
            <a:tbl>
              <a:tblPr/>
              <a:tblGrid>
                <a:gridCol w="1828800"/>
                <a:gridCol w="1447920"/>
                <a:gridCol w="1371600"/>
                <a:gridCol w="1523880"/>
                <a:gridCol w="1752480"/>
              </a:tblGrid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illa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upons 20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aken 20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upons 20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aken 20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</a:tr>
              <a:tr h="1036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bil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1481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lo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</a:tbl>
          </a:graphicData>
        </a:graphic>
      </p:graphicFrame>
      <p:sp>
        <p:nvSpPr>
          <p:cNvPr id="274" name=""/>
          <p:cNvSpPr txBox="1"/>
          <p:nvPr/>
        </p:nvSpPr>
        <p:spPr>
          <a:xfrm>
            <a:off x="419040" y="5105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7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ery high numbers refused to use fertilizers in 201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mand for fertilizers is rapidly rising among farm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4" descr=""/>
          <p:cNvPicPr/>
          <p:nvPr/>
        </p:nvPicPr>
        <p:blipFill>
          <a:blip r:embed="rId1"/>
          <a:stretch/>
        </p:blipFill>
        <p:spPr>
          <a:xfrm>
            <a:off x="61920" y="1805040"/>
            <a:ext cx="9082080" cy="4452840"/>
          </a:xfrm>
          <a:prstGeom prst="rect">
            <a:avLst/>
          </a:prstGeom>
          <a:ln w="0">
            <a:noFill/>
          </a:ln>
        </p:spPr>
      </p:pic>
      <p:sp>
        <p:nvSpPr>
          <p:cNvPr id="276" name="TextBox 13"/>
          <p:cNvSpPr/>
          <p:nvPr/>
        </p:nvSpPr>
        <p:spPr>
          <a:xfrm>
            <a:off x="0" y="333360"/>
            <a:ext cx="914400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3926"/>
                </a:solidFill>
                <a:latin typeface="Calibri"/>
              </a:rPr>
              <a:t>Yields with fertilizers across villag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7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7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9" name="Picture 5" descr=""/>
          <p:cNvPicPr/>
          <p:nvPr/>
        </p:nvPicPr>
        <p:blipFill>
          <a:blip r:embed="rId1"/>
          <a:stretch/>
        </p:blipFill>
        <p:spPr>
          <a:xfrm>
            <a:off x="272880" y="1447920"/>
            <a:ext cx="8642520" cy="5148000"/>
          </a:xfrm>
          <a:prstGeom prst="rect">
            <a:avLst/>
          </a:prstGeom>
          <a:ln w="0">
            <a:noFill/>
          </a:ln>
        </p:spPr>
      </p:pic>
      <p:sp>
        <p:nvSpPr>
          <p:cNvPr id="280" name="TextBox 13"/>
          <p:cNvSpPr/>
          <p:nvPr/>
        </p:nvSpPr>
        <p:spPr>
          <a:xfrm>
            <a:off x="0" y="333360"/>
            <a:ext cx="914400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3926"/>
                </a:solidFill>
                <a:latin typeface="Calibri"/>
              </a:rPr>
              <a:t>Yield change due to improved practi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Landscapes and farmer awareness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5625720" y="1600200"/>
            <a:ext cx="3289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7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armers perceive erosion and indicate willingness to address 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3" name="Picture 4" descr=""/>
          <p:cNvPicPr/>
          <p:nvPr/>
        </p:nvPicPr>
        <p:blipFill>
          <a:blip r:embed="rId1"/>
          <a:stretch/>
        </p:blipFill>
        <p:spPr>
          <a:xfrm>
            <a:off x="304920" y="1890720"/>
            <a:ext cx="5321160" cy="374796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31T11:33:49Z</dcterms:created>
  <dc:creator>LeBorgne, Ewen (ILRI)</dc:creator>
  <dc:description/>
  <dc:language>en-US</dc:language>
  <cp:lastModifiedBy>Kihara Job</cp:lastModifiedBy>
  <cp:lastPrinted>2011-10-06T11:45:23Z</cp:lastPrinted>
  <dcterms:modified xsi:type="dcterms:W3CDTF">2016-06-30T08:25:04Z</dcterms:modified>
  <cp:revision>151</cp:revision>
  <dc:subject/>
  <dc:title>PowerPoint Presentation</dc:title>
</cp:coreProperties>
</file>