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9E2B-8B4E-402F-95CF-889CE67543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108A-72F4-4FA1-AA37-E8CC767BF8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050E-6347-4A5C-9127-C0FE59F2A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8680-B5FB-4ED3-A7A0-AE9E11DBD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072E-34B7-48AA-B8E9-A5DBC3855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5E149-7F2B-428B-85B8-E20B000A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8CAEEF-D95F-475F-83A1-562431BC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B24BF0-BE1F-4026-8C94-E893AF7D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6C97C1-0624-49BD-AB18-84ECE80A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D14DA3-8583-46CB-8DA1-578DE118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2BBD2C-724C-4AA2-AB1F-56109A5F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A516FF-F30E-4FF9-91F6-C09AAE6AD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EE2882-49F9-46C0-85EA-4DECB1281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CAF93-AB9F-4BD4-88B1-368597E3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A0FD6-D029-4059-A763-7C43851D8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84DCB-A7CB-43CB-951B-33C649F8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FED94C-CD1C-4F18-B153-24E4126E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31371-B402-4157-BBA7-23E54C59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5AA76-A74B-4145-B49B-F2FBB56B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507FE3-613E-4B9F-A0AA-95D21A98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E7027-7CF8-4556-B9ED-59D7942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B2358-687A-476F-9679-8F61A618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6A2D37-E4CC-4701-8D07-D29A3335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4F01E3-067D-4B20-93BD-5163D96B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D56BA3-6D39-42A8-8532-F6668CB88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AFFBC-1FDC-409C-A257-28451DE0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1A46C1-43D6-4368-B3AB-102CD0CD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0F37BD-D868-4CD1-8FE8-59EF7DE6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523C13-7813-45B8-8FE3-0A7C4478C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23DC4B-467E-48F9-9952-253FAEBCF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49B70D-4F23-42FF-8C4E-F55A7070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8F5D20-AC07-4680-A63B-FA0ADCC2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200C13-C823-441B-BF90-4F7D342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511E90-8480-4230-9853-AB8036B0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326DCE-8EDB-4E18-BDC2-00754FD5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28925-21EE-4FE9-9B92-F7BE2E93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609F99-9FFD-4FD2-8777-0E518E4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27C494-A195-4A1B-9DD8-D90EAC14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276E31-3385-4741-978E-CB19B3AE7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1EEE50-C203-4009-83E1-D0F91B4FE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3BBB711-6052-4ABE-A6EF-CAF3D069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DE244AC-42EB-4E3D-85A4-A5082A57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FCD4252-D12C-46C3-A567-9FEC6DC3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73B9626-FF4E-46B3-A0ED-6A22E369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D5C38AE-6FEF-4957-BA09-FF2907C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0BBE548-7C41-4842-85DA-749C2043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0B1FF-04FA-4FCA-93FE-D060A2DBA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79C30F9-9129-402D-B77F-3B20EFE5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91298C-9AD6-4BC3-8325-34774354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93964C-31B0-461E-A459-72AA28C2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C161ABE-ADA5-4D73-A406-B56985E6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B9E7F8E-A396-4D28-8070-D9FD070D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EDBE4-CB0E-4AA6-88A2-ADDFD5A0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EB5DD-3C17-4F2F-AB4D-0887F794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5C8F9-D1BC-432D-ABA2-8215CE8A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F1669-EAE5-4654-BC97-346DCEF31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671D0-2D5C-4658-B7C3-80C21642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2977A-4C4A-487B-8BC9-2BCD63B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DF093-1874-4952-B073-A65CD991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0EF2DD-6428-4718-8592-D84E9E30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E1B2B-87CA-4CA7-9850-EB069E6E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64F4F-FF99-4C2E-B917-7E27110E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AAA3B2-1B02-48CD-8EDB-30BC8BF3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CE902-3E13-45A4-9412-8F66052A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13223-7B82-48B0-ABA2-98F54F702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CA89FC-E145-4C0F-95FE-32752496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308DEC-6A03-4042-B1A2-1B64C096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61DBD5-AD32-4F7A-A79B-A0434651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6D0B32-F431-40E0-BA29-DB25A1D3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A0FD9-F651-4B7A-B137-EF5539E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6ADB9B-2C39-40A6-B974-C9D1CCCE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5AF96-5C3D-43DD-AA75-AE1F4426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B2B5A-9F6D-4AB1-84AA-158E30F71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82864-9D70-4505-B370-7D96EC41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00148B-52CB-459E-9A12-A69CB9A1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13877F-7728-469E-97F3-D6D1CF0D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572C1-87FF-42F1-9658-9ACEFEBE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36718-5526-4A12-9B61-EDE113E4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914EF6-51F5-41C8-B1ED-42A13CCAE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861073-AEAA-4ED3-8443-281754FD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B8E850-5E34-4DD9-BA0D-720FFFF4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CC71DA-3C0F-4C1B-9CCD-387BF779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121FA-CFDA-49AA-B8BA-48AFC87ED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75BBE8-22EC-4794-B702-2BD7CF02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437124-7406-4FB4-BC4D-6A82B5D9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CC8CA8-9205-4728-AA86-BC0989609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0E822-537E-4542-9B83-F1D745457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C6C79-977F-4A24-B473-CF6DFE8BB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E85F80-3117-441E-92A7-1FAD047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1A270B-9974-41D5-A000-800FC517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992D03-99E3-4366-B2C3-16D424AC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AC539-A491-467F-936A-21749A88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C70AAD-B714-40B1-8CEA-AAC54C936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4AB8BD-046E-48D7-BFEE-66159D06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E2BA9-6AA6-4484-BB9D-6B7DB470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93207A-CE2D-407C-ABAD-5BB048C5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56F49-B0C9-4CFA-BA80-835E0C43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EE1F1-7F87-4232-9B6D-FFF587B0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F27191-CE1A-42D7-A575-2DCFC893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6E81AB-327F-4372-9057-B59B6EE0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AFC23-BFC1-47D3-A86A-274C0BA7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CC8FCA-F329-4DEB-8034-FD9FAC2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FADD06-953D-49B9-805B-57630318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63D90A-ADEA-4E6F-AE37-162A9D69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0982D1-99F6-447F-A552-ABBC22E7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4F8721-24C7-4A94-8B8E-360AEAE2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672B5-5101-4509-8C5A-439F5FAC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40FDC-4781-4EF4-8E96-70CE9894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93DB54-FA90-474C-87FE-D6D5983A6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1B529A-85A7-4DE8-9F8F-02E0837D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9E5F44-1A45-4B86-A6F7-0121D8A5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2D56BC-FF03-4817-9949-34D81CE5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859A24-A759-4B59-AB05-9D3E3F05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A480B8-A174-4674-B40A-1DFC2091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8F993A-B2DA-45B3-AFC4-31B9842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B8C28-4FA6-4217-BB85-A7DDA345A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48CBD9-6284-4746-82FB-B8B32522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189D2D-6443-4D17-BADF-EEB4609F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F86E0D-D076-4A59-B8EF-04A7BE4F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CB87EC-C122-4423-B22F-7B93DC7B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C2BC3B-DA0B-4E9E-996A-DAA357A1F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D3C297-7B2D-448E-84F7-6BBD14E36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664C2B-B380-4AA9-94C8-ED75FDD5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FFFDA5-C9C6-4BD2-BC9B-D7C5F54E9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3CB50F-0F39-4B5E-A249-CB8874E5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D8F24C-0967-4545-ADFE-ECEDFE02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360652-70F4-4726-9407-AD22DEE4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4502FD-1743-4F81-A13E-99D5DE8A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A04233-B20C-4CE6-B849-6F189555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5D38FA-C85D-409A-B1E1-0A2DA299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0B2A55-495C-4BC2-B29C-C9A8907A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217857-ED83-4EB2-A2AC-B1C55CBD4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5BC66F-9663-4A32-9621-88C67347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08FD23-A27E-4D7B-89B5-2D5615AF9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3F6948-FFFE-4670-A5FC-EFB13F0D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9A637-29EA-46E1-8144-D741C6F7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A8C560-726F-47E9-9139-F8B858DF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6B0C-1122-4007-B9DF-6D0B716C2CF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12BA-5018-4F3B-9024-26876B3D6F1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D383-B4A7-4422-95A4-62A5A90C8B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5A23-6633-4708-82DF-241CA72AC9C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32C2-CE91-4E11-BC82-793446D391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0A41-6DCF-4721-AFA3-FBECFE25B1F3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5C98-CD14-4EE7-904D-38F528D2E0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AA35-8EB7-4ADE-9CE1-567A1BF8F9E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4DF5-0F9F-44F9-9AB4-27777BC4A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7D43-E2F6-4CAD-B0AD-678D34B7C4D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35057-2D78-48BF-9AEA-3007B53997F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F8D-B3D1-40F4-B65D-3CB0889E1E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47AA-1033-4357-B2D3-F131EC97BC92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BA6C-5484-4885-B53E-2F53BED0FB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6FF0-8BD9-4C6B-923F-BA19B4E66001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50EF-3ADD-4556-9EC2-8BE8E747CC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84C0-3696-48A2-89A3-BCD79185961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34FA-68A2-42CB-B0D9-CD177888C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2B27-EB50-4DBA-8044-A22BDDCDFB4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FF42-7316-4367-A65F-77D4EEB8DA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928A-04C5-4C88-9F39-2FE13E33BB08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EE89-7E4D-41F6-860D-3BF051FEF8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mbria"/>
              </a:rPr>
              <a:t>Year 1 Overview</a:t>
            </a:r>
            <a:endParaRPr b="0" lang="en-US" sz="48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I. Hoeschle-Zeledon</a:t>
            </a:r>
            <a:br>
              <a:rPr sz="2400"/>
            </a:b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Africa RISING East/Southern Africa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323232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323232"/>
                </a:solidFill>
                <a:latin typeface="Cambria"/>
              </a:rPr>
              <a:t>Program Management Structure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537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Project Coordination Committee (PCC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057400" y="320040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33520" y="9370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advice and coordination on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science guidance to Project implem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Project planning and al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ses on annual Project workplan and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sees coordination between Project component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aises with IST to oversee M&amp;E; cc PCT on all repor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s PCT informed of activities via the Project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s and makes suggestions to Project Coordinator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annual technical progress reports to US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s yearly stakeholder meetings with support from Progr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made by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ets annually in personal and virtually as called by the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ESA PCC Composition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533520" y="199476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ir: IITA Reg. Dir. for 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oordinator, serves as Secretary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hief Scientist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artners: CGIAR (1, AfricaRice), yearly ro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su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research organizations (1, ASAREC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NARS (1, COSTECH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and others as 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mmunications Lead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ID Activity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cience Advisory Group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09480" y="2743200"/>
            <a:ext cx="4572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ed me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ggie Gill (DF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Ken Giller (W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John Dixon (ACI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uno Gerard (CIMMY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ave Harris (ICRIS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ernard van Lauwe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ps. from CR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gender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R chief scientists (3, ILRI/IIT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Activity Manager (J. Glov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USAID visit, June 17-22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533520" y="236232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. Glover and E. Witte from DC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project staff in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USAID country mission partners, e.g. NAFAKA, S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 ongo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t better idea of future actio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uss alignment with MAFSC , USAID mission, 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C:\Users\IZeledon\Pictures\USAID visit Tanzania June 2012\DSC03480.jpg"/>
          <p:cNvPicPr/>
          <p:nvPr/>
        </p:nvPicPr>
        <p:blipFill>
          <a:blip r:embed="rId1"/>
          <a:stretch/>
        </p:blipFill>
        <p:spPr>
          <a:xfrm>
            <a:off x="4495680" y="4952880"/>
            <a:ext cx="2210040" cy="1795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IZeledon\Pictures\USAID visit Tanzania June 2012\DSC03486.jpg"/>
          <p:cNvPicPr/>
          <p:nvPr/>
        </p:nvPicPr>
        <p:blipFill>
          <a:blip r:embed="rId2"/>
          <a:stretch/>
        </p:blipFill>
        <p:spPr>
          <a:xfrm>
            <a:off x="1600200" y="487692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28600" y="6362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69720" cy="379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Corporate Comms\Downloads\icrisat_logo.jpg"/>
          <p:cNvPicPr/>
          <p:nvPr/>
        </p:nvPicPr>
        <p:blipFill>
          <a:blip r:embed="rId3"/>
          <a:stretch/>
        </p:blipFill>
        <p:spPr>
          <a:xfrm>
            <a:off x="1447920" y="6324480"/>
            <a:ext cx="1143000" cy="3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Corporate Comms\Downloads\AfricaRice logo.png"/>
          <p:cNvPicPr/>
          <p:nvPr/>
        </p:nvPicPr>
        <p:blipFill>
          <a:blip r:embed="rId4"/>
          <a:srcRect l="0" t="0" r="73495" b="19117"/>
          <a:stretch/>
        </p:blipFill>
        <p:spPr>
          <a:xfrm>
            <a:off x="3505320" y="6248520"/>
            <a:ext cx="530280" cy="50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C:\Users\Corporate Comms\Downloads\IFPRI logo (green).jpg"/>
          <p:cNvPicPr/>
          <p:nvPr/>
        </p:nvPicPr>
        <p:blipFill>
          <a:blip r:embed="rId5"/>
          <a:stretch/>
        </p:blipFill>
        <p:spPr>
          <a:xfrm>
            <a:off x="4114800" y="6172200"/>
            <a:ext cx="322200" cy="506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C:\Users\Corporate Comms\Downloads\AVRDC logo.jpg"/>
          <p:cNvPicPr/>
          <p:nvPr/>
        </p:nvPicPr>
        <p:blipFill>
          <a:blip r:embed="rId6"/>
          <a:stretch/>
        </p:blipFill>
        <p:spPr>
          <a:xfrm>
            <a:off x="6553080" y="6324480"/>
            <a:ext cx="16002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Object 6"/>
          <p:cNvGraphicFramePr/>
          <p:nvPr/>
        </p:nvGraphicFramePr>
        <p:xfrm>
          <a:off x="2666880" y="6095880"/>
          <a:ext cx="76212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6095880"/>
                    <a:ext cx="762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3" descr="C:\Users\izeledon\Documents\LOGOS\ciat-log.gif"/>
          <p:cNvPicPr/>
          <p:nvPr/>
        </p:nvPicPr>
        <p:blipFill>
          <a:blip r:embed="rId9"/>
          <a:stretch/>
        </p:blipFill>
        <p:spPr>
          <a:xfrm>
            <a:off x="5486400" y="6324480"/>
            <a:ext cx="990720" cy="300240"/>
          </a:xfrm>
          <a:prstGeom prst="rect">
            <a:avLst/>
          </a:prstGeom>
          <a:ln w="0">
            <a:noFill/>
          </a:ln>
        </p:spPr>
      </p:pic>
      <p:pic>
        <p:nvPicPr>
          <p:cNvPr id="620" name="il_fi" descr="http://www.goes.msu.edu/sumernet/logo/ICRAF%20logo.jpg"/>
          <p:cNvPicPr/>
          <p:nvPr/>
        </p:nvPicPr>
        <p:blipFill>
          <a:blip r:embed="rId10"/>
          <a:stretch/>
        </p:blipFill>
        <p:spPr>
          <a:xfrm>
            <a:off x="4495680" y="6172200"/>
            <a:ext cx="84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2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The Start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Oct. 2011: Brain storming meeting in preparation of inception workshop, agreement  on countri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Nov./Dec. 2011: Development of Concept Not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Feb. 2012: Inception workshop DSM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decision on Program approach and name Africa RISING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all for jumpstart project proposal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April 2012: Approval of  10 jumpstarts, contracts, fund disbursemen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May 2012: Office set-up and staff recruitment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ontinuously:  Strategic  Program/Project documents developed, teams established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295640" cy="1212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295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78000"/>
            <a:ext cx="76201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Approved jumpstart project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33520" y="1905120"/>
          <a:ext cx="5181480" cy="4287600"/>
        </p:xfrm>
        <a:graphic>
          <a:graphicData uri="http://schemas.openxmlformats.org/drawingml/2006/table">
            <a:tbl>
              <a:tblPr/>
              <a:tblGrid>
                <a:gridCol w="1066680"/>
                <a:gridCol w="320040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Legume Value Chai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Post-harves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green 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logue of Crop, Soil, Water Managemen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toxins in Maize and Cass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System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Multi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fication of Farming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d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Vegetable 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3"/>
          <p:cNvSpPr/>
          <p:nvPr/>
        </p:nvSpPr>
        <p:spPr>
          <a:xfrm>
            <a:off x="533520" y="62118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rant ($120k) to MSU for first 6 months of research on Agroecological Intensification in MAL and TZ through Action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Lessons learnt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09480" y="2133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ry poi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SI to build on existing policies,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ps identified to fill (technological, capacity, policies, institutions, existing da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ory approaches towards integration of disciplines, evaluation of b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bets, land us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d systems impr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nerships and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 among researc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nal/extern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cy maker/private sector eng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ogistics and 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ual issues, inadequate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Research framework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397080" y="2514600"/>
            <a:ext cx="802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a set of hypotheses linked to research output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associated development outco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4114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election of Action Site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533520" y="1752480"/>
            <a:ext cx="7696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-location with USAID country mission investments/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presentative regarding drivers of intensification to allow for scal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up to areas with similar conditions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pulation density, market acces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agro-ecologic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for rigorous M&amp;E to determine impact of 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PRI: stratification/characterization of  target wards and vill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Z: Kiteto, Kongwa, Kilombero, Babati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L: Ntcheu, Dedza distri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ZAM: Eastern Prov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935000" cy="115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828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bfbfbf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-2057400" y="214956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ebsite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1" name="TextBox 2"/>
          <p:cNvSpPr/>
          <p:nvPr/>
        </p:nvSpPr>
        <p:spPr>
          <a:xfrm>
            <a:off x="1078920" y="4114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Where to share news, updates and announc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7640" y="1371600"/>
            <a:ext cx="9735840" cy="5473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0920" y="214920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iki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4" name="TextBox 2"/>
          <p:cNvSpPr/>
          <p:nvPr/>
        </p:nvSpPr>
        <p:spPr>
          <a:xfrm>
            <a:off x="3733920" y="5562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Collaboration space to support planning, sharing early documents, reporting and organizing ev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5T07:56:03Z</dcterms:modified>
  <cp:revision>829</cp:revision>
  <dc:subject/>
  <dc:title>PowerPoint Presentation</dc:title>
</cp:coreProperties>
</file>