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3.jpeg" ContentType="image/jpeg"/>
  <Override PartName="/ppt/media/image21.png" ContentType="image/png"/>
  <Override PartName="/ppt/media/image4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2.wmf" ContentType="image/x-wmf"/>
  <Override PartName="/ppt/media/image15.png" ContentType="image/png"/>
  <Override PartName="/ppt/media/image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dt" idx="3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ftr" idx="37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 type="sldNum" idx="38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94CE-856A-4C1F-97A2-E9F5B510B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C6D7-F006-4F2D-AF06-63D1A6A120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460D-298F-4C3B-8535-094CD40F0F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FDEF-B737-4865-A02E-D849CD278B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FECB-ED3E-4CAB-829F-38F5A00742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907157-0861-46D9-859A-A1781691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6015A5-9F26-4DEA-91ED-F6013513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7E8ABD-504D-4656-8C51-8FBE0701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C2FF37-A5B1-4315-80C7-7178C624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9E5CEB-6B85-4F39-B2DD-1EB71D53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E01C96-083D-4DFF-8C6E-AD08D4E8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305CF8-424C-4F15-85CE-71702182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E721B1-8D8C-4AF3-9DAE-2B14F08C1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E9D00B-7569-4372-AB68-0536C0E2B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098E95-9BFE-4601-970A-1CDDFD7D9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4178E7-028E-49D3-89F2-8979D2B5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324A26-2D3E-4FE7-BADF-AD247442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C2FEE2-0135-42A3-9383-6CFB3A78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0A096B-83AA-4F43-BDDC-736FB3AD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C27F9C-6021-44E4-ACCC-40D4B894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87F02A-E04C-4B70-BD7D-969B97DC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022762-C23C-45B8-9DDB-E6A2A41C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28EB33-9A89-44B3-BBBD-633BE25D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98A1A5-8E66-4A10-822B-36173633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EE44F2-F8FA-4221-90C2-A9ECE2131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84497A-B159-4F2B-8C17-566F4ED69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E280FFF-D602-4F51-B7BB-F8A871736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FEC689-9FED-4C0E-BC95-D9958C47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16AA4B-CA07-40B5-89A6-5A9FA798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5BC833-00D4-4BC3-B736-AC725EEC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9FA038-145C-4156-B66D-85D7A26F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99222F2-0052-4D17-A0A4-D95B11E0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35CF3A-ADB5-465E-AD69-0C0A89F7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09973E-F41A-4213-8AC2-EC6891F8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4DD4F9-7625-46A8-8207-288BAB7F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D95F0-06AB-4E32-84ED-B78FB218A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797BC3-901E-484F-8951-274D5EB7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109CD51-6ECB-4E8B-8C8C-815F6A0E3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D072D3-F8B8-4C6A-99A1-73A8ACE9E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7752E2-EF6F-4947-B64B-958F85220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98C6DE8-CB61-4821-B14F-04EA3F5E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67B34C-F26F-4903-A709-6DCA266F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B3AF93C-A5EA-453F-BA45-B13F85F2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A2F22A-9EB2-4E3D-901F-4EC26F7F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163793D-620A-45DF-81C1-34609900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EF4057A-C1EB-49AF-9E90-A2ECD4F3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A2FEC-BE07-4631-B712-0FEB8190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0972652-5958-441C-808B-2DA5D95B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7D90EE7-2B81-4CDF-AEB1-6CD0495B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5013A60-45E6-493C-AD30-D00D2E0A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7C70FD9-92E1-4D0E-8B31-DDDEBB36B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5492464-9353-417E-B49E-8562B50F8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8D677-B5DF-449A-BD79-E0CA3386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D04EA-56FF-4E6F-B680-8652644F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745A5-3D59-4128-B53C-E30C58F7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DC04C-4562-4F02-9A08-246A3B91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37E9F-71C8-4D23-96CE-F76DD70C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DE292-791C-4584-BC1B-28896E75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51FD5-7B48-40F6-A076-D9BDD5D1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23779-554F-4D2A-B425-CAAAAD2D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A0E84-BB47-4AE3-B455-22414A3C0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0D88C-32AA-4E92-A36C-2A13AE044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78D4D8-0D5F-4499-AA07-B090DDFB2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A59754-72B7-4F38-BEA7-6F4E2C61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91C708-5FEE-4F88-8492-5344A1BC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A0D761-6C04-4FC6-A260-D3FD9CB8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F876AF-E390-4DC1-8615-EF2D9C64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F3BB6C-61C3-437A-A6DA-E5FA9C59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1EBB8F-C471-4ABA-B93A-24554AF6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8493EE-9B18-4B7C-AE20-35127D89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BC7924-B1D0-4C2E-BA7F-075D0C4C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E34AC6-4271-48D7-8372-A2527F9F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658F36-E15B-4FC5-B166-3B1A330C9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7A7C5B-AB4E-42B1-8AB4-CE2D0E848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05C55B-8898-461F-898A-97D53639F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AABE9E-7391-4398-B301-F3785ECD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DAFB60-9BA7-48D3-B9A6-048A16BF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D3E643-FAEA-4439-B3CB-A4F8A716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868989-C6B5-4008-A98F-8B63D7C4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341C9A-880C-453D-B20F-3BADE8C4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96FB77-2C63-495C-9A46-19ACF0EE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B39DD4-0A8D-4031-B617-79715A61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07DF30-F93D-4AD5-B2AF-27F0A353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E807D5-3B7D-4108-B893-79E471E3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156C0B-7207-480A-BB54-F757A885C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7A3B0D-0B61-4D5D-A7B3-BC1E90BA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4CA739-D9F9-42AD-A530-AB44C65F5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33AF9F-B1BF-4CAE-9BF9-FE874C5C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D11286-D7AB-4241-ACCA-FDC599F5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7AA08B-9EA9-45D2-A035-7610741D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AFD442-3D1A-4130-956C-E9C21C64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DE1E65-B646-4F26-A650-9668ED4B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17238D-F0B9-4B05-9154-3E0AF5AD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CFC1B7-75E8-437E-B1E8-1520488B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6B24AB-D1F4-4D0A-90D6-BF343220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B4B8D7-DAEA-4831-8950-E2886A8F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3A4199-D780-4CB5-A372-735105E26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430977-D2A7-46CC-9604-A27FAA9EC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7F53C2-B247-4649-BB79-838F72E5B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ADCDE8-72FD-4C3E-9A08-0810BA3C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688972-EDB8-4590-AA6E-389FCF8C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B9340F-2886-401B-A0EB-4D71D266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2D41C9-720A-4BBD-88CD-7656907A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D407F1-BAAC-4BB6-94BD-08349EE9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6FC678-0424-4213-A967-F786E4C5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9FC0DB-4038-4DBC-BF25-98B91083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FDC8EF-F711-48F5-B423-D049F310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BA230D-93EE-455F-90E0-B37D313B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67D1D7-98D1-4CD9-BA99-F1744C17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AB8DC6-270A-4503-A980-FC8663F34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F88BEE-17BE-4741-8663-6AD4C320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22E027-91B7-4333-9E7A-ADDE9198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F4E91F-95B4-404E-9818-1EC512F4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F86FF7-4E49-4C54-8DD4-5B88BF54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441790-557D-4BC8-AA45-DB5BA680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4D33AF-A4DE-45C2-A1A1-126E8972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04DC60-7913-4A7E-B3EF-8D71D52C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61F4B9-4BEC-4102-B011-54E2096F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B946A4-C8F6-43AD-9F8C-46204AEE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A140C9-4E03-400A-A7D3-CEC636D5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EB4438-B02A-4C12-9C3B-488EBE67F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4E6440-9BB3-4F0C-A318-5859C3B0D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942F99-6872-4C37-A3D1-15199046D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1F06E5-C0FD-44E2-93DF-66AD4476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DF099A-59D9-473E-B76C-07FACA31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D902C2-A415-4517-82D1-045C8BED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182F48-ED9B-45B4-919B-DE68C0A9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3FA6B8-185B-4B8F-8085-EBB7CA83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0A39FE-FDF8-4E5B-AF35-F8E36668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9BADFB-F19A-47B4-85D0-AEFEB0BF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73747A-3AB9-4255-9BD0-39713EBA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ED24B2-3F38-4368-87BD-05232E61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83230B-9F70-4517-A981-5A0086CF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A3CE09-2AA2-48AE-A94F-785FCD575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622B2B-CF39-41E8-A0C2-EEC8E1D56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A176EE-D08A-4CD0-AA18-A47B2896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DFCCB5-771B-4D20-B4E1-704D34EE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76D6-D004-47DF-9B51-19C4DD88E549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7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3A72-7A1F-491F-9857-A6DEA8ED681A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28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99FD-D8A4-4729-A63B-B8E267AB11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29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3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0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0C8D-1953-415A-9F3D-ED9065BF028A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1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2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D08D-760B-44DB-8866-AAA9047D2D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34CF-99C4-4EB5-9EB2-61E17D9B50BD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4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5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CF01-B9EB-4BDB-A5A5-DA8025E268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82C9-AB25-491E-B523-A5DED20B7790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4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Contract Review Semin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5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5709-47B2-4B29-A439-FED1D381F1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6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0B7B-6D21-489B-A416-F5E4E14B32E8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7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Contract Review Semin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8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9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B1CD-A64C-4F19-89C9-5E765A8D4B25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0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1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02F2-B2DA-46A8-B973-36624B75E3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2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5437-2250-4B64-9175-45121F710C5A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3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4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FC5D-3E26-419C-AC13-5B2EFCBA01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5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79AF-66CA-4436-B385-30CFBF3A0245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6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7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D39D-809B-4693-B4AB-0234BB37DA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8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E23D-5795-41B1-A1AE-AAC15D962B00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9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0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09BF-425C-4F5A-B63D-79E696F3D0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1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3C7A-B538-44FB-9632-5654052C0DAD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3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FAC6-8A41-4281-AB4A-821E12BBA5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1E80-C478-48AF-8E31-4783A59D3F3E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26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C8C1-4DB9-4493-B6DE-515BED3877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905120"/>
            <a:ext cx="7543800" cy="21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23232"/>
                </a:solidFill>
                <a:latin typeface="Cambria"/>
              </a:rPr>
              <a:t>Year 1 Overview</a:t>
            </a:r>
            <a:endParaRPr b="0" lang="en-US" sz="48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7952"/>
                </a:solidFill>
                <a:latin typeface="Calibri"/>
              </a:rPr>
              <a:t>I. Hoeschle-Zeledon</a:t>
            </a:r>
            <a:br>
              <a:rPr sz="2400"/>
            </a:br>
            <a:r>
              <a:rPr b="0" lang="en-US" sz="2400" spc="-1" strike="noStrike">
                <a:solidFill>
                  <a:srgbClr val="887952"/>
                </a:solidFill>
                <a:latin typeface="Calibri"/>
              </a:rPr>
              <a:t>Africa RISING East/Southern Africa Coo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ubtitle 2"/>
          <p:cNvSpPr/>
          <p:nvPr/>
        </p:nvSpPr>
        <p:spPr>
          <a:xfrm>
            <a:off x="3048120" y="1143000"/>
            <a:ext cx="531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search Review &amp; Planning Meeti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frica RISING – East &amp; Southern Africa Projec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-5 October 2012, Arusha, Tanz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6840" y="144756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fbfbf"/>
                </a:solidFill>
                <a:latin typeface="Cambria"/>
              </a:rPr>
              <a:t>Communication Strategy and Tools </a:t>
            </a:r>
            <a:r>
              <a:rPr b="0" lang="en-GB" sz="2000" spc="-1" strike="noStrike">
                <a:solidFill>
                  <a:srgbClr val="bfbfbf"/>
                </a:solidFill>
                <a:latin typeface="Cambria"/>
              </a:rPr>
              <a:t>(ILRI leadership)</a:t>
            </a:r>
            <a:br>
              <a:rPr sz="2000"/>
            </a:br>
            <a:r>
              <a:rPr b="0" lang="en-GB" sz="2800" spc="-1" strike="noStrike">
                <a:solidFill>
                  <a:srgbClr val="bfbfbf"/>
                </a:solidFill>
                <a:latin typeface="Cambria"/>
              </a:rPr>
              <a:t>	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wiki , website, repositories for docs, images, presentations </a:t>
            </a:r>
            <a:br>
              <a:rPr sz="1800"/>
            </a:br>
            <a:br>
              <a:rPr sz="1800"/>
            </a:br>
            <a:r>
              <a:rPr b="0" lang="en-GB" sz="2800" spc="-1" strike="noStrike">
                <a:solidFill>
                  <a:srgbClr val="323232"/>
                </a:solidFill>
                <a:latin typeface="Cambria"/>
              </a:rPr>
              <a:t>M&amp;E Plan </a:t>
            </a:r>
            <a:r>
              <a:rPr b="0" lang="en-GB" sz="2000" spc="-1" strike="noStrike">
                <a:solidFill>
                  <a:srgbClr val="323232"/>
                </a:solidFill>
                <a:latin typeface="Cambria"/>
              </a:rPr>
              <a:t>(IFPRI leadership)</a:t>
            </a:r>
            <a:br>
              <a:rPr sz="1800"/>
            </a:br>
            <a:r>
              <a:rPr b="0" lang="en-GB" sz="2800" spc="-1" strike="noStrike">
                <a:solidFill>
                  <a:srgbClr val="323232"/>
                </a:solidFill>
                <a:latin typeface="Cambria"/>
              </a:rPr>
              <a:t>Program Logframe</a:t>
            </a:r>
            <a:br>
              <a:rPr sz="2800"/>
            </a:br>
            <a:r>
              <a:rPr b="0" lang="en-GB" sz="2800" spc="-1" strike="noStrike">
                <a:solidFill>
                  <a:srgbClr val="323232"/>
                </a:solidFill>
                <a:latin typeface="Cambria"/>
              </a:rPr>
              <a:t>Program Document</a:t>
            </a:r>
            <a:r>
              <a:rPr b="0" lang="en-GB" sz="2400" spc="-1" strike="noStrike">
                <a:solidFill>
                  <a:srgbClr val="323232"/>
                </a:solidFill>
                <a:latin typeface="Cambria"/>
              </a:rPr>
              <a:t>:  assembly of  all strategic documents</a:t>
            </a:r>
            <a:endParaRPr b="0" lang="en-US" sz="24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96" name="TextBox 3"/>
          <p:cNvSpPr/>
          <p:nvPr/>
        </p:nvSpPr>
        <p:spPr>
          <a:xfrm>
            <a:off x="1066680" y="3657600"/>
            <a:ext cx="4694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gram con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urpose, objectives , outcome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uiding principles and conceptual framewor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search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og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&amp;E p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mmunication strate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anagement structure 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80520" y="15238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3600" spc="-1" strike="noStrike">
                <a:solidFill>
                  <a:srgbClr val="323232"/>
                </a:solidFill>
                <a:latin typeface="Cambria"/>
              </a:rPr>
              <a:t>Program Management Structure</a:t>
            </a:r>
            <a:br>
              <a:rPr sz="3600"/>
            </a:br>
            <a:endParaRPr b="0" lang="en-US" sz="3600" spc="-1" strike="noStrike">
              <a:solidFill>
                <a:srgbClr val="323232"/>
              </a:solidFill>
              <a:latin typeface="Cambria"/>
            </a:endParaRPr>
          </a:p>
        </p:txBody>
      </p:sp>
      <p:pic>
        <p:nvPicPr>
          <p:cNvPr id="598" name="Picture 2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553716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828800" y="121896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Project Coordination Committee (PCC)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00" name="TextBox 3"/>
          <p:cNvSpPr/>
          <p:nvPr/>
        </p:nvSpPr>
        <p:spPr>
          <a:xfrm>
            <a:off x="2057400" y="3200400"/>
            <a:ext cx="5867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Rectangle 4"/>
          <p:cNvSpPr/>
          <p:nvPr/>
        </p:nvSpPr>
        <p:spPr>
          <a:xfrm>
            <a:off x="533520" y="937080"/>
            <a:ext cx="74674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vides advice and coordination on Project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vides science guidance to Project implemen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Guides Project planning and all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dvises on annual Project workplan and bud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versees coordination between Project components an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iaises with IST to oversee M&amp;E; cc PCT on all report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Keeps PCT informed of activities via the Project Coordin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eviews and makes suggestions to Project Coordinator 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emiannual technical progress reports to USA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lans yearly stakeholder meetings with support from Progra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ommunications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ecisions made by consens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eets annually in personal and virtually as called by the Chai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590560" y="990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ESA PCC Composition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03" name="Rectangle 1"/>
          <p:cNvSpPr/>
          <p:nvPr/>
        </p:nvSpPr>
        <p:spPr>
          <a:xfrm>
            <a:off x="533520" y="1994760"/>
            <a:ext cx="7619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hair: IITA Reg. Dir. for 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ject Coordinator, serves as Secretary (IIT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ject Chief Scientist (IIT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esearch partners: CGIAR (1, AfricaRice), yearly rota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sub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onal research organizations (1, ASARECA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NARS (1, COSTECH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and others as designat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M&amp;E Lead (IFPR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Communications Lead (IIT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AID Activity Manag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514600" y="12189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Science Advisory Group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609480" y="2743200"/>
            <a:ext cx="457200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Proposed member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Maggie Gill (DFI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onsolas"/>
              </a:rPr>
              <a:t>Ken Giller (WU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onsolas"/>
              </a:rPr>
              <a:t>John Dixon (ACIA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Bruno Gerard (CIMMY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Dave Harris (ICRISA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Bernard van Lauwe (IIT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Reps. from CRS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USAID gender specia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AR chief scientists (3, ILRI/IIT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USAID Activity Manager (J. Glove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37920" y="12189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USAID visit, June 17-22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07" name="TextBox 3"/>
          <p:cNvSpPr/>
          <p:nvPr/>
        </p:nvSpPr>
        <p:spPr>
          <a:xfrm>
            <a:off x="533520" y="2362320"/>
            <a:ext cx="7086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J. Glover and E. Witte from DC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eet with project staff in Tanza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eet with USAID country mission partners, e.g. NAFAKA, SU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e ongoing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get better idea of future action sit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iscuss alignment with MAFSC , USAID mission, other 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8" name="Picture 4" descr="C:\Users\IZeledon\Pictures\USAID visit Tanzania June 2012\DSC03480.jpg"/>
          <p:cNvPicPr/>
          <p:nvPr/>
        </p:nvPicPr>
        <p:blipFill>
          <a:blip r:embed="rId1"/>
          <a:stretch/>
        </p:blipFill>
        <p:spPr>
          <a:xfrm>
            <a:off x="4495680" y="4952880"/>
            <a:ext cx="2210040" cy="17956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5" descr="C:\Users\IZeledon\Pictures\USAID visit Tanzania June 2012\DSC03486.jpg"/>
          <p:cNvPicPr/>
          <p:nvPr/>
        </p:nvPicPr>
        <p:blipFill>
          <a:blip r:embed="rId2"/>
          <a:stretch/>
        </p:blipFill>
        <p:spPr>
          <a:xfrm>
            <a:off x="1600200" y="4876920"/>
            <a:ext cx="2468520" cy="18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2895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Thank you!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pic>
        <p:nvPicPr>
          <p:cNvPr id="611" name="Picture 3" descr=""/>
          <p:cNvPicPr/>
          <p:nvPr/>
        </p:nvPicPr>
        <p:blipFill>
          <a:blip r:embed="rId1"/>
          <a:stretch/>
        </p:blipFill>
        <p:spPr>
          <a:xfrm>
            <a:off x="228600" y="6362640"/>
            <a:ext cx="685800" cy="34308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" descr=""/>
          <p:cNvPicPr/>
          <p:nvPr/>
        </p:nvPicPr>
        <p:blipFill>
          <a:blip r:embed="rId2"/>
          <a:stretch/>
        </p:blipFill>
        <p:spPr>
          <a:xfrm>
            <a:off x="990720" y="6324480"/>
            <a:ext cx="369720" cy="3794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" descr="C:\Users\Corporate Comms\Downloads\icrisat_logo.jpg"/>
          <p:cNvPicPr/>
          <p:nvPr/>
        </p:nvPicPr>
        <p:blipFill>
          <a:blip r:embed="rId3"/>
          <a:stretch/>
        </p:blipFill>
        <p:spPr>
          <a:xfrm>
            <a:off x="1447920" y="6324480"/>
            <a:ext cx="1143000" cy="36216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4" descr="C:\Users\Corporate Comms\Downloads\AfricaRice logo.png"/>
          <p:cNvPicPr/>
          <p:nvPr/>
        </p:nvPicPr>
        <p:blipFill>
          <a:blip r:embed="rId4"/>
          <a:srcRect l="0" t="0" r="73495" b="19117"/>
          <a:stretch/>
        </p:blipFill>
        <p:spPr>
          <a:xfrm>
            <a:off x="3505320" y="6248520"/>
            <a:ext cx="530280" cy="5014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5" descr="C:\Users\Corporate Comms\Downloads\IFPRI logo (green).jpg"/>
          <p:cNvPicPr/>
          <p:nvPr/>
        </p:nvPicPr>
        <p:blipFill>
          <a:blip r:embed="rId5"/>
          <a:stretch/>
        </p:blipFill>
        <p:spPr>
          <a:xfrm>
            <a:off x="4114800" y="6172200"/>
            <a:ext cx="322200" cy="5065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9" descr="C:\Users\Corporate Comms\Downloads\AVRDC logo.jpg"/>
          <p:cNvPicPr/>
          <p:nvPr/>
        </p:nvPicPr>
        <p:blipFill>
          <a:blip r:embed="rId6"/>
          <a:stretch/>
        </p:blipFill>
        <p:spPr>
          <a:xfrm>
            <a:off x="6553080" y="6324480"/>
            <a:ext cx="1600200" cy="34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7" name="Object 6"/>
          <p:cNvGraphicFramePr/>
          <p:nvPr/>
        </p:nvGraphicFramePr>
        <p:xfrm>
          <a:off x="2666880" y="6095880"/>
          <a:ext cx="762120" cy="65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6095880"/>
                    <a:ext cx="76212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9" name="Picture 3" descr="C:\Users\izeledon\Documents\LOGOS\ciat-log.gif"/>
          <p:cNvPicPr/>
          <p:nvPr/>
        </p:nvPicPr>
        <p:blipFill>
          <a:blip r:embed="rId9"/>
          <a:stretch/>
        </p:blipFill>
        <p:spPr>
          <a:xfrm>
            <a:off x="5486400" y="6324480"/>
            <a:ext cx="990720" cy="300240"/>
          </a:xfrm>
          <a:prstGeom prst="rect">
            <a:avLst/>
          </a:prstGeom>
          <a:ln w="0">
            <a:noFill/>
          </a:ln>
        </p:spPr>
      </p:pic>
      <p:pic>
        <p:nvPicPr>
          <p:cNvPr id="620" name="il_fi" descr="http://www.goes.msu.edu/sumernet/logo/ICRAF%20logo.jpg"/>
          <p:cNvPicPr/>
          <p:nvPr/>
        </p:nvPicPr>
        <p:blipFill>
          <a:blip r:embed="rId10"/>
          <a:stretch/>
        </p:blipFill>
        <p:spPr>
          <a:xfrm>
            <a:off x="4495680" y="6172200"/>
            <a:ext cx="84312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762012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    </a:t>
            </a: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The Start</a:t>
            </a:r>
            <a:br>
              <a:rPr sz="3200"/>
            </a:br>
            <a:br>
              <a:rPr sz="32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Oct. 2011: Brain storming meeting in preparation of inception workshop, agreement  on countries 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Nov./Dec. 2011: Development of Concept Notes 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Feb. 2012: Inception workshop DSM, </a:t>
            </a: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decision on Program approach and name Africa RISING, </a:t>
            </a: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call for jumpstart project proposals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April 2012: Approval of  10 jumpstarts, contracts, fund disbursemen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May 2012: Office set-up and staff recruitment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Continuously:  Strategic  Program/Project documents developed, teams established</a:t>
            </a:r>
            <a:br>
              <a:rPr sz="2400"/>
            </a:br>
            <a:br>
              <a:rPr sz="2400"/>
            </a:br>
            <a:br>
              <a:rPr sz="2800"/>
            </a:br>
            <a:endParaRPr b="0" lang="en-US" sz="2000" spc="-1" strike="noStrike">
              <a:solidFill>
                <a:srgbClr val="323232"/>
              </a:solidFill>
              <a:latin typeface="Cambria"/>
            </a:endParaRPr>
          </a:p>
        </p:txBody>
      </p:sp>
      <p:pic>
        <p:nvPicPr>
          <p:cNvPr id="574" name="Picture 3" descr=""/>
          <p:cNvPicPr/>
          <p:nvPr/>
        </p:nvPicPr>
        <p:blipFill>
          <a:blip r:embed="rId1"/>
          <a:stretch/>
        </p:blipFill>
        <p:spPr>
          <a:xfrm>
            <a:off x="5638680" y="3048120"/>
            <a:ext cx="1295640" cy="121284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4" descr=""/>
          <p:cNvPicPr/>
          <p:nvPr/>
        </p:nvPicPr>
        <p:blipFill>
          <a:blip r:embed="rId2"/>
          <a:stretch/>
        </p:blipFill>
        <p:spPr>
          <a:xfrm>
            <a:off x="7010280" y="3505320"/>
            <a:ext cx="129564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6840" y="1278000"/>
            <a:ext cx="7620120" cy="55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Approved jumpstart projects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533520" y="1905120"/>
          <a:ext cx="5181480" cy="4287600"/>
        </p:xfrm>
        <a:graphic>
          <a:graphicData uri="http://schemas.openxmlformats.org/drawingml/2006/table">
            <a:tbl>
              <a:tblPr/>
              <a:tblGrid>
                <a:gridCol w="1066680"/>
                <a:gridCol w="3200400"/>
                <a:gridCol w="914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ud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in Legume Value Chain Analy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,4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M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d Post-harvest Techno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RA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ergreen Agricul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alogue of Crop, Soil, Water Management Techno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9,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cotoxins in Maize and Cassa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,4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ed Systems Analy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RIS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ed Multipl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M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nsification of Farming System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,9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rica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d Managem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RD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hancing Vegetable Value Ch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4,9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sp>
        <p:nvSpPr>
          <p:cNvPr id="578" name="TextBox 3"/>
          <p:cNvSpPr/>
          <p:nvPr/>
        </p:nvSpPr>
        <p:spPr>
          <a:xfrm>
            <a:off x="533520" y="6211800"/>
            <a:ext cx="746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Grant ($120k) to MSU for first 6 months of research on Agroecological Intensification in MAL and TZ through Action Resear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Lessons learnt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0" name="TextBox 2"/>
          <p:cNvSpPr/>
          <p:nvPr/>
        </p:nvSpPr>
        <p:spPr>
          <a:xfrm>
            <a:off x="609480" y="21337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Entry point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- SI to build on existing policies, techn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aps identified to fill (technological, capacity, policies, institutions, existing data)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Opportuniti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articipatory approaches towards integration of disciplines, evaluation of bes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bets, land use plan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eed systems improv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ivate sector involv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artnerships and eng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teraction among research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ternal/external commun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olicy maker/private sector engag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Logistics and organiz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ntractual issues, inadequate infra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971800" y="11426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Research framework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2" name="TextBox 2"/>
          <p:cNvSpPr/>
          <p:nvPr/>
        </p:nvSpPr>
        <p:spPr>
          <a:xfrm>
            <a:off x="397080" y="2514600"/>
            <a:ext cx="8025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eneric to be applicable across all three Africa RISING regio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lexible to allow site specific adaptati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est a set of hypotheses linked to research outputs and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associated development outcom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743200" y="837720"/>
            <a:ext cx="41148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Selection of Action Sites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4" name="TextBox 3"/>
          <p:cNvSpPr/>
          <p:nvPr/>
        </p:nvSpPr>
        <p:spPr>
          <a:xfrm>
            <a:off x="533520" y="1752480"/>
            <a:ext cx="7696080" cy="43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-location with USAID country mission investments/other 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presentative regarding drivers of intensification to allow for scaling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up to areas with similar conditions: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opulation density, market access,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  agro-ecological cond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vide for rigorous M&amp;E to determine impact of 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PRI: stratification/characterization of  target wards and vill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Z: Kiteto, Kongwa, Kilombero, Babati distri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MAL: Ntcheu, Dedza district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ZAM: Eastern Provi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Picture 4" descr=""/>
          <p:cNvPicPr/>
          <p:nvPr/>
        </p:nvPicPr>
        <p:blipFill>
          <a:blip r:embed="rId1"/>
          <a:stretch/>
        </p:blipFill>
        <p:spPr>
          <a:xfrm>
            <a:off x="6400800" y="3048120"/>
            <a:ext cx="1935000" cy="1152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5" descr=""/>
          <p:cNvPicPr/>
          <p:nvPr/>
        </p:nvPicPr>
        <p:blipFill>
          <a:blip r:embed="rId2"/>
          <a:stretch/>
        </p:blipFill>
        <p:spPr>
          <a:xfrm>
            <a:off x="6553080" y="4952880"/>
            <a:ext cx="182880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6840" y="144756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23232"/>
                </a:solidFill>
                <a:latin typeface="Cambria"/>
              </a:rPr>
              <a:t>Communication Strategy and Tools </a:t>
            </a:r>
            <a:r>
              <a:rPr b="0" lang="en-GB" sz="2000" spc="-1" strike="noStrike">
                <a:solidFill>
                  <a:srgbClr val="323232"/>
                </a:solidFill>
                <a:latin typeface="Cambria"/>
              </a:rPr>
              <a:t>(ILRI leadership)</a:t>
            </a:r>
            <a:br>
              <a:rPr sz="2000"/>
            </a:br>
            <a:r>
              <a:rPr b="0" lang="en-GB" sz="2800" spc="-1" strike="noStrike">
                <a:solidFill>
                  <a:srgbClr val="323232"/>
                </a:solidFill>
                <a:latin typeface="Cambria"/>
              </a:rPr>
              <a:t>	</a:t>
            </a:r>
            <a:r>
              <a:rPr b="0" lang="en-GB" sz="1800" spc="-1" strike="noStrike">
                <a:solidFill>
                  <a:srgbClr val="323232"/>
                </a:solidFill>
                <a:latin typeface="Calibri"/>
              </a:rPr>
              <a:t>wiki , website, repositories for docs, images, presentations </a:t>
            </a:r>
            <a:br>
              <a:rPr sz="1800"/>
            </a:br>
            <a:br>
              <a:rPr sz="1800"/>
            </a:br>
            <a:r>
              <a:rPr b="0" lang="en-GB" sz="2800" spc="-1" strike="noStrike">
                <a:solidFill>
                  <a:srgbClr val="bfbfbf"/>
                </a:solidFill>
                <a:latin typeface="Cambria"/>
              </a:rPr>
              <a:t>M&amp;E Plan </a:t>
            </a:r>
            <a:r>
              <a:rPr b="0" lang="en-GB" sz="2000" spc="-1" strike="noStrike">
                <a:solidFill>
                  <a:srgbClr val="bfbfbf"/>
                </a:solidFill>
                <a:latin typeface="Cambria"/>
              </a:rPr>
              <a:t>(IFPRI leadership)</a:t>
            </a:r>
            <a:br>
              <a:rPr sz="1800"/>
            </a:br>
            <a:r>
              <a:rPr b="0" lang="en-GB" sz="2800" spc="-1" strike="noStrike">
                <a:solidFill>
                  <a:srgbClr val="bfbfbf"/>
                </a:solidFill>
                <a:latin typeface="Cambria"/>
              </a:rPr>
              <a:t>Program Logframe</a:t>
            </a:r>
            <a:br>
              <a:rPr sz="2800"/>
            </a:br>
            <a:r>
              <a:rPr b="0" lang="en-GB" sz="2800" spc="-1" strike="noStrike">
                <a:solidFill>
                  <a:srgbClr val="bfbfbf"/>
                </a:solidFill>
                <a:latin typeface="Cambria"/>
              </a:rPr>
              <a:t>Program Document</a:t>
            </a:r>
            <a:r>
              <a:rPr b="0" lang="en-GB" sz="2400" spc="-1" strike="noStrike">
                <a:solidFill>
                  <a:srgbClr val="bfbfbf"/>
                </a:solidFill>
                <a:latin typeface="Cambria"/>
              </a:rPr>
              <a:t>:  assembly of  all strategic documents</a:t>
            </a:r>
            <a:endParaRPr b="0" lang="en-US" sz="24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8" name="TextBox 3"/>
          <p:cNvSpPr/>
          <p:nvPr/>
        </p:nvSpPr>
        <p:spPr>
          <a:xfrm>
            <a:off x="1066680" y="3657600"/>
            <a:ext cx="4694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program con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purpose, objectives , outcome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guiding principles and conceptual framewor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research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log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M&amp;E p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communication strate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management structure 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2" descr=""/>
          <p:cNvPicPr/>
          <p:nvPr/>
        </p:nvPicPr>
        <p:blipFill>
          <a:blip r:embed="rId1"/>
          <a:stretch/>
        </p:blipFill>
        <p:spPr>
          <a:xfrm>
            <a:off x="-2057400" y="214956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971800" y="11426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Our website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91" name="TextBox 2"/>
          <p:cNvSpPr/>
          <p:nvPr/>
        </p:nvSpPr>
        <p:spPr>
          <a:xfrm>
            <a:off x="1078920" y="4114800"/>
            <a:ext cx="50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alibri"/>
              </a:rPr>
              <a:t>Where to share news, updates and announc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17640" y="1371600"/>
            <a:ext cx="9735840" cy="547380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0920" y="214920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Our wiki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94" name="TextBox 2"/>
          <p:cNvSpPr/>
          <p:nvPr/>
        </p:nvSpPr>
        <p:spPr>
          <a:xfrm>
            <a:off x="3733920" y="556272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alibri"/>
              </a:rPr>
              <a:t>Collaboration space to support planning, sharing early documents, reporting and organizing even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3:43:14Z</dcterms:created>
  <dc:creator>JTOliver</dc:creator>
  <dc:description/>
  <dc:language>en-US</dc:language>
  <cp:lastModifiedBy>LeBorgne, Ewen (ILRI)</cp:lastModifiedBy>
  <cp:lastPrinted>2011-10-06T11:45:23Z</cp:lastPrinted>
  <dcterms:modified xsi:type="dcterms:W3CDTF">2012-10-05T07:56:03Z</dcterms:modified>
  <cp:revision>829</cp:revision>
  <dc:subject/>
  <dc:title>PowerPoint Presentation</dc:title>
</cp:coreProperties>
</file>