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182A4-061A-4D6D-AD63-01CB5C7A7D06}"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699D-B02A-470C-8EE9-7A9E31F570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81160" y="696960"/>
            <a:ext cx="4648320" cy="3486240"/>
          </a:xfrm>
          <a:prstGeom prst="rect">
            <a:avLst/>
          </a:prstGeom>
          <a:ln w="0">
            <a:noFill/>
          </a:ln>
        </p:spPr>
      </p:sp>
      <p:sp>
        <p:nvSpPr>
          <p:cNvPr id="32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F3F7F-50BF-4A5D-9D74-42B01179636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1160" y="696960"/>
            <a:ext cx="4648320" cy="3486240"/>
          </a:xfrm>
          <a:prstGeom prst="rect">
            <a:avLst/>
          </a:prstGeom>
          <a:ln w="0">
            <a:noFill/>
          </a:ln>
        </p:spPr>
      </p:sp>
      <p:sp>
        <p:nvSpPr>
          <p:cNvPr id="30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0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FBD01-E9D6-4D68-8CB3-44C4667235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66060-7FC0-4DE5-9777-89C3AC5841E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07" name="PlaceHolder 1"/>
          <p:cNvSpPr>
            <a:spLocks noGrp="1"/>
          </p:cNvSpPr>
          <p:nvPr>
            <p:ph type="sldImg"/>
          </p:nvPr>
        </p:nvSpPr>
        <p:spPr>
          <a:xfrm>
            <a:off x="949320" y="347760"/>
            <a:ext cx="5113440" cy="3835440"/>
          </a:xfrm>
          <a:prstGeom prst="rect">
            <a:avLst/>
          </a:prstGeom>
          <a:ln w="0">
            <a:noFill/>
          </a:ln>
        </p:spPr>
      </p:sp>
      <p:sp>
        <p:nvSpPr>
          <p:cNvPr id="308"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C5464370-7EAE-4122-8EAF-B885F4E859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81160" y="696960"/>
            <a:ext cx="4648320" cy="3486240"/>
          </a:xfrm>
          <a:prstGeom prst="rect">
            <a:avLst/>
          </a:prstGeom>
          <a:ln w="0">
            <a:noFill/>
          </a:ln>
        </p:spPr>
      </p:sp>
      <p:sp>
        <p:nvSpPr>
          <p:cNvPr id="31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1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13816-FE97-439C-A6BB-175BA14432A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81160" y="696960"/>
            <a:ext cx="4648320" cy="3486240"/>
          </a:xfrm>
          <a:prstGeom prst="rect">
            <a:avLst/>
          </a:prstGeom>
          <a:ln w="0">
            <a:noFill/>
          </a:ln>
        </p:spPr>
      </p:sp>
      <p:sp>
        <p:nvSpPr>
          <p:cNvPr id="31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23698-DBD1-4B33-A751-89CB3584E0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81160" y="696960"/>
            <a:ext cx="4648320" cy="3486240"/>
          </a:xfrm>
          <a:prstGeom prst="rect">
            <a:avLst/>
          </a:prstGeom>
          <a:ln w="0">
            <a:noFill/>
          </a:ln>
        </p:spPr>
      </p:sp>
      <p:sp>
        <p:nvSpPr>
          <p:cNvPr id="31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1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0F064-A981-4CFC-A98C-663ECD7170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81160" y="696960"/>
            <a:ext cx="4648320" cy="3486240"/>
          </a:xfrm>
          <a:prstGeom prst="rect">
            <a:avLst/>
          </a:prstGeom>
          <a:ln w="0">
            <a:noFill/>
          </a:ln>
        </p:spPr>
      </p:sp>
      <p:sp>
        <p:nvSpPr>
          <p:cNvPr id="32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2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82445-8415-4657-8A49-86F3532E00A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45729-3E33-41D0-A6C6-A32EBBCC4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18B53-E4AB-487E-A3ED-E8A02A2D0D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BFF01A-BF82-47B0-8C52-B0A5B61FC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2801B2-06EF-4B58-BBC5-F95D46E668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673CDD-542B-4B13-882E-3DC63DF68F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3E8D8-041F-4659-8EEA-28C4463DA4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A05C21-E21A-43C6-8D38-4771A3D319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1251B-680F-4FE5-AD51-2266B59FC3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1ECCC8-C469-42BF-A5E7-18D404E709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00353-21A2-48BD-82FB-A633C5618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B9B80-5D24-4D73-9180-0512A96125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D770A-415A-4E60-8A03-4F4AA81D2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4B4A91-B833-45ED-89E2-FD0EB8CCC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7E6A6-8B72-455B-A423-A9DD8F103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12C1D-4D99-44A6-99C5-70EBFA48C3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5BE9A0-F45A-433D-BF24-15BF6D7BA5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5D8CB-AC71-4A83-81A7-EDAEE57E96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C1CCE-2DA1-4FBD-AE7E-6910014B31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A5665-0865-46A0-9B82-A4E0C1E2E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D51AE-7340-4285-939D-D5D55D7FF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E5009-F6FB-447B-867A-6E9DCD461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7C220-05B2-4855-8283-D9C48F17B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D3C61-4568-4919-B2D9-5427F1B99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E4EE0-C29F-436A-845A-B5B426CB3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10249-400E-4734-B54D-98C247CAD43F}"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232E-70D0-4DFD-A41C-7B9B3BCED3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5B1B2-D2FC-44C7-AFE5-49B18326F249}"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6A452-C112-45B6-A59A-B78C294FA69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F249-870C-4629-9599-32D8ACC27EBA}"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E182C-4D50-4B23-86AF-5CF8832C7CBB}"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515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Maize-based Systems in Eastern and Southern Afric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AID</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February 6,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918E0-2CDA-4B51-A2AC-A6CF29CAFF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Farming Systems in Mid-elevation areas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astern and Southern Afr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ject Design Workshop, Dar Es Salaam, February 6-9,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01" name="Picture 2" descr=""/>
          <p:cNvPicPr/>
          <p:nvPr/>
        </p:nvPicPr>
        <p:blipFill>
          <a:blip r:embed="rId1"/>
          <a:stretch/>
        </p:blipFill>
        <p:spPr>
          <a:xfrm>
            <a:off x="5987880" y="228600"/>
            <a:ext cx="2840040" cy="573120"/>
          </a:xfrm>
          <a:prstGeom prst="rect">
            <a:avLst/>
          </a:prstGeom>
          <a:ln w="0">
            <a:noFill/>
          </a:ln>
        </p:spPr>
      </p:pic>
      <p:pic>
        <p:nvPicPr>
          <p:cNvPr id="302" name="Content Placeholder 4" descr=""/>
          <p:cNvPicPr/>
          <p:nvPr/>
        </p:nvPicPr>
        <p:blipFill>
          <a:blip r:embed="rId2"/>
          <a:stretch/>
        </p:blipFill>
        <p:spPr>
          <a:xfrm>
            <a:off x="371520" y="914400"/>
            <a:ext cx="8394480" cy="571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44600" y="1225440"/>
            <a:ext cx="8394480" cy="535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080" y="1887480"/>
              <a:ext cx="2165400" cy="6555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800" y="4633920"/>
              <a:ext cx="2162160" cy="6537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89480" y="3220920"/>
              <a:ext cx="1189080" cy="8492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50760"/>
            <a:ext cx="7029360" cy="561528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4" y="0"/>
                </a:lnTo>
                <a:lnTo>
                  <a:pt x="21600" y="10800"/>
                </a:lnTo>
                <a:lnTo>
                  <a:pt x="17554"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73E40-2F35-45A1-855A-18400F4409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grat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RM, socio-economic aspect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Targeted geographies/value chain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6640" y="914400"/>
            <a:ext cx="4449600" cy="582768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98" name="Picture 2" descr=""/>
          <p:cNvPicPr/>
          <p:nvPr/>
        </p:nvPicPr>
        <p:blipFill>
          <a:blip r:embed="rId1"/>
          <a:stretch/>
        </p:blipFill>
        <p:spPr>
          <a:xfrm>
            <a:off x="5987880" y="228600"/>
            <a:ext cx="2840040" cy="573120"/>
          </a:xfrm>
          <a:prstGeom prst="rect">
            <a:avLst/>
          </a:prstGeom>
          <a:ln w="0">
            <a:noFill/>
          </a:ln>
        </p:spPr>
      </p:pic>
      <p:pic>
        <p:nvPicPr>
          <p:cNvPr id="299" name="Content Placeholder 4" descr=""/>
          <p:cNvPicPr/>
          <p:nvPr/>
        </p:nvPicPr>
        <p:blipFill>
          <a:blip r:embed="rId2"/>
          <a:stretch/>
        </p:blipFill>
        <p:spPr>
          <a:xfrm>
            <a:off x="371520" y="914400"/>
            <a:ext cx="8394480" cy="57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BFS Research Team 1</cp:lastModifiedBy>
  <cp:lastPrinted>2011-09-08T14:59:21Z</cp:lastPrinted>
  <dcterms:modified xsi:type="dcterms:W3CDTF">2012-02-06T07:34:37Z</dcterms:modified>
  <cp:revision>245</cp:revision>
  <dc:subject/>
  <dc:title>PowerPoint Presentation</dc:title>
</cp:coreProperties>
</file>