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33DD-00DF-4E82-805F-F6B5902AA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FB1B-FE52-48DB-BD96-9C18AA2E3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490680" y="62388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50800" y="5334120"/>
            <a:ext cx="579456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E1DD-EA0D-427E-A814-BA58D88C6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490680" y="62244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50440" y="5333760"/>
            <a:ext cx="57927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3A6D-44D9-4788-9A2F-280EDE79F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C7FF-35F7-40FE-8A43-FA58C3DEB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C63D-BF6B-43FB-B38D-0417C03F4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B40A5-5FB8-45EB-BC2B-7F4545019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490680" y="62244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550440" y="5334120"/>
            <a:ext cx="579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FTF goal and objectives and indicators for illustration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3AE8-71F4-4691-947A-65C53051F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1385-A30C-4EB7-8C82-A9F216337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8BAE-6F28-4B75-867C-64718A6E3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6852B-4E17-493B-B2A6-B442B2FAB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492120" y="623880"/>
            <a:ext cx="5819760" cy="4365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50800" y="5333760"/>
            <a:ext cx="579456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24A9-E20C-4CD9-9BF9-C596D8065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284F-762E-44FD-92CB-F2EF29679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492120" y="623880"/>
            <a:ext cx="5819760" cy="4365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550800" y="5334120"/>
            <a:ext cx="57945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9E0B9-A611-465F-BD07-0D43067F8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F53A-F481-4A94-900B-E8161403C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F6A4-5DC5-4A12-836A-2A2481777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28E91-83E7-4390-A8F4-0C01A63369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D8A7-FD29-4969-9EE2-AF0E791E0F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25A8-9724-4E47-9303-7EE73036A9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5AAF-56C2-4227-BEE2-FC19A2A67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FB74-E8EB-42DE-9E81-817C0A1F2D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92B0F-B3AB-4487-9849-B4EC9E0B50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0920" y="228240"/>
            <a:ext cx="6400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D2CE1-0116-4901-8801-90EF32FCC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77B6-EB68-4450-B639-E2D1EEE660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7DB8-0D4E-49AF-840E-63AB20D26F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4BCA5-B685-4318-AB49-CB8464796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F820-62D2-466A-A045-730A058E6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914400"/>
            <a:ext cx="9144000" cy="2700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"/>
          <p:cNvPicPr/>
          <p:nvPr/>
        </p:nvPicPr>
        <p:blipFill>
          <a:blip r:embed="rId2"/>
          <a:stretch/>
        </p:blipFill>
        <p:spPr>
          <a:xfrm>
            <a:off x="88920" y="165240"/>
            <a:ext cx="2286000" cy="644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2438280" y="304920"/>
            <a:ext cx="228600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22240" y="2247840"/>
            <a:ext cx="62895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USAID Ethiopia Feed the Future Strategy Overview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Sustainable Intensification Workshop, ILRI Ethiopi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Cullen Hug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BottomPlaceholder"/>
          <p:cNvSpPr/>
          <p:nvPr/>
        </p:nvSpPr>
        <p:spPr>
          <a:xfrm>
            <a:off x="0" y="3081240"/>
            <a:ext cx="2238480" cy="3778200"/>
          </a:xfrm>
          <a:prstGeom prst="rect">
            <a:avLst/>
          </a:prstGeom>
          <a:solidFill>
            <a:srgbClr val="006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TopPlaceholder"/>
          <p:cNvSpPr/>
          <p:nvPr/>
        </p:nvSpPr>
        <p:spPr>
          <a:xfrm>
            <a:off x="0" y="936720"/>
            <a:ext cx="2238480" cy="2166840"/>
          </a:xfrm>
          <a:prstGeom prst="rect">
            <a:avLst/>
          </a:prstGeom>
          <a:solidFill>
            <a:srgbClr val="91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cK Document type"/>
          <p:cNvSpPr/>
          <p:nvPr/>
        </p:nvSpPr>
        <p:spPr>
          <a:xfrm>
            <a:off x="2736720" y="5832000"/>
            <a:ext cx="6392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30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Lockup_ETHIOPIA_RGB_LO"/>
          <p:cNvPicPr/>
          <p:nvPr/>
        </p:nvPicPr>
        <p:blipFill>
          <a:blip r:embed="rId1"/>
          <a:stretch/>
        </p:blipFill>
        <p:spPr>
          <a:xfrm>
            <a:off x="2373480" y="936720"/>
            <a:ext cx="60055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AD1D-64EE-41C3-98B7-E5229219E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928880" y="1045800"/>
            <a:ext cx="63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TF nutrition investment – ENGINE Pro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781280" y="1596960"/>
            <a:ext cx="712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spcBef>
                <a:spcPts val="6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tion impact a key criteria in prioritizing value chains and PPP with PepsiCO (1,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tion education/behavior change programs (1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782720" y="2725560"/>
            <a:ext cx="69897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spcBef>
                <a:spcPts val="6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increasing incomes of vulnerable populations, particularly w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wasting and micronutrient defici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e PSNP activities with those of the National Nutrition 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1852560" y="2630520"/>
            <a:ext cx="6337440" cy="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1751040" y="1403280"/>
            <a:ext cx="671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4680" y="228240"/>
            <a:ext cx="4307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ng Nutr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1"/>
          <p:cNvGrpSpPr/>
          <p:nvPr/>
        </p:nvGrpSpPr>
        <p:grpSpPr>
          <a:xfrm>
            <a:off x="131760" y="1300320"/>
            <a:ext cx="1469880" cy="1199520"/>
            <a:chOff x="131760" y="1300320"/>
            <a:chExt cx="1469880" cy="1199520"/>
          </a:xfrm>
        </p:grpSpPr>
        <p:sp>
          <p:nvSpPr>
            <p:cNvPr id="171" name="Rectangle 22"/>
            <p:cNvSpPr/>
            <p:nvPr/>
          </p:nvSpPr>
          <p:spPr>
            <a:xfrm>
              <a:off x="131760" y="1390320"/>
              <a:ext cx="1469880" cy="110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-led Food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4"/>
            <p:cNvSpPr/>
            <p:nvPr/>
          </p:nvSpPr>
          <p:spPr>
            <a:xfrm flipH="1">
              <a:off x="140400" y="1300320"/>
              <a:ext cx="312840" cy="2901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5"/>
          <p:cNvGrpSpPr/>
          <p:nvPr/>
        </p:nvGrpSpPr>
        <p:grpSpPr>
          <a:xfrm>
            <a:off x="140760" y="3083040"/>
            <a:ext cx="1476720" cy="1109520"/>
            <a:chOff x="140760" y="3083040"/>
            <a:chExt cx="1476720" cy="1109520"/>
          </a:xfrm>
        </p:grpSpPr>
        <p:sp>
          <p:nvSpPr>
            <p:cNvPr id="174" name="Rectangle 26"/>
            <p:cNvSpPr/>
            <p:nvPr/>
          </p:nvSpPr>
          <p:spPr>
            <a:xfrm>
              <a:off x="147600" y="3083040"/>
              <a:ext cx="1469880" cy="110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ing the Vulner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8"/>
            <p:cNvSpPr/>
            <p:nvPr/>
          </p:nvSpPr>
          <p:spPr>
            <a:xfrm flipH="1">
              <a:off x="140400" y="3083040"/>
              <a:ext cx="312840" cy="2901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7"/>
          <p:cNvGrpSpPr/>
          <p:nvPr/>
        </p:nvGrpSpPr>
        <p:grpSpPr>
          <a:xfrm>
            <a:off x="147600" y="4508640"/>
            <a:ext cx="8775720" cy="2674800"/>
            <a:chOff x="147600" y="4508640"/>
            <a:chExt cx="8775720" cy="2674800"/>
          </a:xfrm>
        </p:grpSpPr>
        <p:sp>
          <p:nvSpPr>
            <p:cNvPr id="177" name="Text Box 33"/>
            <p:cNvSpPr/>
            <p:nvPr/>
          </p:nvSpPr>
          <p:spPr>
            <a:xfrm>
              <a:off x="1692360" y="4517640"/>
              <a:ext cx="7230960" cy="26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1840" indent="-231840"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duct nutrition assessments to improve nutrition impact, analyses to understand impact and cost-effectiveness of various value chain interventions on child malnutr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engthening capacity of nutrition practitioner/policy mak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26"/>
            <p:cNvGrpSpPr/>
            <p:nvPr/>
          </p:nvGrpSpPr>
          <p:grpSpPr>
            <a:xfrm>
              <a:off x="147600" y="4508640"/>
              <a:ext cx="8078760" cy="1473480"/>
              <a:chOff x="147600" y="4508640"/>
              <a:chExt cx="8078760" cy="1473480"/>
            </a:xfrm>
          </p:grpSpPr>
          <p:grpSp>
            <p:nvGrpSpPr>
              <p:cNvPr id="179" name="Group 29"/>
              <p:cNvGrpSpPr/>
              <p:nvPr/>
            </p:nvGrpSpPr>
            <p:grpSpPr>
              <a:xfrm>
                <a:off x="147600" y="4768560"/>
                <a:ext cx="1469880" cy="1213560"/>
                <a:chOff x="147600" y="4768560"/>
                <a:chExt cx="1469880" cy="1213560"/>
              </a:xfrm>
            </p:grpSpPr>
            <p:sp>
              <p:nvSpPr>
                <p:cNvPr id="180" name="Rectangle 30"/>
                <p:cNvSpPr/>
                <p:nvPr/>
              </p:nvSpPr>
              <p:spPr>
                <a:xfrm>
                  <a:off x="147600" y="4872960"/>
                  <a:ext cx="1469880" cy="11091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7160" rIns="46800" tIns="46800" bIns="46800" anchor="ctr">
                  <a:noAutofit/>
                </a:bodyPr>
                <a:p>
                  <a:pPr>
                    <a:spcBef>
                      <a:spcPts val="400"/>
                    </a:spcBef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olicy and Capacity Enabl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32"/>
                <p:cNvSpPr/>
                <p:nvPr/>
              </p:nvSpPr>
              <p:spPr>
                <a:xfrm flipH="1">
                  <a:off x="170640" y="4768560"/>
                  <a:ext cx="312840" cy="290160"/>
                </a:xfrm>
                <a:prstGeom prst="ellipse">
                  <a:avLst/>
                </a:prstGeom>
                <a:solidFill>
                  <a:srgbClr val="333399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34"/>
              <p:cNvSpPr/>
              <p:nvPr/>
            </p:nvSpPr>
            <p:spPr>
              <a:xfrm>
                <a:off x="1889280" y="4508640"/>
                <a:ext cx="6337080" cy="0"/>
              </a:xfrm>
              <a:prstGeom prst="line">
                <a:avLst/>
              </a:prstGeom>
              <a:ln w="9360">
                <a:solidFill>
                  <a:srgbClr val="0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8742-3D23-431F-AC05-31D3D10C0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560160" y="4729320"/>
            <a:ext cx="78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is is a non-exhaustive list that excludes other USAID EG&amp;T, ALT, OFDA and USDA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at contribute to the Ethiopia FTF Strategy less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1236960" y="1146240"/>
            <a:ext cx="60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is “Push” and who is “Pull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539640" y="1684440"/>
            <a:ext cx="9495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7B940-9BA2-4DBC-B25B-FB55C1806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334080" y="6289560"/>
            <a:ext cx="78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is is a non-exhaustive list that excludes other USAID EG&amp;T, ALT, OFDA and USDA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at contribute to the Ethiopia FTF Strategy less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1057320" y="1060560"/>
            <a:ext cx="73515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A536-69C0-4914-AF6E-37592EA29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798480" y="1455840"/>
            <a:ext cx="82789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6240-4EED-4131-AD9A-4F91BD61D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1057320" y="1136520"/>
            <a:ext cx="83264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BEC9-F5EE-438A-AAA8-E5E89770A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2"/>
          <p:cNvSpPr/>
          <p:nvPr/>
        </p:nvSpPr>
        <p:spPr>
          <a:xfrm>
            <a:off x="6781680" y="578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9CB9-F7E9-465D-96A7-AB30182B0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USDA_logo"/>
          <p:cNvPicPr/>
          <p:nvPr/>
        </p:nvPicPr>
        <p:blipFill>
          <a:blip r:embed="rId1"/>
          <a:stretch/>
        </p:blipFill>
        <p:spPr>
          <a:xfrm>
            <a:off x="4408560" y="2638440"/>
            <a:ext cx="1106280" cy="912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US_Department_Logo"/>
          <p:cNvPicPr/>
          <p:nvPr/>
        </p:nvPicPr>
        <p:blipFill>
          <a:blip r:embed="rId2"/>
          <a:stretch/>
        </p:blipFill>
        <p:spPr>
          <a:xfrm>
            <a:off x="2820960" y="2674800"/>
            <a:ext cx="882720" cy="87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DODSeal"/>
          <p:cNvPicPr/>
          <p:nvPr/>
        </p:nvPicPr>
        <p:blipFill>
          <a:blip r:embed="rId3"/>
          <a:stretch/>
        </p:blipFill>
        <p:spPr>
          <a:xfrm>
            <a:off x="7410600" y="2828880"/>
            <a:ext cx="847440" cy="84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peacecorps"/>
          <p:cNvPicPr/>
          <p:nvPr/>
        </p:nvPicPr>
        <p:blipFill>
          <a:blip r:embed="rId4"/>
          <a:stretch/>
        </p:blipFill>
        <p:spPr>
          <a:xfrm>
            <a:off x="6035760" y="2782800"/>
            <a:ext cx="768240" cy="76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USAID: From The American People"/>
          <p:cNvPicPr/>
          <p:nvPr/>
        </p:nvPicPr>
        <p:blipFill>
          <a:blip r:embed="rId5"/>
          <a:srcRect l="14039" t="23094" r="14039" b="23094"/>
          <a:stretch/>
        </p:blipFill>
        <p:spPr>
          <a:xfrm>
            <a:off x="863640" y="2997360"/>
            <a:ext cx="1328760" cy="512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705240" y="1552680"/>
            <a:ext cx="7899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is in the Ethiopia Feed the Future Te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 Gover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824760" y="3968640"/>
            <a:ext cx="612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 and Implement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ment of Ethiopia ATA, MOA, M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and International Research Institu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contractors/ consulting fi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Sector (Public private Partnersh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-195120" y="-146160"/>
            <a:ext cx="9534240" cy="1524240"/>
            <a:chOff x="-195120" y="-146160"/>
            <a:chExt cx="9534240" cy="1524240"/>
          </a:xfrm>
        </p:grpSpPr>
        <p:pic>
          <p:nvPicPr>
            <p:cNvPr id="64" name="Rectangle 2" descr=""/>
            <p:cNvPicPr/>
            <p:nvPr/>
          </p:nvPicPr>
          <p:blipFill>
            <a:blip r:embed="rId1"/>
            <a:stretch/>
          </p:blipFill>
          <p:spPr>
            <a:xfrm>
              <a:off x="-195120" y="-146160"/>
              <a:ext cx="953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0" y="0"/>
              <a:ext cx="91440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66920" y="2282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&amp;T DO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Diagram 3" descr=""/>
          <p:cNvPicPr/>
          <p:nvPr/>
        </p:nvPicPr>
        <p:blipFill>
          <a:blip r:embed="rId1"/>
          <a:stretch/>
        </p:blipFill>
        <p:spPr>
          <a:xfrm>
            <a:off x="298440" y="1182600"/>
            <a:ext cx="832176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"/>
          <p:cNvPicPr/>
          <p:nvPr/>
        </p:nvPicPr>
        <p:blipFill>
          <a:blip r:embed="rId1"/>
          <a:stretch/>
        </p:blipFill>
        <p:spPr>
          <a:xfrm>
            <a:off x="4952880" y="957240"/>
            <a:ext cx="3988080" cy="29685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27"/>
          <p:cNvGrpSpPr/>
          <p:nvPr/>
        </p:nvGrpSpPr>
        <p:grpSpPr>
          <a:xfrm>
            <a:off x="4511520" y="3951360"/>
            <a:ext cx="4451400" cy="2835360"/>
            <a:chOff x="4511520" y="3951360"/>
            <a:chExt cx="4451400" cy="2835360"/>
          </a:xfrm>
        </p:grpSpPr>
        <p:pic>
          <p:nvPicPr>
            <p:cNvPr id="71" name="Picture 2" descr="Herding cattle"/>
            <p:cNvPicPr/>
            <p:nvPr/>
          </p:nvPicPr>
          <p:blipFill>
            <a:blip r:embed="rId2"/>
            <a:stretch/>
          </p:blipFill>
          <p:spPr>
            <a:xfrm>
              <a:off x="4511520" y="3951360"/>
              <a:ext cx="4451400" cy="2835360"/>
            </a:xfrm>
            <a:prstGeom prst="rect">
              <a:avLst/>
            </a:prstGeom>
            <a:ln w="50760">
              <a:solidFill>
                <a:srgbClr val="e68e8e"/>
              </a:solidFill>
              <a:miter/>
            </a:ln>
          </p:spPr>
        </p:pic>
        <p:sp>
          <p:nvSpPr>
            <p:cNvPr id="72" name="Rectangle 3"/>
            <p:cNvSpPr/>
            <p:nvPr/>
          </p:nvSpPr>
          <p:spPr>
            <a:xfrm>
              <a:off x="5430960" y="3976560"/>
              <a:ext cx="285264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astoral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  Ethiopia”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4"/>
            <p:cNvSpPr/>
            <p:nvPr/>
          </p:nvSpPr>
          <p:spPr>
            <a:xfrm>
              <a:off x="4648320" y="6059520"/>
              <a:ext cx="325116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large grazing areas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irregular climate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5" descr="DSCN0031"/>
          <p:cNvPicPr/>
          <p:nvPr/>
        </p:nvPicPr>
        <p:blipFill>
          <a:blip r:embed="rId3"/>
          <a:stretch/>
        </p:blipFill>
        <p:spPr>
          <a:xfrm>
            <a:off x="328680" y="3753000"/>
            <a:ext cx="3995640" cy="3011400"/>
          </a:xfrm>
          <a:prstGeom prst="rect">
            <a:avLst/>
          </a:prstGeom>
          <a:ln w="50760">
            <a:solidFill>
              <a:srgbClr val="fde5a1"/>
            </a:solidFill>
            <a:miter/>
          </a:ln>
        </p:spPr>
      </p:pic>
      <p:sp>
        <p:nvSpPr>
          <p:cNvPr id="75" name="Rectangle 6"/>
          <p:cNvSpPr/>
          <p:nvPr/>
        </p:nvSpPr>
        <p:spPr>
          <a:xfrm>
            <a:off x="328680" y="3722760"/>
            <a:ext cx="3911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ungry Ethiopia”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24000" y="3903840"/>
            <a:ext cx="357480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gular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aded so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landhol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peas_harvesting_at_Chancho_Flowers__usaid_atep_lead_client (01-23-2008)  "/>
          <p:cNvPicPr/>
          <p:nvPr/>
        </p:nvPicPr>
        <p:blipFill>
          <a:blip r:embed="rId4"/>
          <a:stretch/>
        </p:blipFill>
        <p:spPr>
          <a:xfrm>
            <a:off x="187200" y="1022400"/>
            <a:ext cx="4362480" cy="2619360"/>
          </a:xfrm>
          <a:prstGeom prst="rect">
            <a:avLst/>
          </a:prstGeom>
          <a:ln w="50760">
            <a:solidFill>
              <a:srgbClr val="5ead49"/>
            </a:solidFill>
            <a:miter/>
          </a:ln>
        </p:spPr>
      </p:pic>
      <p:sp>
        <p:nvSpPr>
          <p:cNvPr id="78" name="Rectangle 9"/>
          <p:cNvSpPr/>
          <p:nvPr/>
        </p:nvSpPr>
        <p:spPr>
          <a:xfrm>
            <a:off x="0" y="944640"/>
            <a:ext cx="4648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ductive Ethiopia”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85840" y="1509840"/>
            <a:ext cx="42195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larger landhol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redictable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fertile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4800600" y="133200"/>
            <a:ext cx="4343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:                              “Three Ethiopi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 flipV="1">
            <a:off x="4381560" y="1303200"/>
            <a:ext cx="1131840" cy="857520"/>
          </a:xfrm>
          <a:prstGeom prst="line">
            <a:avLst/>
          </a:prstGeom>
          <a:ln w="127080">
            <a:solidFill>
              <a:srgbClr val="5ead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7788240" y="3166920"/>
            <a:ext cx="33480" cy="1008360"/>
          </a:xfrm>
          <a:prstGeom prst="line">
            <a:avLst/>
          </a:prstGeom>
          <a:ln w="127080">
            <a:solidFill>
              <a:srgbClr val="e789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 flipH="1">
            <a:off x="4121280" y="3446640"/>
            <a:ext cx="1752480" cy="500040"/>
          </a:xfrm>
          <a:prstGeom prst="line">
            <a:avLst/>
          </a:prstGeom>
          <a:ln w="127080">
            <a:solidFill>
              <a:srgbClr val="fde5a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3809520" y="3238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3142800" y="63817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-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7778520" y="6399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-1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6781680" y="6132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8A3F-2E55-4743-9AB1-983092BD3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1486080" y="1638360"/>
            <a:ext cx="3230280" cy="2897280"/>
          </a:xfrm>
          <a:prstGeom prst="ellipse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>
            <a:off x="1663560" y="1623960"/>
            <a:ext cx="2932200" cy="27147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4243320" y="1623960"/>
            <a:ext cx="2932200" cy="27147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2952720" y="3684600"/>
            <a:ext cx="2933640" cy="27129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Oval 7"/>
          <p:cNvGrpSpPr/>
          <p:nvPr/>
        </p:nvGrpSpPr>
        <p:grpSpPr>
          <a:xfrm>
            <a:off x="4237200" y="1657440"/>
            <a:ext cx="2846160" cy="2738520"/>
            <a:chOff x="4237200" y="1657440"/>
            <a:chExt cx="2846160" cy="2738520"/>
          </a:xfrm>
        </p:grpSpPr>
        <p:pic>
          <p:nvPicPr>
            <p:cNvPr id="93" name="Oval 7" descr=""/>
            <p:cNvPicPr/>
            <p:nvPr/>
          </p:nvPicPr>
          <p:blipFill>
            <a:blip r:embed="rId1"/>
            <a:stretch/>
          </p:blipFill>
          <p:spPr>
            <a:xfrm>
              <a:off x="4237200" y="1657440"/>
              <a:ext cx="2846160" cy="27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60920" y="2065320"/>
              <a:ext cx="19969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Oval 8"/>
          <p:cNvSpPr/>
          <p:nvPr/>
        </p:nvSpPr>
        <p:spPr>
          <a:xfrm>
            <a:off x="1765440" y="1649520"/>
            <a:ext cx="2824200" cy="27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9"/>
          <p:cNvGrpSpPr/>
          <p:nvPr/>
        </p:nvGrpSpPr>
        <p:grpSpPr>
          <a:xfrm>
            <a:off x="3005280" y="3700440"/>
            <a:ext cx="2846160" cy="2736720"/>
            <a:chOff x="3005280" y="3700440"/>
            <a:chExt cx="2846160" cy="2736720"/>
          </a:xfrm>
        </p:grpSpPr>
        <p:pic>
          <p:nvPicPr>
            <p:cNvPr id="97" name="Oval 9" descr=""/>
            <p:cNvPicPr/>
            <p:nvPr/>
          </p:nvPicPr>
          <p:blipFill>
            <a:blip r:embed="rId3"/>
            <a:stretch/>
          </p:blipFill>
          <p:spPr>
            <a:xfrm>
              <a:off x="3005280" y="3700440"/>
              <a:ext cx="28461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429000" y="4106880"/>
              <a:ext cx="19969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Freeform 10"/>
          <p:cNvSpPr/>
          <p:nvPr/>
        </p:nvSpPr>
        <p:spPr>
          <a:xfrm>
            <a:off x="4460760" y="3713040"/>
            <a:ext cx="1160640" cy="65736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760" h="423">
                <a:moveTo>
                  <a:pt x="0" y="0"/>
                </a:moveTo>
                <a:lnTo>
                  <a:pt x="52" y="0"/>
                </a:lnTo>
                <a:lnTo>
                  <a:pt x="118" y="9"/>
                </a:lnTo>
                <a:lnTo>
                  <a:pt x="186" y="24"/>
                </a:lnTo>
                <a:lnTo>
                  <a:pt x="253" y="42"/>
                </a:lnTo>
                <a:lnTo>
                  <a:pt x="315" y="63"/>
                </a:lnTo>
                <a:lnTo>
                  <a:pt x="388" y="93"/>
                </a:lnTo>
                <a:lnTo>
                  <a:pt x="448" y="126"/>
                </a:lnTo>
                <a:lnTo>
                  <a:pt x="523" y="174"/>
                </a:lnTo>
                <a:lnTo>
                  <a:pt x="577" y="219"/>
                </a:lnTo>
                <a:lnTo>
                  <a:pt x="640" y="279"/>
                </a:lnTo>
                <a:lnTo>
                  <a:pt x="696" y="339"/>
                </a:lnTo>
                <a:lnTo>
                  <a:pt x="760" y="423"/>
                </a:lnTo>
                <a:lnTo>
                  <a:pt x="694" y="420"/>
                </a:lnTo>
                <a:lnTo>
                  <a:pt x="610" y="410"/>
                </a:lnTo>
                <a:lnTo>
                  <a:pt x="532" y="393"/>
                </a:lnTo>
                <a:lnTo>
                  <a:pt x="451" y="366"/>
                </a:lnTo>
                <a:lnTo>
                  <a:pt x="397" y="342"/>
                </a:lnTo>
                <a:lnTo>
                  <a:pt x="330" y="311"/>
                </a:lnTo>
                <a:lnTo>
                  <a:pt x="271" y="275"/>
                </a:lnTo>
                <a:lnTo>
                  <a:pt x="214" y="237"/>
                </a:lnTo>
                <a:lnTo>
                  <a:pt x="163" y="192"/>
                </a:lnTo>
                <a:lnTo>
                  <a:pt x="112" y="147"/>
                </a:lnTo>
                <a:lnTo>
                  <a:pt x="79" y="111"/>
                </a:lnTo>
                <a:lnTo>
                  <a:pt x="43" y="66"/>
                </a:lnTo>
                <a:lnTo>
                  <a:pt x="21" y="30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3240000" y="3713040"/>
            <a:ext cx="1144800" cy="650880"/>
          </a:xfrm>
          <a:custGeom>
            <a:avLst/>
            <a:gdLst>
              <a:gd name="textAreaLeft" fmla="*/ 0 w 1144800"/>
              <a:gd name="textAreaRight" fmla="*/ 1145160 w 11448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750" h="420">
                <a:moveTo>
                  <a:pt x="750" y="0"/>
                </a:moveTo>
                <a:lnTo>
                  <a:pt x="736" y="23"/>
                </a:lnTo>
                <a:lnTo>
                  <a:pt x="714" y="54"/>
                </a:lnTo>
                <a:lnTo>
                  <a:pt x="687" y="90"/>
                </a:lnTo>
                <a:lnTo>
                  <a:pt x="660" y="120"/>
                </a:lnTo>
                <a:lnTo>
                  <a:pt x="639" y="146"/>
                </a:lnTo>
                <a:lnTo>
                  <a:pt x="612" y="168"/>
                </a:lnTo>
                <a:lnTo>
                  <a:pt x="573" y="206"/>
                </a:lnTo>
                <a:lnTo>
                  <a:pt x="537" y="234"/>
                </a:lnTo>
                <a:lnTo>
                  <a:pt x="496" y="264"/>
                </a:lnTo>
                <a:lnTo>
                  <a:pt x="451" y="293"/>
                </a:lnTo>
                <a:lnTo>
                  <a:pt x="409" y="317"/>
                </a:lnTo>
                <a:lnTo>
                  <a:pt x="366" y="336"/>
                </a:lnTo>
                <a:lnTo>
                  <a:pt x="316" y="357"/>
                </a:lnTo>
                <a:lnTo>
                  <a:pt x="268" y="374"/>
                </a:lnTo>
                <a:lnTo>
                  <a:pt x="210" y="392"/>
                </a:lnTo>
                <a:lnTo>
                  <a:pt x="148" y="405"/>
                </a:lnTo>
                <a:lnTo>
                  <a:pt x="93" y="414"/>
                </a:lnTo>
                <a:lnTo>
                  <a:pt x="43" y="419"/>
                </a:lnTo>
                <a:lnTo>
                  <a:pt x="0" y="420"/>
                </a:lnTo>
                <a:lnTo>
                  <a:pt x="21" y="386"/>
                </a:lnTo>
                <a:lnTo>
                  <a:pt x="40" y="357"/>
                </a:lnTo>
                <a:lnTo>
                  <a:pt x="64" y="329"/>
                </a:lnTo>
                <a:lnTo>
                  <a:pt x="93" y="294"/>
                </a:lnTo>
                <a:lnTo>
                  <a:pt x="123" y="263"/>
                </a:lnTo>
                <a:lnTo>
                  <a:pt x="159" y="231"/>
                </a:lnTo>
                <a:lnTo>
                  <a:pt x="196" y="198"/>
                </a:lnTo>
                <a:lnTo>
                  <a:pt x="235" y="168"/>
                </a:lnTo>
                <a:lnTo>
                  <a:pt x="265" y="149"/>
                </a:lnTo>
                <a:lnTo>
                  <a:pt x="300" y="126"/>
                </a:lnTo>
                <a:lnTo>
                  <a:pt x="345" y="104"/>
                </a:lnTo>
                <a:lnTo>
                  <a:pt x="387" y="83"/>
                </a:lnTo>
                <a:lnTo>
                  <a:pt x="429" y="66"/>
                </a:lnTo>
                <a:lnTo>
                  <a:pt x="469" y="51"/>
                </a:lnTo>
                <a:lnTo>
                  <a:pt x="505" y="39"/>
                </a:lnTo>
                <a:lnTo>
                  <a:pt x="544" y="27"/>
                </a:lnTo>
                <a:lnTo>
                  <a:pt x="583" y="18"/>
                </a:lnTo>
                <a:lnTo>
                  <a:pt x="630" y="11"/>
                </a:lnTo>
                <a:lnTo>
                  <a:pt x="679" y="3"/>
                </a:lnTo>
                <a:lnTo>
                  <a:pt x="733" y="0"/>
                </a:lnTo>
                <a:lnTo>
                  <a:pt x="75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2"/>
          <p:cNvSpPr/>
          <p:nvPr/>
        </p:nvSpPr>
        <p:spPr>
          <a:xfrm rot="18013800">
            <a:off x="3890160" y="2688120"/>
            <a:ext cx="1073160" cy="6397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750" h="420">
                <a:moveTo>
                  <a:pt x="750" y="0"/>
                </a:moveTo>
                <a:lnTo>
                  <a:pt x="736" y="23"/>
                </a:lnTo>
                <a:lnTo>
                  <a:pt x="714" y="54"/>
                </a:lnTo>
                <a:lnTo>
                  <a:pt x="687" y="90"/>
                </a:lnTo>
                <a:lnTo>
                  <a:pt x="660" y="120"/>
                </a:lnTo>
                <a:lnTo>
                  <a:pt x="639" y="146"/>
                </a:lnTo>
                <a:lnTo>
                  <a:pt x="612" y="168"/>
                </a:lnTo>
                <a:lnTo>
                  <a:pt x="573" y="206"/>
                </a:lnTo>
                <a:lnTo>
                  <a:pt x="537" y="234"/>
                </a:lnTo>
                <a:lnTo>
                  <a:pt x="496" y="264"/>
                </a:lnTo>
                <a:lnTo>
                  <a:pt x="451" y="293"/>
                </a:lnTo>
                <a:lnTo>
                  <a:pt x="409" y="317"/>
                </a:lnTo>
                <a:lnTo>
                  <a:pt x="366" y="336"/>
                </a:lnTo>
                <a:lnTo>
                  <a:pt x="316" y="357"/>
                </a:lnTo>
                <a:lnTo>
                  <a:pt x="268" y="374"/>
                </a:lnTo>
                <a:lnTo>
                  <a:pt x="210" y="392"/>
                </a:lnTo>
                <a:lnTo>
                  <a:pt x="148" y="405"/>
                </a:lnTo>
                <a:lnTo>
                  <a:pt x="93" y="414"/>
                </a:lnTo>
                <a:lnTo>
                  <a:pt x="43" y="419"/>
                </a:lnTo>
                <a:lnTo>
                  <a:pt x="0" y="420"/>
                </a:lnTo>
                <a:lnTo>
                  <a:pt x="21" y="386"/>
                </a:lnTo>
                <a:lnTo>
                  <a:pt x="40" y="357"/>
                </a:lnTo>
                <a:lnTo>
                  <a:pt x="64" y="329"/>
                </a:lnTo>
                <a:lnTo>
                  <a:pt x="93" y="294"/>
                </a:lnTo>
                <a:lnTo>
                  <a:pt x="123" y="263"/>
                </a:lnTo>
                <a:lnTo>
                  <a:pt x="159" y="231"/>
                </a:lnTo>
                <a:lnTo>
                  <a:pt x="196" y="198"/>
                </a:lnTo>
                <a:lnTo>
                  <a:pt x="235" y="168"/>
                </a:lnTo>
                <a:lnTo>
                  <a:pt x="265" y="149"/>
                </a:lnTo>
                <a:lnTo>
                  <a:pt x="300" y="126"/>
                </a:lnTo>
                <a:lnTo>
                  <a:pt x="345" y="104"/>
                </a:lnTo>
                <a:lnTo>
                  <a:pt x="387" y="83"/>
                </a:lnTo>
                <a:lnTo>
                  <a:pt x="429" y="66"/>
                </a:lnTo>
                <a:lnTo>
                  <a:pt x="469" y="51"/>
                </a:lnTo>
                <a:lnTo>
                  <a:pt x="505" y="39"/>
                </a:lnTo>
                <a:lnTo>
                  <a:pt x="544" y="27"/>
                </a:lnTo>
                <a:lnTo>
                  <a:pt x="583" y="18"/>
                </a:lnTo>
                <a:lnTo>
                  <a:pt x="630" y="11"/>
                </a:lnTo>
                <a:lnTo>
                  <a:pt x="679" y="3"/>
                </a:lnTo>
                <a:lnTo>
                  <a:pt x="733" y="0"/>
                </a:lnTo>
                <a:lnTo>
                  <a:pt x="75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1765440" y="1649520"/>
            <a:ext cx="2824200" cy="27144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4246560" y="1666800"/>
            <a:ext cx="2825640" cy="27162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3016080" y="3710160"/>
            <a:ext cx="2824200" cy="27144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7"/>
          <p:cNvSpPr/>
          <p:nvPr/>
        </p:nvSpPr>
        <p:spPr>
          <a:xfrm>
            <a:off x="3016080" y="3710160"/>
            <a:ext cx="2824200" cy="271440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8"/>
          <p:cNvSpPr/>
          <p:nvPr/>
        </p:nvSpPr>
        <p:spPr>
          <a:xfrm>
            <a:off x="4246560" y="1666800"/>
            <a:ext cx="2825640" cy="271620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1922400" y="2931840"/>
            <a:ext cx="23907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icult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4537080" y="2417040"/>
            <a:ext cx="23511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ainable livelihoods for chronically vuln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3271680" y="4658760"/>
            <a:ext cx="23101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 development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457200" y="874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ID/Ethiopia strategy has three interlink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cus Are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drive food security and nutrition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7172280" y="2401920"/>
            <a:ext cx="1470240" cy="11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468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ing the Vulne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5"/>
          <p:cNvSpPr/>
          <p:nvPr/>
        </p:nvSpPr>
        <p:spPr>
          <a:xfrm>
            <a:off x="5915160" y="4819680"/>
            <a:ext cx="1469880" cy="11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468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y and Capacity Ena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155520" y="2017800"/>
            <a:ext cx="1581120" cy="1390680"/>
            <a:chOff x="155520" y="2017800"/>
            <a:chExt cx="1581120" cy="1390680"/>
          </a:xfrm>
        </p:grpSpPr>
        <p:sp>
          <p:nvSpPr>
            <p:cNvPr id="114" name="Rectangle 10"/>
            <p:cNvSpPr/>
            <p:nvPr/>
          </p:nvSpPr>
          <p:spPr>
            <a:xfrm>
              <a:off x="184320" y="2275920"/>
              <a:ext cx="1470240" cy="1110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-led Food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 flipH="1">
              <a:off x="155520" y="2017800"/>
              <a:ext cx="1581120" cy="4143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PONE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073520" y="3133800"/>
              <a:ext cx="582480" cy="274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32"/>
          <p:cNvSpPr/>
          <p:nvPr/>
        </p:nvSpPr>
        <p:spPr>
          <a:xfrm>
            <a:off x="8058240" y="3249720"/>
            <a:ext cx="588960" cy="274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6821640" y="5670720"/>
            <a:ext cx="588960" cy="2743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89000" y="3424320"/>
            <a:ext cx="16603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spcBef>
                <a:spcPts val="601"/>
              </a:spcBef>
              <a:buSzPct val="102837"/>
              <a:buBlip>
                <a:blip r:embed="rId4"/>
              </a:buBlip>
              <a:tabLst>
                <a:tab algn="r" pos="706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vulnerable productive Ethiopia to market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 flipH="1">
            <a:off x="7047720" y="2048040"/>
            <a:ext cx="1884600" cy="41400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 flipH="1">
            <a:off x="5705640" y="4456080"/>
            <a:ext cx="1884240" cy="41436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DSCN0031"/>
          <p:cNvPicPr/>
          <p:nvPr/>
        </p:nvPicPr>
        <p:blipFill>
          <a:blip r:embed="rId5"/>
          <a:stretch/>
        </p:blipFill>
        <p:spPr>
          <a:xfrm>
            <a:off x="1765440" y="6058080"/>
            <a:ext cx="4884480" cy="731520"/>
          </a:xfrm>
          <a:prstGeom prst="rect">
            <a:avLst/>
          </a:prstGeom>
          <a:ln w="50760">
            <a:solidFill>
              <a:srgbClr val="fde5a1"/>
            </a:solidFill>
            <a:miter/>
          </a:ln>
        </p:spPr>
      </p:pic>
      <p:sp>
        <p:nvSpPr>
          <p:cNvPr id="123" name="Rectangle 21"/>
          <p:cNvSpPr/>
          <p:nvPr/>
        </p:nvSpPr>
        <p:spPr>
          <a:xfrm>
            <a:off x="1549440" y="6113880"/>
            <a:ext cx="53560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Cutt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rition, Climate Change Govern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7116840" y="3576600"/>
            <a:ext cx="16603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spcBef>
                <a:spcPts val="601"/>
              </a:spcBef>
              <a:buSzPct val="102837"/>
              <a:buBlip>
                <a:blip r:embed="rId6"/>
              </a:buBlip>
              <a:tabLst>
                <a:tab algn="r" pos="706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vulnerable populations into “Productive Ethiop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0579-B404-49C9-A48E-931F2A8D6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434880" y="1363680"/>
            <a:ext cx="799776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gricultural Growth Program (AG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gricultural productivity and market access for key crop and livestock products in the productive highland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83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 in Productive Ethiop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1-15)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320 m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World Bank; USG; Canadian International Development Agency [CIDA]; Spain; Netherlands; Finland; UNDP; Global Agriculture and Food Security Program [GAFSP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) Sustainable Land Management Program (SLM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 to improve the livelihood of land users while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storing ecosystem functions and ensuring sustainable land management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2-16), $150 m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ld Bank; USG; Finland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) Productive Safety Net Program (PSN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GoE’s overall umbrella Food Security Program (FSP).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300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in Hungry Ethiopia plus parts of Pastoral Ethiopia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0-14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, $1.8 b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G, World Bank, CIDA, Swiss International Development Agency, Irish Agency for International Development [Irish AID], United Kingdom Department for International Development [DfID], Denmark, EU and World Food Program [WFP]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) Household Asset Building Program (HAB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to graduate 80 percent of PSNP beneficiaries by 2014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300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 in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ungry Ethiopia plus parts of Pastoral Ethiopia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10-14)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648 mill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World Bank, Irish AID, DfID, CIDA and US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latform Programs in Other Key Areas: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 Nutrition Strategy (NNS) and Climate Resilient Green Economy Strategy (CR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-39600" y="1003320"/>
            <a:ext cx="93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ADP POLICY AND INVESTMENT FRAMEWORK PRIORITY INVESTMENTS – GOE PLATFORM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2"/>
          <p:cNvSpPr/>
          <p:nvPr/>
        </p:nvSpPr>
        <p:spPr>
          <a:xfrm>
            <a:off x="6781680" y="591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05FE-4F8C-45FC-A6BD-05D32E0D6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554040" y="2384280"/>
            <a:ext cx="3863520" cy="869760"/>
            <a:chOff x="554040" y="2384280"/>
            <a:chExt cx="3863520" cy="869760"/>
          </a:xfrm>
        </p:grpSpPr>
        <p:sp>
          <p:nvSpPr>
            <p:cNvPr id="130" name="Freeform 3"/>
            <p:cNvSpPr/>
            <p:nvPr/>
          </p:nvSpPr>
          <p:spPr>
            <a:xfrm>
              <a:off x="3533040" y="2385000"/>
              <a:ext cx="882360" cy="72684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533" h="796">
                  <a:moveTo>
                    <a:pt x="533" y="0"/>
                  </a:moveTo>
                  <a:lnTo>
                    <a:pt x="533" y="694"/>
                  </a:lnTo>
                  <a:lnTo>
                    <a:pt x="59" y="796"/>
                  </a:lnTo>
                  <a:lnTo>
                    <a:pt x="0" y="76"/>
                  </a:lnTo>
                  <a:lnTo>
                    <a:pt x="533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2088000" y="2457720"/>
              <a:ext cx="1574640" cy="796320"/>
            </a:xfrm>
            <a:custGeom>
              <a:avLst/>
              <a:gdLst>
                <a:gd name="textAreaLeft" fmla="*/ 0 w 1574640"/>
                <a:gd name="textAreaRight" fmla="*/ 1575000 w 1574640"/>
                <a:gd name="textAreaTop" fmla="*/ 0 h 796320"/>
                <a:gd name="textAreaBottom" fmla="*/ 796680 h 796320"/>
              </a:gdLst>
              <a:ahLst/>
              <a:rect l="textAreaLeft" t="textAreaTop" r="textAreaRight" b="textAreaBottom"/>
              <a:pathLst>
                <a:path w="712" h="626">
                  <a:moveTo>
                    <a:pt x="712" y="0"/>
                  </a:moveTo>
                  <a:lnTo>
                    <a:pt x="712" y="516"/>
                  </a:lnTo>
                  <a:lnTo>
                    <a:pt x="0" y="626"/>
                  </a:lnTo>
                  <a:lnTo>
                    <a:pt x="483" y="33"/>
                  </a:lnTo>
                  <a:lnTo>
                    <a:pt x="712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"/>
            <p:cNvSpPr/>
            <p:nvPr/>
          </p:nvSpPr>
          <p:spPr>
            <a:xfrm>
              <a:off x="554040" y="2447280"/>
              <a:ext cx="3147840" cy="803880"/>
            </a:xfrm>
            <a:custGeom>
              <a:avLst/>
              <a:gdLst>
                <a:gd name="textAreaLeft" fmla="*/ 0 w 3147840"/>
                <a:gd name="textAreaRight" fmla="*/ 3148200 w 3147840"/>
                <a:gd name="textAreaTop" fmla="*/ 0 h 803880"/>
                <a:gd name="textAreaBottom" fmla="*/ 804240 h 803880"/>
              </a:gdLst>
              <a:ahLst/>
              <a:rect l="textAreaLeft" t="textAreaTop" r="textAreaRight" b="textAreaBottom"/>
              <a:pathLst>
                <a:path w="1423" h="644">
                  <a:moveTo>
                    <a:pt x="0" y="644"/>
                  </a:moveTo>
                  <a:lnTo>
                    <a:pt x="720" y="644"/>
                  </a:lnTo>
                  <a:lnTo>
                    <a:pt x="1423" y="0"/>
                  </a:lnTo>
                  <a:lnTo>
                    <a:pt x="804" y="0"/>
                  </a:lnTo>
                  <a:lnTo>
                    <a:pt x="0" y="64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"/>
            <p:cNvSpPr/>
            <p:nvPr/>
          </p:nvSpPr>
          <p:spPr>
            <a:xfrm>
              <a:off x="2297520" y="2384280"/>
              <a:ext cx="2120040" cy="76680"/>
            </a:xfrm>
            <a:custGeom>
              <a:avLst/>
              <a:gdLst>
                <a:gd name="textAreaLeft" fmla="*/ 0 w 2120040"/>
                <a:gd name="textAreaRight" fmla="*/ 2120400 w 2120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280" h="84">
                  <a:moveTo>
                    <a:pt x="0" y="68"/>
                  </a:moveTo>
                  <a:lnTo>
                    <a:pt x="525" y="0"/>
                  </a:lnTo>
                  <a:lnTo>
                    <a:pt x="1280" y="0"/>
                  </a:lnTo>
                  <a:lnTo>
                    <a:pt x="805" y="8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"/>
            <p:cNvSpPr/>
            <p:nvPr/>
          </p:nvSpPr>
          <p:spPr>
            <a:xfrm>
              <a:off x="1523160" y="2510280"/>
              <a:ext cx="1365480" cy="569520"/>
            </a:xfrm>
            <a:custGeom>
              <a:avLst/>
              <a:gdLst>
                <a:gd name="textAreaLeft" fmla="*/ 0 w 1365480"/>
                <a:gd name="textAreaRight" fmla="*/ 1365480 w 1365480"/>
                <a:gd name="textAreaTop" fmla="*/ 0 h 569520"/>
                <a:gd name="textAreaBottom" fmla="*/ 569880 h 569520"/>
              </a:gdLst>
              <a:ahLst/>
              <a:rect l="textAreaLeft" t="textAreaTop" r="textAreaRight" b="textAreaBottom"/>
              <a:pathLst>
                <a:path w="824" h="624">
                  <a:moveTo>
                    <a:pt x="240" y="624"/>
                  </a:moveTo>
                  <a:lnTo>
                    <a:pt x="0" y="624"/>
                  </a:lnTo>
                  <a:lnTo>
                    <a:pt x="560" y="120"/>
                  </a:lnTo>
                  <a:lnTo>
                    <a:pt x="424" y="112"/>
                  </a:lnTo>
                  <a:lnTo>
                    <a:pt x="736" y="0"/>
                  </a:lnTo>
                  <a:lnTo>
                    <a:pt x="824" y="176"/>
                  </a:lnTo>
                  <a:lnTo>
                    <a:pt x="720" y="152"/>
                  </a:lnTo>
                  <a:lnTo>
                    <a:pt x="240" y="6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8"/>
            <p:cNvGrpSpPr/>
            <p:nvPr/>
          </p:nvGrpSpPr>
          <p:grpSpPr>
            <a:xfrm>
              <a:off x="1304280" y="2841480"/>
              <a:ext cx="682560" cy="392400"/>
              <a:chOff x="1304280" y="2841480"/>
              <a:chExt cx="682560" cy="392400"/>
            </a:xfrm>
          </p:grpSpPr>
          <p:sp>
            <p:nvSpPr>
              <p:cNvPr id="136" name="Oval 9"/>
              <p:cNvSpPr/>
              <p:nvPr/>
            </p:nvSpPr>
            <p:spPr>
              <a:xfrm>
                <a:off x="1304280" y="2859840"/>
                <a:ext cx="682560" cy="374040"/>
              </a:xfrm>
              <a:prstGeom prst="ellips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0"/>
              <p:cNvSpPr/>
              <p:nvPr/>
            </p:nvSpPr>
            <p:spPr>
              <a:xfrm rot="20286600">
                <a:off x="1362600" y="2910960"/>
                <a:ext cx="389520" cy="7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WordArt 11"/>
              <p:cNvSpPr txBox="1"/>
              <p:nvPr/>
            </p:nvSpPr>
            <p:spPr>
              <a:xfrm>
                <a:off x="1436400" y="2994480"/>
                <a:ext cx="417960" cy="104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PUSH</a:t>
                </a:r>
                <a:endParaRPr b="0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39" name="Rectangle 12"/>
          <p:cNvSpPr/>
          <p:nvPr/>
        </p:nvSpPr>
        <p:spPr>
          <a:xfrm>
            <a:off x="184320" y="1824120"/>
            <a:ext cx="8781840" cy="4494240"/>
          </a:xfrm>
          <a:prstGeom prst="rect">
            <a:avLst/>
          </a:prstGeom>
          <a:noFill/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4575240" y="1809720"/>
            <a:ext cx="0" cy="44928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"/>
          <p:cNvGrpSpPr/>
          <p:nvPr/>
        </p:nvGrpSpPr>
        <p:grpSpPr>
          <a:xfrm>
            <a:off x="4762080" y="2368440"/>
            <a:ext cx="3866760" cy="868320"/>
            <a:chOff x="4762080" y="2368440"/>
            <a:chExt cx="3866760" cy="868320"/>
          </a:xfrm>
        </p:grpSpPr>
        <p:sp>
          <p:nvSpPr>
            <p:cNvPr id="142" name="Freeform 15"/>
            <p:cNvSpPr/>
            <p:nvPr/>
          </p:nvSpPr>
          <p:spPr>
            <a:xfrm flipH="1">
              <a:off x="4764240" y="2369160"/>
              <a:ext cx="882720" cy="726120"/>
            </a:xfrm>
            <a:custGeom>
              <a:avLst/>
              <a:gdLst>
                <a:gd name="textAreaLeft" fmla="*/ 360 w 882720"/>
                <a:gd name="textAreaRight" fmla="*/ 883440 w 882720"/>
                <a:gd name="textAreaTop" fmla="*/ 0 h 726120"/>
                <a:gd name="textAreaBottom" fmla="*/ 726120 h 726120"/>
              </a:gdLst>
              <a:ahLst/>
              <a:rect l="textAreaLeft" t="textAreaTop" r="textAreaRight" b="textAreaBottom"/>
              <a:pathLst>
                <a:path w="533" h="796">
                  <a:moveTo>
                    <a:pt x="533" y="0"/>
                  </a:moveTo>
                  <a:lnTo>
                    <a:pt x="533" y="694"/>
                  </a:lnTo>
                  <a:lnTo>
                    <a:pt x="59" y="796"/>
                  </a:lnTo>
                  <a:lnTo>
                    <a:pt x="0" y="76"/>
                  </a:lnTo>
                  <a:lnTo>
                    <a:pt x="533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 flipH="1">
              <a:off x="5517360" y="2441880"/>
              <a:ext cx="1576080" cy="794880"/>
            </a:xfrm>
            <a:custGeom>
              <a:avLst/>
              <a:gdLst>
                <a:gd name="textAreaLeft" fmla="*/ 360 w 1576080"/>
                <a:gd name="textAreaRight" fmla="*/ 1576800 w 1576080"/>
                <a:gd name="textAreaTop" fmla="*/ 0 h 794880"/>
                <a:gd name="textAreaBottom" fmla="*/ 795240 h 794880"/>
              </a:gdLst>
              <a:ahLst/>
              <a:rect l="textAreaLeft" t="textAreaTop" r="textAreaRight" b="textAreaBottom"/>
              <a:pathLst>
                <a:path w="712" h="626">
                  <a:moveTo>
                    <a:pt x="712" y="0"/>
                  </a:moveTo>
                  <a:lnTo>
                    <a:pt x="712" y="516"/>
                  </a:lnTo>
                  <a:lnTo>
                    <a:pt x="0" y="626"/>
                  </a:lnTo>
                  <a:lnTo>
                    <a:pt x="483" y="33"/>
                  </a:lnTo>
                  <a:lnTo>
                    <a:pt x="712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 flipH="1">
              <a:off x="5477400" y="2431440"/>
              <a:ext cx="3151080" cy="801000"/>
            </a:xfrm>
            <a:custGeom>
              <a:avLst/>
              <a:gdLst>
                <a:gd name="textAreaLeft" fmla="*/ -360 w 3151080"/>
                <a:gd name="textAreaRight" fmla="*/ 3151080 w 3151080"/>
                <a:gd name="textAreaTop" fmla="*/ 0 h 801000"/>
                <a:gd name="textAreaBottom" fmla="*/ 801360 h 801000"/>
              </a:gdLst>
              <a:ahLst/>
              <a:rect l="textAreaLeft" t="textAreaTop" r="textAreaRight" b="textAreaBottom"/>
              <a:pathLst>
                <a:path w="1423" h="644">
                  <a:moveTo>
                    <a:pt x="0" y="644"/>
                  </a:moveTo>
                  <a:lnTo>
                    <a:pt x="720" y="644"/>
                  </a:lnTo>
                  <a:lnTo>
                    <a:pt x="1423" y="0"/>
                  </a:lnTo>
                  <a:lnTo>
                    <a:pt x="804" y="0"/>
                  </a:lnTo>
                  <a:lnTo>
                    <a:pt x="0" y="64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 flipH="1">
              <a:off x="4761720" y="2368440"/>
              <a:ext cx="2122920" cy="76320"/>
            </a:xfrm>
            <a:custGeom>
              <a:avLst/>
              <a:gdLst>
                <a:gd name="textAreaLeft" fmla="*/ -360 w 2122920"/>
                <a:gd name="textAreaRight" fmla="*/ 2122920 w 2122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80" h="84">
                  <a:moveTo>
                    <a:pt x="0" y="68"/>
                  </a:moveTo>
                  <a:lnTo>
                    <a:pt x="525" y="0"/>
                  </a:lnTo>
                  <a:lnTo>
                    <a:pt x="1280" y="0"/>
                  </a:lnTo>
                  <a:lnTo>
                    <a:pt x="805" y="8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 flipH="1" rot="10800000">
              <a:off x="6354720" y="2606400"/>
              <a:ext cx="1364040" cy="568800"/>
            </a:xfrm>
            <a:custGeom>
              <a:avLst/>
              <a:gdLst>
                <a:gd name="textAreaLeft" fmla="*/ -360 w 1364040"/>
                <a:gd name="textAreaRight" fmla="*/ 1364040 w 1364040"/>
                <a:gd name="textAreaTop" fmla="*/ 0 h 568800"/>
                <a:gd name="textAreaBottom" fmla="*/ 569160 h 568800"/>
              </a:gdLst>
              <a:ahLst/>
              <a:rect l="textAreaLeft" t="textAreaTop" r="textAreaRight" b="textAreaBottom"/>
              <a:pathLst>
                <a:path w="824" h="624">
                  <a:moveTo>
                    <a:pt x="240" y="624"/>
                  </a:moveTo>
                  <a:lnTo>
                    <a:pt x="0" y="624"/>
                  </a:lnTo>
                  <a:lnTo>
                    <a:pt x="560" y="120"/>
                  </a:lnTo>
                  <a:lnTo>
                    <a:pt x="424" y="112"/>
                  </a:lnTo>
                  <a:lnTo>
                    <a:pt x="736" y="0"/>
                  </a:lnTo>
                  <a:lnTo>
                    <a:pt x="824" y="176"/>
                  </a:lnTo>
                  <a:lnTo>
                    <a:pt x="720" y="152"/>
                  </a:lnTo>
                  <a:lnTo>
                    <a:pt x="240" y="6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20"/>
            <p:cNvGrpSpPr/>
            <p:nvPr/>
          </p:nvGrpSpPr>
          <p:grpSpPr>
            <a:xfrm>
              <a:off x="6219720" y="2409120"/>
              <a:ext cx="654120" cy="375840"/>
              <a:chOff x="6219720" y="2409120"/>
              <a:chExt cx="654120" cy="375840"/>
            </a:xfrm>
          </p:grpSpPr>
          <p:sp>
            <p:nvSpPr>
              <p:cNvPr id="148" name="Oval 21"/>
              <p:cNvSpPr/>
              <p:nvPr/>
            </p:nvSpPr>
            <p:spPr>
              <a:xfrm flipH="1">
                <a:off x="6219360" y="2427480"/>
                <a:ext cx="654120" cy="357480"/>
              </a:xfrm>
              <a:prstGeom prst="ellips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2"/>
              <p:cNvSpPr/>
              <p:nvPr/>
            </p:nvSpPr>
            <p:spPr>
              <a:xfrm flipH="1" rot="1313400">
                <a:off x="6443640" y="2476080"/>
                <a:ext cx="373320" cy="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WordArt 23"/>
              <p:cNvSpPr txBox="1"/>
              <p:nvPr/>
            </p:nvSpPr>
            <p:spPr>
              <a:xfrm>
                <a:off x="6346800" y="2556360"/>
                <a:ext cx="400680" cy="99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PULL</a:t>
                </a:r>
                <a:endParaRPr b="0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51" name="Rectangle 24"/>
          <p:cNvSpPr/>
          <p:nvPr/>
        </p:nvSpPr>
        <p:spPr>
          <a:xfrm>
            <a:off x="260280" y="3398760"/>
            <a:ext cx="414972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spcBef>
                <a:spcPts val="176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” 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assets for chronically vulnerable HHs to graduate into value chain efforts.  Activit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ccess to financial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sset transfers (on cre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Livelihood and NR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4667400" y="3427560"/>
            <a:ext cx="4149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spcBef>
                <a:spcPts val="176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LL” 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bring chronically vulnerable HHs with built assets into value chains so that they can build sustainable livelihoods.  Activit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tracts with private sector players to source from/employ vulnerable H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941400" y="6327720"/>
            <a:ext cx="279072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metric: # HHs grad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5006880" y="6327720"/>
            <a:ext cx="324828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metric: # HHs linked to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1558800" y="1066680"/>
            <a:ext cx="6072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 and Pull”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5"/>
          <p:cNvGrpSpPr/>
          <p:nvPr/>
        </p:nvGrpSpPr>
        <p:grpSpPr>
          <a:xfrm>
            <a:off x="184320" y="1819440"/>
            <a:ext cx="8781840" cy="537840"/>
            <a:chOff x="184320" y="1819440"/>
            <a:chExt cx="8781840" cy="537840"/>
          </a:xfrm>
        </p:grpSpPr>
        <p:sp>
          <p:nvSpPr>
            <p:cNvPr id="157" name="Rectangle 71"/>
            <p:cNvSpPr/>
            <p:nvPr/>
          </p:nvSpPr>
          <p:spPr>
            <a:xfrm>
              <a:off x="184320" y="1819440"/>
              <a:ext cx="8781840" cy="537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2"/>
            <p:cNvSpPr/>
            <p:nvPr/>
          </p:nvSpPr>
          <p:spPr>
            <a:xfrm>
              <a:off x="3738600" y="1879200"/>
              <a:ext cx="18018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 accumulation/ Food 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73"/>
            <p:cNvSpPr/>
            <p:nvPr/>
          </p:nvSpPr>
          <p:spPr>
            <a:xfrm>
              <a:off x="6732720" y="1879200"/>
              <a:ext cx="2195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able livelihood through market inte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4"/>
            <p:cNvSpPr/>
            <p:nvPr/>
          </p:nvSpPr>
          <p:spPr>
            <a:xfrm>
              <a:off x="312840" y="1863360"/>
              <a:ext cx="183024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 depletion/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od in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GRAD-PRIME-AGP Overlap"/>
          <p:cNvPicPr/>
          <p:nvPr/>
        </p:nvPicPr>
        <p:blipFill>
          <a:blip r:embed="rId1"/>
          <a:stretch/>
        </p:blipFill>
        <p:spPr>
          <a:xfrm>
            <a:off x="533520" y="852480"/>
            <a:ext cx="7924680" cy="588816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62" name="Rectangle 1"/>
          <p:cNvSpPr/>
          <p:nvPr/>
        </p:nvSpPr>
        <p:spPr>
          <a:xfrm>
            <a:off x="5638680" y="928800"/>
            <a:ext cx="2514600" cy="41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5:09:43Z</dcterms:created>
  <dc:creator>USAID</dc:creator>
  <dc:description/>
  <dc:language>en-US</dc:language>
  <cp:lastModifiedBy>PBallantyne</cp:lastModifiedBy>
  <cp:lastPrinted>2012-01-30T09:10:54Z</cp:lastPrinted>
  <dcterms:modified xsi:type="dcterms:W3CDTF">2012-01-30T13:01:13Z</dcterms:modified>
  <cp:revision>6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Title">
    <vt:lpwstr>Slide 1</vt:lpwstr>
  </property>
  <property fmtid="{D5CDD505-2E9C-101B-9397-08002B2CF9AE}" pid="6" name="docid">
    <vt:lpwstr/>
  </property>
</Properties>
</file>